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E98E-D363-45EE-8C59-15DFA3CDC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D9E1-FEBB-4154-B7D2-6A9A77337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1568-8F21-416C-A3BB-AF842569A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D0AB-B20C-4701-B3E5-022916DCB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682F-D0EF-4DE5-B726-88CA80EBE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63D2-B591-4BAF-9016-AE568901E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E674-24D8-4CA1-AD51-3CA115316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61E2-CA60-4C73-B519-39E864AAE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6FC9-5F91-4364-8EE5-6C4F22AD6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1C22-85C5-4DF5-9B87-F38FB3A7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A3E7-7810-4FB0-A1E7-15F0EF8A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BE9D-ACC2-4CD8-8E15-EF61CFC7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66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36D7F-784F-4942-9B64-75AA5E046A5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66ff"/>
                </a:solidFill>
                <a:latin typeface="Times New Roman"/>
              </a:rPr>
              <a:t>第七章      不完全竞争市场</a:t>
            </a:r>
            <a:endParaRPr b="0" lang="en-US" sz="4400" spc="-1" strike="noStrike">
              <a:solidFill>
                <a:srgbClr val="6666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节  垄断市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垄断市场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条件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唯一的生产者                                  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没有替代品的竟争         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进入困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垄断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原因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：自然垄断，资源垄断，技术和专利垄断，政府特许垄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66ff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6666ff"/>
                </a:solidFill>
                <a:latin typeface="Times New Roman"/>
              </a:rPr>
              <a:t>垄断厂商的需求曲线和收益曲线</a:t>
            </a:r>
            <a:endParaRPr b="0" lang="en-US" sz="3600" spc="-1" strike="noStrike">
              <a:solidFill>
                <a:srgbClr val="6666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垄断厂商的需求曲线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P=a-b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收益曲线：                                        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MR=a-2bQ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图形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048120" y="2362320"/>
                <a:ext cx="45720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R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×</m:t>
                    </m:r>
                    <m:r>
                      <m:t xml:space="preserve">Q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 flipV="1">
            <a:off x="838080" y="36572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60958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4114800"/>
            <a:ext cx="297180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191120"/>
            <a:ext cx="182880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52578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(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90920" y="62485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362320" y="51814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6095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3886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5105520" y="33526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05520" y="609588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0120" y="5943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48320" y="3352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4114800"/>
            <a:ext cx="2057400" cy="1943280"/>
          </a:xfrm>
          <a:custGeom>
            <a:avLst/>
            <a:gdLst/>
            <a:ahLst/>
            <a:rect l="l" t="t" r="r" b="b"/>
            <a:pathLst>
              <a:path w="1296" h="1224">
                <a:moveTo>
                  <a:pt x="0" y="1224"/>
                </a:moveTo>
                <a:cubicBezTo>
                  <a:pt x="44" y="1012"/>
                  <a:pt x="88" y="800"/>
                  <a:pt x="192" y="600"/>
                </a:cubicBezTo>
                <a:cubicBezTo>
                  <a:pt x="296" y="400"/>
                  <a:pt x="472" y="0"/>
                  <a:pt x="624" y="24"/>
                </a:cubicBezTo>
                <a:cubicBezTo>
                  <a:pt x="776" y="48"/>
                  <a:pt x="992" y="552"/>
                  <a:pt x="1104" y="744"/>
                </a:cubicBezTo>
                <a:cubicBezTo>
                  <a:pt x="1216" y="936"/>
                  <a:pt x="1264" y="1104"/>
                  <a:pt x="1296" y="11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553080" y="4419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28800" y="6019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5880" y="4114800"/>
            <a:ext cx="0" cy="1981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410080" y="60199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6095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705720" y="6019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2590920" y="1600200"/>
                <a:ext cx="60894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Q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bQ</m:t>
                    </m:r>
                    <m:r>
                      <m:t xml:space="preserve">)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66ff"/>
                </a:solidFill>
                <a:latin typeface="Times New Roman"/>
              </a:rPr>
              <a:t>四   垄断厂商的短期均衡</a:t>
            </a:r>
            <a:r>
              <a:rPr b="0" lang="zh-CN" sz="4400" spc="-1" strike="noStrike">
                <a:solidFill>
                  <a:srgbClr val="6666ff"/>
                </a:solidFill>
                <a:latin typeface="Times New Roman"/>
              </a:rPr>
              <a:t>         </a:t>
            </a:r>
            <a:endParaRPr b="0" lang="en-US" sz="4400" spc="-1" strike="noStrike">
              <a:solidFill>
                <a:srgbClr val="6666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762120"/>
            <a:ext cx="4343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均衡条件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MR=MC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均衡数量和价格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均衡状态：盈利，不赔不赚，亏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评价：成本高，产量小，价格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5486400" y="-36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86400" y="281952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534520" y="2666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181480" y="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10080" y="64008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5410080" y="36576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763120" y="5867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3505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91320" y="380880"/>
            <a:ext cx="2895480" cy="2235240"/>
          </a:xfrm>
          <a:custGeom>
            <a:avLst/>
            <a:gdLst/>
            <a:ahLst/>
            <a:rect l="l" t="t" r="r" b="b"/>
            <a:pathLst>
              <a:path w="1824" h="1408">
                <a:moveTo>
                  <a:pt x="0" y="1008"/>
                </a:moveTo>
                <a:cubicBezTo>
                  <a:pt x="60" y="1192"/>
                  <a:pt x="120" y="1376"/>
                  <a:pt x="288" y="1392"/>
                </a:cubicBezTo>
                <a:cubicBezTo>
                  <a:pt x="456" y="1408"/>
                  <a:pt x="752" y="1336"/>
                  <a:pt x="1008" y="1104"/>
                </a:cubicBezTo>
                <a:cubicBezTo>
                  <a:pt x="1264" y="872"/>
                  <a:pt x="1688" y="192"/>
                  <a:pt x="182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86400" y="609480"/>
            <a:ext cx="365760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486400" y="609480"/>
            <a:ext cx="266688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001000" y="2971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05920" y="18288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(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458200" y="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7162920" y="1218960"/>
            <a:ext cx="0" cy="1600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5486040" y="1295280"/>
            <a:ext cx="16765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952880" y="10666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553080" y="1143000"/>
            <a:ext cx="2057400" cy="914400"/>
          </a:xfrm>
          <a:custGeom>
            <a:avLst/>
            <a:gdLst/>
            <a:ahLst/>
            <a:rect l="l" t="t" r="r" b="b"/>
            <a:pathLst>
              <a:path w="1296" h="576">
                <a:moveTo>
                  <a:pt x="0" y="0"/>
                </a:moveTo>
                <a:cubicBezTo>
                  <a:pt x="156" y="288"/>
                  <a:pt x="312" y="576"/>
                  <a:pt x="528" y="576"/>
                </a:cubicBezTo>
                <a:cubicBezTo>
                  <a:pt x="744" y="576"/>
                  <a:pt x="1160" y="96"/>
                  <a:pt x="129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610480" y="1066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486040" y="1981080"/>
            <a:ext cx="16765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1828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086600" y="2133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10280" y="914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10080" y="4343400"/>
            <a:ext cx="236232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10080" y="4419720"/>
            <a:ext cx="182880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772400" y="54864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(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010280" y="6477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86400" y="4343400"/>
            <a:ext cx="2514600" cy="1981080"/>
          </a:xfrm>
          <a:custGeom>
            <a:avLst/>
            <a:gdLst/>
            <a:ahLst/>
            <a:rect l="l" t="t" r="r" b="b"/>
            <a:pathLst>
              <a:path w="1584" h="1248">
                <a:moveTo>
                  <a:pt x="0" y="864"/>
                </a:moveTo>
                <a:cubicBezTo>
                  <a:pt x="36" y="1056"/>
                  <a:pt x="72" y="1248"/>
                  <a:pt x="336" y="1104"/>
                </a:cubicBezTo>
                <a:cubicBezTo>
                  <a:pt x="600" y="960"/>
                  <a:pt x="1392" y="192"/>
                  <a:pt x="158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848720" y="4114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21300000">
            <a:off x="6324120" y="4266720"/>
            <a:ext cx="1752840" cy="990720"/>
          </a:xfrm>
          <a:custGeom>
            <a:avLst/>
            <a:gdLst/>
            <a:ahLst/>
            <a:rect l="l" t="t" r="r" b="b"/>
            <a:pathLst>
              <a:path w="1104" h="624">
                <a:moveTo>
                  <a:pt x="0" y="0"/>
                </a:moveTo>
                <a:cubicBezTo>
                  <a:pt x="148" y="264"/>
                  <a:pt x="296" y="528"/>
                  <a:pt x="480" y="576"/>
                </a:cubicBezTo>
                <a:cubicBezTo>
                  <a:pt x="664" y="624"/>
                  <a:pt x="884" y="456"/>
                  <a:pt x="1104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248520" y="3809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4572000"/>
            <a:ext cx="2133720" cy="1066680"/>
          </a:xfrm>
          <a:custGeom>
            <a:avLst/>
            <a:gdLst/>
            <a:ahLst/>
            <a:rect l="l" t="t" r="r" b="b"/>
            <a:pathLst>
              <a:path w="1440" h="440">
                <a:moveTo>
                  <a:pt x="0" y="0"/>
                </a:moveTo>
                <a:cubicBezTo>
                  <a:pt x="96" y="212"/>
                  <a:pt x="192" y="424"/>
                  <a:pt x="432" y="432"/>
                </a:cubicBezTo>
                <a:cubicBezTo>
                  <a:pt x="672" y="440"/>
                  <a:pt x="1296" y="112"/>
                  <a:pt x="144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1880" y="48769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553080" y="4723920"/>
            <a:ext cx="0" cy="16765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333760" y="5029200"/>
            <a:ext cx="1143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334120" y="5486400"/>
            <a:ext cx="12189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409720" y="4724280"/>
            <a:ext cx="1143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76920" y="4952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410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76920" y="4495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553080" y="5715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8098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亏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629400" y="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盈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324480" y="6324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66ff"/>
                </a:solidFill>
                <a:latin typeface="Times New Roman"/>
              </a:rPr>
              <a:t>五   价格歧视</a:t>
            </a:r>
            <a:endParaRPr b="0" lang="en-US" sz="3600" spc="-1" strike="noStrike">
              <a:solidFill>
                <a:srgbClr val="6666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50292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定义：垄断厂商以不同的价格销售同一产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条件：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消费者有不同的偏好，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销售市场可以分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分类：一级、二级和三级价格歧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应用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257800" y="9144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34120" y="495288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486400" y="1676520"/>
            <a:ext cx="3124080" cy="3187440"/>
          </a:xfrm>
          <a:custGeom>
            <a:avLst/>
            <a:gdLst/>
            <a:ahLst/>
            <a:rect l="l" t="t" r="r" b="b"/>
            <a:pathLst>
              <a:path w="1968" h="2008">
                <a:moveTo>
                  <a:pt x="0" y="1392"/>
                </a:moveTo>
                <a:cubicBezTo>
                  <a:pt x="28" y="1700"/>
                  <a:pt x="56" y="2008"/>
                  <a:pt x="384" y="1776"/>
                </a:cubicBezTo>
                <a:cubicBezTo>
                  <a:pt x="712" y="1544"/>
                  <a:pt x="1704" y="304"/>
                  <a:pt x="196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1219320"/>
            <a:ext cx="380988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257800" y="1219320"/>
            <a:ext cx="251460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153280" y="990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2400" y="5257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001000" y="3657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(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858000" y="243792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629400" y="5181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686800" y="5105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00600" y="2286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5257440" y="24382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72200" y="2362320"/>
            <a:ext cx="2971800" cy="1295280"/>
          </a:xfrm>
          <a:custGeom>
            <a:avLst/>
            <a:gdLst/>
            <a:ahLst/>
            <a:rect l="l" t="t" r="r" b="b"/>
            <a:pathLst>
              <a:path w="1872" h="736">
                <a:moveTo>
                  <a:pt x="0" y="96"/>
                </a:moveTo>
                <a:cubicBezTo>
                  <a:pt x="252" y="416"/>
                  <a:pt x="504" y="736"/>
                  <a:pt x="816" y="720"/>
                </a:cubicBezTo>
                <a:cubicBezTo>
                  <a:pt x="1128" y="704"/>
                  <a:pt x="1696" y="120"/>
                  <a:pt x="187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534520" y="2286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257440" y="3352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76920" y="320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257800" y="1600200"/>
            <a:ext cx="533520" cy="228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5257800" y="1905120"/>
            <a:ext cx="990720" cy="3808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943600" y="2209680"/>
            <a:ext cx="533520" cy="228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5333760" y="1752480"/>
            <a:ext cx="685800" cy="304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5445000" y="2028240"/>
            <a:ext cx="902160" cy="4168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5257800" y="1447920"/>
            <a:ext cx="380880" cy="152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4120" y="2514600"/>
            <a:ext cx="1447560" cy="914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2971800"/>
            <a:ext cx="761760" cy="457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5880" y="2438280"/>
            <a:ext cx="762120" cy="5335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257800" y="2743200"/>
            <a:ext cx="99072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791320" y="2438280"/>
            <a:ext cx="990360" cy="7621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553080" y="2438280"/>
            <a:ext cx="304920" cy="228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4120" y="3200400"/>
            <a:ext cx="304560" cy="152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6400440" y="2286000"/>
            <a:ext cx="228600" cy="152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66ff"/>
                </a:solidFill>
                <a:latin typeface="Times New Roman"/>
              </a:rPr>
              <a:t>六  对垄断的管制</a:t>
            </a:r>
            <a:endParaRPr b="0" lang="en-US" sz="4400" spc="-1" strike="noStrike">
              <a:solidFill>
                <a:srgbClr val="6666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3962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反垄断立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价格管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利润限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征税（总值税，利润税而不是销售税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补贴（销售补贴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495680" y="990720"/>
                <a:ext cx="4254480" cy="548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π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</m:e>
                      <m:e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R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C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e>
                      <m:e>
                        <m:sSup>
                          <m:e>
                            <m:r>
                              <m:t xml:space="preserve">（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）总值税： {</m:t>
                            </m:r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R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C</m:t>
                        </m:r>
                      </m:e>
                    </m:eqArr>
                    <m:r>
                      <m:t xml:space="preserve">（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）利润税：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（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）（</m:t>
                    </m:r>
                    <m:r>
                      <m:rPr>
                        <m:lit/>
                        <m:nor/>
                      </m:rPr>
                      <m:t xml:space="preserve">MR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MC</m:t>
                    </m:r>
                    <m:r>
                      <m:t xml:space="preserve">）</m:t>
                    </m:r>
                    <m:r>
                      <m:t xml:space="preserve">（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）销售税：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R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MC</m:t>
                    </m:r>
                    <m:r>
                      <m:t xml:space="preserve">−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R</m:t>
                    </m:r>
                    <m:r>
                      <m:t xml:space="preserve">−</m:t>
                    </m:r>
                    <m:r>
                      <m:t xml:space="preserve">（</m:t>
                    </m:r>
                    <m:r>
                      <m:rPr>
                        <m:lit/>
                        <m:nor/>
                      </m:rPr>
                      <m:t xml:space="preserve">MC</m:t>
                    </m:r>
                    <m:r>
                      <m:t xml:space="preserve">+</m:t>
                    </m:r>
                    <m:r>
                      <m:t xml:space="preserve">t</m:t>
                    </m:r>
                    <m:r>
                      <m:t xml:space="preserve">）</m:t>
                    </m: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66ff"/>
                </a:solidFill>
                <a:latin typeface="Times New Roman"/>
              </a:rPr>
              <a:t>垄断竞争和寡头市场</a:t>
            </a:r>
            <a:endParaRPr b="0" lang="en-US" sz="4400" spc="-1" strike="noStrike">
              <a:solidFill>
                <a:srgbClr val="6666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西方市场论的主要内容，寡头的合作与竞争是现实的市场，模型很多，很复杂，但有实际意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市场论的结论：竞争是效率的保证和来源，一定程度的垄断是规模收益的要求，对垄断的管制要寻求企业效率和市场效率的结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9T01:24:43Z</dcterms:created>
  <dc:creator>aa</dc:creator>
  <dc:description/>
  <dc:language>en-US</dc:language>
  <cp:lastModifiedBy>surj</cp:lastModifiedBy>
  <dcterms:modified xsi:type="dcterms:W3CDTF">2003-09-05T07:11:02Z</dcterms:modified>
  <cp:revision>13</cp:revision>
  <dc:subject/>
  <dc:title>第八章 不完全竞争市场</dc:title>
</cp:coreProperties>
</file>