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AE64-03E7-42BB-AF08-6966175382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4 </a:t>
            </a:r>
            <a:r>
              <a:rPr b="1" lang="zh-CN" sz="1200" spc="-1" strike="noStrike">
                <a:solidFill>
                  <a:srgbClr val="000000"/>
                </a:solidFill>
                <a:latin typeface="Arial"/>
              </a:rPr>
              <a:t>李荣融：必须坚持两个“毫不动摇”</a:t>
            </a:r>
            <a:r>
              <a:rPr b="0" lang="zh-CN" sz="1200" spc="-1" strike="noStrike">
                <a:solidFill>
                  <a:srgbClr val="000000"/>
                </a:solidFill>
                <a:latin typeface="Arial"/>
              </a:rPr>
              <a:t> 《人民日报》 </a:t>
            </a:r>
            <a:r>
              <a:rPr b="0" lang="zh-CN" sz="1200" spc="-1" strike="noStrike">
                <a:solidFill>
                  <a:srgbClr val="000000"/>
                </a:solidFill>
                <a:latin typeface="Arial"/>
              </a:rPr>
              <a:t>2002</a:t>
            </a:r>
            <a:r>
              <a:rPr b="0" lang="zh-CN" sz="1200" spc="-1" strike="noStrike">
                <a:solidFill>
                  <a:srgbClr val="000000"/>
                </a:solidFill>
                <a:latin typeface="Arial"/>
              </a:rPr>
              <a:t>年</a:t>
            </a:r>
            <a:r>
              <a:rPr b="0" lang="zh-CN" sz="1200" spc="-1" strike="noStrike">
                <a:solidFill>
                  <a:srgbClr val="000000"/>
                </a:solidFill>
                <a:latin typeface="Arial"/>
              </a:rPr>
              <a:t>12</a:t>
            </a:r>
            <a:r>
              <a:rPr b="0" lang="zh-CN" sz="1200" spc="-1" strike="noStrike">
                <a:solidFill>
                  <a:srgbClr val="000000"/>
                </a:solidFill>
                <a:latin typeface="Arial"/>
              </a:rPr>
              <a:t>月</a:t>
            </a:r>
            <a:r>
              <a:rPr b="0" lang="zh-CN" sz="1200" spc="-1" strike="noStrike">
                <a:solidFill>
                  <a:srgbClr val="000000"/>
                </a:solidFill>
                <a:latin typeface="Arial"/>
              </a:rPr>
              <a:t>02</a:t>
            </a:r>
            <a:r>
              <a:rPr b="0" lang="zh-CN" sz="1200" spc="-1" strike="noStrike">
                <a:solidFill>
                  <a:srgbClr val="000000"/>
                </a:solidFill>
                <a:latin typeface="Arial"/>
              </a:rPr>
              <a:t>日第五版</a:t>
            </a:r>
            <a:r>
              <a:rPr b="0" lang="zh-CN" sz="1200" spc="-1" strike="noStrike">
                <a:solidFill>
                  <a:srgbClr val="000000"/>
                </a:solidFill>
                <a:latin typeface="Arial"/>
              </a:rPr>
              <a:t>) </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5 “196</a:t>
            </a:r>
            <a:r>
              <a:rPr b="0" lang="zh-CN" sz="1200" spc="-1" strike="noStrike">
                <a:solidFill>
                  <a:srgbClr val="000000"/>
                </a:solidFill>
                <a:latin typeface="Arial"/>
              </a:rPr>
              <a:t>家中央企业实行股权多样化不会私有化”新华网</a:t>
            </a:r>
            <a:r>
              <a:rPr b="0" lang="zh-CN" sz="1200" spc="-1" strike="noStrike">
                <a:solidFill>
                  <a:srgbClr val="000000"/>
                </a:solidFill>
                <a:latin typeface="Arial"/>
              </a:rPr>
              <a:t>2003-7-8</a:t>
            </a:r>
            <a:r>
              <a:rPr b="0" lang="zh-CN" sz="1200" spc="-1" strike="noStrike">
                <a:solidFill>
                  <a:srgbClr val="000000"/>
                </a:solidFill>
                <a:latin typeface="Arial"/>
              </a:rPr>
              <a:t>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6 </a:t>
            </a:r>
            <a:r>
              <a:rPr b="0" lang="zh-CN" sz="1200" spc="-1" strike="noStrike">
                <a:solidFill>
                  <a:srgbClr val="000000"/>
                </a:solidFill>
                <a:latin typeface="Arial"/>
              </a:rPr>
              <a:t>有关内容可参看何新：“历史五阶段公式的批判”《论中国历史与国民意识》时事出版社</a:t>
            </a:r>
            <a:r>
              <a:rPr b="0" lang="zh-CN" sz="1200" spc="-1" strike="noStrike">
                <a:solidFill>
                  <a:srgbClr val="000000"/>
                </a:solidFill>
                <a:latin typeface="Arial"/>
              </a:rPr>
              <a:t>2002</a:t>
            </a:r>
            <a:r>
              <a:rPr b="0" lang="zh-CN" sz="1200" spc="-1" strike="noStrike">
                <a:solidFill>
                  <a:srgbClr val="000000"/>
                </a:solidFill>
                <a:latin typeface="Arial"/>
              </a:rPr>
              <a:t>年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7 </a:t>
            </a:r>
            <a:r>
              <a:rPr b="0" lang="zh-CN" sz="1200" spc="-1" strike="noStrike">
                <a:solidFill>
                  <a:srgbClr val="000000"/>
                </a:solidFill>
                <a:latin typeface="Arial"/>
              </a:rPr>
              <a:t>《马克思恩格斯全集》第</a:t>
            </a:r>
            <a:r>
              <a:rPr b="0" lang="zh-CN" sz="1200" spc="-1" strike="noStrike">
                <a:solidFill>
                  <a:srgbClr val="000000"/>
                </a:solidFill>
                <a:latin typeface="Arial"/>
              </a:rPr>
              <a:t>19</a:t>
            </a:r>
            <a:r>
              <a:rPr b="0" lang="zh-CN" sz="1200" spc="-1" strike="noStrike">
                <a:solidFill>
                  <a:srgbClr val="000000"/>
                </a:solidFill>
                <a:latin typeface="Arial"/>
              </a:rPr>
              <a:t>卷，第</a:t>
            </a:r>
            <a:r>
              <a:rPr b="0" lang="zh-CN" sz="1200" spc="-1" strike="noStrike">
                <a:solidFill>
                  <a:srgbClr val="000000"/>
                </a:solidFill>
                <a:latin typeface="Arial"/>
              </a:rPr>
              <a:t>129</a:t>
            </a:r>
            <a:r>
              <a:rPr b="0" lang="zh-CN" sz="1200" spc="-1" strike="noStrike">
                <a:solidFill>
                  <a:srgbClr val="000000"/>
                </a:solidFill>
                <a:latin typeface="Arial"/>
              </a:rPr>
              <a:t>～</a:t>
            </a:r>
            <a:r>
              <a:rPr b="0" lang="zh-CN" sz="1200" spc="-1" strike="noStrike">
                <a:solidFill>
                  <a:srgbClr val="000000"/>
                </a:solidFill>
                <a:latin typeface="Arial"/>
              </a:rPr>
              <a:t>131</a:t>
            </a:r>
            <a:r>
              <a:rPr b="0" lang="zh-CN" sz="1200" spc="-1" strike="noStrike">
                <a:solidFill>
                  <a:srgbClr val="000000"/>
                </a:solidFill>
                <a:latin typeface="Arial"/>
              </a:rPr>
              <a:t>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8 </a:t>
            </a:r>
            <a:r>
              <a:rPr b="0" lang="zh-CN" sz="1200" spc="-1" strike="noStrike">
                <a:solidFill>
                  <a:srgbClr val="000000"/>
                </a:solidFill>
                <a:latin typeface="Arial"/>
              </a:rPr>
              <a:t>有关内容可参看郑正来：“哈耶克的社会理论（代译序）”见哈耶克：《自由秩序原理》（三联书店</a:t>
            </a:r>
            <a:r>
              <a:rPr b="0" lang="zh-CN" sz="1200" spc="-1" strike="noStrike">
                <a:solidFill>
                  <a:srgbClr val="000000"/>
                </a:solidFill>
                <a:latin typeface="Arial"/>
              </a:rPr>
              <a:t>1997</a:t>
            </a:r>
            <a:r>
              <a:rPr b="0" lang="zh-CN" sz="1200" spc="-1" strike="noStrike">
                <a:solidFill>
                  <a:srgbClr val="000000"/>
                </a:solidFill>
                <a:latin typeface="Arial"/>
              </a:rPr>
              <a:t>年版）第</a:t>
            </a:r>
            <a:r>
              <a:rPr b="0" lang="zh-CN" sz="1200" spc="-1" strike="noStrike">
                <a:solidFill>
                  <a:srgbClr val="000000"/>
                </a:solidFill>
                <a:latin typeface="Arial"/>
              </a:rPr>
              <a:t>1</a:t>
            </a:r>
            <a:r>
              <a:rPr b="0" lang="zh-CN" sz="1200" spc="-1" strike="noStrike">
                <a:solidFill>
                  <a:srgbClr val="000000"/>
                </a:solidFill>
                <a:latin typeface="Arial"/>
              </a:rPr>
              <a:t>～</a:t>
            </a:r>
            <a:r>
              <a:rPr b="0" lang="zh-CN" sz="1200" spc="-1" strike="noStrike">
                <a:solidFill>
                  <a:srgbClr val="000000"/>
                </a:solidFill>
                <a:latin typeface="Arial"/>
              </a:rPr>
              <a:t>65</a:t>
            </a:r>
            <a:r>
              <a:rPr b="0" lang="zh-CN" sz="1200" spc="-1" strike="noStrike">
                <a:solidFill>
                  <a:srgbClr val="000000"/>
                </a:solidFill>
                <a:latin typeface="Arial"/>
              </a:rPr>
              <a:t>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9 </a:t>
            </a:r>
            <a:r>
              <a:rPr b="0" lang="zh-CN" sz="1200" spc="-1" strike="noStrike">
                <a:solidFill>
                  <a:srgbClr val="000000"/>
                </a:solidFill>
                <a:latin typeface="Arial"/>
              </a:rPr>
              <a:t>可参看马克</a:t>
            </a:r>
            <a:r>
              <a:rPr b="0" lang="zh-CN" sz="1200" spc="-1" strike="noStrike">
                <a:solidFill>
                  <a:srgbClr val="000000"/>
                </a:solidFill>
                <a:latin typeface="Arial"/>
              </a:rPr>
              <a:t>·</a:t>
            </a:r>
            <a:r>
              <a:rPr b="0" lang="zh-CN" sz="1200" spc="-1" strike="noStrike">
                <a:solidFill>
                  <a:srgbClr val="000000"/>
                </a:solidFill>
                <a:latin typeface="Arial"/>
              </a:rPr>
              <a:t>布劳格著《经济学方法论》第</a:t>
            </a:r>
            <a:r>
              <a:rPr b="0" lang="zh-CN" sz="1200" spc="-1" strike="noStrike">
                <a:solidFill>
                  <a:srgbClr val="000000"/>
                </a:solidFill>
                <a:latin typeface="Arial"/>
              </a:rPr>
              <a:t>203</a:t>
            </a:r>
            <a:r>
              <a:rPr b="0" lang="zh-CN" sz="1200" spc="-1" strike="noStrike">
                <a:solidFill>
                  <a:srgbClr val="000000"/>
                </a:solidFill>
                <a:latin typeface="Arial"/>
              </a:rPr>
              <a:t>页～</a:t>
            </a:r>
            <a:r>
              <a:rPr b="0" lang="zh-CN" sz="1200" spc="-1" strike="noStrike">
                <a:solidFill>
                  <a:srgbClr val="000000"/>
                </a:solidFill>
                <a:latin typeface="Arial"/>
              </a:rPr>
              <a:t>209</a:t>
            </a:r>
            <a:r>
              <a:rPr b="0" lang="zh-CN" sz="1200" spc="-1" strike="noStrike">
                <a:solidFill>
                  <a:srgbClr val="000000"/>
                </a:solidFill>
                <a:latin typeface="Arial"/>
              </a:rPr>
              <a:t>页，北京大学出版社</a:t>
            </a:r>
            <a:r>
              <a:rPr b="0" lang="zh-CN" sz="1200" spc="-1" strike="noStrike">
                <a:solidFill>
                  <a:srgbClr val="000000"/>
                </a:solidFill>
                <a:latin typeface="Arial"/>
              </a:rPr>
              <a:t>1990</a:t>
            </a:r>
            <a:r>
              <a:rPr b="0" lang="zh-CN" sz="1200" spc="-1" strike="noStrike">
                <a:solidFill>
                  <a:srgbClr val="000000"/>
                </a:solidFill>
                <a:latin typeface="Arial"/>
              </a:rPr>
              <a:t>年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a:t>
            </a:r>
            <a:r>
              <a:rPr b="0" lang="zh-CN" sz="1200" spc="-1" strike="noStrike">
                <a:solidFill>
                  <a:srgbClr val="000000"/>
                </a:solidFill>
                <a:latin typeface="Arial"/>
              </a:rPr>
              <a:t>参看马克</a:t>
            </a:r>
            <a:r>
              <a:rPr b="0" lang="zh-CN" sz="1200" spc="-1" strike="noStrike">
                <a:solidFill>
                  <a:srgbClr val="000000"/>
                </a:solidFill>
                <a:latin typeface="Arial"/>
              </a:rPr>
              <a:t>·</a:t>
            </a:r>
            <a:r>
              <a:rPr b="0" lang="zh-CN" sz="1200" spc="-1" strike="noStrike">
                <a:solidFill>
                  <a:srgbClr val="000000"/>
                </a:solidFill>
                <a:latin typeface="Arial"/>
              </a:rPr>
              <a:t>布劳格《经济学方法论》第</a:t>
            </a:r>
            <a:r>
              <a:rPr b="0" lang="zh-CN" sz="1200" spc="-1" strike="noStrike">
                <a:solidFill>
                  <a:srgbClr val="000000"/>
                </a:solidFill>
                <a:latin typeface="Arial"/>
              </a:rPr>
              <a:t>7</a:t>
            </a:r>
            <a:r>
              <a:rPr b="0" lang="zh-CN" sz="1200" spc="-1" strike="noStrike">
                <a:solidFill>
                  <a:srgbClr val="000000"/>
                </a:solidFill>
                <a:latin typeface="Arial"/>
              </a:rPr>
              <a:t>页，北京大学出版社</a:t>
            </a:r>
            <a:r>
              <a:rPr b="0" lang="zh-CN" sz="1200" spc="-1" strike="noStrike">
                <a:solidFill>
                  <a:srgbClr val="000000"/>
                </a:solidFill>
                <a:latin typeface="Arial"/>
              </a:rPr>
              <a:t>1990</a:t>
            </a:r>
            <a:r>
              <a:rPr b="0" lang="zh-CN" sz="1200" spc="-1" strike="noStrike">
                <a:solidFill>
                  <a:srgbClr val="000000"/>
                </a:solidFill>
                <a:latin typeface="Arial"/>
              </a:rPr>
              <a:t>年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0 “</a:t>
            </a:r>
            <a:r>
              <a:rPr b="0" lang="zh-CN" sz="1200" spc="-1" strike="noStrike">
                <a:solidFill>
                  <a:srgbClr val="000000"/>
                </a:solidFill>
                <a:latin typeface="Arial"/>
              </a:rPr>
              <a:t>温家宝总理答中外记者问”《人民日报》</a:t>
            </a:r>
            <a:r>
              <a:rPr b="0" lang="zh-CN" sz="1200" spc="-1" strike="noStrike">
                <a:solidFill>
                  <a:srgbClr val="000000"/>
                </a:solidFill>
                <a:latin typeface="Arial"/>
              </a:rPr>
              <a:t>2003.03.19</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1 </a:t>
            </a:r>
            <a:r>
              <a:rPr b="0" lang="zh-CN" sz="1200" spc="-1" strike="noStrike">
                <a:solidFill>
                  <a:srgbClr val="000000"/>
                </a:solidFill>
                <a:latin typeface="Arial"/>
              </a:rPr>
              <a:t>可与西方宏观经济学定义比较。如“宏观经济学研究大范围的经济总量之间的关系。”“宏观经济理论是关于收入、就业、价格和货币的理论。”“宏观经济学是经济学中研究经济体系各个平均数和总量的那一部分。”等等。【美】爱德华</a:t>
            </a:r>
            <a:r>
              <a:rPr b="0" lang="zh-CN" sz="1200" spc="-1" strike="noStrike">
                <a:solidFill>
                  <a:srgbClr val="000000"/>
                </a:solidFill>
                <a:latin typeface="Arial"/>
              </a:rPr>
              <a:t>·</a:t>
            </a:r>
            <a:r>
              <a:rPr b="0" lang="zh-CN" sz="1200" spc="-1" strike="noStrike">
                <a:solidFill>
                  <a:srgbClr val="000000"/>
                </a:solidFill>
                <a:latin typeface="Arial"/>
              </a:rPr>
              <a:t>夏皮罗著《宏观经济分析》第</a:t>
            </a:r>
            <a:r>
              <a:rPr b="0" lang="zh-CN" sz="1200" spc="-1" strike="noStrike">
                <a:solidFill>
                  <a:srgbClr val="000000"/>
                </a:solidFill>
                <a:latin typeface="Arial"/>
              </a:rPr>
              <a:t>8</a:t>
            </a:r>
            <a:r>
              <a:rPr b="0" lang="zh-CN" sz="1200" spc="-1" strike="noStrike">
                <a:solidFill>
                  <a:srgbClr val="000000"/>
                </a:solidFill>
                <a:latin typeface="Arial"/>
              </a:rPr>
              <a:t>～</a:t>
            </a:r>
            <a:r>
              <a:rPr b="0" lang="zh-CN" sz="1200" spc="-1" strike="noStrike">
                <a:solidFill>
                  <a:srgbClr val="000000"/>
                </a:solidFill>
                <a:latin typeface="Arial"/>
              </a:rPr>
              <a:t>9</a:t>
            </a:r>
            <a:r>
              <a:rPr b="0" lang="zh-CN" sz="1200" spc="-1" strike="noStrike">
                <a:solidFill>
                  <a:srgbClr val="000000"/>
                </a:solidFill>
                <a:latin typeface="Arial"/>
              </a:rPr>
              <a:t>页，中国社会科学出版社</a:t>
            </a:r>
            <a:r>
              <a:rPr b="0" lang="zh-CN" sz="1200" spc="-1" strike="noStrike">
                <a:solidFill>
                  <a:srgbClr val="000000"/>
                </a:solidFill>
                <a:latin typeface="Arial"/>
              </a:rPr>
              <a:t>1985</a:t>
            </a:r>
            <a:r>
              <a:rPr b="0" lang="zh-CN" sz="1200" spc="-1" strike="noStrike">
                <a:solidFill>
                  <a:srgbClr val="000000"/>
                </a:solidFill>
                <a:latin typeface="Arial"/>
              </a:rPr>
              <a:t>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000000"/>
                </a:solidFill>
                <a:latin typeface="Arial"/>
              </a:rPr>
              <a:t>可参看马克</a:t>
            </a:r>
            <a:r>
              <a:rPr b="0" lang="zh-CN" sz="1200" spc="-1" strike="noStrike">
                <a:solidFill>
                  <a:srgbClr val="000000"/>
                </a:solidFill>
                <a:latin typeface="Arial"/>
              </a:rPr>
              <a:t>·</a:t>
            </a:r>
            <a:r>
              <a:rPr b="0" lang="zh-CN" sz="1200" spc="-1" strike="noStrike">
                <a:solidFill>
                  <a:srgbClr val="000000"/>
                </a:solidFill>
                <a:latin typeface="Arial"/>
              </a:rPr>
              <a:t>布劳格著《经济学方法论》第三章、第四章</a:t>
            </a:r>
            <a:r>
              <a:rPr b="0" lang="zh-CN" sz="1200" spc="-1" strike="noStrike">
                <a:solidFill>
                  <a:srgbClr val="000000"/>
                </a:solidFill>
                <a:latin typeface="Arial"/>
              </a:rPr>
              <a:t>,</a:t>
            </a:r>
            <a:r>
              <a:rPr b="0" lang="zh-CN" sz="1200" spc="-1" strike="noStrike">
                <a:solidFill>
                  <a:srgbClr val="000000"/>
                </a:solidFill>
                <a:latin typeface="Arial"/>
              </a:rPr>
              <a:t>北京大学出版社</a:t>
            </a:r>
            <a:r>
              <a:rPr b="0" lang="zh-CN" sz="1200" spc="-1" strike="noStrike">
                <a:solidFill>
                  <a:srgbClr val="000000"/>
                </a:solidFill>
                <a:latin typeface="Arial"/>
              </a:rPr>
              <a:t>1990</a:t>
            </a:r>
            <a:r>
              <a:rPr b="0" lang="zh-CN" sz="1200" spc="-1" strike="noStrike">
                <a:solidFill>
                  <a:srgbClr val="000000"/>
                </a:solidFill>
                <a:latin typeface="Arial"/>
              </a:rPr>
              <a:t>年版。</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3 </a:t>
            </a:r>
            <a:r>
              <a:rPr b="0" lang="zh-CN" sz="1200" spc="-1" strike="noStrike">
                <a:solidFill>
                  <a:srgbClr val="000000"/>
                </a:solidFill>
                <a:latin typeface="Arial"/>
              </a:rPr>
              <a:t>实际上早在十八世纪，德国著名经济学家弗里德里希</a:t>
            </a:r>
            <a:r>
              <a:rPr b="0" lang="zh-CN" sz="1200" spc="-1" strike="noStrike">
                <a:solidFill>
                  <a:srgbClr val="000000"/>
                </a:solidFill>
                <a:latin typeface="Arial"/>
              </a:rPr>
              <a:t>·</a:t>
            </a:r>
            <a:r>
              <a:rPr b="0" lang="zh-CN" sz="1200" spc="-1" strike="noStrike">
                <a:solidFill>
                  <a:srgbClr val="000000"/>
                </a:solidFill>
                <a:latin typeface="Arial"/>
              </a:rPr>
              <a:t>李斯特就对亚当</a:t>
            </a:r>
            <a:r>
              <a:rPr b="0" lang="zh-CN" sz="1200" spc="-1" strike="noStrike">
                <a:solidFill>
                  <a:srgbClr val="000000"/>
                </a:solidFill>
                <a:latin typeface="Arial"/>
              </a:rPr>
              <a:t>·</a:t>
            </a:r>
            <a:r>
              <a:rPr b="0" lang="zh-CN" sz="1200" spc="-1" strike="noStrike">
                <a:solidFill>
                  <a:srgbClr val="000000"/>
                </a:solidFill>
                <a:latin typeface="Arial"/>
              </a:rPr>
              <a:t>斯密经济理论的所谓“世界主义”思想进行了激烈地批判。可参看李斯特：《政治经济学的国民体系》，商务印书馆</a:t>
            </a:r>
            <a:r>
              <a:rPr b="0" lang="zh-CN" sz="1200" spc="-1" strike="noStrike">
                <a:solidFill>
                  <a:srgbClr val="000000"/>
                </a:solidFill>
                <a:latin typeface="Arial"/>
              </a:rPr>
              <a:t>1997</a:t>
            </a:r>
            <a:r>
              <a:rPr b="0" lang="zh-CN" sz="1200" spc="-1" strike="noStrike">
                <a:solidFill>
                  <a:srgbClr val="000000"/>
                </a:solidFill>
                <a:latin typeface="Arial"/>
              </a:rPr>
              <a:t>年版。</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F089D-7AEE-407C-AB48-BF23C3289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2CE26-9900-4721-94FD-0CDC6D610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72899-64E2-46C9-AF17-5C4C68772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C8007-F46C-489C-A7FB-67318E999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BDDC1-EAD3-4AD2-9831-5BDD1FEC3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A4DF9-0FC0-401E-85A6-71FA8B15D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3605E-3C10-48A5-B77C-C0B3701F7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88E8F-2080-44DF-B75E-77001FB14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1102B-6229-4934-9D18-CFDB64DDD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C67A6-DAB8-402B-86E6-AFCD0E8E8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19C21-E27A-4AD4-A4C3-5846B4D8B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F6951-A646-41B5-8541-3D9C956B3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F0D1C-9177-43AE-869E-E298073FA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403FC-BDDF-42DE-BE0C-5BCDFC024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9BC22-B078-412B-8B25-73E67B3AB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1249B-EC96-4CD3-B65E-95B9EE441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C24AC-E826-43E7-8D71-A275229EC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A09EE-C1C6-4C29-8761-0A0F1ED9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0159-C93B-44C4-B342-F1BAF17C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4EFB3-761A-4E54-B234-58E0A9790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47E4-6493-4CB5-A4CD-6A8531AD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D99B1-71C6-4754-8120-D53B565E5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21A0-759A-40D0-9424-D4397C4A1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7F72-7AB5-421A-9952-6CD0A3DF1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86D2-0BCE-4D2D-8D94-24CFC9AC2406}" type="slidenum">
              <a:rPr b="0" lang="zh-CN"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71CB-CA8D-4C00-9F4E-3A698092E679}" type="slidenum">
              <a:rPr b="0" lang="zh-CN"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95280" y="476280"/>
            <a:ext cx="8353440" cy="590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琥珀"/>
                <a:ea typeface="华文琥珀"/>
              </a:rPr>
              <a:t>    </a:t>
            </a:r>
            <a:r>
              <a:rPr b="0" lang="zh-CN" sz="3200" spc="-1" strike="noStrike">
                <a:solidFill>
                  <a:srgbClr val="ffffff"/>
                </a:solidFill>
                <a:latin typeface="华文琥珀"/>
                <a:ea typeface="华文琥珀"/>
              </a:rPr>
              <a:t>中国宏观经济理论研究若干方法论问题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应该说经济改革二十多年来，我国宏观经济理论研究取得了相当的进步，但稍作仔细观察和思考可以看出，这种进步更多的是在西方经济宏观理论的直接引进和有关研究技术方面（如数量分析、数学模型）的提高。而在形成我国宏观经济理论研究特色或如何认识和借鉴西方经济学等有关方法论问题方面却没有明显的进展，以至于我国理论界在一些最基本理论问题上难以取得相当一致的认识，难以形成我国宏观经济理论研究的基本条件，或者说不问其与西方宏观经济学基本理论前提的区别究竟是什么？如果说这种现象在改革初期还可以看作</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这是经济理论研究最基本的方法论问题之一，也是任何科学理论具有相对真理性的基本标准。我们必须重视对这类基本方法论问题地深入思考和认识。下面具体谈谈我国宏观经济理论研究的几个方法论问题，之所以说是方法论问题，是因为这些问题是我国一切宏观经济研究中都绕不过去的前提（条件）问题，亦即在任何宏观经济问题研究之前你必须对这些问题（或者在你的潜意识中）有一个明确的回答，同时，不同的回答将决定你研究的基本思路、内容和方法。</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476280"/>
            <a:ext cx="8424720" cy="5905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琥珀"/>
              </a:rPr>
              <a:t>二、中国宏观经济基本条件之一：以公有制为主的基本经济制度</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这个问题的另一个表述方式是：是不是象西方经济学那样所宣称的那样，市场经济只存在以私有制为主体的经济制度形式唯一一种模式？众所周知，中央早已明确确立了我国经济改革的基本目标是建立社会主义市场经济，同时也明确提出了坚持和完善公有制为主体、多种所有制经济共同发展的社会主义初级阶段的基本经济制度。显然这样一种指导思想和经济制度形式是与西方经济学所要求的市场经济以私有制为主经济制度的理论基本条件不一致的。因此，这里就遇到了一个方法论问题，即以公有制为主的经济制度与市场经济相容或矛盾吗？是研究中国宏观经济学的理论基本条件吗？</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这里暂不专门从纯学术角度去论证，所谓“市场经济”和“均衡”意义下，是否只可能存在所谓私有制为主经济制度的唯一性问题。我们只指出，西方科学哲学界目前即使在所谓“科学分界”唯一或客观标准这样的基本问题讨论上也存在巨大分歧而难以统一（如所谓“范式”的不可通约性），这一现象实际上告诉我们，这个世界并不存在所谓唯一的、科学的经济制度，任何国家的经济制度总是历史的、相对的。有人在研究中国宏观经济问题时，似乎总有一个逻辑简单、直观的方法论观念：即发达国家的经济理论、制度就是所谓科学或唯一的标准。正是在这种观念的指导下，他们总是把西方经济学的理论研究条件，看作是衡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中国经济问题研究条件是否正确的标准；总是自然地站在西方经济学所规定的角度，简单地把西方经济学中的观点与中国经济实际现象作比较，如果两者不一致，则必然是后者存在问题，根本没有进一步讨论的余地，更谈不上理论创新。我们不禁要问，我国经济改革理论研究的逻辑或方法论真的就这样简单吗？综观世界大多数国家经济发展历史证实了这一点吗？结论当然是否定的。因此，是教条地从西方经济学规定的角度，还是实事求是从中国历史、国情和实践的角度来认识和确立中国经济理论研究的基本条件，的确是目前迫切需要解决的基本方法论问题。我们曾经教条式地学习和引进过所谓“苏联模式和理论”，</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也曾经有过教条、僵化式地认识和应用马克思理论的经验教训，难得我们今天还要走向另一个教条极端吗？如果我们不从西方经济学所规定的角度，而是从中国经济改革实践与事实角度来分析和说明这个问题将会得出新的结论。众所周知，我国二十多年来的经济发展取得了举世瞩目成就（这是大前提），那么其最主要的因素或特征是什么呢？或者说中国改革道路的独特性在哪里呢？如果细说一般原因则非常多，如经济开放、引入市场机制、鼓励发展多种经济所有制成分、吸引外资的优惠政策、引进和借鉴国外各种技术、管理方法等等。但显然这些并不是中国经济改革的基本特征，因为这些因素或现象在许多</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国家经济改革过程中都普遍存在（这是推论）。实际上只要不带偏见，我们就能显而易见地找到这个基本特征：一是中国共产党的坚强正确领导（一党制），二是始终坚持以公有制为主体的基本经济制度（这是结论）。这两点正是许多国家经济改革过程中所没有的特征，也正因为这两点我们称之为具有中国特色的经济改革道路。这样的事实人们当然是不会否认的，但对这两点是否是中国经济改革成功的关键因素持怀疑态度的人却大有人在，甚至进一步认为这两种特征只是过渡性的，最终是要消失的，因而不能把这两点作为研究我国宏观经济理论研究基本条件来对待。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从理论研究的逻辑角度看，也只有否认了这个基本条件，才能顺利直接用西方经济学及方法来研究中国宏观经济问题。因此，这里的方法论问题是，这两个基本特征能在中国经济发展相当长的时期内能保持不变吗？它们符合中国经济长期发展的客观要求吗？</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这里暂不去讨论“一党制”这个特征，而主要来分析中国长期经济发展过程中，以公有制为主的经济制度这一基本特征的事实依据和意义。众所周知，以公有制为主的经济制度在我国已存在了五十多年，不可否认在一定的历史背景、传统计划经济制度下，公有制的表现形式国有企业曾经为我国现代经济发展起到过十分重要的作用（建国初一段时期内），仅仅在较短的时间内，就为国民经济进一步发展打下了相当的工业基础。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24000" y="476280"/>
            <a:ext cx="8362800" cy="564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同样不可否认的是，在一定历史时期，一定历史条件、错误认识和观念指导背景下，由于极端拒绝一切市场经济因素，使得国有企业机制越来越僵化和缺乏效率，也有过严重阻碍我国经济发展的事实，这一事实的存在也正是我国经济改革基本起因。我们看到改革以来，在引入市场机制的背景下，传统国有企业体制不断暴露出许多不适应市场机制地方，这本来是非常自然的，传统国有企业要适应市场机制必然有一个由不适应到适应的过程。但这里的方法论问题是我国国有企业改革方向是什么？如果简单地照搬西方经济学和其产权理论，改革的方向和结论则简单而清晰：把公有制为主逐步改变成以私有制为主的经济制度，把国有产权逐步私有化或民营化（当然还有“一党制”变为“多党制”），</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上世纪八十年代末就有人公开提出这样的观点。当然，我们知道我国改革过程到现在为止的事实并非如此！不可否认，改革二十多年来国有企业改革过程经历了一个艰难、甚至痛苦的过程，直到现在这个改革过程并没有完成也许永远没有终点，还存在相当的问题、难题。但同样不可否认的事实是，从总体上看，国有企业在整个改革过程中的基础和稳定作用及意义巨大，其经营机制改革也取得了相当的成绩。可以说，没有国有企业的基础性作用及其改革持续的进步和发展，就不可能有中国经济改革的伟大成就！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4920" y="333000"/>
            <a:ext cx="8497800" cy="604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看看事实吧：“党的十三届四中全会以来的</a:t>
            </a:r>
            <a:r>
              <a:rPr b="0" lang="zh-CN" sz="2800" spc="-1" strike="noStrike">
                <a:solidFill>
                  <a:srgbClr val="ffffff"/>
                </a:solidFill>
                <a:latin typeface="Arial"/>
              </a:rPr>
              <a:t>13</a:t>
            </a:r>
            <a:r>
              <a:rPr b="0" lang="zh-CN" sz="2800" spc="-1" strike="noStrike">
                <a:solidFill>
                  <a:srgbClr val="ffffff"/>
                </a:solidFill>
                <a:latin typeface="Arial"/>
              </a:rPr>
              <a:t>年，国有企业总体实力不断增强，结构不断优化，整体素质明显提高。从</a:t>
            </a:r>
            <a:r>
              <a:rPr b="0" lang="zh-CN" sz="2800" spc="-1" strike="noStrike">
                <a:solidFill>
                  <a:srgbClr val="ffffff"/>
                </a:solidFill>
                <a:latin typeface="Arial"/>
              </a:rPr>
              <a:t>1989</a:t>
            </a:r>
            <a:r>
              <a:rPr b="0" lang="zh-CN" sz="2800" spc="-1" strike="noStrike">
                <a:solidFill>
                  <a:srgbClr val="ffffff"/>
                </a:solidFill>
                <a:latin typeface="Arial"/>
              </a:rPr>
              <a:t>年到</a:t>
            </a:r>
            <a:r>
              <a:rPr b="0" lang="zh-CN" sz="2800" spc="-1" strike="noStrike">
                <a:solidFill>
                  <a:srgbClr val="ffffff"/>
                </a:solidFill>
                <a:latin typeface="Arial"/>
              </a:rPr>
              <a:t>2001</a:t>
            </a:r>
            <a:r>
              <a:rPr b="0" lang="zh-CN" sz="2800" spc="-1" strike="noStrike">
                <a:solidFill>
                  <a:srgbClr val="ffffff"/>
                </a:solidFill>
                <a:latin typeface="Arial"/>
              </a:rPr>
              <a:t>年，虽然国有企业户数从</a:t>
            </a:r>
            <a:r>
              <a:rPr b="0" lang="zh-CN" sz="2800" spc="-1" strike="noStrike">
                <a:solidFill>
                  <a:srgbClr val="ffffff"/>
                </a:solidFill>
                <a:latin typeface="Arial"/>
              </a:rPr>
              <a:t>10.23</a:t>
            </a:r>
            <a:r>
              <a:rPr b="0" lang="zh-CN" sz="2800" spc="-1" strike="noStrike">
                <a:solidFill>
                  <a:srgbClr val="ffffff"/>
                </a:solidFill>
                <a:latin typeface="Arial"/>
              </a:rPr>
              <a:t>万户减少到</a:t>
            </a:r>
            <a:r>
              <a:rPr b="0" lang="zh-CN" sz="2800" spc="-1" strike="noStrike">
                <a:solidFill>
                  <a:srgbClr val="ffffff"/>
                </a:solidFill>
                <a:latin typeface="Arial"/>
              </a:rPr>
              <a:t>4.68</a:t>
            </a:r>
            <a:r>
              <a:rPr b="0" lang="zh-CN" sz="2800" spc="-1" strike="noStrike">
                <a:solidFill>
                  <a:srgbClr val="ffffff"/>
                </a:solidFill>
                <a:latin typeface="Arial"/>
              </a:rPr>
              <a:t>万户，但国有及国有控股工业企业完成工业增加值从</a:t>
            </a:r>
            <a:r>
              <a:rPr b="0" lang="zh-CN" sz="2800" spc="-1" strike="noStrike">
                <a:solidFill>
                  <a:srgbClr val="ffffff"/>
                </a:solidFill>
                <a:latin typeface="Arial"/>
              </a:rPr>
              <a:t>3895</a:t>
            </a:r>
            <a:r>
              <a:rPr b="0" lang="zh-CN" sz="2800" spc="-1" strike="noStrike">
                <a:solidFill>
                  <a:srgbClr val="ffffff"/>
                </a:solidFill>
                <a:latin typeface="Arial"/>
              </a:rPr>
              <a:t>亿元增加到</a:t>
            </a:r>
            <a:r>
              <a:rPr b="0" lang="zh-CN" sz="2800" spc="-1" strike="noStrike">
                <a:solidFill>
                  <a:srgbClr val="ffffff"/>
                </a:solidFill>
                <a:latin typeface="Arial"/>
              </a:rPr>
              <a:t>14652</a:t>
            </a:r>
            <a:r>
              <a:rPr b="0" lang="zh-CN" sz="2800" spc="-1" strike="noStrike">
                <a:solidFill>
                  <a:srgbClr val="ffffff"/>
                </a:solidFill>
                <a:latin typeface="Arial"/>
              </a:rPr>
              <a:t>亿元，年均增长</a:t>
            </a:r>
            <a:r>
              <a:rPr b="0" lang="zh-CN" sz="2800" spc="-1" strike="noStrike">
                <a:solidFill>
                  <a:srgbClr val="ffffff"/>
                </a:solidFill>
                <a:latin typeface="Arial"/>
              </a:rPr>
              <a:t>11.67</a:t>
            </a:r>
            <a:r>
              <a:rPr b="0" lang="zh-CN" sz="2800" spc="-1" strike="noStrike">
                <a:solidFill>
                  <a:srgbClr val="ffffff"/>
                </a:solidFill>
                <a:latin typeface="Arial"/>
              </a:rPr>
              <a:t>％，比</a:t>
            </a:r>
            <a:r>
              <a:rPr b="0" lang="zh-CN" sz="2800" spc="-1" strike="noStrike">
                <a:solidFill>
                  <a:srgbClr val="ffffff"/>
                </a:solidFill>
                <a:latin typeface="Arial"/>
              </a:rPr>
              <a:t>GDP</a:t>
            </a:r>
            <a:r>
              <a:rPr b="0" lang="zh-CN" sz="2800" spc="-1" strike="noStrike">
                <a:solidFill>
                  <a:srgbClr val="ffffff"/>
                </a:solidFill>
                <a:latin typeface="Arial"/>
              </a:rPr>
              <a:t>年均增长</a:t>
            </a:r>
            <a:r>
              <a:rPr b="0" lang="zh-CN" sz="2800" spc="-1" strike="noStrike">
                <a:solidFill>
                  <a:srgbClr val="ffffff"/>
                </a:solidFill>
                <a:latin typeface="Arial"/>
              </a:rPr>
              <a:t>9.3</a:t>
            </a:r>
            <a:r>
              <a:rPr b="0" lang="zh-CN" sz="2800" spc="-1" strike="noStrike">
                <a:solidFill>
                  <a:srgbClr val="ffffff"/>
                </a:solidFill>
                <a:latin typeface="Arial"/>
              </a:rPr>
              <a:t>％高出</a:t>
            </a:r>
            <a:r>
              <a:rPr b="0" lang="zh-CN" sz="2800" spc="-1" strike="noStrike">
                <a:solidFill>
                  <a:srgbClr val="ffffff"/>
                </a:solidFill>
                <a:latin typeface="Arial"/>
              </a:rPr>
              <a:t>2.37</a:t>
            </a:r>
            <a:r>
              <a:rPr b="0" lang="zh-CN" sz="2800" spc="-1" strike="noStrike">
                <a:solidFill>
                  <a:srgbClr val="ffffff"/>
                </a:solidFill>
                <a:latin typeface="Arial"/>
              </a:rPr>
              <a:t>个百分点；实现利润从</a:t>
            </a:r>
            <a:r>
              <a:rPr b="0" lang="zh-CN" sz="2800" spc="-1" strike="noStrike">
                <a:solidFill>
                  <a:srgbClr val="ffffff"/>
                </a:solidFill>
                <a:latin typeface="Arial"/>
              </a:rPr>
              <a:t>743</a:t>
            </a:r>
            <a:r>
              <a:rPr b="0" lang="zh-CN" sz="2800" spc="-1" strike="noStrike">
                <a:solidFill>
                  <a:srgbClr val="ffffff"/>
                </a:solidFill>
                <a:latin typeface="Arial"/>
              </a:rPr>
              <a:t>亿元提高到</a:t>
            </a:r>
            <a:r>
              <a:rPr b="0" lang="zh-CN" sz="2800" spc="-1" strike="noStrike">
                <a:solidFill>
                  <a:srgbClr val="ffffff"/>
                </a:solidFill>
                <a:latin typeface="Arial"/>
              </a:rPr>
              <a:t>2389</a:t>
            </a:r>
            <a:r>
              <a:rPr b="0" lang="zh-CN" sz="2800" spc="-1" strike="noStrike">
                <a:solidFill>
                  <a:srgbClr val="ffffff"/>
                </a:solidFill>
                <a:latin typeface="Arial"/>
              </a:rPr>
              <a:t>亿元，年均增长</a:t>
            </a:r>
            <a:r>
              <a:rPr b="0" lang="zh-CN" sz="2800" spc="-1" strike="noStrike">
                <a:solidFill>
                  <a:srgbClr val="ffffff"/>
                </a:solidFill>
                <a:latin typeface="Arial"/>
              </a:rPr>
              <a:t>10.22</a:t>
            </a:r>
            <a:r>
              <a:rPr b="0" lang="zh-CN" sz="2800" spc="-1" strike="noStrike">
                <a:solidFill>
                  <a:srgbClr val="ffffff"/>
                </a:solidFill>
                <a:latin typeface="Arial"/>
              </a:rPr>
              <a:t>％；平均每户实现税金从</a:t>
            </a:r>
            <a:r>
              <a:rPr b="0" lang="zh-CN" sz="2800" spc="-1" strike="noStrike">
                <a:solidFill>
                  <a:srgbClr val="ffffff"/>
                </a:solidFill>
                <a:latin typeface="Arial"/>
              </a:rPr>
              <a:t>100</a:t>
            </a:r>
            <a:r>
              <a:rPr b="0" lang="zh-CN" sz="2800" spc="-1" strike="noStrike">
                <a:solidFill>
                  <a:srgbClr val="ffffff"/>
                </a:solidFill>
                <a:latin typeface="Arial"/>
              </a:rPr>
              <a:t>万元提高到</a:t>
            </a:r>
            <a:r>
              <a:rPr b="0" lang="zh-CN" sz="2800" spc="-1" strike="noStrike">
                <a:solidFill>
                  <a:srgbClr val="ffffff"/>
                </a:solidFill>
                <a:latin typeface="Arial"/>
              </a:rPr>
              <a:t>782</a:t>
            </a:r>
            <a:r>
              <a:rPr b="0" lang="zh-CN" sz="2800" spc="-1" strike="noStrike">
                <a:solidFill>
                  <a:srgbClr val="ffffff"/>
                </a:solidFill>
                <a:latin typeface="Arial"/>
              </a:rPr>
              <a:t>万元；全员劳动生产率从每人每年</a:t>
            </a:r>
            <a:r>
              <a:rPr b="0" lang="zh-CN" sz="2800" spc="-1" strike="noStrike">
                <a:solidFill>
                  <a:srgbClr val="ffffff"/>
                </a:solidFill>
                <a:latin typeface="Arial"/>
              </a:rPr>
              <a:t>9115</a:t>
            </a:r>
            <a:r>
              <a:rPr b="0" lang="zh-CN" sz="2800" spc="-1" strike="noStrike">
                <a:solidFill>
                  <a:srgbClr val="ffffff"/>
                </a:solidFill>
                <a:latin typeface="Arial"/>
              </a:rPr>
              <a:t>元提高到</a:t>
            </a:r>
            <a:r>
              <a:rPr b="0" lang="zh-CN" sz="2800" spc="-1" strike="noStrike">
                <a:solidFill>
                  <a:srgbClr val="ffffff"/>
                </a:solidFill>
                <a:latin typeface="Arial"/>
              </a:rPr>
              <a:t>54772</a:t>
            </a:r>
            <a:r>
              <a:rPr b="0" lang="zh-CN" sz="2800" spc="-1" strike="noStrike">
                <a:solidFill>
                  <a:srgbClr val="ffffff"/>
                </a:solidFill>
                <a:latin typeface="Arial"/>
              </a:rPr>
              <a:t>元；国有企业固定资产净值由</a:t>
            </a:r>
            <a:r>
              <a:rPr b="0" lang="zh-CN" sz="2800" spc="-1" strike="noStrike">
                <a:solidFill>
                  <a:srgbClr val="ffffff"/>
                </a:solidFill>
                <a:latin typeface="Arial"/>
              </a:rPr>
              <a:t>7033</a:t>
            </a:r>
            <a:r>
              <a:rPr b="0" lang="zh-CN" sz="2800" spc="-1" strike="noStrike">
                <a:solidFill>
                  <a:srgbClr val="ffffff"/>
                </a:solidFill>
                <a:latin typeface="Arial"/>
              </a:rPr>
              <a:t>亿元提高到</a:t>
            </a:r>
            <a:r>
              <a:rPr b="0" lang="zh-CN" sz="2800" spc="-1" strike="noStrike">
                <a:solidFill>
                  <a:srgbClr val="ffffff"/>
                </a:solidFill>
                <a:latin typeface="Arial"/>
              </a:rPr>
              <a:t>39588</a:t>
            </a:r>
            <a:r>
              <a:rPr b="0" lang="zh-CN" sz="2800" spc="-1" strike="noStrike">
                <a:solidFill>
                  <a:srgbClr val="ffffff"/>
                </a:solidFill>
                <a:latin typeface="Arial"/>
              </a:rPr>
              <a:t>亿元。国有经济在关系国家命脉的重要行业和关键领域占支配地位，支撑、引导和带动了整个社会经济的发展。截至</a:t>
            </a:r>
            <a:r>
              <a:rPr b="0" lang="zh-CN" sz="2800" spc="-1" strike="noStrike">
                <a:solidFill>
                  <a:srgbClr val="ffffff"/>
                </a:solidFill>
                <a:latin typeface="Arial"/>
              </a:rPr>
              <a:t>2002</a:t>
            </a:r>
            <a:r>
              <a:rPr b="0" lang="zh-CN" sz="2800" spc="-1" strike="noStrike">
                <a:solidFill>
                  <a:srgbClr val="ffffff"/>
                </a:solidFill>
                <a:latin typeface="Arial"/>
              </a:rPr>
              <a:t>年</a:t>
            </a:r>
            <a:r>
              <a:rPr b="0" lang="zh-CN" sz="2800" spc="-1" strike="noStrike">
                <a:solidFill>
                  <a:srgbClr val="ffffff"/>
                </a:solidFill>
                <a:latin typeface="Arial"/>
              </a:rPr>
              <a:t>7</a:t>
            </a:r>
            <a:r>
              <a:rPr b="0" lang="zh-CN" sz="2800" spc="-1" strike="noStrike">
                <a:solidFill>
                  <a:srgbClr val="ffffff"/>
                </a:solidFill>
                <a:latin typeface="Arial"/>
              </a:rPr>
              <a:t>月，国有经济在一些重点行业和关键领域按销售收入计算所占的比重分别为：石化</a:t>
            </a:r>
            <a:r>
              <a:rPr b="0" lang="zh-CN" sz="2800" spc="-1" strike="noStrike">
                <a:solidFill>
                  <a:srgbClr val="ffffff"/>
                </a:solidFill>
                <a:latin typeface="Arial"/>
              </a:rPr>
              <a:t>69.3</a:t>
            </a:r>
            <a:r>
              <a:rPr b="0" lang="zh-CN" sz="2800" spc="-1" strike="noStrike">
                <a:solidFill>
                  <a:srgbClr val="ffffff"/>
                </a:solidFill>
                <a:latin typeface="Arial"/>
              </a:rPr>
              <a:t>％，石油</a:t>
            </a:r>
            <a:r>
              <a:rPr b="0" lang="zh-CN" sz="2800" spc="-1" strike="noStrike">
                <a:solidFill>
                  <a:srgbClr val="ffffff"/>
                </a:solidFill>
                <a:latin typeface="Arial"/>
              </a:rPr>
              <a:t>92.1</a:t>
            </a:r>
            <a:r>
              <a:rPr b="0" lang="zh-CN" sz="2800" spc="-1" strike="noStrike">
                <a:solidFill>
                  <a:srgbClr val="ffffff"/>
                </a:solidFill>
                <a:latin typeface="Arial"/>
              </a:rPr>
              <a:t>％，电力</a:t>
            </a:r>
            <a:r>
              <a:rPr b="0" lang="zh-CN" sz="2800" spc="-1" strike="noStrike">
                <a:solidFill>
                  <a:srgbClr val="ffffff"/>
                </a:solidFill>
                <a:latin typeface="Arial"/>
              </a:rPr>
              <a:t>90.6</a:t>
            </a:r>
            <a:r>
              <a:rPr b="0" lang="zh-CN" sz="2800" spc="-1" strike="noStrike">
                <a:solidFill>
                  <a:srgbClr val="ffffff"/>
                </a:solidFill>
                <a:latin typeface="Arial"/>
              </a:rPr>
              <a:t>％，汽车</a:t>
            </a:r>
            <a:r>
              <a:rPr b="0" lang="zh-CN" sz="2800" spc="-1" strike="noStrike">
                <a:solidFill>
                  <a:srgbClr val="ffffff"/>
                </a:solidFill>
                <a:latin typeface="Arial"/>
              </a:rPr>
              <a:t>72.0</a:t>
            </a:r>
            <a:r>
              <a:rPr b="0" lang="zh-CN" sz="2800" spc="-1" strike="noStrike">
                <a:solidFill>
                  <a:srgbClr val="ffffff"/>
                </a:solidFill>
                <a:latin typeface="Arial"/>
              </a:rPr>
              <a:t>％，冶金</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是正常的，那么在改革二十多年后的今天则显得不合理和令人深思，难道中国经济及二十多年的成功改革道路真的没有自己的独特性或基本条件吗？！难道西方经济学真的能解释这一切吗？社会科学发展历史和科学哲学思想已充分说明，在有关理论方法论、研究的基本前提没有解决或形成相当一致认识之前，要取得理论的显著进步和长期发展是不可能的，进而要正确认识和研究现实中存在的重要现象或问题就会十分困难。中国宏观经济理论研究的方法论问题已到了迫切需要引起理论界充分重视和讨论时候。下面就有关问题谈谈个人初步的认识。</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64.4</a:t>
            </a:r>
            <a:r>
              <a:rPr b="0" lang="zh-CN" sz="2800" spc="-1" strike="noStrike">
                <a:solidFill>
                  <a:srgbClr val="ffffff"/>
                </a:solidFill>
                <a:latin typeface="Arial"/>
              </a:rPr>
              <a:t>％，铁路</a:t>
            </a:r>
            <a:r>
              <a:rPr b="0" lang="zh-CN" sz="2800" spc="-1" strike="noStrike">
                <a:solidFill>
                  <a:srgbClr val="ffffff"/>
                </a:solidFill>
                <a:latin typeface="Arial"/>
              </a:rPr>
              <a:t>83.1</a:t>
            </a:r>
            <a:r>
              <a:rPr b="0" lang="zh-CN" sz="2800" spc="-1" strike="noStrike">
                <a:solidFill>
                  <a:srgbClr val="ffffff"/>
                </a:solidFill>
                <a:latin typeface="Arial"/>
              </a:rPr>
              <a:t>％，兵器</a:t>
            </a:r>
            <a:r>
              <a:rPr b="0" lang="zh-CN" sz="2800" spc="-1" strike="noStrike">
                <a:solidFill>
                  <a:srgbClr val="ffffff"/>
                </a:solidFill>
                <a:latin typeface="Arial"/>
              </a:rPr>
              <a:t>99.5</a:t>
            </a:r>
            <a:r>
              <a:rPr b="0" lang="zh-CN" sz="2800" spc="-1" strike="noStrike">
                <a:solidFill>
                  <a:srgbClr val="ffffff"/>
                </a:solidFill>
                <a:latin typeface="Arial"/>
              </a:rPr>
              <a:t>％，船舶与航空航天</a:t>
            </a:r>
            <a:r>
              <a:rPr b="0" lang="zh-CN" sz="2800" spc="-1" strike="noStrike">
                <a:solidFill>
                  <a:srgbClr val="ffffff"/>
                </a:solidFill>
                <a:latin typeface="Arial"/>
              </a:rPr>
              <a:t>84.5</a:t>
            </a:r>
            <a:r>
              <a:rPr b="0" lang="zh-CN" sz="2800" spc="-1" strike="noStrike">
                <a:solidFill>
                  <a:srgbClr val="ffffff"/>
                </a:solidFill>
                <a:latin typeface="Arial"/>
              </a:rPr>
              <a:t>％。国有企业的影响力、控制力进一步增强。”</a:t>
            </a:r>
            <a:r>
              <a:rPr b="0" lang="zh-CN" sz="2800" spc="-1" strike="noStrike" u="sng">
                <a:solidFill>
                  <a:srgbClr val="ffffcc"/>
                </a:solidFill>
                <a:uFillTx/>
                <a:latin typeface="Arial"/>
                <a:hlinkClick r:id="rId1" action="ppaction://hlinksldjump"/>
              </a:rPr>
              <a:t>4</a:t>
            </a:r>
            <a:r>
              <a:rPr b="0" lang="zh-CN" sz="2800" spc="-1" strike="noStrike">
                <a:solidFill>
                  <a:srgbClr val="ffffff"/>
                </a:solidFill>
                <a:latin typeface="Arial"/>
              </a:rPr>
              <a:t> </a:t>
            </a:r>
            <a:r>
              <a:rPr b="0" lang="zh-CN" sz="2800" spc="-1" strike="noStrike">
                <a:solidFill>
                  <a:srgbClr val="ffffff"/>
                </a:solidFill>
                <a:latin typeface="Arial"/>
              </a:rPr>
              <a:t>最新的数据是：“李荣融强调，国有企业无论怎么改，国有经济在国民经济中的主导作用是不会改的。到２００２年底，国有及国有控股企业上缴税收占工业企业上缴税收的三分之二；１９６家中央企业实现的利润占全国１５．９万家国有企业利润的６４％。在今后的改革中，尽管国企数量会减少，但大的企业会变得更大更强。 国企改革艰难的几年已经过去了，中共十五大提出的３年内大部分亏损企业扭亏为盈的目标２０００年已经实现。２００１年和２００２年国有及国有控股企业利润大幅增长。”</a:t>
            </a:r>
            <a:r>
              <a:rPr b="0" lang="zh-CN" sz="2800" spc="-1" strike="noStrike" u="sng">
                <a:solidFill>
                  <a:srgbClr val="ffffcc"/>
                </a:solidFill>
                <a:uFillTx/>
                <a:latin typeface="Arial"/>
                <a:hlinkClick r:id="rId2" action="ppaction://hlinksldjump"/>
              </a:rPr>
              <a:t>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上面的数据是不是清楚地说明了，中国二十多年经济改革过程中以公有制为主体的经济制度并没有发生根本变化呢？！再往前推，是不是五十多年来中国的经济制度虽历经演变但也没有发生根本变化呢？！同时，我们是不是也可以说，中国五十多年来所走的一条与西方资本主义不同的道路，总体上说是一条成功的道路呢？！中国及各国经济发展历史经验是不是已反复证明，那种简单根据某种理论、模仿某个国家，就断言所谓一切民族，不管他们各自的历史背景如何，都注定要走同一条道路的认识和结论不是显得过于教条和肤浅了呢？！马克思当年就曾对有人教条地理解和运用他关于人类社会经济形态演变的历史概念序列（我们过去也曾经把这个序列所谓公式化</a:t>
            </a:r>
            <a:r>
              <a:rPr b="0" lang="zh-CN" sz="2800" spc="-1" strike="noStrike" u="sng">
                <a:solidFill>
                  <a:srgbClr val="ffffcc"/>
                </a:solidFill>
                <a:uFillTx/>
                <a:latin typeface="Arial"/>
                <a:hlinkClick r:id="rId1" action="ppaction://hlinksldjump"/>
              </a:rPr>
              <a:t>6</a:t>
            </a:r>
            <a:r>
              <a:rPr b="0" lang="zh-CN" sz="2800" spc="-1" strike="noStrike">
                <a:solidFill>
                  <a:srgbClr val="ffffff"/>
                </a:solidFill>
                <a:latin typeface="Arial"/>
              </a:rPr>
              <a:t>），提出过鲜明的批评。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404280"/>
            <a:ext cx="8362800" cy="572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马克思说“他一定要把我关于西欧资本主义起源的历史概述彻底变成一般发展道路的历史哲学理论，一切民族，不管他们所处的历史环境如何，都注定要走这条道路，——以便最后都达到在保证社会劳动生产力极高度发展的同时又保证人类最全面的发展的这样一种经济形态。但是我要请他原谅。他这样做，会给我过多的荣誉，同时也会给我过多的侮辱。因为极为相似的事情，在不同的历史环境中出现就引起了完全不同的结果。……。因此，极为相似的事情，但在不同的历史环境中出现就引起了完全不同的结果。如果把这些发展过程中的每一个都分别加以研究，然后再把它们加以比较，我们就会很容易地找到理解这种现象的钥匙；但是，使用一般历史哲学理论这一把万能钥匙，那是永远达不到这种目的的，这种历史哲学理论的最大长处就在于它是超历史的。”</a:t>
            </a:r>
            <a:r>
              <a:rPr b="0" lang="zh-CN" sz="2800" spc="-1" strike="noStrike" u="sng">
                <a:solidFill>
                  <a:srgbClr val="ffffcc"/>
                </a:solidFill>
                <a:uFillTx/>
                <a:latin typeface="Arial"/>
                <a:hlinkClick r:id="rId1" action="ppaction://hlinksldjump"/>
              </a:rPr>
              <a:t>7</a:t>
            </a:r>
            <a:r>
              <a:rPr b="0" lang="zh-CN"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5280" y="476280"/>
            <a:ext cx="8424720" cy="5905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们必须清醒地认识到，人类历史的进程是一个极其复杂、充满矛盾并交织着多种形态的庞大运动，每个国家只是身处其中作为其一个部分而已，相对来说，任何简单的断言都将显得过于单纯、肤浅。</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总之，在我国建国以来的五十多年的经济发展过程中，坚持以公有制为主的经济制度虽历经演变，但其重要影响及意义是极其深远的。事实也充分证明，总体上说，这样一种基本经济制度与中国生产力及历史背景有着深刻的联系及客观基础。当然，任何一种符合本国国情的经济制度并不是一成不变的，而是在不断地演变过程之中。以公有制为主的经济制度在我国新的历史时期，同样需要不断完善和改进，这也正是我国经济改革探索的一个基本内容，但探索决不意味着这个制度本身的改变。</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因此，如果说坚持以公有制为主的经济制度是中国经济改革道路的一个基本条件，那么这一特征对我国宏观经济运行是如何影响和作用的呢？在建立和研究我国宏观经济理论时是否应客观评价和分析这一历史和现实特征的深刻意义呢？研究我国宏观经济问题的理论前提或出发点究竟是历史和现实中的国情特征还是西方经济学的理论前提或背景呢？我们认为，对这些基本问题的明确回答是研究中国宏观经济理论必须首先解决的方法论问题，对这些问题认识将决定我们如何看待中国宏观经济问题的基本角度或方式，从而将进一步决定我们研究的基本思路、内容和方法，其影响理论研究的深刻性是显而易见的。</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404280"/>
            <a:ext cx="83628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琥珀"/>
              </a:rPr>
              <a:t>三、中国宏观经济基本条件之二：生产力多元化及其不平衡发展</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如果说到目前为止中国经济改革是成功的，那么在理论和实践上一个重要的结论是：公有制为主的经济制度与市场机制结合是可能的，这种新经济模式（社会主义市场经济）预示着强大的生命力。那么将怎样解释和看待这一结论呢？其合理性何在呢？众所周知，传统计划经济失误的一个基本原因，就是不顾中国国情的特征及生产力水平，极端地拒绝一切市场经济因素，导致生产力与其生产关系之间的严重脱节，最终阻碍了经济发展。因此，历史的经验已充分说明，中国经济需要发挥市场经济机制有效配置资源的作用。我们也必须认识到，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市场机制配置资源的功能并不是在任何情况下都是有效的、充分的，其对应经济模式更不是唯一的。当今世界各国市场经济模式，在严格意义上只能称之为不同形式的混合市场经济模式。世界上从来就不存在什么通用的经济模式，具体市场经济模式特征的确立必须与具体的国情及生产力相适应。</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先从理论上来初步讨论这个问题。西方经济学中的核心概念“均衡”的含义几乎可以等价于纯粹市场机制，理解了均衡的思想和内涵也就理解了市场机制是如何有效配置资源的。但我们也知道，理论上均衡状态的实现仅仅是众多严格假设（非现实）条件下抽象或理想化的结果。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如果简单地把“均衡”看作是对能够达到的现实描述，那真是太天真、太简单了！例如，从纯理论角度看，“均衡”状态必须也只能是唯一的，而“非均衡”状态却有无穷种的可能性，一和无穷数之比是不能再小的小概率事件，真不知道人类经济历史中究竟是否真的出现过“均衡”状态？！从哲学层次上认识，“均衡”概念也包含着一个深刻矛盾！一方面，“均衡”思想告诉我们，市场经济活动是异常复杂的，它有其内在规律性，是人的认识能力所不能完全达到的，故其主张不能人为地干预市场经济活动，应该由“看不见的手”即市场来自发地调节整个经济活动；而另一方面，“均衡”概念则又告诉我们，西方经济学已经找到了或认识到市场经济这一异常复杂系统最为理想结果即“均衡”状态。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24000" y="404280"/>
            <a:ext cx="836280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那么，我们不禁要问，市场经济活动的复杂性到底是人可以认识的还是不可能认识的呢（这也正是所谓自由主义哲学思想的深刻困境</a:t>
            </a:r>
            <a:r>
              <a:rPr b="0" lang="zh-CN" sz="2800" spc="-1" strike="noStrike" u="sng">
                <a:solidFill>
                  <a:srgbClr val="ffffcc"/>
                </a:solidFill>
                <a:uFillTx/>
                <a:latin typeface="Arial"/>
                <a:hlinkClick r:id="rId1" action="ppaction://hlinksldjump"/>
              </a:rPr>
              <a:t>8</a:t>
            </a:r>
            <a:r>
              <a:rPr b="0" lang="zh-CN" sz="2800" spc="-1" strike="noStrike">
                <a:solidFill>
                  <a:srgbClr val="ffffff"/>
                </a:solidFill>
                <a:latin typeface="Arial"/>
              </a:rPr>
              <a:t>）？！与这个矛盾相一致，“均衡”概念还存在另一个重大缺陷，即它是一个不可直接实际检验的结论（即不可证伪性）！</a:t>
            </a:r>
            <a:r>
              <a:rPr b="0" lang="zh-CN" sz="2800" spc="-1" strike="noStrike" u="sng">
                <a:solidFill>
                  <a:srgbClr val="ffffcc"/>
                </a:solidFill>
                <a:uFillTx/>
                <a:latin typeface="Arial"/>
                <a:hlinkClick r:id="rId2" action="ppaction://hlinksldjump"/>
              </a:rPr>
              <a:t>9</a:t>
            </a:r>
            <a:r>
              <a:rPr b="0" lang="zh-CN" sz="2800" spc="-1" strike="noStrike">
                <a:solidFill>
                  <a:srgbClr val="ffffff"/>
                </a:solidFill>
                <a:latin typeface="Arial"/>
              </a:rPr>
              <a:t>因此，我们认为，“均衡”概念只是一种思想、信念，并不是真正意义上的科学结论。全面客观地认识“均衡”、市场经济思想，而不是把它看作是一种教条、一种普遍实践结果，同样是中国宏观经济理论研究中需要解决的一个方法论认识问题。</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再从中国国情的基本特征来讨论这个问题。“均衡”理论告诉我们，市场经济高效率或有效性</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来自于完全竟争市场机制的形成，而形成完全竞争市场机制是需要相当苛刻条件的（理论上即“均衡”存在的假设条件）。我们认为从现实的角度看，其相关条件可分为两类：即有关经济（法律）制度的（生产关系）条件和有关生产力的条件。我国理论界有人总是把建立我国市场经济制度的研究重点放在经济制度方面；例如，以西方经济学中纯粹的“均衡”模式为标准，总是突出、夸大我国现行经济制度与其的不一致性，甚至提出建立以私有制为主的市场经济模式。历史的经验已经证明，仅从书本上的教条出发，不考虑中国现阶段生产力的情况、具体国情及历史背景的客观条件和限制，片面强调经济制度（生产关系）形式的认识是完全行不通。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ea typeface="华文琥珀"/>
              </a:rPr>
              <a:t>一、何为经济学方法论及其在理论研究中的意义</a:t>
            </a:r>
            <a:endParaRPr b="0" lang="en-US" sz="28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何谓“经济学方法论”？要准确回答其含义也许是十分困难的。如果从整个经济学来看，也许可这样概括：经济学方法论是决定怎样去研究经济学的总的思想、规则和研究方法及程序。也可以简单地说经济学方法论就是经济学的哲学基础及其应用。如英国著名经济学家马克</a:t>
            </a:r>
            <a:r>
              <a:rPr b="0" lang="zh-CN" sz="2800" spc="-1" strike="noStrike">
                <a:solidFill>
                  <a:srgbClr val="ffffff"/>
                </a:solidFill>
                <a:latin typeface="Arial"/>
              </a:rPr>
              <a:t>·</a:t>
            </a:r>
            <a:r>
              <a:rPr b="0" lang="zh-CN" sz="2800" spc="-1" strike="noStrike">
                <a:solidFill>
                  <a:srgbClr val="ffffff"/>
                </a:solidFill>
                <a:latin typeface="Arial"/>
              </a:rPr>
              <a:t>布劳格认为：“为了避免误解，……，提醒人们干脆把‘经济学方法论’理解为经济学所运用的科学哲学。”</a:t>
            </a:r>
            <a:r>
              <a:rPr b="0" lang="zh-CN" sz="2800" spc="-1" strike="noStrike" u="sng">
                <a:solidFill>
                  <a:srgbClr val="ffffcc"/>
                </a:solidFill>
                <a:uFillTx/>
                <a:latin typeface="Arial"/>
                <a:hlinkClick r:id="rId1" action="ppaction://hlinksldjump"/>
              </a:rPr>
              <a:t>1</a:t>
            </a:r>
            <a:r>
              <a:rPr b="0" lang="zh-CN" sz="2800" spc="-1" strike="noStrike">
                <a:solidFill>
                  <a:srgbClr val="ffffff"/>
                </a:solidFill>
                <a:latin typeface="Arial"/>
              </a:rPr>
              <a:t>西方经济学方法论也告诉我们，所谓“ 实证方法论”就是现代西方经济学主流学派</a:t>
            </a:r>
            <a:r>
              <a:rPr b="0" lang="zh-CN" sz="2800" spc="-1" strike="noStrike">
                <a:solidFill>
                  <a:srgbClr val="ffffff"/>
                </a:solidFill>
                <a:latin typeface="Arial"/>
              </a:rPr>
              <a:t>(</a:t>
            </a:r>
            <a:r>
              <a:rPr b="0" lang="zh-CN" sz="2800" spc="-1" strike="noStrike">
                <a:solidFill>
                  <a:srgbClr val="ffffff"/>
                </a:solidFill>
                <a:latin typeface="Arial"/>
              </a:rPr>
              <a:t>主要指新古典主义经济学，这一流派对我国理论界的影响最大</a:t>
            </a:r>
            <a:r>
              <a:rPr b="0" lang="zh-CN" sz="2800" spc="-1" strike="noStrike">
                <a:solidFill>
                  <a:srgbClr val="ffffff"/>
                </a:solidFill>
                <a:latin typeface="Arial"/>
              </a:rPr>
              <a:t>)</a:t>
            </a:r>
            <a:r>
              <a:rPr b="0" lang="zh-CN" sz="2800" spc="-1" strike="noStrike">
                <a:solidFill>
                  <a:srgbClr val="ffffff"/>
                </a:solidFill>
                <a:latin typeface="Arial"/>
              </a:rPr>
              <a:t>研究方法论的统称。 </a:t>
            </a:r>
            <a:br>
              <a:rPr sz="2800"/>
            </a:br>
            <a:endParaRPr b="0" lang="en-US" sz="28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们认为建立市场机制的制度条件固然重要，但它必须从属于其生产力的状况，马克思经济思想及历史经验告诉我们，应是生产力决定生产关系，而不是相反。符合中国国情特征的市场经济制度只能由中国历史和现实生产力的状况或特征决定，而不可能是由西方经济学来决定！</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从进一步深入分析“均衡”存在或保证市场机制有效性的条件中，我们可以清楚地知道，确保自由平等竞争机制的形成是市场经济的核心。而从“均衡”的主要假设条件中我们可以推出，现实中，自由平等竞争状态的形成及有效性最终取决于两个基本条件：一是竞争各方的生产力（竞争力）较为平衡（完全排除垄断，即生产力条件）；二是排除外来人为的干预因素（完全由“理性经济人”操作，即经济制度条件）。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两个基本条件是统一的，但我国理论研究中，后一条件往往被人们过度认识和重视，而前一条件却被人忽视而少有人进行深入研究。实际上，竞争各方生产力平衡条件的重要性是容易理解的，因为，如果各竞争者之间的生产力不处于同一水平时，则竞争的结果在竞争未开始前就已确定了，由此竞争完全失去意义，所谓自由竞争的“自由”就变成不自由了。我们还应认识到，这一条件是十分严格和苛刻的，从建立一个国家范围的市场机制来说，这个条件则要求整个市场的竞争各方生产力平衡条件必须在不同层次或范围上都要得到满足：如在行业内部之间，在不同行业之间，在不同地区之间等。显然严格地说，现实中这样苛刻、理想化条件，在任何国家都不存在！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当然，各国生产力状况满足其条件的程度则是千差万别，如发达国家生产力结构的状况相对来说就平衡些（一元化），其市场经济有效性就稳定些，而发展中国家生产力结构状况相对来说就非常不平衡（多元化），其市场经济有效性就可能难以得到保证。因此，我们说究竟要建立一个什么样的市场经济模式，必须首先要根据这个国家的生产力状况及具体国情来确定，那种理想化、唯一的市场经济模式只存在于书本上而不可能存在于现实中！</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那么，中国生产力及具体国情状况，在多大程度满足所谓标准“均衡”或市场经济模式的条件呢？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众所周知，中国宏观经济突出基本特征是：人口规模世界第一、各种资源的人均水平极低、生产力结构多元化、各地区生产力发展之间显著不平衡；这些特征（可统称为“生产力多元化”）的存在性，不用数据证明也是不会有什么争论和疑问的。如果我们非要在这样的条件下展开完全的市场竞争，其结果将是：大规模弱势人口的就业压力将日益严重，各种资源的无序损耗将难以控制，农业经济将始终处于竞争失败的一方，西部地区经济将相对越来越处于落后的境地，同时每一次的宏观经济危机将始终由此竞争结果所引起（现实情况就是如此！）。我们再来看看温家宝总理对中国国情特征生动地概括：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中国的劳动力有</a:t>
            </a:r>
            <a:r>
              <a:rPr b="0" lang="zh-CN" sz="2800" spc="-1" strike="noStrike">
                <a:solidFill>
                  <a:srgbClr val="ffffff"/>
                </a:solidFill>
                <a:latin typeface="Arial"/>
              </a:rPr>
              <a:t>7</a:t>
            </a:r>
            <a:r>
              <a:rPr b="0" lang="zh-CN" sz="2800" spc="-1" strike="noStrike">
                <a:solidFill>
                  <a:srgbClr val="ffffff"/>
                </a:solidFill>
                <a:latin typeface="Arial"/>
              </a:rPr>
              <a:t>亿</a:t>
            </a:r>
            <a:r>
              <a:rPr b="0" lang="zh-CN" sz="2800" spc="-1" strike="noStrike">
                <a:solidFill>
                  <a:srgbClr val="ffffff"/>
                </a:solidFill>
                <a:latin typeface="Arial"/>
              </a:rPr>
              <a:t>4</a:t>
            </a:r>
            <a:r>
              <a:rPr b="0" lang="zh-CN" sz="2800" spc="-1" strike="noStrike">
                <a:solidFill>
                  <a:srgbClr val="ffffff"/>
                </a:solidFill>
                <a:latin typeface="Arial"/>
              </a:rPr>
              <a:t>千万，而欧美所有发达国家的劳动力只有</a:t>
            </a:r>
            <a:r>
              <a:rPr b="0" lang="zh-CN" sz="2800" spc="-1" strike="noStrike">
                <a:solidFill>
                  <a:srgbClr val="ffffff"/>
                </a:solidFill>
                <a:latin typeface="Arial"/>
              </a:rPr>
              <a:t>4</a:t>
            </a:r>
            <a:r>
              <a:rPr b="0" lang="zh-CN" sz="2800" spc="-1" strike="noStrike">
                <a:solidFill>
                  <a:srgbClr val="ffffff"/>
                </a:solidFill>
                <a:latin typeface="Arial"/>
              </a:rPr>
              <a:t>亿</a:t>
            </a:r>
            <a:r>
              <a:rPr b="0" lang="zh-CN" sz="2800" spc="-1" strike="noStrike">
                <a:solidFill>
                  <a:srgbClr val="ffffff"/>
                </a:solidFill>
                <a:latin typeface="Arial"/>
              </a:rPr>
              <a:t>3</a:t>
            </a:r>
            <a:r>
              <a:rPr b="0" lang="zh-CN" sz="2800" spc="-1" strike="noStrike">
                <a:solidFill>
                  <a:srgbClr val="ffffff"/>
                </a:solidFill>
                <a:latin typeface="Arial"/>
              </a:rPr>
              <a:t>千万。中国每年新增劳动力</a:t>
            </a:r>
            <a:r>
              <a:rPr b="0" lang="zh-CN" sz="2800" spc="-1" strike="noStrike">
                <a:solidFill>
                  <a:srgbClr val="ffffff"/>
                </a:solidFill>
                <a:latin typeface="Arial"/>
              </a:rPr>
              <a:t>1000</a:t>
            </a:r>
            <a:r>
              <a:rPr b="0" lang="zh-CN" sz="2800" spc="-1" strike="noStrike">
                <a:solidFill>
                  <a:srgbClr val="ffffff"/>
                </a:solidFill>
                <a:latin typeface="Arial"/>
              </a:rPr>
              <a:t>万；下岗和失业人口大约</a:t>
            </a:r>
            <a:r>
              <a:rPr b="0" lang="zh-CN" sz="2800" spc="-1" strike="noStrike">
                <a:solidFill>
                  <a:srgbClr val="ffffff"/>
                </a:solidFill>
                <a:latin typeface="Arial"/>
              </a:rPr>
              <a:t>1400</a:t>
            </a:r>
            <a:r>
              <a:rPr b="0" lang="zh-CN" sz="2800" spc="-1" strike="noStrike">
                <a:solidFill>
                  <a:srgbClr val="ffffff"/>
                </a:solidFill>
                <a:latin typeface="Arial"/>
              </a:rPr>
              <a:t>万；进城的农民工一般保持在</a:t>
            </a:r>
            <a:r>
              <a:rPr b="0" lang="zh-CN" sz="2800" spc="-1" strike="noStrike">
                <a:solidFill>
                  <a:srgbClr val="ffffff"/>
                </a:solidFill>
                <a:latin typeface="Arial"/>
              </a:rPr>
              <a:t>1</a:t>
            </a:r>
            <a:r>
              <a:rPr b="0" lang="zh-CN" sz="2800" spc="-1" strike="noStrike">
                <a:solidFill>
                  <a:srgbClr val="ffffff"/>
                </a:solidFill>
                <a:latin typeface="Arial"/>
              </a:rPr>
              <a:t>亿</a:t>
            </a:r>
            <a:r>
              <a:rPr b="0" lang="zh-CN" sz="2800" spc="-1" strike="noStrike">
                <a:solidFill>
                  <a:srgbClr val="ffffff"/>
                </a:solidFill>
                <a:latin typeface="Arial"/>
              </a:rPr>
              <a:t>2</a:t>
            </a:r>
            <a:r>
              <a:rPr b="0" lang="zh-CN" sz="2800" spc="-1" strike="noStrike">
                <a:solidFill>
                  <a:srgbClr val="ffffff"/>
                </a:solidFill>
                <a:latin typeface="Arial"/>
              </a:rPr>
              <a:t>千万。中国面临巨大的就业压力。中国</a:t>
            </a:r>
            <a:r>
              <a:rPr b="0" lang="zh-CN" sz="2800" spc="-1" strike="noStrike">
                <a:solidFill>
                  <a:srgbClr val="ffffff"/>
                </a:solidFill>
                <a:latin typeface="Arial"/>
              </a:rPr>
              <a:t>13</a:t>
            </a:r>
            <a:r>
              <a:rPr b="0" lang="zh-CN" sz="2800" spc="-1" strike="noStrike">
                <a:solidFill>
                  <a:srgbClr val="ffffff"/>
                </a:solidFill>
                <a:latin typeface="Arial"/>
              </a:rPr>
              <a:t>亿人口有</a:t>
            </a:r>
            <a:r>
              <a:rPr b="0" lang="zh-CN" sz="2800" spc="-1" strike="noStrike">
                <a:solidFill>
                  <a:srgbClr val="ffffff"/>
                </a:solidFill>
                <a:latin typeface="Arial"/>
              </a:rPr>
              <a:t>9</a:t>
            </a:r>
            <a:r>
              <a:rPr b="0" lang="zh-CN" sz="2800" spc="-1" strike="noStrike">
                <a:solidFill>
                  <a:srgbClr val="ffffff"/>
                </a:solidFill>
                <a:latin typeface="Arial"/>
              </a:rPr>
              <a:t>亿农民，目前没有摆脱贫困的</a:t>
            </a:r>
            <a:r>
              <a:rPr b="0" lang="zh-CN" sz="2800" spc="-1" strike="noStrike">
                <a:solidFill>
                  <a:srgbClr val="ffffff"/>
                </a:solidFill>
                <a:latin typeface="Arial"/>
              </a:rPr>
              <a:t>3000</a:t>
            </a:r>
            <a:r>
              <a:rPr b="0" lang="zh-CN" sz="2800" spc="-1" strike="noStrike">
                <a:solidFill>
                  <a:srgbClr val="ffffff"/>
                </a:solidFill>
                <a:latin typeface="Arial"/>
              </a:rPr>
              <a:t>万左右，这是按每年人均收入</a:t>
            </a:r>
            <a:r>
              <a:rPr b="0" lang="zh-CN" sz="2800" spc="-1" strike="noStrike">
                <a:solidFill>
                  <a:srgbClr val="ffffff"/>
                </a:solidFill>
                <a:latin typeface="Arial"/>
              </a:rPr>
              <a:t>625</a:t>
            </a:r>
            <a:r>
              <a:rPr b="0" lang="zh-CN" sz="2800" spc="-1" strike="noStrike">
                <a:solidFill>
                  <a:srgbClr val="ffffff"/>
                </a:solidFill>
                <a:latin typeface="Arial"/>
              </a:rPr>
              <a:t>元的标准计算的。大家知道，这个标准是低水平的，如果标准再增加</a:t>
            </a:r>
            <a:r>
              <a:rPr b="0" lang="zh-CN" sz="2800" spc="-1" strike="noStrike">
                <a:solidFill>
                  <a:srgbClr val="ffffff"/>
                </a:solidFill>
                <a:latin typeface="Arial"/>
              </a:rPr>
              <a:t>200</a:t>
            </a:r>
            <a:r>
              <a:rPr b="0" lang="zh-CN" sz="2800" spc="-1" strike="noStrike">
                <a:solidFill>
                  <a:srgbClr val="ffffff"/>
                </a:solidFill>
                <a:latin typeface="Arial"/>
              </a:rPr>
              <a:t>元，农村贫困人口就是</a:t>
            </a:r>
            <a:r>
              <a:rPr b="0" lang="zh-CN" sz="2800" spc="-1" strike="noStrike">
                <a:solidFill>
                  <a:srgbClr val="ffffff"/>
                </a:solidFill>
                <a:latin typeface="Arial"/>
              </a:rPr>
              <a:t>9000</a:t>
            </a:r>
            <a:r>
              <a:rPr b="0" lang="zh-CN" sz="2800" spc="-1" strike="noStrike">
                <a:solidFill>
                  <a:srgbClr val="ffffff"/>
                </a:solidFill>
                <a:latin typeface="Arial"/>
              </a:rPr>
              <a:t>万。中国东西部差距很大，大家恐怕只是从概念上了解。我想说一个数字，中国沿海五六个省市</a:t>
            </a:r>
            <a:r>
              <a:rPr b="0" lang="zh-CN" sz="2800" spc="-1" strike="noStrike">
                <a:solidFill>
                  <a:srgbClr val="ffffff"/>
                </a:solidFill>
                <a:latin typeface="Arial"/>
              </a:rPr>
              <a:t>GDP</a:t>
            </a:r>
            <a:r>
              <a:rPr b="0" lang="zh-CN" sz="2800" spc="-1" strike="noStrike">
                <a:solidFill>
                  <a:srgbClr val="ffffff"/>
                </a:solidFill>
                <a:latin typeface="Arial"/>
              </a:rPr>
              <a:t>超过全国</a:t>
            </a:r>
            <a:r>
              <a:rPr b="0" lang="zh-CN" sz="2800" spc="-1" strike="noStrike">
                <a:solidFill>
                  <a:srgbClr val="ffffff"/>
                </a:solidFill>
                <a:latin typeface="Arial"/>
              </a:rPr>
              <a:t>GDP</a:t>
            </a:r>
            <a:r>
              <a:rPr b="0" lang="zh-CN" sz="2800" spc="-1" strike="noStrike">
                <a:solidFill>
                  <a:srgbClr val="ffffff"/>
                </a:solidFill>
                <a:latin typeface="Arial"/>
              </a:rPr>
              <a:t>总值的</a:t>
            </a:r>
            <a:r>
              <a:rPr b="0" lang="zh-CN" sz="2800" spc="-1" strike="noStrike">
                <a:solidFill>
                  <a:srgbClr val="ffffff"/>
                </a:solidFill>
                <a:latin typeface="Arial"/>
              </a:rPr>
              <a:t>50</a:t>
            </a:r>
            <a:r>
              <a:rPr b="0" lang="zh-CN" sz="2800" spc="-1" strike="noStrike">
                <a:solidFill>
                  <a:srgbClr val="ffffff"/>
                </a:solidFill>
                <a:latin typeface="Arial"/>
              </a:rPr>
              <a:t>％。这几个数字，已经点出了三个问题：农村问题，就业和贫困人口的问题，东西部地区差距问题。”</a:t>
            </a:r>
            <a:r>
              <a:rPr b="0" lang="zh-CN" sz="2800" spc="-1" strike="noStrike" u="sng">
                <a:solidFill>
                  <a:srgbClr val="ffffcc"/>
                </a:solidFill>
                <a:uFillTx/>
                <a:latin typeface="Arial"/>
                <a:hlinkClick r:id="rId1" action="ppaction://hlinksldjump"/>
              </a:rPr>
              <a:t>10</a:t>
            </a:r>
            <a:r>
              <a:rPr b="0" lang="zh-CN" sz="2800" spc="-1" strike="noStrike">
                <a:solidFill>
                  <a:srgbClr val="ffffff"/>
                </a:solidFill>
                <a:latin typeface="Arial"/>
              </a:rPr>
              <a:t>面对中国的具体国情，我们不禁要问，以私有制为主、以市场</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3640" y="549000"/>
            <a:ext cx="8569080" cy="5832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机制调节为主的市场经济，如何在生产力多元化状态下保证竞争各方满足同样平等竞争的生产力条件呢？如何保证具有不同生产力水平的竞争者之间竞争的有效性从而保证整个市场机制的有效性呢？何况更由于中国人口和劳动力的世界之最，进一步加大了解决平等竞争问题的难度。在我国现实市场竞争中，将长期存在这样的现象，处于生产力底端的人群要么只能完全处于弱势贫困状态，要么只能采取非法的手段“提高”其生产力水平（如大量假冒伪劣产品、地方保护主义现象等）参入市场竞争，这样就完全扭曲了市场竞争的本来意义，难道这种现象的产生不具有其客观基础吗？！难道这种现象在现实中还没有给我们留下深刻印象吗？！</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深刻认识和了解中国的基本国情后，难道我们不感觉到西方经济学中所谓同一的“理性经济人”假设，所谓唯一“均衡”状态离中国经济国情和现实太遥远了吗？</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需要指出的是，上面有关分析，不是要否定市场机制及市场经济的基本意义，近代以来各国经济发展的历史已充分证明了，市场经济与经济发展之间的密切联系。我们否定的是，在所谓同一“理性经济人”和“一般均衡”基本条件下市场经济模式唯一性思想及理论，即所谓以私有制为主的经济制度是市场经济下唯一有效的经济制度。无论从一国生产力多元化形成的历史过程（由于篇幅问题，这里就不展开了）来看，还是从现实整个世界及经济格局的形成历史（更大范围的“生产力多元化”）来看，都清楚表明，这个世界从来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不存在什么完全自由平等的竞争！因此，在生产力多元化条件下建立市场经济，必须要找到与之相适应新的经济制度，以其解决我国国内范围的不平等竞争、不平衡发展等问题。我们认为，以公有制为主的经济制度正是这样一种有希望、值得进一步探索的经济制度。以公有制为主经济制度的最大特征是，公有制经济成分能大大增强国家调控和稳定市场经济有效运行的能力，增强国家解决有关不平等竞争、不平衡发展等问题的经济力量及资源。有关进一步分析将在下一个问题中展开。</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总是，从上面两个问题的初步讨论表明，我国生产力多元化、各地区之间的经济发展不平衡是我国宏观经济另一个基本条件，因而它与以公有制为主多种经济成分共存的经济制度一起，形成了中国宏观经济理论研究的两个基本条件（基本假设）。如何在这样的基本条件下，建立和创新我国宏观经济理论将是一项长期、艰巨的理论探索。</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琥珀"/>
              </a:rPr>
              <a:t>四、中国宏观经济理论研究几个具体方法论问题</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如果我们确认了生产力多元化及以公有制为主多种经济成分共存的经济制度是我国宏观经济理论研究的基本条件，那么与西方经济学主流宏观经济学相比，其研究对象、方法及内容将发生</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重大的变化。理论研究的基本条件（假设）变了，则意味着其研究的对象、内容及方法也将随之发生变化，这正是方法论问题的重要意义和作用所在。下面就有关问题谈谈个人初步的认识和看法。</a:t>
            </a:r>
            <a:endParaRPr b="0" lang="en-US" sz="2800" spc="-1" strike="noStrike">
              <a:solidFill>
                <a:srgbClr val="ffffff"/>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zh-CN" sz="3200" spc="-1" strike="noStrike">
                <a:solidFill>
                  <a:srgbClr val="ffffff"/>
                </a:solidFill>
                <a:latin typeface="Arial"/>
                <a:ea typeface="华文新魏"/>
              </a:rPr>
              <a:t>一）、研究对象问题。</a:t>
            </a:r>
            <a:endParaRPr b="0" lang="en-US" sz="32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我们认为中国宏观经济理论研究的对象，简单地说就是：关于在生产力多元化基础上，其生产力结构所决定的经济总量与结构及其关系的问题</a:t>
            </a:r>
            <a:r>
              <a:rPr b="0" lang="zh-CN" sz="2800" spc="-1" strike="noStrike" u="sng">
                <a:solidFill>
                  <a:srgbClr val="ffffcc"/>
                </a:solidFill>
                <a:uFillTx/>
                <a:latin typeface="Arial"/>
                <a:hlinkClick r:id="rId1" action="ppaction://hlinksldjump"/>
              </a:rPr>
              <a:t>11</a:t>
            </a:r>
            <a:r>
              <a:rPr b="0" lang="zh-CN" sz="2800" spc="-1" strike="noStrike">
                <a:solidFill>
                  <a:srgbClr val="ffffff"/>
                </a:solidFill>
                <a:latin typeface="Arial"/>
              </a:rPr>
              <a:t>。值得指出的是，这个定义中的“总量与结构”的含义与一般的理解是非常不一样的，它们总是与生产力多元化联在一起的。不难理解，与发达国家生产力相对一元化基础上的市场经济相比，在生产力多元化基础上建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475920"/>
            <a:ext cx="83534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实证方法论经历了一个长期的演变过程</a:t>
            </a:r>
            <a:r>
              <a:rPr b="0" lang="zh-CN" sz="2800" spc="-1" strike="noStrike">
                <a:solidFill>
                  <a:srgbClr val="ffffff"/>
                </a:solidFill>
                <a:latin typeface="Arial"/>
              </a:rPr>
              <a:t>,</a:t>
            </a:r>
            <a:r>
              <a:rPr b="0" lang="zh-CN" sz="2800" spc="-1" strike="noStrike">
                <a:solidFill>
                  <a:srgbClr val="ffffff"/>
                </a:solidFill>
                <a:latin typeface="Arial"/>
              </a:rPr>
              <a:t>具体地说</a:t>
            </a:r>
            <a:r>
              <a:rPr b="0" lang="zh-CN" sz="2800" spc="-1" strike="noStrike">
                <a:solidFill>
                  <a:srgbClr val="ffffff"/>
                </a:solidFill>
                <a:latin typeface="Arial"/>
              </a:rPr>
              <a:t>,</a:t>
            </a:r>
            <a:r>
              <a:rPr b="0" lang="zh-CN" sz="2800" spc="-1" strike="noStrike">
                <a:solidFill>
                  <a:srgbClr val="ffffff"/>
                </a:solidFill>
                <a:latin typeface="Arial"/>
              </a:rPr>
              <a:t>十九世纪其思想基础是科学哲学中的“证实主义”</a:t>
            </a:r>
            <a:r>
              <a:rPr b="0" lang="zh-CN" sz="2800" spc="-1" strike="noStrike">
                <a:solidFill>
                  <a:srgbClr val="ffffff"/>
                </a:solidFill>
                <a:latin typeface="Arial"/>
              </a:rPr>
              <a:t>,</a:t>
            </a:r>
            <a:r>
              <a:rPr b="0" lang="zh-CN" sz="2800" spc="-1" strike="noStrike">
                <a:solidFill>
                  <a:srgbClr val="ffffff"/>
                </a:solidFill>
                <a:latin typeface="Arial"/>
              </a:rPr>
              <a:t>而二十世纪则是所谓“证伪主义”</a:t>
            </a:r>
            <a:r>
              <a:rPr b="0" lang="zh-CN" sz="2800" spc="-1" strike="noStrike" u="sng">
                <a:solidFill>
                  <a:srgbClr val="ffffcc"/>
                </a:solidFill>
                <a:uFillTx/>
                <a:latin typeface="Arial"/>
                <a:hlinkClick r:id="rId1" action="ppaction://hlinksldjump"/>
              </a:rPr>
              <a:t>[2]</a:t>
            </a:r>
            <a:r>
              <a:rPr b="0" lang="zh-CN" sz="2800" spc="-1" strike="noStrike">
                <a:solidFill>
                  <a:srgbClr val="ffffff"/>
                </a:solidFill>
                <a:latin typeface="Arial"/>
              </a:rPr>
              <a:t>，无论是“证实主义”还是“证伪主义”，其方法论的一个共同点就是都认为科学理论研究是有客观标准的，即其标准或是“证实”或是“证伪”，因此，长期以来西方经济学方法论的核心思想，就是追求其理论的科学化。因此，许多人都关心并不断地追问一个问题：用大量数学形式武装的西方经济学是科学吗？然而二十世纪</a:t>
            </a:r>
            <a:r>
              <a:rPr b="0" lang="zh-CN" sz="2800" spc="-1" strike="noStrike">
                <a:solidFill>
                  <a:srgbClr val="ffffff"/>
                </a:solidFill>
                <a:latin typeface="Arial"/>
              </a:rPr>
              <a:t>60</a:t>
            </a:r>
            <a:r>
              <a:rPr b="0" lang="zh-CN" sz="2800" spc="-1" strike="noStrike">
                <a:solidFill>
                  <a:srgbClr val="ffffff"/>
                </a:solidFill>
                <a:latin typeface="Arial"/>
              </a:rPr>
              <a:t>年代以来，西方科学哲学中“历史主义”的兴起，对西方经济学主流方法论产生了巨大的冲击，主要表现在对西方经济学科学性信念的动摇，同时不同思想基础的经济学流派、理论的大量出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的市场经济将呈现出多元化市场经济的格局。从逻辑上分析，同一生产力水平范围形成同一竞争市场，不同生产力水平范围属于不同的竞争市场，而不同生产力水平上的市场之间的竞争是不平等的，其各自发展也是不平衡的。例如，在我国最简单的市场划分至少可分为农产品市场和工业品市场，农产品与工业产品之间的竞争就是不平等的。因此，有关同一竞争市场内的经济问题，基本上可借鉴西方经济学研究方法进行研究；但不同竞争市场之间的经济问题特别是有关不平等竞争、不平衡发展等问题则是一类全新问题。这类问题不可能象西方经济学说的那样，完全由市场自发力量去解决，而必须在充分重视市场机制作用的基础上，主要通过特定经济制度安排并主要依靠国家宏观调控手段和政策去解决。</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值得进一步指出的是，由多元化生产力（市场）产生的这类新经济学问题往往是一种“两难问题”，研究起来将有相当难度。所谓“两难问题”的含义是：在生产力多元化条件下，市场自发力量（利益驱动）似乎规定了市场投资及资源唯一的运动方向（而不是所谓自由流动）；即总是朝着有利于高端生产力（市场）发展的方向运动。这样就会产生一种“两难结果”：一方面，总体生产力的发展必须依靠新的（高端）生产力（市场）发展去带动，新生产力总是吸引着大量投资及资源，这种投资及资源朝固定方向运动的结果将是，在造成有利于迅速提升总体生产力水平的同时又形成了新的不平衡；另一方面，传统、落后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的低端生产力（市场）则难以吸引投资及资源，因而总是处于相对越来越滞后增长的境地，最终又将影响总体生产力的持续发展。因此，在中国宏观经济理论研究中，西方经济学“一般均衡”思想及理论的意义大大降低（但仍可借鉴其有关“局部均衡”的思想）。从我国宏观经济运行的总体客观要求看，生产力多元化下的“生产力非均衡结构平衡”状态（此概念的名称如何确定可进一步考虑）将是我国宏观经济理论研究的一个基本概念或信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总之我们认为，在生产力多元化客观背景下的宏观经济研究对象，必须从西方经济学“一般均衡分析框架”中跳出来，应突出国际、国内不平等</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竞争、不平衡发展等基本问题的研究；突出运用国家宏观经济调控手段和政策解决有关问题的基本原理的研究；突出公有制经济在我国宏观经济不平衡发展中，如何发挥其稳定性和主导性作用及特殊意义等问题的研究等。 </a:t>
            </a:r>
            <a:endParaRPr b="0" lang="en-US" sz="28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ea typeface="华文新魏"/>
              </a:rPr>
              <a:t>（二）、研究内容问题。</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我们已知道，在生产力多元化条件下，直接通过市场机制达到有效配置资源的方式将产生一系列新的宏观经济问题，因此，必须通过找到相应的经济制度和宏观调控方式来解决。</a:t>
            </a:r>
            <a:r>
              <a:rPr b="0" lang="zh-CN" sz="3200" spc="-1" strike="noStrike">
                <a:solidFill>
                  <a:srgbClr val="ffffff"/>
                </a:solidFill>
                <a:latin typeface="Arial"/>
              </a:rPr>
              <a:t> </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我们认为，由此将形成中国宏观经济理论研究主要内容基本方向：即强调以公有制为主</a:t>
            </a:r>
            <a:r>
              <a:rPr b="0" lang="zh-CN" sz="3200" spc="-1" strike="noStrike">
                <a:solidFill>
                  <a:srgbClr val="ffffff"/>
                </a:solidFill>
                <a:latin typeface="Arial"/>
              </a:rPr>
              <a:t> </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多种经济成分共存的经济制度与多元化市场经济格局及其稳定性关系；强调国家对多元化市场经济调控力度重要性及其方法的创新性。下面稍展开来谈谈。</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首先，关于以公有制为主多种经济成分共存的经济制度的意义及作用问题。我们认为，在我国生产力多元化条件下，将长期存在大量市场机制及其作用结果被扭曲的现象。例如，长期存在国民经济结构不合理现象；低端生产力相对滞后发展造成其大量人口相对贫困化现象；大量假冒伪劣生产、市场信用体系混乱现象；投资规模迅速集中、盲目重复投资、恶性竞争现象等等。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95280" y="404640"/>
            <a:ext cx="8424720" cy="590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改革以来的实践充分说明，在生产力多元化条件下，市场竞争结果在带来经济迅速增长的同时，也加速了经济运行中大量不平等、不平衡现象的产生，加剧了宏观经济结构不平衡发展的程度。因此，强调国有企业在国民经济中主导作用基本依据，一是其具有强大稳定宏观经济基础的作用，二是其能较好地执行和配合宏观经济政策，具有主动有效地进行经济结构调整的功能。有关研究内容包括：在生产力和市场多元化基本条件下，如何合理布局国有经济体系（多元化体系）；国民经济增长与国有经济增长之间的基本关系与结构；宏观经济调控手段和政策与国有经济发展相协调的关系等。</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其次，关于国家宏观经济调控政策的意义和原则问题。我们认为，生产力及市场多元化客观条件下，决定了国家调控经济的意义将更加重要。其有关研究一个基本内容是，如何通过国家干预机制有效地解决不同生产力水平之间协调发展的问题。这类问题基本原则和难点在于：与追求个体最大利益的市场原则相反，必须也只能由国家采取长期、有效的手段、政策，甚至是建立有关制度安排，来尽力提高或支撑低端生产力（市场）的竞争力水平及发展，促进低端生产力及其庞大人口较顺利地向更高生产力（市场）转化，最终达到共同发展。历史经验反复表明，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在生产力多元化条件下，与追求个体最大利益的市场原则一致，大量投资将主要涌向高端生产力市场；高端生产力（市场）往往出现跃进式迅猛增长的形式。现实情况也表明，相对来说，高端生产力（市场）的发展不缺资金及资源，而低端生产力（市场）最缺的就是资金及资源，两者发展的客观条件是完全不对称的，也是不平等的。因此，国家宏观经济调控手段和政策的一个基本原则是：国家资金及资源应主要流向低端生产力（市场），同时有必要适当控制高端生产力（市场）的发展速度。当然，有关研究问题的性质与西方宏观经济学相比将非常不同，同时问题研究</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的难度增加。例如，如何把市场调节与国家计划协调起来；如何正确制定国家调控不同生产力水平（不同市场）之间矛盾的有效方法和手段；如何重点解决和保障低端生产力（市场）的发展及其巨大就业压力、弱势人口利益等问题，都是有相当研究难度的。</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最后，关于国家宏观经济调控的手段和方法问题。生产力及市场多元化条件下，宏观经济问题的性质及内容发生了较大变化，国家宏观经济调控手段和方法也将随之发生较大变化。具体地说，与西方经济学强调财政政策、货币政策等总量、间接市场调控手段相比，将有重大变化：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强调与生产力多元化平衡发展相一致的结构性调控方法，所谓总量调控方法将更多被局部总量调控方法取代。（</a:t>
            </a:r>
            <a:r>
              <a:rPr b="0" lang="zh-CN" sz="2800" spc="-1" strike="noStrike">
                <a:solidFill>
                  <a:srgbClr val="ffffff"/>
                </a:solidFill>
                <a:latin typeface="Arial"/>
              </a:rPr>
              <a:t>2</a:t>
            </a:r>
            <a:r>
              <a:rPr b="0" lang="zh-CN" sz="2800" spc="-1" strike="noStrike">
                <a:solidFill>
                  <a:srgbClr val="ffffff"/>
                </a:solidFill>
                <a:latin typeface="Arial"/>
              </a:rPr>
              <a:t>）对高端生产力（市场）和低端生产力（市场）的调控问题应采取非常不同的方法和手段；如，一个主要采取市场手段，另一个主要采取行政或计划手段。（</a:t>
            </a:r>
            <a:r>
              <a:rPr b="0" lang="zh-CN" sz="2800" spc="-1" strike="noStrike">
                <a:solidFill>
                  <a:srgbClr val="ffffff"/>
                </a:solidFill>
                <a:latin typeface="Arial"/>
              </a:rPr>
              <a:t>3</a:t>
            </a:r>
            <a:r>
              <a:rPr b="0" lang="zh-CN" sz="2800" spc="-1" strike="noStrike">
                <a:solidFill>
                  <a:srgbClr val="ffffff"/>
                </a:solidFill>
                <a:latin typeface="Arial"/>
              </a:rPr>
              <a:t>）对重大的（与生产力多元化一致）经济结构问题应采取强制性、计划性手段进行调控；等等。</a:t>
            </a:r>
            <a:endParaRPr b="0" lang="en-US" sz="28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3200" spc="-1" strike="noStrike">
                <a:solidFill>
                  <a:srgbClr val="ffffff"/>
                </a:solidFill>
                <a:latin typeface="Arial"/>
                <a:ea typeface="华文新魏"/>
              </a:rPr>
              <a:t>（三）、研究方法问题。</a:t>
            </a:r>
            <a:endParaRPr b="0" lang="en-US" sz="32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我们始终认为，任何社会科学研究必须与具体国家的国情、具体实践相结合。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那么，西方主流经济学方法论存在什么主要问题呢？简单地说，我们认为就是所谓经济学的世界主义、经济学科学性等观念的单纯或失败</a:t>
            </a:r>
            <a:r>
              <a:rPr b="0" lang="zh-CN" sz="2800" spc="-1" strike="noStrike" u="sng">
                <a:solidFill>
                  <a:srgbClr val="ffffcc"/>
                </a:solidFill>
                <a:uFillTx/>
                <a:latin typeface="Arial"/>
                <a:hlinkClick r:id="rId1" action="ppaction://hlinksldjump"/>
              </a:rPr>
              <a:t>3</a:t>
            </a:r>
            <a:r>
              <a:rPr b="0" lang="zh-CN" sz="2800" spc="-1" strike="noStrike">
                <a:solidFill>
                  <a:srgbClr val="ffffff"/>
                </a:solidFill>
                <a:latin typeface="Arial"/>
              </a:rPr>
              <a:t>。西方主流经济学特别是其微观经济学看起来的确象一个严密的科学理论体系，这个体系中似乎既不需要涉及到什么国家政治、意识形态等价值判断内容，也不需要涉及各个国家的历史文化、人口地理等国情背景，它似乎表明科学的经济学方法论或研究的基本条件具有唯一性，在世界任何地方都是一样的！例如所谓“均衡”、“完全自由竞争”等核心概念或前提完全象一个物理概念，似乎在任何地方都是适用的。西方经济学果真是这样的一门成熟科学，那将真是人类的最大财富！ </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404280"/>
            <a:ext cx="8362800" cy="572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从经济学研究的角度讲，一个国家的生产力状态及特征是决定其经济问题性质最重要的因素，而经济问题的性质又决定了其研究的基本思路和方法。我们还认为，从生产力角度的要求看，西方经济学研究方法更适合在生产力处于较高水平（其结构一元化）国家的经济问题研究，而不适合生产力多元化下国家的经济问题研究。下面我们只着重谈一下西方宏观经济学研究方法的局限性问题。</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众所周知，西方宏观经济学起始于凯恩斯理论（有人也称“凯恩斯革命”），我们认为，其产生实际上是对所谓“一般均衡”或“均衡”唯一性思想否定。严格地说，如果“均衡”的唯一性不存在，则西方经济学的根本基础就已经动摇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从理论体系的角度看，这个问题是非常严重的！当然，从方法论角度看，这并没有什么奇怪，因为世界上并没有什么绝对真理！自然科学是这样，社会科学更是这样！我们也知道，西方宏观经济学并没有也不可能否定“均衡”思想即其微观经济学基础。因此，所谓“均衡”思想及理论仍然是其宏观经济理论研究及发展的基础，并且许多人只是把宏观经济学看成是微观经济学或市场机制的一个重要补充而已，这显然把问题简单化了！</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既然西方微观经济学是其宏观经济学的基础，则“均衡”思想也必然会影响到其理论研究方法的形成，也就是所谓“总量分析方法”。从研究方法论角度看，西方宏观经济学是研究所谓国民经济的“总量”及其之间关系的确定，例如，总需求、总</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供给、消费、投资、就业、货币、财政及其关系等等。从逻辑的角度分析，“总量”总是建立在“结构”基础之上的，而所谓“总量均衡”的真正含义实际上就是所有商品的结构均衡（所有商品供求相等）。而从逻辑推理上说，一般只能从“结构均衡”推出“总量均衡”，而不能从“总量均衡”推出“结构均衡”（除非在严格的假设条件下，亦即“一般均衡”成立的假设条件下）。因此，西方宏观经济学中的“总量均衡”是以其微观经济学的“一般均衡”为假设条件的。即所谓“总量均衡”只是“一般均衡”的一个简化（宏观或平均）结果而已，“总量均衡”的假设条件已隐含了“一般均衡”的基本假设条件。 </a:t>
            </a: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因此，可以说，西方宏观经济学中“总量分析方法”及其结论，完全是建立在“一般均衡”假设条件基础之上的。这里举一个例子来说明。例如，从逻辑上分析，西方宏观经济学中的（总量）“消费函数”和“生产函数”，实际上是所有单个消费者和生产者的“消费函数”和“生产函数”求和（又称“加总”）的结果，即所谓“加总问题”。而研究中“加总问题”问题的解决，实际上是在假设所有消费者和生产者的“消费函数”和“生产函数”一样（不变）的假设下实现的。而这个假设只是“一般均衡”有关假设的一个转换而已；换句话说，就是假设每个消费者和生产者的“生产力（或竞争力）”是均等的；从宏观经济角度看，就是假设整个生产力是一元化而</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不是多元化的。在其它如“就业、投资、货币”等总量分析方法处理方面也完全存在类似的问题或类似的假设。</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前面的讨论已表明，在生产力多元化条件下的宏观经济问题已发生了较大变化，即形成了不同生产力水平下的多元市场格局，而不同市场之间的竞争存在着不平等、不平衡发展的问题，亦即“一般均衡”的假设条件遭到了破坏。以上面例子为例，生产力多元化下，不同市场范围内的消费者和生产者之间的“消费函数”或“生产函数”不可能是一样的，因为他们之间的“生产力（或竞争力）”完全不均等。这样，“总量分析方法”的有关假设就完全不成立了，“加总问题”则无法逻辑地解决，其“总量分析方法”的有效性也就丧失了。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我们再来谈谈宏观经济政策或“总量调控”问题。西方宏观经济学告诉我们，在市场经济条件下，政府调控市场的基本手段和方法主要有两类：财政政策和货币政策。我们认为，其调控政策有效性及效果的分析同样是建立在“总量分析方法”基础上的。这里以货币政策为例进一步讨论其方法的局限性。我们知道，政府利用货币政策的具体方法主要有两个：一是利率；二是货币供应量；它们又可称为“总量调节手段”。我们认为，在市场经济条件下，所谓“总量调节手段”的有效性同样是有严格条件的。与“总量分析方法”有效性的条件一致，其基本条件仍是“一般均衡”成立的条件，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如大多数消费者和生产者的“生产力（竞争力）”大体平等，大多数投资者的投资行为是完全自由的（即投资行为能够自由地覆盖或流向整个市场）。那么，这里“一般均衡”条件的意义和作用是什么呢？实际上有关条件保证了利率或货币供应量的任何变动所产生的影响或作用，对大多数消费者和生产者或投资者的行为都是一样的、均等的，也只有这样，总量调节手段或货币政策作用和影响才可以说是有效的。但是，在生产力多元化的（多元市场经济格局）条件下，这个假设条件就可能不起作用了。例如，这时投资利润主要集中于高端生产力市场，利率再低或货币供应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再大，投资仍不可能流向低端生产力市场，投资的主要方向只会集中于高端生产力市场而不是所谓在整个市场范围内的自由流动。再从消费者的行为看，由于生产力多元化下的居民收入结构（贫富结构）十分不平衡，利率下降并不能对大多数消费者产生均等的影响或作用，可能既难以提高低收入者也难以提高高收入者的消费欲望，最终难以提高总的消费需求。因此，在生产力多元化条件下，“总量调节手段”很可能失效，甚至扭曲，我国经济实践中类似现象经常出现已证明了这一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总之，我们认为，西方宏观经济学“总量分析方法”所依赖的基本条件，与我国生产力多元化及</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95280" y="404280"/>
            <a:ext cx="8424720" cy="59770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国情条件非常不一致，因而用所谓“总量分析方法”来研究中国宏观经济问题是不适用的、无效的，我们必须在研究方法上有所创新。为此我们提出，中国宏观经济问题研究的基本方法应是所谓“结构分析方法”（这里所谓“结构”的含义是相对生产力结构而言的），由于篇幅关系，在此就不展开讨论了。</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3200" spc="-1" strike="noStrike">
                <a:solidFill>
                  <a:srgbClr val="ffffff"/>
                </a:solidFill>
                <a:latin typeface="华文新魏"/>
                <a:ea typeface="华文新魏"/>
              </a:rPr>
              <a:t>五、小结</a:t>
            </a:r>
            <a:r>
              <a:rPr b="0" lang="zh-CN" sz="3200" spc="-1" strike="noStrike">
                <a:solidFill>
                  <a:srgbClr val="ffffff"/>
                </a:solidFill>
                <a:latin typeface="华文新魏"/>
                <a:ea typeface="华文新魏"/>
              </a:rPr>
              <a:t>	</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总之，我们认为，关于中国宏观经济理论研究方法论问题的讨论，可从确定中国经济问题研究的基本理论前提开始。本文的基本观点或结论是：把生产力多元化（多元市场经济格局）和以公有制为主多种经济成分共存的经济制度两个基本特征，作为中国宏观经济理论研究基本条件，从而否定西方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宏观经济学以生产力一元化（统一市场经济）及以私有制为主的经济制度作为其理论研究的基本条件。在此基本前提条件下，把生产力多元化条件下的不平等竞争问题、不平衡发展问题（在我国经济现实中突出表现为：“三农问题”、大规模就业问题，各地区之间平衡发展问题、抑制贫富差距扩大问题等），作为宏观经济理论长期研究的中心问题。当然，在此基本条件和中心问题规定的范围下，仍需要和可以学习和利用西方宏观经济学及其研究方法。</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应该看到，长时期以来，我国宏观经济理论研究更多是在（自觉或不自觉）西方宏观经济学所规定的前提条件下展开的，基本条件不正确</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实际上无论是西方哲学（特别是科学哲学）还是西方发达国家经济发展的历史，更有现实中各国经济发展的实际状况都充分说明，所谓象自然科学那样科学化的经济学从来就不存在，也不可能存在。那种所谓超越一切历史、文化、政治的经济学观念已被越来越多的事实证明是非常错误的。事实上，西方经济学既无义务，也无可能解决中国经济发展中的问题，特别是有关深层次方法论问题。不承认、认识到这一点，盲目相信、模仿别人而丧失我们独立思考分析能力的现象就显得十分自然，当然也是十分危险的。不可否认西方经济学的确有许多思想、内容、研究方法是值得我们学习和借鉴的，但基本前提是我们必须具有独立的指导思想或方法论基础，必须有自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自然导致了大量无实际意义的研究结果，特别是在有关宏观经济数量分析、数学模型建立方面存在的问题显得更加突出，甚至出现了为研究而研究、为与西方经济学研究方法及发展完全接轨而研究，严重脱离中国经济现实问题需要的现象。当然，我们也要认识到，宏观经济理论研究基本条件的改变将对其研究思路、内容和方法产生深刻的影响及困难。在新的研究思路、方法问题没有解决前，也许将限制我们在研究中应用较为精致、流行的西方经济理论和数学方法，而只能应用分析形式较为简单、初级的研究方法。但我们认为，这也许正是中国宏观经济理论发展必须</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经历的初级阶段，也是与现阶段我国经济发展实践中应用理论研究成果实际水平相一致的。现实中国经济改革实践中，更需要的是那些紧密联系中国国情、简单清楚、多数人容易理解并能够应用的理论研究成果，而不是那种紧跟西方经济理论潮流、脱离中国国情、突出专业水平、数学形式烦琐、大多数人看不懂的、形式化的理论研究成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的基本立场。这些深层次东西是无从直接学习或借鉴的，因为世界上根本就不存在两个完全一样的东西，差异或特征是绝对存在的！深层次思想或方法论只能由自己去认识或创造出来。因此，我们也可以说，没有方法论意义上的创新，就不可能有中国宏观经济理论上的创新，从理论上说，走具有中国自己的经济发展道路也就是一句空话！</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值得指出地是，对于“实证方法论”，我们否定的只是所谓西方经济学核心前提是科学经济理论研究唯一前提（基本条件）这样的结论或思想，并不是对“实证方法论”全部否定。我们认为，</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实证方法论”所确定的理论研究逻辑形式（即所谓假说演绎法）仍是值得我们学习和借鉴的。现代“实证方法论”的哲学基础是“证伪主义”，其突出强调理论研究中基本假设条件的重要意义及创新性，强调只有在正确假设条件下才有应用数学方法的意义，强调经验检验对理论研究的重要性等基本思想，也是值得我们学习和借鉴的。从这个意义上说，有些方法论问题之所以产生，实际上是由于我们不了解有关“实证方法论”及其哲学思想所引起的。因此，我们在学习西方经济学的同时，还应对其方法论及其有关科学哲学加强学习和认识，只有这样才能避免一些基本、常识性的</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错误认识。还应该认识到，许多深层次认识问题的产生，也许并不是西方经济学有什么错（它当然存在自己的问题），而是我们自己轻易地就被它所蒙蔽、征服了、丧失了独立思考的能力，甚至丧失了自我。历史告诉我们，无论是国家还是个人，在丧失独立思考和认识基础上的学习和借鉴，必然走向盲从和模仿，必然走向混乱。</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我们认为，不同方法论或研究思路表现形式的核心，实际上就是正确确立理论研究的基本条件（即如何认识现实经济的基本特征），所谓基本条件（特征）是指：在长期经济发展历史过程中，始终存在且具有独特性的基本经济特征。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5T13:45:47Z</dcterms:created>
  <dc:creator>Chen Zhang</dc:creator>
  <dc:description/>
  <dc:language>en-US</dc:language>
  <cp:lastModifiedBy>Billgates</cp:lastModifiedBy>
  <dcterms:modified xsi:type="dcterms:W3CDTF">2003-09-21T07:09:26Z</dcterms:modified>
  <cp:revision>5</cp:revision>
  <dc:subject/>
  <dc:title>幻灯片 1</dc:title>
</cp:coreProperties>
</file>