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09F-2E85-4152-80FE-349918CA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30C-3FF5-48C9-AD61-12E31A4D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FD3-CFD5-498C-A280-BCAE55F1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C3E-EE04-4BD7-B213-463AE151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5A4-4432-41BF-9CAC-601BE7B1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CDB-1BFE-4FA4-93C5-F646F03E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E5A-9963-4B56-97EA-41CD4AB4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F9D-A55D-4483-9DB6-AA54D916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69B-DE90-4157-95FC-BD38509B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5BC-7B28-430F-B68C-1EA924D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700-F227-4835-A131-8C4B7CC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28E-1FB7-4AF5-8169-2E2602A3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926E-01AE-4E41-8F60-EAD242F498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第六章  市场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章任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了解市场类型、划分标准、完全竞争市场和完全竞争厂商的短期和长期均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五   完全竞争行业的短期供给曲线（成本递减、递增和不变情况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V="1">
            <a:off x="457200" y="26665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5181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05320" y="2743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51055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248520" y="25142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4952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188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5181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362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514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3581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886200" y="320040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81680" y="3124080"/>
            <a:ext cx="12193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5334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本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5334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本递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5181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本递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第一节  厂商和市场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类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完全竞争市场、垄断竞争市场、寡头市场和垄断市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类标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厂商数目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产品差别程度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厂商对价格的控制程度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进入或退出的难易程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完全竞争厂商的需求曲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完全竞争市场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大量性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同质性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流动性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可知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完全竞争厂商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求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06668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486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181480" y="2743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1148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571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990720" y="411480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971800"/>
            <a:ext cx="20574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99840" y="3048120"/>
            <a:ext cx="152388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全竞争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5943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全竞争厂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098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三  完全竞争厂商的收益曲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概念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R  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  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算公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图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990720" y="2286000"/>
                <a:ext cx="434340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num>
                          <m:den>
                            <m:r>
                              <m:t xml:space="preserve">Δ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V="1">
            <a:off x="6248520" y="12189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3581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18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48520" y="1295280"/>
            <a:ext cx="22860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1295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248520" y="36572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6095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6019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181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=MR=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7631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三节  厂商实现利润最大化的条件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20" y="914400"/>
                <a:ext cx="777240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d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 flipV="1">
            <a:off x="1905120" y="34286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63244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72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4343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=MR=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809880"/>
            <a:ext cx="2971800" cy="2184480"/>
          </a:xfrm>
          <a:custGeom>
            <a:avLst/>
            <a:gdLst/>
            <a:ahLst/>
            <a:rect l="l" t="t" r="r" b="b"/>
            <a:pathLst>
              <a:path w="1872" h="1376">
                <a:moveTo>
                  <a:pt x="0" y="768"/>
                </a:moveTo>
                <a:cubicBezTo>
                  <a:pt x="108" y="1072"/>
                  <a:pt x="216" y="1376"/>
                  <a:pt x="528" y="1248"/>
                </a:cubicBezTo>
                <a:cubicBezTo>
                  <a:pt x="840" y="1120"/>
                  <a:pt x="1356" y="56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724280"/>
            <a:ext cx="0" cy="160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3962520"/>
            <a:ext cx="0" cy="236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724280"/>
            <a:ext cx="0" cy="160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276720"/>
            <a:ext cx="7925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438280"/>
            <a:ext cx="79246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：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MR=M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厂商利润最大的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四节  完全竞争厂商的短期均衡和短期供给曲线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  完全竞争厂商的短期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14300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3733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3733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6172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33520" y="4267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124080" y="41144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172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5880" y="4190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6095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057400"/>
            <a:ext cx="1600200" cy="152388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0" y="576"/>
                </a:moveTo>
                <a:cubicBezTo>
                  <a:pt x="108" y="768"/>
                  <a:pt x="216" y="960"/>
                  <a:pt x="384" y="864"/>
                </a:cubicBezTo>
                <a:cubicBezTo>
                  <a:pt x="552" y="768"/>
                  <a:pt x="896" y="144"/>
                  <a:pt x="100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514600"/>
            <a:ext cx="1524240" cy="609480"/>
          </a:xfrm>
          <a:custGeom>
            <a:avLst/>
            <a:gdLst/>
            <a:ahLst/>
            <a:rect l="l" t="t" r="r" b="b"/>
            <a:pathLst>
              <a:path w="960" h="384">
                <a:moveTo>
                  <a:pt x="0" y="0"/>
                </a:moveTo>
                <a:cubicBezTo>
                  <a:pt x="88" y="192"/>
                  <a:pt x="176" y="384"/>
                  <a:pt x="336" y="384"/>
                </a:cubicBezTo>
                <a:cubicBezTo>
                  <a:pt x="496" y="384"/>
                  <a:pt x="848" y="72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666880"/>
            <a:ext cx="2438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2057400"/>
            <a:ext cx="2209680" cy="1714680"/>
          </a:xfrm>
          <a:custGeom>
            <a:avLst/>
            <a:gdLst/>
            <a:ahLst/>
            <a:rect l="l" t="t" r="r" b="b"/>
            <a:pathLst>
              <a:path w="1392" h="1080">
                <a:moveTo>
                  <a:pt x="0" y="720"/>
                </a:moveTo>
                <a:cubicBezTo>
                  <a:pt x="76" y="900"/>
                  <a:pt x="152" y="1080"/>
                  <a:pt x="384" y="960"/>
                </a:cubicBezTo>
                <a:cubicBezTo>
                  <a:pt x="616" y="840"/>
                  <a:pt x="1208" y="184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66688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cubicBezTo>
                  <a:pt x="152" y="168"/>
                  <a:pt x="304" y="336"/>
                  <a:pt x="528" y="336"/>
                </a:cubicBezTo>
                <a:cubicBezTo>
                  <a:pt x="752" y="336"/>
                  <a:pt x="1208" y="56"/>
                  <a:pt x="13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3200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343400"/>
            <a:ext cx="1905120" cy="1790640"/>
          </a:xfrm>
          <a:custGeom>
            <a:avLst/>
            <a:gdLst/>
            <a:ahLst/>
            <a:rect l="l" t="t" r="r" b="b"/>
            <a:pathLst>
              <a:path w="1200" h="1128">
                <a:moveTo>
                  <a:pt x="0" y="720"/>
                </a:moveTo>
                <a:cubicBezTo>
                  <a:pt x="116" y="924"/>
                  <a:pt x="232" y="1128"/>
                  <a:pt x="432" y="1008"/>
                </a:cubicBezTo>
                <a:cubicBezTo>
                  <a:pt x="632" y="888"/>
                  <a:pt x="916" y="444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343400"/>
            <a:ext cx="1828800" cy="812880"/>
          </a:xfrm>
          <a:custGeom>
            <a:avLst/>
            <a:gdLst/>
            <a:ahLst/>
            <a:rect l="l" t="t" r="r" b="b"/>
            <a:pathLst>
              <a:path w="1152" h="512">
                <a:moveTo>
                  <a:pt x="0" y="0"/>
                </a:moveTo>
                <a:cubicBezTo>
                  <a:pt x="216" y="224"/>
                  <a:pt x="432" y="448"/>
                  <a:pt x="624" y="480"/>
                </a:cubicBezTo>
                <a:cubicBezTo>
                  <a:pt x="816" y="512"/>
                  <a:pt x="1064" y="240"/>
                  <a:pt x="115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257800"/>
            <a:ext cx="1676160" cy="647640"/>
          </a:xfrm>
          <a:custGeom>
            <a:avLst/>
            <a:gdLst/>
            <a:ahLst/>
            <a:rect l="l" t="t" r="r" b="b"/>
            <a:pathLst>
              <a:path w="1056" h="408">
                <a:moveTo>
                  <a:pt x="0" y="0"/>
                </a:moveTo>
                <a:cubicBezTo>
                  <a:pt x="80" y="180"/>
                  <a:pt x="160" y="360"/>
                  <a:pt x="336" y="384"/>
                </a:cubicBezTo>
                <a:cubicBezTo>
                  <a:pt x="512" y="408"/>
                  <a:pt x="936" y="184"/>
                  <a:pt x="1056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50292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2666880"/>
            <a:ext cx="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2004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038480"/>
            <a:ext cx="1905120" cy="2044800"/>
          </a:xfrm>
          <a:custGeom>
            <a:avLst/>
            <a:gdLst/>
            <a:ahLst/>
            <a:rect l="l" t="t" r="r" b="b"/>
            <a:pathLst>
              <a:path w="1200" h="1288">
                <a:moveTo>
                  <a:pt x="0" y="816"/>
                </a:moveTo>
                <a:cubicBezTo>
                  <a:pt x="92" y="1052"/>
                  <a:pt x="184" y="1288"/>
                  <a:pt x="384" y="1152"/>
                </a:cubicBezTo>
                <a:cubicBezTo>
                  <a:pt x="584" y="1016"/>
                  <a:pt x="1064" y="192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5257800"/>
            <a:ext cx="1905120" cy="469800"/>
          </a:xfrm>
          <a:custGeom>
            <a:avLst/>
            <a:gdLst/>
            <a:ahLst/>
            <a:rect l="l" t="t" r="r" b="b"/>
            <a:pathLst>
              <a:path w="1200" h="296">
                <a:moveTo>
                  <a:pt x="0" y="0"/>
                </a:moveTo>
                <a:cubicBezTo>
                  <a:pt x="140" y="140"/>
                  <a:pt x="280" y="280"/>
                  <a:pt x="480" y="288"/>
                </a:cubicBezTo>
                <a:cubicBezTo>
                  <a:pt x="680" y="296"/>
                  <a:pt x="1096" y="96"/>
                  <a:pt x="120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4178160"/>
            <a:ext cx="2590920" cy="1092240"/>
          </a:xfrm>
          <a:custGeom>
            <a:avLst/>
            <a:gdLst/>
            <a:ahLst/>
            <a:rect l="l" t="t" r="r" b="b"/>
            <a:pathLst>
              <a:path w="1632" h="688">
                <a:moveTo>
                  <a:pt x="0" y="152"/>
                </a:moveTo>
                <a:cubicBezTo>
                  <a:pt x="96" y="420"/>
                  <a:pt x="192" y="688"/>
                  <a:pt x="432" y="680"/>
                </a:cubicBezTo>
                <a:cubicBezTo>
                  <a:pt x="672" y="672"/>
                  <a:pt x="1248" y="208"/>
                  <a:pt x="1440" y="104"/>
                </a:cubicBezTo>
                <a:cubicBezTo>
                  <a:pt x="1632" y="0"/>
                  <a:pt x="1608" y="28"/>
                  <a:pt x="1584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5715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962520" y="51051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4343400"/>
            <a:ext cx="1447560" cy="1714680"/>
          </a:xfrm>
          <a:custGeom>
            <a:avLst/>
            <a:gdLst/>
            <a:ahLst/>
            <a:rect l="l" t="t" r="r" b="b"/>
            <a:pathLst>
              <a:path w="912" h="1080">
                <a:moveTo>
                  <a:pt x="0" y="720"/>
                </a:moveTo>
                <a:cubicBezTo>
                  <a:pt x="92" y="900"/>
                  <a:pt x="184" y="1080"/>
                  <a:pt x="336" y="960"/>
                </a:cubicBezTo>
                <a:cubicBezTo>
                  <a:pt x="488" y="840"/>
                  <a:pt x="808" y="160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441972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0"/>
                </a:moveTo>
                <a:cubicBezTo>
                  <a:pt x="204" y="144"/>
                  <a:pt x="408" y="288"/>
                  <a:pt x="576" y="288"/>
                </a:cubicBezTo>
                <a:cubicBezTo>
                  <a:pt x="744" y="288"/>
                  <a:pt x="936" y="48"/>
                  <a:pt x="100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724280"/>
            <a:ext cx="1676520" cy="660600"/>
          </a:xfrm>
          <a:custGeom>
            <a:avLst/>
            <a:gdLst/>
            <a:ahLst/>
            <a:rect l="l" t="t" r="r" b="b"/>
            <a:pathLst>
              <a:path w="1056" h="416">
                <a:moveTo>
                  <a:pt x="0" y="0"/>
                </a:moveTo>
                <a:cubicBezTo>
                  <a:pt x="152" y="176"/>
                  <a:pt x="304" y="352"/>
                  <a:pt x="480" y="384"/>
                </a:cubicBezTo>
                <a:cubicBezTo>
                  <a:pt x="656" y="416"/>
                  <a:pt x="960" y="232"/>
                  <a:pt x="1056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5638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010280" y="4647960"/>
            <a:ext cx="0" cy="1447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571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532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6324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停止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6324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267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  完全竞争厂商的短期供给曲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772400" cy="4952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724280" y="53341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1523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5334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2120" y="16761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3962520"/>
            <a:ext cx="1447920" cy="1054080"/>
          </a:xfrm>
          <a:custGeom>
            <a:avLst/>
            <a:gdLst/>
            <a:ahLst/>
            <a:rect l="l" t="t" r="r" b="b"/>
            <a:pathLst>
              <a:path w="912" h="664">
                <a:moveTo>
                  <a:pt x="0" y="240"/>
                </a:moveTo>
                <a:cubicBezTo>
                  <a:pt x="116" y="452"/>
                  <a:pt x="232" y="664"/>
                  <a:pt x="384" y="624"/>
                </a:cubicBezTo>
                <a:cubicBezTo>
                  <a:pt x="536" y="584"/>
                  <a:pt x="824" y="120"/>
                  <a:pt x="912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20574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64" y="992"/>
                  <a:pt x="328" y="736"/>
                  <a:pt x="432" y="528"/>
                </a:cubicBezTo>
                <a:cubicBezTo>
                  <a:pt x="536" y="320"/>
                  <a:pt x="580" y="160"/>
                  <a:pt x="624" y="0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2438280"/>
            <a:ext cx="2971800" cy="1739880"/>
          </a:xfrm>
          <a:custGeom>
            <a:avLst/>
            <a:gdLst/>
            <a:ahLst/>
            <a:rect l="l" t="t" r="r" b="b"/>
            <a:pathLst>
              <a:path w="1872" h="1096">
                <a:moveTo>
                  <a:pt x="0" y="240"/>
                </a:moveTo>
                <a:cubicBezTo>
                  <a:pt x="180" y="668"/>
                  <a:pt x="360" y="1096"/>
                  <a:pt x="672" y="1056"/>
                </a:cubicBezTo>
                <a:cubicBezTo>
                  <a:pt x="984" y="1016"/>
                  <a:pt x="1672" y="176"/>
                  <a:pt x="1872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296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752480"/>
            <a:ext cx="2895480" cy="3606840"/>
          </a:xfrm>
          <a:custGeom>
            <a:avLst/>
            <a:gdLst/>
            <a:ahLst/>
            <a:rect l="l" t="t" r="r" b="b"/>
            <a:pathLst>
              <a:path w="1824" h="2272">
                <a:moveTo>
                  <a:pt x="0" y="1536"/>
                </a:moveTo>
                <a:cubicBezTo>
                  <a:pt x="88" y="1904"/>
                  <a:pt x="176" y="2272"/>
                  <a:pt x="480" y="2016"/>
                </a:cubicBezTo>
                <a:cubicBezTo>
                  <a:pt x="784" y="1760"/>
                  <a:pt x="1304" y="880"/>
                  <a:pt x="18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48320" y="4114800"/>
            <a:ext cx="1752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316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3048120"/>
            <a:ext cx="2514600" cy="1181160"/>
          </a:xfrm>
          <a:custGeom>
            <a:avLst/>
            <a:gdLst/>
            <a:ahLst/>
            <a:rect l="l" t="t" r="r" b="b"/>
            <a:pathLst>
              <a:path w="1584" h="744">
                <a:moveTo>
                  <a:pt x="0" y="144"/>
                </a:moveTo>
                <a:cubicBezTo>
                  <a:pt x="180" y="444"/>
                  <a:pt x="360" y="744"/>
                  <a:pt x="624" y="720"/>
                </a:cubicBezTo>
                <a:cubicBezTo>
                  <a:pt x="888" y="696"/>
                  <a:pt x="1424" y="120"/>
                  <a:pt x="15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752480"/>
            <a:ext cx="2895480" cy="1333800"/>
          </a:xfrm>
          <a:custGeom>
            <a:avLst/>
            <a:gdLst/>
            <a:ahLst/>
            <a:rect l="l" t="t" r="r" b="b"/>
            <a:pathLst>
              <a:path w="1824" h="840">
                <a:moveTo>
                  <a:pt x="0" y="144"/>
                </a:moveTo>
                <a:cubicBezTo>
                  <a:pt x="304" y="492"/>
                  <a:pt x="608" y="840"/>
                  <a:pt x="912" y="816"/>
                </a:cubicBezTo>
                <a:cubicBezTo>
                  <a:pt x="1216" y="792"/>
                  <a:pt x="1672" y="136"/>
                  <a:pt x="18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6176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286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供给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短期均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  完全竞争行业的短期供给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772400" y="1828800"/>
                <a:ext cx="1371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V="1">
            <a:off x="121932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5029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4952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10552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502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4038480"/>
            <a:ext cx="7086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2895480"/>
            <a:ext cx="7010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4038480"/>
            <a:ext cx="1295640" cy="736560"/>
          </a:xfrm>
          <a:custGeom>
            <a:avLst/>
            <a:gdLst/>
            <a:ahLst/>
            <a:rect l="l" t="t" r="r" b="b"/>
            <a:pathLst>
              <a:path w="816" h="464">
                <a:moveTo>
                  <a:pt x="0" y="192"/>
                </a:moveTo>
                <a:cubicBezTo>
                  <a:pt x="100" y="328"/>
                  <a:pt x="200" y="464"/>
                  <a:pt x="336" y="432"/>
                </a:cubicBezTo>
                <a:cubicBezTo>
                  <a:pt x="472" y="400"/>
                  <a:pt x="744" y="72"/>
                  <a:pt x="816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286000"/>
            <a:ext cx="1143000" cy="1752480"/>
          </a:xfrm>
          <a:custGeom>
            <a:avLst/>
            <a:gdLst/>
            <a:ahLst/>
            <a:rect l="l" t="t" r="r" b="b"/>
            <a:pathLst>
              <a:path w="720" h="1104">
                <a:moveTo>
                  <a:pt x="0" y="1104"/>
                </a:moveTo>
                <a:cubicBezTo>
                  <a:pt x="80" y="1032"/>
                  <a:pt x="160" y="960"/>
                  <a:pt x="240" y="864"/>
                </a:cubicBezTo>
                <a:cubicBezTo>
                  <a:pt x="320" y="768"/>
                  <a:pt x="400" y="672"/>
                  <a:pt x="480" y="528"/>
                </a:cubicBezTo>
                <a:cubicBezTo>
                  <a:pt x="560" y="384"/>
                  <a:pt x="640" y="192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133720"/>
            <a:ext cx="1904760" cy="1904760"/>
          </a:xfrm>
          <a:custGeom>
            <a:avLst/>
            <a:gdLst/>
            <a:ahLst/>
            <a:rect l="l" t="t" r="r" b="b"/>
            <a:pathLst>
              <a:path w="1200" h="1200">
                <a:moveTo>
                  <a:pt x="0" y="1200"/>
                </a:moveTo>
                <a:cubicBezTo>
                  <a:pt x="180" y="1164"/>
                  <a:pt x="360" y="1128"/>
                  <a:pt x="480" y="1056"/>
                </a:cubicBezTo>
                <a:cubicBezTo>
                  <a:pt x="600" y="984"/>
                  <a:pt x="600" y="944"/>
                  <a:pt x="720" y="768"/>
                </a:cubicBezTo>
                <a:cubicBezTo>
                  <a:pt x="840" y="592"/>
                  <a:pt x="1120" y="128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0384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4038480"/>
            <a:ext cx="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2895480"/>
            <a:ext cx="0" cy="2057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2895480"/>
            <a:ext cx="0" cy="2133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企业供给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业供给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1143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五节   完全竞争厂商的长期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虑厂商可以进入或退出情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可能盈利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，不可能亏损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论：以最佳规模、最优要素组合进行生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衡条件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R=LMC=SMCC=LAC=S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574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5715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5562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97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3429000"/>
            <a:ext cx="3429000" cy="1854360"/>
          </a:xfrm>
          <a:custGeom>
            <a:avLst/>
            <a:gdLst/>
            <a:ahLst/>
            <a:rect l="l" t="t" r="r" b="b"/>
            <a:pathLst>
              <a:path w="2160" h="1168">
                <a:moveTo>
                  <a:pt x="0" y="672"/>
                </a:moveTo>
                <a:cubicBezTo>
                  <a:pt x="108" y="920"/>
                  <a:pt x="216" y="1168"/>
                  <a:pt x="576" y="1056"/>
                </a:cubicBezTo>
                <a:cubicBezTo>
                  <a:pt x="936" y="944"/>
                  <a:pt x="1896" y="184"/>
                  <a:pt x="21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3276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4343400"/>
            <a:ext cx="4191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3429000"/>
            <a:ext cx="3353040" cy="965160"/>
          </a:xfrm>
          <a:custGeom>
            <a:avLst/>
            <a:gdLst/>
            <a:ahLst/>
            <a:rect l="l" t="t" r="r" b="b"/>
            <a:pathLst>
              <a:path w="2112" h="608">
                <a:moveTo>
                  <a:pt x="0" y="0"/>
                </a:moveTo>
                <a:cubicBezTo>
                  <a:pt x="160" y="272"/>
                  <a:pt x="320" y="544"/>
                  <a:pt x="672" y="576"/>
                </a:cubicBezTo>
                <a:cubicBezTo>
                  <a:pt x="1024" y="608"/>
                  <a:pt x="1864" y="256"/>
                  <a:pt x="21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0572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43434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5791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4038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4800600"/>
            <a:ext cx="4419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1080" y="3809880"/>
            <a:ext cx="563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3581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9T09:20:10Z</dcterms:created>
  <dc:creator>aa</dc:creator>
  <dc:description/>
  <dc:language>en-US</dc:language>
  <cp:lastModifiedBy>surj</cp:lastModifiedBy>
  <dcterms:modified xsi:type="dcterms:W3CDTF">2003-09-06T09:19:29Z</dcterms:modified>
  <cp:revision>15</cp:revision>
  <dc:subject/>
  <dc:title>第六章  市场论 </dc:title>
</cp:coreProperties>
</file>