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059-F17F-4351-A6F8-6B2B7F4B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0D9-CA85-4E29-8C1F-4A51C7F5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E86-3507-474C-A536-A0843B7A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6BE-BFB9-4C79-BEBA-83324916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F56-259B-4262-A04A-97505D5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91D-4124-4057-B114-293F1B8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ED4-B395-40FC-B17B-43ABFE18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700-C69F-4091-AE5B-FC165615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E9A-0D8B-4166-B9BC-B19420B7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D11-2BF5-4C6E-9F3B-78CF403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819-18DA-44C4-8832-332064A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336-ACA0-4B65-ADD9-58C1FD1F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88E-D0E6-4962-8056-1336F3903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八章  要素价格理论（分配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产要素（资本、劳动、土地、企业家才能）的价格确定——要素价格——要素所得——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素价格是由要素供求双方共同决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素需求是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引致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素供给是不同要素主体在不同动机下的供给行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厂商的要素使用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880" y="1460520"/>
                <a:ext cx="8382240" cy="539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F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FC</m:t>
                        </m:r>
                        <m:r>
                          <m:rPr>
                            <m:lit/>
                            <m:nor/>
                          </m:rPr>
                          <m:t xml:space="preserve">是厂商使用要素的原则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洛伦兹曲线和基尼系数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34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洛伦兹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尼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国基尼系数的变化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09480" y="3124080"/>
                <a:ext cx="38102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486400" y="5334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562720" y="18284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62720" y="2361960"/>
            <a:ext cx="2209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2362320"/>
            <a:ext cx="0" cy="297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486400" y="2362320"/>
            <a:ext cx="228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1676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收入百分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口百分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438280"/>
            <a:ext cx="2209680" cy="2895840"/>
          </a:xfrm>
          <a:custGeom>
            <a:avLst/>
            <a:gdLst/>
            <a:ahLst/>
            <a:rect l="l" t="t" r="r" b="b"/>
            <a:pathLst>
              <a:path w="1392" h="1824">
                <a:moveTo>
                  <a:pt x="0" y="1824"/>
                </a:moveTo>
                <a:cubicBezTo>
                  <a:pt x="412" y="1808"/>
                  <a:pt x="824" y="1792"/>
                  <a:pt x="1056" y="1488"/>
                </a:cubicBezTo>
                <a:cubicBezTo>
                  <a:pt x="1288" y="1184"/>
                  <a:pt x="1344" y="256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十章  一般均衡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产生过程：瓦尔拉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在《纯粹经济学要义》中提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本思想：局部均衡和一般均衡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eneral equilibriu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评价：熊彼特：现代经济学的序论和自由大宪章。实际应用意义很小，但理论意义极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展状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十一章福利经济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conomics of welfa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19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剑桥大学教授皮古在《福利经济学》提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证经济学与规范经济学：经济学是什么和经济学应该是什么。价值判断的标准的引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福利的定义：福利是人们对享受和满足的心理反应和主观评价。                                                                                 狭义福利：经济福利，可以用货币计量。      广义福利：社会福利，自由、幸福、友谊、快    乐、愉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帕累托最优标准                   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reto’s   optimal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o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两个命题：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国民收入越大社会福利越大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国民收入分配越均等社会福利越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新福利经济学：萨缪尔逊等，序数效用论的引用和根据帕累托最优标准来判断经济效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帕累托最优和帕累托改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对福利理论：米香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国经济运行的判断标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12:23:09Z</dcterms:created>
  <dc:creator>aa</dc:creator>
  <dc:description/>
  <dc:language>en-US</dc:language>
  <cp:lastModifiedBy>surj</cp:lastModifiedBy>
  <dcterms:modified xsi:type="dcterms:W3CDTF">2003-09-05T07:12:09Z</dcterms:modified>
  <cp:revision>14</cp:revision>
  <dc:subject/>
  <dc:title>第八章  要素价格理论（分配论）</dc:title>
</cp:coreProperties>
</file>