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32B-139E-4D32-9F49-A610A7E7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A94-5F78-4C9E-B997-D20D5492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42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88F-6722-4FE8-9549-8848A8C0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96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7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EF3-2489-4799-B3F1-0EFDD522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7574-690F-49FC-BB9B-CC20FF26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1496-A44B-4E87-976F-C3906998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D40A-08AD-4253-A64C-80913A2E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5CA0-CBF4-4498-8442-A04030AB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3BC7-769C-461F-A2F2-90059B17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6DF0-B6A7-412A-B330-F6A8D969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2EC4-C301-4186-8148-9F8EF009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067-8B44-49FC-8758-64338EAD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42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E67F-31A5-4BF8-B62C-F94C3785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AE52-7799-40BF-8C87-8FAA6285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CE65-414B-4EA5-8A47-A2B82600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42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FFDA-E765-49CA-A1D3-774451E0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96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7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9689-179D-4354-8557-ACABD391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047-349C-4DB9-AB96-1EF3EEA8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E2C-9246-4D7B-8F70-35662946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120-F338-4C99-8CDF-BCB42D5B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053-129B-40ED-B0A2-8AF54013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139-AA06-47D4-90E3-44001B43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42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B08-B4A3-4DA0-8F43-A013EC10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0FD-1A54-42DC-BD9C-3F45BA0D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FF71-29DB-4159-9EF8-16938FBE5F1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37160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AB18-9A53-45A0-B649-FF76A0D907D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762120"/>
            <a:ext cx="693396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ffcc66"/>
                </a:solidFill>
                <a:latin typeface="Times New Roman"/>
              </a:rPr>
              <a:t>下编    宏观经济学</a:t>
            </a:r>
            <a:br>
              <a:rPr sz="4800"/>
            </a:br>
            <a:r>
              <a:rPr b="1" lang="zh-CN" sz="4800" spc="-1" strike="noStrike">
                <a:solidFill>
                  <a:srgbClr val="ffcc66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（讲课提纲）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361960" y="3733560"/>
            <a:ext cx="6095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          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陈      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中国人民大学公共管理学院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国民经济管理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一、什么是国内生产总值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最终产品和中间产品的区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最终产品：在一定时期内生产的并由其最后使用者购买的产品和劳务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中间产品：用于再出售而供生产别种产品用的产品（在生产过程中消耗掉的产品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国内生产总值（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）概念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是指经济社会（即一国或一地区）在一定时期内运用生产要素所生产的全部最终产品（物品和劳务）的市场价值——也即最终产品的价值总和 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概念从以下几方面去把握：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⑴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是一个市场价值的概念（计价问题）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⑵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测度的是最终产品的价值，中间产品价值不计入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，否则会重复计算；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⑶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是一定时期内（一般为一年）所生产而不是所售卖掉的最终产品价值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⑷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是计算期内（某一年）生产的最终产品价值，是流量而非存量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⑸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与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NP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的区别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: GDP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是一个地域概念，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NP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是国民概念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⑹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一般仅指市场活动导致的价值，家务劳动、自给自足生产等非生产活动不计入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二、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的核算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总产出总是等于总收入，总产出总是等于总支出——收入法和支出法核算的理论依据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⑴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总产出总是等于总收入：新增价值要转化为各投入生产要素的报酬和企业利润，也即要素提供者和企业经营者的收入（产品销售净收入到那里去了？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⑵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总产出总是等于总支出：最终产品的销售收入就是最终产品购买者的支出（产品最终都卖到那里去了？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2. GDP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核算的三种方法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⑴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直接核算的不便性：加总所有最终产品的市场价值是很困难的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⑵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三种核算方法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.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生产法：核算各行各业在一定时期生产中的价值增值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b.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支出法：核算整个社会在一定时期内购买最终产品的支出总和——根据总产出总是等于总支出的原理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c.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收入法：核算整个社会在一定时期内获得的收入——根据总产出总是等于总收入原理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核算国民收入的两种方法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本节基本思路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支出法和收入法是两种核算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的主要方法，其更重要的意义在于，从不同的行为主体角度去核算，保证核算的准确，并利用会计平衡式确定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的主要部分或变量之间的基本关系式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83818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7617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一、用支出法核算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GDP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核算原理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支出法是核算一定时期内整个社会购买最终产品的总支出，即最终产品的总卖价，卖价通过核算最终产品购买者的支出来计量，也就是核算经济社会（一个国家或一个地区）在一定时期内消费、投资、政府购买以及净出口这几方面支出的总和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各部分支出的核算：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⑴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消费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：包括购买耐用消费品、非耐用消费品和劳务的支出，不包括建造住宅的支出（注意耐用消费品的计量困难）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⑵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投资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：指增加或更换资本资产（厂房、住宅、机械设备及存货）的支出（</a:t>
            </a:r>
            <a:r>
              <a:rPr b="0" lang="zh-CN" sz="3200" spc="-1" strike="noStrike" u="sng">
                <a:solidFill>
                  <a:srgbClr val="eaeaea"/>
                </a:solidFill>
                <a:uFillTx/>
                <a:latin typeface="Times New Roman"/>
              </a:rPr>
              <a:t>注意存货的意义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⑶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政府对劳务和商品的购买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：各级政府购买物品和劳务的支出（不包括转移支付、公债利息等）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⑷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净出口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X—M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：指进出口的差额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支出法核算的公式：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09680" y="2895480"/>
                <a:ext cx="62485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D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二、用收入法核算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GDP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核算原理：用要素收入亦即企业生产成本核算（要素：劳动力、产权所有者、资产、政府等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核算内容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⑴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工资、利息和租金等生产要素的报酬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⑵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非公司企业主收入：使用自我资金，自我雇用的企业主的收入（医生、律师等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⑶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公司税前利润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⑷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企业转移支付及企业间接税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⑸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资本折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十三章    西方国民收入核算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第一节    宏观经济学的特点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第二节    国内生产总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第三节    核算国民收入的两种方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第四节    从国内生产总值到个人可支配收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第五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国民收入的基本公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第六节    名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实际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GD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第七节    结束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.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收入法核算的公式：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GDP =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工资＋利息＋利润＋租金＋间接税和企业转移支付＋折旧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 从国内生产总值到个</a:t>
            </a:r>
            <a:br>
              <a:rPr sz="4000"/>
            </a:b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                 人可支配收入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*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国内生产总值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：计量一定时期以内一个国家的所有的生产活动，未扣除资本耗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*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国内生产净值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NDP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计量的最终产品价值中并未扣除资本设备消耗的价值，因此不是真正意义上的净增价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*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国内生产净值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NDP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= GDP —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资本折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68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*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国民收入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NI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：指按生产要素报酬计算的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国民收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国民收入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NI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＝国内生产净值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NDP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－ 间接税－企业转移支付＋政府补助金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*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个人收入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I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：基于生产要素报酬意义上的国民收入并不会全部成为个人收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个人收入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I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＝国民收入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NI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－公司未分配利润－公司所得税－社会保险税（费）＋政府对个人的转移支付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*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个人可支配收入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DPI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个人可支配收入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DPI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＝个人收入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I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－ 个人所得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国民收入的基本公式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一、两部门经济的收入构成及储蓄——投资恒等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两部门的假设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 ⑴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经济社会只有消费者和企业（即厂商），因此不存在税收、政府支出及进出口贸易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 ⑵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不存在企业间接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 ⑶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为分析简化，先撇开折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在这种情况下，国内生产总值等于国内生产净值和国民收入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.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两部门恒等式的得出</a:t>
            </a:r>
            <a:br>
              <a:rPr sz="32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⑴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从收入角度（收入的去向）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国内生产总值等于总收入，总收入一部分用于消费，其余部分用于储蓄，即从供给方面看，国民收入＝工资＋利息＋利润＋租金＝消费＋储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971800" y="4648320"/>
                <a:ext cx="25146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⑵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从支出角度（产出的去向）：国内生产总值总等于消费加投资，即从需求的角度看，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200400" y="2743200"/>
                <a:ext cx="1866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1447920" y="36576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⑶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储蓄－投资恒等式的得出：</a:t>
            </a:r>
            <a:br>
              <a:rPr sz="3200"/>
            </a:b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由                             （总收入等于总支出）得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38280" y="4191120"/>
                <a:ext cx="29718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35280" y="5373720"/>
                <a:ext cx="1719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对储蓄－投资恒等的说明：</a:t>
            </a:r>
            <a:br>
              <a:rPr sz="32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⑴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这里储蓄和投资恒等，是从国民收入会计角度，事后储蓄和投资总是相等的；这里的“相等”不是“均衡”的意义。（注意：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对应的是不同的行为主体，这就存在不平衡的可能，是所有宏观经济问题产生的根源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⑵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这里说的储蓄和投资恒等，是指整个经济而言，而非某个人、企业或部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二、三部门经济的收入构成及</a:t>
            </a:r>
            <a:br>
              <a:rPr sz="36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           储蓄－投资恒等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三部门的含义：引入了政府部门，政府的经济活动表现在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 ⑴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政府收入：向企业和居民征税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⑵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政府支出：政府对商品和劳务的购买，以及政府给居民的转移支付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三部门恒等式的得出：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⑴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从收入角度：国内生产总值等于消费、储蓄加上税金收入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zh-CN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，再减去政府转移支付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Tr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，由于政府的净收入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等于税金收入减去转移支付，故有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zh-CN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－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Tr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，则（注意，下式中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已包含了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Tr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348000" y="4941720"/>
                <a:ext cx="312408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⑵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从支出角度：国内生产总值等于消费、投资和政府购买的总和，即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⑶ 储蓄－投资恒等式的得出：</a:t>
            </a:r>
            <a:br>
              <a:rPr sz="3200"/>
            </a:b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由                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得，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        </a:t>
            </a:r>
            <a:br>
              <a:rPr sz="3600"/>
            </a:b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I=S +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（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-G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987640" y="1268280"/>
                <a:ext cx="30970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383868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24000" y="2989440"/>
                <a:ext cx="5327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1911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771640" y="4221000"/>
                <a:ext cx="2514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12416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一节    宏观经济学的特点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一、宏观经济学的研究对象及内容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研究对象：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 ⑴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微观经济学：研究个体经济活动参与者的行为及后果（市场价格调节机制形成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 ⑵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宏观经济学：研究社会总体的经济行为及其后果，即对国民经济运行的整体，包括整个社会的产量，收入，价格水平和就业水平进行分析（市场调节机制的总体行为分析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三、四部门经济的收入构成及储蓄－投资恒等式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四部门的含义：加入国外部门，考虑进出口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四部门恒等式的得出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⑴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从收入角度：国内生产总值等于消费、储蓄、政府净收入与本国居民对外国人的转移支付之和，即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⑵ 从支出角度：国内生产总值等于消费、投资、政府购买和净出口的总和，即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7664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490840"/>
                <a:ext cx="3324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85776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666880" y="5029200"/>
                <a:ext cx="4114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⑶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储蓄－投资恒等式的得出：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也即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这里    代表居民私人储蓄，         代表政府储蓄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而                  可代表外国对本国的储蓄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83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979640" y="1989000"/>
                <a:ext cx="62485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7767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340000" y="2852640"/>
                <a:ext cx="4591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340000" y="4076640"/>
                <a:ext cx="5105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195640" y="494172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37184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508720" y="4941720"/>
                <a:ext cx="990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24332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908000" y="5373720"/>
                <a:ext cx="16002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恒等式的推广：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24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把折旧和企业间接税也考虑进来，上述收入构成公式及储蓄投资恒等式依然成立 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六节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 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名义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GDP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和实际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GD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一、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变动的影响因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所生产物品和劳务的数量的变动（真实变化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物品和劳务的价格的变动（非真实变化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二、名义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和实际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GDP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名义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（或货币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：指用生产物品和劳务的当年价格（可变价格）计算的全部最终产品的市场价值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实际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是用从前某一年作为基期的价格（不变价格）计算出来的全部最终产品的市场价值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.   GDP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折算指数：名义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和实际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的比率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七节     结束语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一、两种国民经济核算体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物质产品平衡表体系（简称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MPS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：为前苏联、东欧各国和我国所采用，以马克思主义再生产理论为依据，将社会总产值和国民收入作为反映国民经济活动总成果的基本指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西方国民收入核算体系（简称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SNA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：以西方经济理论为依据，认为创造物质产品和提供服务的劳务活动都是创造价值的生产活动，将国内生产总值作为核算国民经济活动的核心指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二、两种国民经济核算体系的区别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西方国民收入核算体系中的国民收入概念含义较广泛，物质产品平衡表体系中的国民收入含义较严格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物质产品平衡表体系认为只有物质生产才创造国民收入，而西方国民收入核算体系认为除了物质生产劳动，一切有偿的劳务活动都会创造国民收入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三、西方国民收入核算体系用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衡量的缺陷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非市场交易活动得不到反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有些严重影响社会发展和人们生活质量的内容无法得到反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把所有市场交易活动反映到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中并不能正确反映社会经济发展水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由于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含劳务活动，无法正确反映物质生产水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四、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西方国民收入核算体系 合理之处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把劳务活动计入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有其合理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根据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SNA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核算国民收入可以避免重复计算，可以区分名义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和实际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GD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研究内容：宏观经济运行状况的考察和测量：通过各种“总量指标”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⑴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重要指标：国内生产总值及其增长率，失业率，物价水平及通货膨胀率，财政预算赤字及贸易赤字，利率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⑵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对指标的分析：考察宏观经济总量（指标）的变化及相互之间的联系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五、我国国民收入核算体系 的发展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旧有物质产品平衡表体系的缺陷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⑴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不能反映非物质生产部门的发展情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⑵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不能系统反映社会资金运动情况，同政府转变经济管理职能不相适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⑶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不能反映国民经济循环全貌及各环节间衔接情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建立健全新的国民经济核算体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二、宏观经济学的产生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标志：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936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年凯恩斯的著作《就业、利息和货币通论》的出版。凯恩斯主义宏观经济学主张政府干预的原因和依据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⑴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总需求不足会导致经济萧条，生产下降，失业增加；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⑵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总需求过旺会导致经济过热，通货膨胀——因此政府要干预，用经济政策来调节总需求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宏观经济学与微观经济学的区别与联系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区别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⑴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微观经济学以价格为中心——又可称为价格理论（强调市场调节）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宏观经济学以收入和就业的分析为中心——又称为收入理论或就业理论（强调政府干预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⑵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微观经济学以个体经济行为分析为对象，宏观经济学以总体经济行为分析为对象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联系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⑴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宏观经济分析以微观经济分析为基础，对总体经济行为的分析离不开个体经济行为分析———宏观经济有微观基础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⑵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宏观经济不是微观经济的简单加总，对微观经济是正确的东西，对宏观经济学不一定是正确的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三、宏观经济学的研究方法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总量分析方法：研究总量因素的水平、变化及关系：主要分析各经济主体行为在总体经济行为中的地位和作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短期和长期，静态和动态分析，均衡分析和边际分析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二节     国内生产总值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本节总体思路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如何（数量）描述或刻画宏观经济的全貌呢？国内生产总值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GDP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就是这样一个指标。然后把这个最基本的总量指标逐步分解，分成若干主要变量或部分，为分析主要宏观经济变量之间的数量关系奠定基础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05:49:24Z</dcterms:created>
  <dc:creator>wuming</dc:creator>
  <dc:description/>
  <dc:language>en-US</dc:language>
  <cp:lastModifiedBy>Billgates</cp:lastModifiedBy>
  <dcterms:modified xsi:type="dcterms:W3CDTF">2003-09-21T05:21:13Z</dcterms:modified>
  <cp:revision>21</cp:revision>
  <dc:subject/>
  <dc:title>下编       宏观经济学</dc:title>
</cp:coreProperties>
</file>