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EAB3-84FB-49A1-A1F8-2147D021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294-A0B5-43D8-AC45-BCDB099B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A79-5C20-4177-A8CC-311DAB7F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4A8-197B-43D3-A4D2-B27BB745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8D89-1FEC-4BA9-A102-618AED0A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A6FA-E30B-4A0E-8425-A8544B99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A040-7615-48B3-B180-3933F917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4CBE-D4D1-427D-9EC8-6E86AC27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7E2C-1FBA-49A2-B443-7F7E7F6D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7515-5008-4306-9567-5869C4AF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7890-65D8-43F1-9424-96454B1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38D-B400-4C7F-871F-9ED6A98E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45FE-381F-4B56-B854-94782F1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916C-355E-4628-97FE-B8FB7DC5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8DC6-D159-40D1-87D6-E55B55E9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4212-2026-4C5C-891E-83D8D3E0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CA33-6BDD-4115-A5A8-6588BED6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0DC-0BDF-4354-802D-2F480EFF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FFC-169E-436E-8667-C92F60FB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5669-52B2-4E7C-904C-DB28989F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AF4-4B21-4F80-A01B-162D9229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519-C01C-4BA3-B82F-A3941BCD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6FB-22AD-482F-B049-2BA8E6D4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0A6-3CE5-4AE0-BBCD-A48BD4DB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15E0-BA67-471F-88E1-84D0FAB7307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4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7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5240-1D4F-4563-9050-50990F3DC3D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09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PA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Times New Roman"/>
              </a:rPr>
              <a:t>MPA</a:t>
            </a:r>
            <a:r>
              <a:rPr b="1" lang="zh-CN" sz="7200" spc="-1" strike="noStrike">
                <a:solidFill>
                  <a:srgbClr val="ffffcc"/>
                </a:solidFill>
                <a:latin typeface="幼圆"/>
              </a:rPr>
              <a:t> </a:t>
            </a:r>
            <a:r>
              <a:rPr b="1" lang="zh-CN" sz="7200" spc="-1" strike="noStrike">
                <a:solidFill>
                  <a:srgbClr val="ffffcc"/>
                </a:solidFill>
                <a:latin typeface="幼圆"/>
              </a:rPr>
              <a:t>政治学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中国人民大学国际关系学院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政治学系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幼圆"/>
              </a:rPr>
              <a:t>第一节 什么是政治？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一、政治现象的复杂性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由 “ 政治” 一词激发的情感状态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政治与非政治的区分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二、对 “ 政治” 认识的复杂性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复杂的政治学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多数学术研究是从讨论科目自身是什么开始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的，通常以这样的问题发端：“ 物理学是什么？”，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“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历史是什么？”，或‘“ 经济学是什么？”。这种讨论方式的长处是让学生了解他们将要学习的是什么东西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,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什么样的议题和论题将被涉及。然不幸的是，对于政治学的学生来说，“ 什么是政治学”这一问题更多地是导致混乱，而不是带来安适或使人安心。政治学的问题在于：争论、辩议和分歧是其核心，“ 政治”的界定亦不例外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	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(A.Heywood)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理解政治的不同途径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1.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从“水平”政治到“纵向”政治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古希腊的城邦民主政治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柏拉图的哲学王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2.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从“公域”政治到“私域”政治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公域与私域的区分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公域与私域边界的历史性演变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理解政治的不同途径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3.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从 “ 武力” 政治到 “ 文化” 政治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  “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文斗”与“ 武斗”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点头替代砍头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,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妥协政治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4.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从 “ 权力” 政治到 “ 分配” 政治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政治与权力的紧密联系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分配问题是如何突显的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?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理解政治的不同途径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691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5.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作为博弈的政治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什么是博弈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为什么政治是一种博弈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?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理解的关键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177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政治学中的“ 政治”与媒体通用的“ 政治”不能简单地等同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政治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(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从政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)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与研究政治不是一回事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对 “ 政治” 的界定本身就是政治！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为什么政治是不可避免的</a:t>
            </a: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?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1680" y="2209680"/>
            <a:ext cx="84819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1.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人天生就是社会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/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政治动物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2.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自然状态与政治秩序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3.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为什么市场不能解决所有的问题？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幼圆"/>
              </a:rPr>
              <a:t>个人行动的政治性质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1600200"/>
            <a:ext cx="7315200" cy="4906800"/>
            <a:chOff x="1295280" y="1600200"/>
            <a:chExt cx="7315200" cy="4906800"/>
          </a:xfrm>
        </p:grpSpPr>
        <p:sp>
          <p:nvSpPr>
            <p:cNvPr id="154" name=""/>
            <p:cNvSpPr/>
            <p:nvPr/>
          </p:nvSpPr>
          <p:spPr>
            <a:xfrm>
              <a:off x="1295280" y="5029200"/>
              <a:ext cx="1067040" cy="7621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各种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利益集团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17366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所感知的机会和危险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5680" y="1600200"/>
              <a:ext cx="76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价值观念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6400" y="1752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所感知的政治能力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9280" y="2895480"/>
              <a:ext cx="1143000" cy="45720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个体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05240" y="3886200"/>
              <a:ext cx="990720" cy="7621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个人策略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的形成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5105520"/>
              <a:ext cx="1218960" cy="53316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谈判过程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6049800"/>
              <a:ext cx="1218960" cy="45720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行动结果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581280"/>
              <a:ext cx="2438280" cy="60984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当前需求</a:t>
              </a: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/</a:t>
              </a: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目标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48520" y="5105520"/>
              <a:ext cx="2361960" cy="60948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对需求</a:t>
              </a: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/</a:t>
              </a: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目标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满意程度的评价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/>
            <p:nvPr/>
          </p:nvCxnSpPr>
          <p:spPr>
            <a:xfrm>
              <a:off x="4068720" y="2363400"/>
              <a:ext cx="580320" cy="532440"/>
            </a:xfrm>
            <a:prstGeom prst="straightConnector1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/>
            <p:nvPr/>
          </p:nvCxnSpPr>
          <p:spPr>
            <a:xfrm>
              <a:off x="4800600" y="2209320"/>
              <a:ext cx="2160" cy="670680"/>
            </a:xfrm>
            <a:prstGeom prst="straightConnector1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/>
            <p:nvPr/>
          </p:nvCxnSpPr>
          <p:spPr>
            <a:xfrm flipH="1">
              <a:off x="4982760" y="2361960"/>
              <a:ext cx="504000" cy="533880"/>
            </a:xfrm>
            <a:prstGeom prst="straightConnector1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8" idx="2"/>
            </p:cNvCxnSpPr>
            <p:nvPr/>
          </p:nvCxnSpPr>
          <p:spPr>
            <a:xfrm>
              <a:off x="4800240" y="3362040"/>
              <a:ext cx="1080" cy="533880"/>
            </a:xfrm>
            <a:prstGeom prst="straightConnector1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 flipV="1">
              <a:off x="4495680" y="4648320"/>
              <a:ext cx="0" cy="45720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5520" y="4659480"/>
              <a:ext cx="0" cy="4460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2" idx="0"/>
              <a:endCxn id="158" idx="3"/>
            </p:cNvCxnSpPr>
            <p:nvPr/>
          </p:nvCxnSpPr>
          <p:spPr>
            <a:xfrm flipV="1" rot="16200000">
              <a:off x="6162120" y="2342520"/>
              <a:ext cx="448560" cy="2010600"/>
            </a:xfrm>
            <a:prstGeom prst="bentConnector2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61" idx="3"/>
              <a:endCxn id="163" idx="2"/>
            </p:cNvCxnSpPr>
            <p:nvPr/>
          </p:nvCxnSpPr>
          <p:spPr>
            <a:xfrm flipV="1">
              <a:off x="5419440" y="5723640"/>
              <a:ext cx="2010600" cy="554760"/>
            </a:xfrm>
            <a:prstGeom prst="bentConnector2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 flipV="1">
              <a:off x="7391520" y="4191120"/>
              <a:ext cx="0" cy="91440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60" idx="2"/>
              <a:endCxn id="161" idx="0"/>
            </p:cNvCxnSpPr>
            <p:nvPr/>
          </p:nvCxnSpPr>
          <p:spPr>
            <a:xfrm>
              <a:off x="4800240" y="5648040"/>
              <a:ext cx="1080" cy="392760"/>
            </a:xfrm>
            <a:prstGeom prst="straightConnector1">
              <a:avLst/>
            </a:prstGeom>
            <a:ln w="22320">
              <a:solidFill>
                <a:srgbClr val="ffffcc"/>
              </a:solidFill>
              <a:miter/>
            </a:ln>
          </p:spPr>
        </p:cxnSp>
        <p:sp>
          <p:nvSpPr>
            <p:cNvPr id="174" name=""/>
            <p:cNvSpPr/>
            <p:nvPr/>
          </p:nvSpPr>
          <p:spPr>
            <a:xfrm>
              <a:off x="2362320" y="5638680"/>
              <a:ext cx="1828800" cy="68580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362320" y="5257800"/>
              <a:ext cx="182880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362320" y="5486400"/>
              <a:ext cx="182880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08520" y="46483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反馈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812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要求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8120" y="5410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承诺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608004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幼圆"/>
                  <a:ea typeface="幼圆"/>
                </a:rPr>
                <a:t>评价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幼圆"/>
              </a:rPr>
              <a:t>为什么要学习政治学？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28360" y="1905120"/>
            <a:ext cx="680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．人与社会的自我完善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．提高共同体生活的质量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3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．公共政策的有效执行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4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．政治学的社会化功能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5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．政治学与政治体制改革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幼圆"/>
              </a:rPr>
              <a:t>为什么要学习政治学？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56960" y="1981080"/>
            <a:ext cx="680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政治学之于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MPA</a:t>
            </a:r>
            <a:r>
              <a:rPr b="1" lang="zh-CN" sz="4000" spc="-1" strike="noStrike">
                <a:solidFill>
                  <a:srgbClr val="eaeaea"/>
                </a:solidFill>
                <a:latin typeface="幼圆"/>
              </a:rPr>
              <a:t>学习的意义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幼圆"/>
              </a:rPr>
              <a:t>政治与政治学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社会基础与上层建筑：自下而上的流动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971800" y="1676520"/>
            <a:ext cx="4572000" cy="4482720"/>
            <a:chOff x="2971800" y="1676520"/>
            <a:chExt cx="4572000" cy="4482720"/>
          </a:xfrm>
        </p:grpSpPr>
        <p:sp>
          <p:nvSpPr>
            <p:cNvPr id="187" name=""/>
            <p:cNvSpPr/>
            <p:nvPr/>
          </p:nvSpPr>
          <p:spPr>
            <a:xfrm>
              <a:off x="2971800" y="1676520"/>
              <a:ext cx="4572000" cy="441936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3124080"/>
              <a:ext cx="1447920" cy="0"/>
            </a:xfrm>
            <a:prstGeom prst="line">
              <a:avLst/>
            </a:prstGeom>
            <a:ln w="255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6200" y="4419720"/>
              <a:ext cx="2819520" cy="0"/>
            </a:xfrm>
            <a:prstGeom prst="line">
              <a:avLst/>
            </a:prstGeom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840" y="2362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政府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7840" y="3352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政治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3600" y="5638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态度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24000" y="5638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利益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3800" y="56386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文化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68920" y="449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社会基础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267080" y="4114800"/>
              <a:ext cx="0" cy="533520"/>
            </a:xfrm>
            <a:prstGeom prst="line">
              <a:avLst/>
            </a:prstGeom>
            <a:ln cap="sq" w="47520">
              <a:solidFill>
                <a:srgbClr val="ffffcc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248520" y="4114800"/>
              <a:ext cx="0" cy="533520"/>
            </a:xfrm>
            <a:prstGeom prst="line">
              <a:avLst/>
            </a:prstGeom>
            <a:ln cap="sq" w="47520">
              <a:solidFill>
                <a:srgbClr val="ffffcc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257800" y="4114800"/>
              <a:ext cx="0" cy="533520"/>
            </a:xfrm>
            <a:prstGeom prst="line">
              <a:avLst/>
            </a:prstGeom>
            <a:ln cap="sq" w="47520">
              <a:solidFill>
                <a:srgbClr val="ffffcc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800600" y="2895480"/>
              <a:ext cx="0" cy="533520"/>
            </a:xfrm>
            <a:prstGeom prst="line">
              <a:avLst/>
            </a:prstGeom>
            <a:ln cap="sq" w="47520">
              <a:solidFill>
                <a:srgbClr val="ffffcc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638680" y="2895480"/>
              <a:ext cx="0" cy="533520"/>
            </a:xfrm>
            <a:prstGeom prst="line">
              <a:avLst/>
            </a:prstGeom>
            <a:ln cap="sq" w="47520">
              <a:solidFill>
                <a:srgbClr val="ffffcc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社会基础与上层建筑：自上而下的流动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967480" y="1672200"/>
            <a:ext cx="4580640" cy="4428000"/>
            <a:chOff x="2967480" y="1672200"/>
            <a:chExt cx="4580640" cy="4428000"/>
          </a:xfrm>
        </p:grpSpPr>
        <p:sp>
          <p:nvSpPr>
            <p:cNvPr id="203" name=""/>
            <p:cNvSpPr/>
            <p:nvPr/>
          </p:nvSpPr>
          <p:spPr>
            <a:xfrm rot="10793400">
              <a:off x="2971800" y="1676520"/>
              <a:ext cx="4572000" cy="441936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86200" y="3429000"/>
              <a:ext cx="2743200" cy="0"/>
            </a:xfrm>
            <a:prstGeom prst="line">
              <a:avLst/>
            </a:prstGeom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14800" y="169056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政治和政府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47840" y="4129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社会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99920" y="2286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制度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19440" y="2362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政策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47840" y="2666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决定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263480" y="3124080"/>
              <a:ext cx="8280" cy="533520"/>
            </a:xfrm>
            <a:prstGeom prst="line">
              <a:avLst/>
            </a:prstGeom>
            <a:ln cap="sq" w="47520">
              <a:solidFill>
                <a:srgbClr val="ffffcc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319800" y="3124080"/>
              <a:ext cx="7920" cy="533520"/>
            </a:xfrm>
            <a:prstGeom prst="line">
              <a:avLst/>
            </a:prstGeom>
            <a:ln cap="sq" w="47520">
              <a:solidFill>
                <a:srgbClr val="ffffcc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253120" y="3124080"/>
              <a:ext cx="7920" cy="533520"/>
            </a:xfrm>
            <a:prstGeom prst="line">
              <a:avLst/>
            </a:prstGeom>
            <a:ln cap="sq" w="47520">
              <a:solidFill>
                <a:srgbClr val="ffffcc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幼圆"/>
              </a:rPr>
              <a:t>第二节 研究政治学的取向与方法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一、政治学是一门艺术还是科学？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．政治现象有规律吗？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．研究者能做到价值中立吗？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 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二、马克思主义政治学与非马克思主义政治学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．马克思主义政治学的基本命题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幼圆"/>
              </a:rPr>
              <a:t>．非马克思主义政治学的特征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政治学与后现代政治学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现代政治学的特征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后现代政治学的特征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3911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幼圆"/>
              </a:rPr>
              <a:t>四、实证主义政治学中的多元取向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4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精英主义与多元主义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系统理论、结构功能主义与沟通理论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3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公共选择理论与新制度主义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4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女权主义等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精英主义与多元主义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286000"/>
            <a:ext cx="3200400" cy="3048120"/>
          </a:xfrm>
          <a:prstGeom prst="triangle">
            <a:avLst>
              <a:gd name="adj" fmla="val 50000"/>
            </a:avLst>
          </a:prstGeom>
          <a:noFill/>
          <a:ln cap="sq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22600" y="3579840"/>
            <a:ext cx="1279440" cy="0"/>
          </a:xfrm>
          <a:prstGeom prst="line">
            <a:avLst/>
          </a:prstGeom>
          <a:ln cap="sq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0000" y="289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精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11240" y="4317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大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162920" y="2362320"/>
            <a:ext cx="954000" cy="1752480"/>
            <a:chOff x="7162920" y="2362320"/>
            <a:chExt cx="954000" cy="1752480"/>
          </a:xfrm>
        </p:grpSpPr>
        <p:sp>
          <p:nvSpPr>
            <p:cNvPr id="225" name=""/>
            <p:cNvSpPr/>
            <p:nvPr/>
          </p:nvSpPr>
          <p:spPr>
            <a:xfrm>
              <a:off x="7162920" y="2362320"/>
              <a:ext cx="954000" cy="175248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48400" y="3105000"/>
              <a:ext cx="382680" cy="0"/>
            </a:xfrm>
            <a:prstGeom prst="line">
              <a:avLst/>
            </a:prstGeom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19960" y="2627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精英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65600" y="3530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大众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56480" y="3048120"/>
            <a:ext cx="954000" cy="1752480"/>
            <a:chOff x="7656480" y="3048120"/>
            <a:chExt cx="954000" cy="1752480"/>
          </a:xfrm>
        </p:grpSpPr>
        <p:sp>
          <p:nvSpPr>
            <p:cNvPr id="230" name=""/>
            <p:cNvSpPr/>
            <p:nvPr/>
          </p:nvSpPr>
          <p:spPr>
            <a:xfrm>
              <a:off x="7656480" y="3048120"/>
              <a:ext cx="954000" cy="175248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1960" y="3790800"/>
              <a:ext cx="382680" cy="0"/>
            </a:xfrm>
            <a:prstGeom prst="line">
              <a:avLst/>
            </a:prstGeom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13520" y="3313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精英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59160" y="42163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大众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665760" y="1447920"/>
            <a:ext cx="954000" cy="1752480"/>
            <a:chOff x="6665760" y="1447920"/>
            <a:chExt cx="954000" cy="1752480"/>
          </a:xfrm>
        </p:grpSpPr>
        <p:sp>
          <p:nvSpPr>
            <p:cNvPr id="235" name=""/>
            <p:cNvSpPr/>
            <p:nvPr/>
          </p:nvSpPr>
          <p:spPr>
            <a:xfrm>
              <a:off x="6665760" y="1447920"/>
              <a:ext cx="954000" cy="175248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1240" y="2190600"/>
              <a:ext cx="382680" cy="0"/>
            </a:xfrm>
            <a:prstGeom prst="line">
              <a:avLst/>
            </a:prstGeom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22800" y="17128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精英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68440" y="2616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大众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248520" y="3276720"/>
            <a:ext cx="954000" cy="1752480"/>
            <a:chOff x="6248520" y="3276720"/>
            <a:chExt cx="954000" cy="1752480"/>
          </a:xfrm>
        </p:grpSpPr>
        <p:sp>
          <p:nvSpPr>
            <p:cNvPr id="240" name=""/>
            <p:cNvSpPr/>
            <p:nvPr/>
          </p:nvSpPr>
          <p:spPr>
            <a:xfrm>
              <a:off x="6248520" y="3276720"/>
              <a:ext cx="954000" cy="175248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34000" y="4019400"/>
              <a:ext cx="382680" cy="0"/>
            </a:xfrm>
            <a:prstGeom prst="line">
              <a:avLst/>
            </a:prstGeom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05560" y="3541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精英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51200" y="4444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大众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010280" y="4267080"/>
            <a:ext cx="954000" cy="1752480"/>
            <a:chOff x="7010280" y="4267080"/>
            <a:chExt cx="954000" cy="1752480"/>
          </a:xfrm>
        </p:grpSpPr>
        <p:sp>
          <p:nvSpPr>
            <p:cNvPr id="245" name=""/>
            <p:cNvSpPr/>
            <p:nvPr/>
          </p:nvSpPr>
          <p:spPr>
            <a:xfrm>
              <a:off x="7010280" y="4267080"/>
              <a:ext cx="954000" cy="175248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95760" y="5009760"/>
              <a:ext cx="382680" cy="0"/>
            </a:xfrm>
            <a:prstGeom prst="line">
              <a:avLst/>
            </a:prstGeom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67320" y="45320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精英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12960" y="5435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大众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562720" y="2514600"/>
            <a:ext cx="954000" cy="1752480"/>
            <a:chOff x="5562720" y="2514600"/>
            <a:chExt cx="954000" cy="1752480"/>
          </a:xfrm>
        </p:grpSpPr>
        <p:sp>
          <p:nvSpPr>
            <p:cNvPr id="250" name=""/>
            <p:cNvSpPr/>
            <p:nvPr/>
          </p:nvSpPr>
          <p:spPr>
            <a:xfrm>
              <a:off x="5562720" y="2514600"/>
              <a:ext cx="954000" cy="175248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48200" y="3257280"/>
              <a:ext cx="382680" cy="0"/>
            </a:xfrm>
            <a:prstGeom prst="line">
              <a:avLst/>
            </a:prstGeom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19760" y="2779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精英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65400" y="3682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大众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562720" y="4038480"/>
            <a:ext cx="954000" cy="1752480"/>
            <a:chOff x="5562720" y="4038480"/>
            <a:chExt cx="954000" cy="1752480"/>
          </a:xfrm>
        </p:grpSpPr>
        <p:sp>
          <p:nvSpPr>
            <p:cNvPr id="255" name=""/>
            <p:cNvSpPr/>
            <p:nvPr/>
          </p:nvSpPr>
          <p:spPr>
            <a:xfrm>
              <a:off x="5562720" y="4038480"/>
              <a:ext cx="954000" cy="1752480"/>
            </a:xfrm>
            <a:prstGeom prst="triangle">
              <a:avLst>
                <a:gd name="adj" fmla="val 50000"/>
              </a:avLst>
            </a:prstGeom>
            <a:noFill/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48200" y="4781160"/>
              <a:ext cx="382680" cy="0"/>
            </a:xfrm>
            <a:prstGeom prst="line">
              <a:avLst/>
            </a:prstGeom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19760" y="4303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精英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65400" y="5206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大众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系统理论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04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戴维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伊斯顿的政治系统模型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3352680"/>
            <a:ext cx="2819520" cy="1524240"/>
          </a:xfrm>
          <a:prstGeom prst="rect">
            <a:avLst/>
          </a:prstGeom>
          <a:noFill/>
          <a:ln cap="sq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17520" y="3505320"/>
            <a:ext cx="9122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转换过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政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决策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4114800"/>
            <a:ext cx="16002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3581280"/>
            <a:ext cx="16002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4800600"/>
            <a:ext cx="16002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4191120"/>
            <a:ext cx="1600200" cy="0"/>
          </a:xfrm>
          <a:prstGeom prst="line">
            <a:avLst/>
          </a:prstGeom>
          <a:ln w="38160">
            <a:solidFill>
              <a:srgbClr val="ffffcc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5562720"/>
            <a:ext cx="7162560" cy="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10480" y="4343400"/>
            <a:ext cx="0" cy="121932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343400"/>
            <a:ext cx="0" cy="121932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8800" y="33818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输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0600" y="35053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输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87960" y="3657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决定和行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0964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需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41320" y="434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支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4132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冷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76640" y="23623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社会、经济和政治环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2732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反馈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系统理论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6204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罗斯金的修正模型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9360" y="3048120"/>
            <a:ext cx="2819160" cy="1904760"/>
          </a:xfrm>
          <a:prstGeom prst="rect">
            <a:avLst/>
          </a:prstGeom>
          <a:noFill/>
          <a:ln cap="sq"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76800" y="3200400"/>
            <a:ext cx="7293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政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决策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68520" y="4191120"/>
            <a:ext cx="16002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191120"/>
            <a:ext cx="60948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4114800"/>
            <a:ext cx="53316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6019920"/>
            <a:ext cx="7162560" cy="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610480" y="4343400"/>
            <a:ext cx="0" cy="167652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5029200"/>
            <a:ext cx="0" cy="99072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01840" y="396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输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96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输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3528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决定和行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90560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需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99120" y="541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支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99120" y="502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冷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0160" y="3733920"/>
            <a:ext cx="1095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社会、经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幼圆"/>
              </a:rPr>
              <a:t>和政治环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65480" y="5486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反馈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3200400"/>
            <a:ext cx="533520" cy="45720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990720" y="3962520"/>
            <a:ext cx="533160" cy="45720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2320" y="4114800"/>
            <a:ext cx="533160" cy="45720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514600" y="3428640"/>
            <a:ext cx="68580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361960" y="3276720"/>
            <a:ext cx="685800" cy="30456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980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内部输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人文社会科学的影响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668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历史学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社会学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3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经济学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4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法学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5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人类学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幼圆"/>
              </a:rPr>
              <a:t>第三节 政治学的核心概念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8204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一、政治权力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1.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对政治权力的不同界定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罗斯金的概括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权力的四维观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2.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目的与手段倒置的可能性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学习目的与教学目标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04680" y="2209680"/>
            <a:ext cx="3376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学习目的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Why &amp; What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教学目标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Why &amp; What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2514600"/>
            <a:ext cx="2210040" cy="3124080"/>
          </a:xfrm>
          <a:prstGeom prst="flowChartCollate">
            <a:avLst/>
          </a:prstGeom>
          <a:noFill/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40120" y="2514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幼圆"/>
              </a:rPr>
              <a:t>需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40120" y="4724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幼圆"/>
              </a:rPr>
              <a:t>供给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J0293844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幼圆"/>
              </a:rPr>
              <a:t>政治学的核心概念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二、政治权威 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1.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政治权威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2.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政治权威与政治权力的关系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政治学的核心概念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三、政治合法性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合法性的概念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．权力、权威与合法性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 </a:t>
            </a: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第四节 政治学的基本问题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61680" y="1676160"/>
            <a:ext cx="84819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莱利斯．里普森（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Leslie Lipson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）将政治学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的核心问题归结为以下五个：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1.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公民资格的范围：它是排他的还是包容的？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2.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国家的职能：其活动范围是有限的还是无限的？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3.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权威的来源：它来源于人民还是政府？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4.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权威的结构：权力应当集中还是分散？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5.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国家的规模及其外部关系：什么样的政治单位更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好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?</a:t>
            </a:r>
            <a:r>
              <a:rPr b="1" lang="zh-CN" sz="2800" spc="-1" strike="noStrike">
                <a:solidFill>
                  <a:srgbClr val="eaeaea"/>
                </a:solidFill>
                <a:latin typeface="幼圆"/>
              </a:rPr>
              <a:t>什么样的国际秩序是可取的？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总  结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一、导言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二、什么是政治？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三、为什么政治是不可避免的？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四、政治学的核心概念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五、政治（学）的基本问题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教学安排与学习方法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52400" y="2362320"/>
            <a:ext cx="3909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导论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政治制度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政治行为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政治问题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2666880"/>
            <a:ext cx="2971800" cy="2971800"/>
          </a:xfrm>
          <a:prstGeom prst="flowChartSummingJunction">
            <a:avLst/>
          </a:prstGeom>
          <a:noFill/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62960" y="2743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幼圆"/>
              </a:rPr>
              <a:t>导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38920" y="4708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幼圆"/>
              </a:rPr>
              <a:t>问题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10400" y="3718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幼圆"/>
              </a:rPr>
              <a:t>制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4520" y="3733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幼圆"/>
              </a:rPr>
              <a:t>过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教学方法和授课形式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29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Lecture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Discussion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Presentation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讲授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讨论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“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献演”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DICTNARY" descr=""/>
          <p:cNvPicPr/>
          <p:nvPr/>
        </p:nvPicPr>
        <p:blipFill>
          <a:blip r:embed="rId2"/>
          <a:stretch/>
        </p:blipFill>
        <p:spPr>
          <a:xfrm>
            <a:off x="5257800" y="1925640"/>
            <a:ext cx="2971800" cy="17668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4772520" y="2854440"/>
            <a:ext cx="3336120" cy="3546360"/>
            <a:chOff x="4772520" y="2854440"/>
            <a:chExt cx="3336120" cy="3546360"/>
          </a:xfrm>
        </p:grpSpPr>
        <p:pic>
          <p:nvPicPr>
            <p:cNvPr id="124" name="3DARROW4" descr=""/>
            <p:cNvPicPr/>
            <p:nvPr/>
          </p:nvPicPr>
          <p:blipFill>
            <a:blip r:embed="rId3"/>
            <a:stretch/>
          </p:blipFill>
          <p:spPr>
            <a:xfrm>
              <a:off x="5334120" y="2854440"/>
              <a:ext cx="27586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772520" y="5023080"/>
              <a:ext cx="139932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讲授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8600" y="5064120"/>
              <a:ext cx="139932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讨论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09320" y="5064120"/>
              <a:ext cx="139932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  <a:ea typeface="幼圆"/>
                </a:rPr>
                <a:t>发言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学习组织与基本途径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33640" y="1905120"/>
            <a:ext cx="28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个人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集体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校园课堂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工作单位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周围社会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J0233018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32004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导言：政治与政治学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第一节  什么是政治？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第二节  为什么政治是不可避免的？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第三节  政治学的核心概念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第四节  政治（学）的基本问题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学习目的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315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理解政治与政治学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理解政治学的无所不在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掌握政治学的核心概念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幼圆"/>
              </a:rPr>
              <a:t>认识政治学的基本问题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幼圆"/>
              </a:rPr>
              <a:t>思考要点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为什么我们不能摆脱政治？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为什么我们必须学习政治学？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那么，如何学习政治学呢？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4191120"/>
            <a:ext cx="3048120" cy="266688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09:03:43Z</dcterms:created>
  <dc:creator>538</dc:creator>
  <dc:description/>
  <dc:language>en-US</dc:language>
  <cp:lastModifiedBy>zhang</cp:lastModifiedBy>
  <dcterms:modified xsi:type="dcterms:W3CDTF">2003-09-14T05:37:28Z</dcterms:modified>
  <cp:revision>26</cp:revision>
  <dc:subject/>
  <dc:title>PowerPoint 演示文稿</dc:title>
</cp:coreProperties>
</file>