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BFC-25B0-45E3-81B9-270F00A8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658-0497-40FB-B022-1DF8A241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104-9BFE-4C65-A34B-F6F17306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390-9804-492C-A97F-4B9ECE38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4EF-290F-442E-8609-A61C4381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D19-1E16-4C02-895F-0FEF77CD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8B5-5FBB-4774-BC62-90DA977F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26F-EF1F-4FB4-9B0C-8B1C13C2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7EC-3405-4ABC-AF54-B8D89C31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293A-D2B8-4D6E-B2EF-0EC01487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24A-560A-4DDF-8DE2-55A150A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616-14AF-41B5-92D0-87F0FD29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2126-6A64-45DF-9371-982180804C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523880"/>
            <a:ext cx="8382240" cy="35816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第八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政策建议的表达和比较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72400" cy="914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3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词典排序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满意方法的细化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不同方案根据不同指标进行排序，从最重要的开始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根据最重要的指标进行排序，有两个或者以上方案并列第一，按照第二指标进行排序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获胜的选项根据第三个指标进行排序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关键是指标的重要程度，有关人员需要达成一致意见，并且所考虑的指标是相互独立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99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4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没有绝对优势选项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缺乏绝对优势的政策方案，需要进行系统的比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114800"/>
            <a:ext cx="7772400" cy="1752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评职称的例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教学、科研、学术交流和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IPA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工作四个方面排队，指标化，打分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5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价选项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排除法，明确淘汰一些选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选择工作机会：工资、地点、气候、上班时间、生活费用、工作性质、合作同事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每个工作根据不同的指标进行排序然后进行选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6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标准选项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743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把一个指标当作标准，比如考虑工作机会，把气候、上班时间、工作性质转换成工资，然后进行计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533160"/>
            <a:ext cx="8839080" cy="1066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六、矩阵（分数卡片）显示系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286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处理多重属性和多重指标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使用清单方法来显示建议满足指标的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01064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戈勒尔分数卡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7772400" cy="2438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提前退休的例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61722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选项结果矩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8229600" cy="3429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两个轴：一个表示政策建议，一个表示指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给每个单元制定一个合格或者不合格的等级，或者分数来表示建议的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满足必须指标，合格；不满足，不合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01028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七、其他矩阵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962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专业分析用的矩阵方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1.</a:t>
            </a: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目标完成矩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目标完成矩阵的改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3.</a:t>
            </a: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规划平衡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4.</a:t>
            </a: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应该使用哪一种矩阵方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381880" cy="914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八、权重、等级系统和索引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3962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权重不同因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建立等级系统：正确的指标非常重要，然后才是定量化排序或者定性化排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925040" cy="2514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政策选择的实验：作出选择，并说明理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章内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209680"/>
            <a:ext cx="7924680" cy="3657600"/>
          </a:xfrm>
          <a:prstGeom prst="roundRect">
            <a:avLst>
              <a:gd name="adj" fmla="val 16667"/>
            </a:avLst>
          </a:prstGeom>
          <a:solidFill>
            <a:srgbClr val="ccecff">
              <a:alpha val="50000"/>
            </a:srgbClr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最优政策选择中的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个体理性与集体理性之间的冲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多重指标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处理多重指标的一些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初步比较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矩阵（分数卡片）显示系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第一组选择：两个政策，一个政策挽救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2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人；一个政策三分之一的概率挽救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6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人，三分之二的概率挽救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人。选择什么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第二组选择：两个政策，一个政策导致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4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人死亡；一个政策导致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60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人死亡，三分之二的概率；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0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人死亡，三分之一的概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选择什么政策</a:t>
            </a: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543800" cy="990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、最优政策选择中的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4953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分析过程就是在政策实施前所进行的对政策建议在技术上、经济上和政治方面的评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什么方案能够提供最大净收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什么方案能够在投资规模固定的情况下提供最大的经济收益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什么方案能够提供最佳的技术解决办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不同标准冲突：技术上最佳方案政治上不可行；成本最低的方案有很大的副作用；满足一个集团的方案不满足另一个集团利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何平衡各种冲突呢：以一致的方式表达和解释相互冲突的资料，以便作出决策。书面报告必须详细说明概念和复杂的表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二、个体理性与集体理性的冲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个人不可能作出集体最佳的决策：三个模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囚犯的难题是一个典型：个人理性不可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投票悖论：程序决定结果，逻辑上不可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地灾难：牧羊人的难题或者渔人的难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建议：集权和分权，自主治理的方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9144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三、多重指标问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成本效益分析需要量化处理一些指标，把货币当作一个普遍的标准来平息各种各样的冲突，补偿受到伤害的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但有些情况下，有些人对此项政策非常反感，不可能用任何金钱补偿其损失，这是成本收益分析就难以胜任平衡这一冲突的任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经济标准：选择净收益最高的方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风险评估：选择投资回报高风险小的方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公共选择：尽可能不牺牲个人利益，因此要选择风险小的方案，最好是无风险的方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没有任何人能够承担公共风险的责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610840" cy="8384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四、处理多重指标的一些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压倒优势、超级优势选择容易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差别不大时，用分数卡片或者矩阵进行选择：实在接近时，可以任意选择；或者扩大进一步选择的变量，考虑更多的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五、基本比较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把一张纸用一条线分成两列，分别列出赞成和反对的理由，用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4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5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天时间，思考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估计不同因素的权重，两边相等时划掉。有多少因素都相等，都划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进一步思考问题，作出决策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这样可以避免鲁莽行事，是道德或谨慎的代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本杰明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·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富兰克林的方法：一个人决策、选项相对确定、偏好已知的条件下使用，这些条件不具备，需要用一些专业的方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6324480" cy="1524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一对一比较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239240" cy="259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比较两个选项，优势选项与第三个选项比较，优势选项与第四个选项比较，依此类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有些笨拙，并且一旦比较的因素选择不当，会有很大的问题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4197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.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满意方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确定指标，并确定令人满意的标准，不追求最佳水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方案至少能够满足满意水平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果没有任何选项达到满意的水平，怎么办？降低要求，或者不作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果许多选项高于满意的水平，怎么办？提高要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第一个满意方案发现时，就不再进一步寻找最佳方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2:23:53Z</dcterms:created>
  <dc:creator>ipa</dc:creator>
  <dc:description/>
  <dc:language>en-US</dc:language>
  <cp:lastModifiedBy>wyy</cp:lastModifiedBy>
  <dcterms:modified xsi:type="dcterms:W3CDTF">2003-07-20T06:32:40Z</dcterms:modified>
  <cp:revision>250</cp:revision>
  <dc:subject/>
  <dc:title>PowerPoint 演示文稿</dc:title>
</cp:coreProperties>
</file>