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F57-C1C3-4C10-844A-D5468F7D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636-936D-488C-8708-A1BB10B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4E4-B045-4AA5-8722-AE7F9DC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2B1-44D0-4D75-9B1E-3C6C8782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5DE-8037-4724-A93E-7979ADD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54D-EA8B-458E-90E0-B8A76D6D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9CF-098C-4CC7-ABEA-0DEAD10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98A-7A64-428C-AC79-02B7177B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7F2-D033-466F-A64A-3DB3225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876-F88F-41F5-B289-F3E4083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C51-D79A-42BF-B358-8D2F59F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800-4CA8-4B9C-9B12-483B2F79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E12-706A-4531-AD3F-CDECDF3C3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31532;&#20116;&#35762;&#24314;&#31435;&#35780;&#20272;&#26631;&#20934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4836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二节  经济标准与可行性标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9528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现代社会是经济社会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微观经济学所提出的许多价值标准往往为政策分析家所采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除了经济学概念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还有许多其他各种各样的可行性的评估标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契约论的标准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：民主共识的认可，从一致同意到多数同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权利论的标准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：权利是否得到尊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识别利益相关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帕累托最优原则：讨论政策让人得利不受害的潜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权利原则：哪些人的权利得到了确证，哪些人的权利处于不确定的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源得到最优的配置：相关的资源是否配置到最需要，出价最高的人那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后代和其他国家的公民以认真的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权利配置是利益相关者的重要问题，会有很大的争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36576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部效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市场没有确定价格，但给他人带来积极或者消极的影响，是没有市场化的社会成本或者收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环境污染、填埋垃圾的成本，厂商和消费者都没有承担，而是由他人或者社会承担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机票价格往往不包括噪音污染的成本，也不包括观赏飞机起飞降落的收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政策往往与外部效应的内部化相关，这是“公共政策经济分析”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41148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6.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弹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价格弹性：物品和服务的供应量和消费量受价格变化的影响。价格变化高于销售量变化，缺乏价格弹性；价格变化高于销量量变化，价格弹性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盐缺乏价格弹性：无论价格如何，变化不大。没有什么替代效应。适合征税，平均赋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水缺乏价格弹性：开始时有价格弹性，后来弹性消失。替代效应很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股票具有充分的价格弹性：一有风吹草动，交易量和价格都会发生巨大变化。替代效应太大，表现为非理性的疯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府的政策往往要考虑到物品和服务的价格弹性：水价政策，机票打折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87692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7.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边际分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边际分析是现代经济分析的精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力和物料是重要的投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包括固定成本和可变成本：固定成本与公共行为规模变化无关，至少短期里如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平均成本与边际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飞机跑一趟，固定成本；总成本除以所有乘客，平均成本；每增加一位乘客所增加的成本，边际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边际收益下降规律运用（若上升，规模经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边际成本上升规律运用（若下降，规模经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1148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8.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公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往往与成本与收益在不同人群的分配状况相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公共政策谁受益，谁支付成本，是经济分析的重要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贫穷与富裕的公正：穷人多受益，富人多支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发展公共汽车的政策谁受益？外地人受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发展教育的政策，谁受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什么样的政策具有扶贫效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什么样的政策具有发展的效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社会福利彩票公正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道德资金源于何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5720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种种公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性别公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代际公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众的期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效率与公正之间的关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4343400" y="638964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6291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14446" y="3794"/>
                </a:lnTo>
                <a:lnTo>
                  <a:pt x="14446" y="17806"/>
                </a:lnTo>
                <a:lnTo>
                  <a:pt x="1278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9152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重要的经济学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238880" cy="3733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●</a:t>
            </a: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自由市场           ●成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●</a:t>
            </a: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收益                   ●利益相关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●</a:t>
            </a: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外部效应           ●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●</a:t>
            </a:r>
            <a:r>
              <a:rPr b="0" lang="zh-CN" sz="4000" spc="-1" strike="noStrike">
                <a:solidFill>
                  <a:srgbClr val="006699"/>
                </a:solidFill>
                <a:latin typeface="华文新魏"/>
                <a:ea typeface="华文新魏"/>
              </a:rPr>
              <a:t>边际分析           ●公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由市场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9528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当完全竞争的自由市场失效时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府才介入采取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完全竞争模式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们通过交易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朝着追求每个人更大福利的方向呈增量形式的运动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帕累托标准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每一次交易都将使至少一人受益而没有人受到损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完全竞争的市场可以实现帕累托最优的状态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让一部分人先富起来：符合帕累托最优准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杀富济贫：不符合帕累托准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自愿济贫：符合帕累托准则吗？若假设物质利益为价值，不符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5334120" cy="1218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市场交易缓解冲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两个人同居一室，张三偏好室温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摄氏度，李四偏好室温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摄氏度。无论如何，两个人都会引起冲突，并且不感到满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两个人同居一室，张三喜欢晚睡晚起，晚十二点早八点；李四喜欢早睡早起，晚九点早五点。无论如何规定什么时候熄灯，什么时候开灯，都会有冲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但如果有了一定的市场规则，两者之间在开关灯时间与室温方面做一些交易，冲突的可能性就会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1219320" cy="4572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市场的优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304920"/>
            <a:ext cx="6934320" cy="58672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同步考虑两个变量而不是将每个变量分离考虑，双方相互同意的可能性会因此而得到增强，并减少对仲裁决策规则的依赖性需求。这一结果比在尽量满足各方偏好的规则下产生的结果更有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市场制度的优势是，可以考虑无限多的个性化偏好和标准，并使所有的利益都尽可能最大化，并且不损害其他人的利益，达到帕累托最优的标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市场促进合作，而非导致冲突：商人见面都是朋友，军人见面都是敌人，好人见面都是无私帮助的对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14840" y="457200"/>
            <a:ext cx="1219320" cy="4114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充分用足市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5486400" cy="54864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是否充分用足了市场，已经成为发展政策的重要评价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是否给与市场以充分的空间，也是政府政策的重要评估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是否弥补了市场失灵，构成了政府行动的重要理由之一，自然也是政府政策的重要评估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200400" cy="990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成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就是资源的投入使用：</a:t>
            </a:r>
            <a:r>
              <a:rPr b="0" lang="en-US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成本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常常犯的错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机会成本：资源有各种各样的用途，机会成本往往被忽略。闲置资源和稀缺资源的区分不明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只计算现金支出，不计算整个规划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计算货币化成本：忽略非货币化的成本，忽略长期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计算委托人之外的公众或者政府方面的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区分边际成本、沉淀成本与社会成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直接成本：固定成本、借贷成本、实施和维护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间接成本：停车场增加交通拥挤成本和相应的其他成本，其他人所支付的社会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超越成本分析：分析整个项目的非成本因素，非市场化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312408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.</a:t>
            </a:r>
            <a:r>
              <a:rPr b="1" lang="zh-CN" sz="5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收益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7010280" cy="49532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收益与成本相对，有时候还是负成本：成本节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收益往往与委托人的期望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直接／间接、有形无形、短期长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市场完备时，收益是可以交易的，价格容易确定的物品或者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市场不完备或者失效时，往往用影子价格来计算成本与收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影子价格：在市场确定其它因素的基础上确定该物品的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04960" y="1752480"/>
            <a:ext cx="1886760" cy="4799160"/>
          </a:xfrm>
          <a:prstGeom prst="rect">
            <a:avLst/>
          </a:prstGeom>
          <a:solidFill>
            <a:srgbClr val="00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自己到底值多少钱？尚未经过市场交易，往往参考其它类似的人的价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19112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利益相关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839080" cy="4800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：教育价格管制政策的利害相关者是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确定利益相关者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决策过程的组成部分：官员、专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反映了其偏好的人，哪怕不是表达出来的：如穷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婴儿、后代、先辈等不能表达其偏好的人：将来教育的发展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有权利让他人代表其偏好的人：孩子的偏好往往包含在父母的购物行为中；家长往往代表孩子的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02:36:41Z</dcterms:modified>
  <cp:revision>24</cp:revision>
  <dc:subject/>
  <dc:title>PowerPoint Presentation</dc:title>
</cp:coreProperties>
</file>