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D02-2418-40CB-9E87-A9940290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4CC-A6B3-440A-B7FA-5AD955D2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9F8-6F2E-4370-8003-FCA7D7FF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0AF-0C87-4BC9-A62A-E45384CC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FB6-F9C7-429E-A55B-FAF44E9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F92-BC55-4041-A77E-65A8CA6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4AE-2002-476C-BDFD-09FEBD6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318-B6CA-442D-9864-DA55C51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E73-C4FE-47F9-A42D-13CBEF24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721-764C-4DA4-A248-D910341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F3B-918B-4C56-A16E-A384403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CAA-0AF0-45C9-A040-A1BD110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0B3-5D91-4E3C-B9F3-CD42DF0E23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&#20116;&#35762;&#24314;&#31435;&#35780;&#20272;&#26631;&#2093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239240" cy="1371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三节  常用评估标准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362320"/>
            <a:ext cx="6934320" cy="3809880"/>
          </a:xfrm>
          <a:prstGeom prst="roundRect">
            <a:avLst>
              <a:gd name="adj" fmla="val 16667"/>
            </a:avLst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技术可行性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与财政可行性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可行性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行政可操作性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技术可行性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752480"/>
            <a:ext cx="7543800" cy="4343400"/>
          </a:xfrm>
          <a:prstGeom prst="roundRect">
            <a:avLst>
              <a:gd name="adj" fmla="val 16667"/>
            </a:avLst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方案评估的一个标准，衡量方案是否会真的产生预期的效果：符合主要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效率和适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是否会或者是否已经达到预期的效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</a:t>
            </a: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经济与财政可能性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752480"/>
            <a:ext cx="7696080" cy="4419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衡量方案成本即其所产生的收益值的标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学提供的评估标准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净资产变化：资产及其负债变化情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效率：最小成本消耗取得相关收益，社会福利最大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收益分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IAPP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般讨论两个原则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财政平衡原则：谁收益谁付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分配原则：谁穷谁少付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1219320" cy="54104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.</a:t>
            </a: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政治可行性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152280"/>
            <a:ext cx="6400800" cy="6324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可接受性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accep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适当性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appropriateness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：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目标与社会价值是否协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回应性：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responsiveness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是否符合利益相关者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法定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legal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：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现行法律对政策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平：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equity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对不同利益集团的影响，尤其是不同利益集团力量对比和地位对比关系，如给妇女儿童以较高的地位；学生以较高的地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1218960" cy="5562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4.</a:t>
            </a:r>
            <a:r>
              <a:rPr b="1" lang="zh-CN" sz="55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行政可操作性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76320"/>
            <a:ext cx="7086600" cy="6095880"/>
          </a:xfrm>
          <a:prstGeom prst="roundRect">
            <a:avLst>
              <a:gd name="adj" fmla="val 16667"/>
            </a:avLst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行政人员和传递系统需要得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制度上的承诺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 </a:t>
            </a:r>
            <a:r>
              <a:rPr b="0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institutional commitment</a:t>
            </a:r>
            <a:r>
              <a:rPr b="0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高层官员，普通人员，都为政策执行承担责任。工作人员会变通，将不切实际的政策抛弃；把精力集中于执行优选方案必需的组织变革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能力：</a:t>
            </a:r>
            <a:r>
              <a:rPr b="0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capability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工作人员的能力与财政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组织支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/>
          </p:cNvPr>
          <p:cNvSpPr/>
          <p:nvPr/>
        </p:nvSpPr>
        <p:spPr>
          <a:xfrm>
            <a:off x="40384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6300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14455" y="3794"/>
                </a:lnTo>
                <a:lnTo>
                  <a:pt x="14455" y="17806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02:36:44Z</dcterms:modified>
  <cp:revision>14</cp:revision>
  <dc:subject/>
  <dc:title>PowerPoint Presentation</dc:title>
</cp:coreProperties>
</file>