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69B-49D6-4D9E-8E9B-5018FCF3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4EC-27F9-4A38-8E82-16ECCBBC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5EE-B7BA-41A0-B13C-ECDD724F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182-E636-444F-9E0F-4BF6BD1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204-0B4C-4194-96D9-E217367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34B-A24C-4FCA-BD4C-EE99DE6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9A7-73B1-4071-AE82-DEE17040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0D2-C8E0-446A-BEE3-82587332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18B-DE9C-4864-8FE4-366C074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81B-1A14-4F99-835D-A966A2A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8AC-3553-4076-BFCF-A9D653F3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D9B-BB1F-43D2-AF9E-4E410F7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A453-AEAF-4503-A6B8-9F8C919C26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n.rd.yahoo.com/M=234696.2345781.3785295.1690918/D=cn/S=37999823:LREC/A=1233954/R=0/*http://www.gwbn.com.cn/zq/zq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3124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五章建立评估标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建立评估标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305560" cy="38862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皮包厂厂长对门卫说：“注意，千万不要让职工把产品带出厂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门卫每天仔细检查工人的皮包，没有发现问题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后来门卫问厂长：“咱们厂生产什么呀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缺乏评估标准与寻找评估标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657600" cy="419112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鱼对海说：“海啊，你看不见我的泪，我的泪就在水里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海对鱼说：“鱼啊，你看不见我的心，因为你就在我的心里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缺乏明显的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057400"/>
            <a:ext cx="4343400" cy="419112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价格并不一定反映价值，但市场就这么定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价格是综合的，简化的，价值是个别的，复杂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搭便车标准：参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4724640" cy="1371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章内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标准与标准争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经济标准与可行性标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其他常用评估标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200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38862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46483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00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1218960" cy="441972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外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904760"/>
            <a:ext cx="6400800" cy="38862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孙志刚事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对此进行多个角度的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1219320" cy="533412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准变化的不同效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457200"/>
            <a:ext cx="7162560" cy="54864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“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9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日起，首都机场高速路的全程收费不是下调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吗？我的小面全程高速费非但不降，反而由以前的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15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变成了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20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。这到底算不算变相提价？”昨天，读者张先生给本报打来电话。记者就此采访了市物价局、首都高速公路发展有限公司等单位。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6320"/>
            <a:ext cx="9144000" cy="670536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首发”公司负责人强调，小面收费提高是由机场高速从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日起执行新的车型划分标准引起的。而新的车型标准是经过市物价局审批的，绝非“变相提价”。据介绍，机场高速以前一直按照车长来确定车型和收费标准，其中小轿车、吉普车和车长不足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的车都划为小型车，按小型车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收费。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日实行车型新标准后，是按车座、载重量来划分，凡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座以下的客车都属小型车。这样，以前长度不足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但座位是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位的小面，就由“小型车”变成了“中型车”，全程收费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记者随后从京沈、京石、京津塘、八达岭等其他高速了解到，北京市其他高速早已按照车座、载重划分车型了。北京物价局也肯定，机场高速实行的是全市统一的车型划分标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据悉，机场高速实行全市统一车型划分标准后，像“长安之星”和新款“松花江”等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座小面、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座的加长“卡迪拉克”等车型由以前的“小型车”变成“中型车”，收费提高到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；而老款“小面”依据驾驶本上所注座位数，按“小型车”收费；同时“三星”、“福特”等不足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座的子弹头由“中型车”变成“小型车”，高速费则由以前的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5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降为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457200"/>
            <a:ext cx="7696440" cy="47242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机场高速的有关负责人说，由于到机场的小车占“大头”，所以降费的车型也就占了绝大多数。按照目前的统计数字，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月份机场高速路车流量增长幅度相当快，但整体收费仍比以往少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23:53Z</dcterms:created>
  <dc:creator>ipa</dc:creator>
  <dc:description/>
  <dc:language>en-US</dc:language>
  <cp:lastModifiedBy>wyy</cp:lastModifiedBy>
  <dcterms:modified xsi:type="dcterms:W3CDTF">2003-07-20T02:36:49Z</dcterms:modified>
  <cp:revision>334</cp:revision>
  <dc:subject/>
  <dc:title>PowerPoint 演示文稿</dc:title>
</cp:coreProperties>
</file>