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27F7-638B-4D6C-A72A-CA20D80B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2621-9239-4E23-A925-C8AD66A6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6A92-76BA-4F9A-A297-EEDD94CF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6E62-82B2-4051-B402-8511707FD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63A9-02FF-43AC-A469-044BC320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F8D7-63A8-4324-8D0F-7E6D4893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97D7-E29B-45C3-8707-0EDA996F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5E11-F121-4DB6-BA8C-98E6574D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BEFC-B9B3-4962-8575-25FB6D53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8D4C-71B4-435E-B0C8-8140786F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F3F4-BDBF-4491-AC6F-EE42D44B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9FA7-9017-4723-99FE-2A1D7DC8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099D-E7DF-4407-941B-35479CB8BA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299280"/>
            <a:ext cx="9144000" cy="558720"/>
            <a:chOff x="0" y="6299280"/>
            <a:chExt cx="9144000" cy="558720"/>
          </a:xfrm>
        </p:grpSpPr>
        <p:grpSp>
          <p:nvGrpSpPr>
            <p:cNvPr id="6" name=""/>
            <p:cNvGrpSpPr/>
            <p:nvPr/>
          </p:nvGrpSpPr>
          <p:grpSpPr>
            <a:xfrm>
              <a:off x="0" y="6299280"/>
              <a:ext cx="9144000" cy="558720"/>
              <a:chOff x="0" y="6299280"/>
              <a:chExt cx="9144000" cy="558720"/>
            </a:xfrm>
          </p:grpSpPr>
          <p:sp>
            <p:nvSpPr>
              <p:cNvPr id="7" name=""/>
              <p:cNvSpPr/>
              <p:nvPr/>
            </p:nvSpPr>
            <p:spPr>
              <a:xfrm>
                <a:off x="7975800" y="6299280"/>
                <a:ext cx="1168200" cy="558720"/>
              </a:xfrm>
              <a:prstGeom prst="rect">
                <a:avLst/>
              </a:prstGeom>
              <a:solidFill>
                <a:srgbClr val="009b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6299280"/>
                <a:ext cx="8001000" cy="558720"/>
              </a:xfrm>
              <a:prstGeom prst="rect">
                <a:avLst/>
              </a:prstGeom>
              <a:solidFill>
                <a:srgbClr val="0041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2057400" y="6400800"/>
              <a:ext cx="403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>
                  <a:solidFill>
                    <a:srgbClr val="ffff00"/>
                  </a:solidFill>
                  <a:latin typeface="Times New Roman"/>
                  <a:ea typeface="华文中宋"/>
                </a:rPr>
                <a:t>公共政策分析讲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76320" y="25560"/>
            <a:ext cx="9131040" cy="6756120"/>
            <a:chOff x="76320" y="25560"/>
            <a:chExt cx="9131040" cy="6756120"/>
          </a:xfrm>
        </p:grpSpPr>
        <p:sp>
          <p:nvSpPr>
            <p:cNvPr id="11" name=""/>
            <p:cNvSpPr/>
            <p:nvPr/>
          </p:nvSpPr>
          <p:spPr>
            <a:xfrm>
              <a:off x="152280" y="203040"/>
              <a:ext cx="89917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76320" y="25560"/>
              <a:ext cx="9131040" cy="722160"/>
              <a:chOff x="76320" y="25560"/>
              <a:chExt cx="9131040" cy="722160"/>
            </a:xfrm>
          </p:grpSpPr>
          <p:sp>
            <p:nvSpPr>
              <p:cNvPr id="13" name=""/>
              <p:cNvSpPr/>
              <p:nvPr/>
            </p:nvSpPr>
            <p:spPr>
              <a:xfrm>
                <a:off x="76320" y="165240"/>
                <a:ext cx="9131040" cy="1440"/>
              </a:xfrm>
              <a:prstGeom prst="line">
                <a:avLst/>
              </a:prstGeom>
              <a:ln w="12600">
                <a:solidFill>
                  <a:srgbClr val="009b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39680" y="25560"/>
                <a:ext cx="1440" cy="722160"/>
              </a:xfrm>
              <a:prstGeom prst="line">
                <a:avLst/>
              </a:prstGeom>
              <a:ln w="12600">
                <a:solidFill>
                  <a:srgbClr val="009b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" name="image002" descr=""/>
            <p:cNvPicPr/>
            <p:nvPr/>
          </p:nvPicPr>
          <p:blipFill>
            <a:blip r:embed="rId2"/>
            <a:srcRect l="5537" t="4632" r="82671" b="39611"/>
            <a:stretch/>
          </p:blipFill>
          <p:spPr>
            <a:xfrm>
              <a:off x="6324480" y="6400800"/>
              <a:ext cx="243864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31532;&#20116;&#35762;&#24314;&#31435;&#35780;&#20272;&#26631;&#20934;.p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001000" cy="12952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第一节 政策标准与标准争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7391520" cy="3733560"/>
          </a:xfrm>
          <a:prstGeom prst="rect">
            <a:avLst/>
          </a:prstGeom>
          <a:solidFill>
            <a:srgbClr val="e6f4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个人标准争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社会标准争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不同标准争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认同的艰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315200" cy="9144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一、标准争议的例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3120" cy="5105520"/>
          </a:xfrm>
          <a:prstGeom prst="rect">
            <a:avLst/>
          </a:prstGeom>
          <a:solidFill>
            <a:srgbClr val="ffcc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现实世界中最大的问题不是缺少标准，而是争议太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政策评估标准往往引起争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现代社会里最大的争议之一</a:t>
            </a: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效率与公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美国社会最大的政策争议：堕胎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中国社会最大的政策争议：……</a:t>
            </a: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???</a:t>
            </a: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无认知共同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还有一些争议</a:t>
            </a: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不同利益集团的分配效应，如管制自行车，电动自行车，管制了穷人了吗？提高水价，让穷人多付费了吗？</a:t>
            </a:r>
            <a:r>
              <a:rPr b="0" lang="en-US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SARS</a:t>
            </a: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隔离了谁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7543800" cy="8380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二、政治家做的就是搞平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572000"/>
          </a:xfrm>
          <a:prstGeom prst="rect">
            <a:avLst/>
          </a:prstGeom>
          <a:solidFill>
            <a:srgbClr val="e7f7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政治家有自己的利益与价值，但有淡化的倾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政治家为了平衡各个利益集团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往往使自己的政策评估标准模糊化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在不同的冲突的标准面前走钢丝：做违心的事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政策分析家往往同时服务于不同的利益集团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也可能倾向于像政治家那样行事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: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同时奉行战争和和平的价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7162920" cy="7617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三、政策分析要求价值明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solidFill>
            <a:srgbClr val="ffcc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政策分析一定要有明确的价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否则分析就难以进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社会也会产生迷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如，学校对</a:t>
            </a:r>
            <a:r>
              <a:rPr b="0" lang="en-US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SARS</a:t>
            </a: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处理的价值不明确，</a:t>
            </a:r>
            <a:r>
              <a:rPr b="0" lang="en-US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SARS</a:t>
            </a: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至上还是教学至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多样化是重要的</a:t>
            </a: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但即使是多样化</a:t>
            </a: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也是明确的多样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为了处理多样化评估标准的冲突</a:t>
            </a: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很多政策分析家开发了各种各样的解决评价标准冲突的技术性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"/>
          </p:cNvPr>
          <p:cNvSpPr/>
          <p:nvPr/>
        </p:nvSpPr>
        <p:spPr>
          <a:xfrm>
            <a:off x="3886200" y="638964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6291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14446" y="3794"/>
                </a:lnTo>
                <a:lnTo>
                  <a:pt x="14446" y="17806"/>
                </a:lnTo>
                <a:lnTo>
                  <a:pt x="12784" y="17806"/>
                </a:lnTo>
                <a:close/>
              </a:path>
            </a:pathLst>
          </a:custGeom>
          <a:solidFill>
            <a:srgbClr val="00cc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yy</cp:lastModifiedBy>
  <dcterms:modified xsi:type="dcterms:W3CDTF">2003-07-20T06:55:02Z</dcterms:modified>
  <cp:revision>9</cp:revision>
  <dc:subject/>
  <dc:title>PowerPoint Presentation</dc:title>
</cp:coreProperties>
</file>