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6B7-A0E5-41B6-8615-E5BCC893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A44-A9D6-4CA0-ACFE-A04634FC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ED0-18D3-40A2-B31A-8EC83964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327-239A-4737-AC5C-38B0C50E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4CF-BE21-4A09-BE0B-94BB1F2E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F57-2C14-458F-A3F6-C67BC48E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E4C-14E4-492B-BE4C-0687E3C5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685-DF4D-4841-B618-A38C7404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31B-EAA6-4112-BD97-501B0A99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87E-B5F4-471D-83F2-038E8B0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59E-0D0D-4E83-AD8D-3BADCDDA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FEF-19C8-4867-A9A7-EB626801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7DF3-6FE3-41EB-BEEF-C54DEDF448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31532;&#22235;&#35762;&#35748;&#23450;&#19982;&#32454;&#21270;&#38382;&#39064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21932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 问题的陈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4876560" cy="34290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陈述的重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例子：穷人花更多的钱购买健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建立事实依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列出目的和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971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094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问题陈述的重要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界定是基础，问题如何陈述，关系到问题是否为传媒、任务承担者和选民组织关心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陈述很有说服力，可以为重要的问题积聚很多组织资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教育问题如何陈述，才能吸引资源？粮食问题如何陈述，才能引起各方面的关注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沙漠退化问题如何陈述才能吸引资源？让沙风暴来得更猛烈一些吧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科研问题如何陈述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SARS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是如何陈述的呢？危机、突发事件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例子：孙志刚类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思考问题：潜在的问题是什么？个别问题、制度问题、执行问题、违宪问题、赔偿问题？问题拓展与政策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勾画出问题边界的轮廓：说明问题存在的地点，已经出现的时间，以及影响这一问题的历史事件。该问题与其他问题之间的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孙志刚类问题，局限于城市、省还是全国性的？是长期性的还是目前存在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建立事实根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52578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多种途径查阅数据并是用不同的方法进行评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核实数据并将其与已有的事实和基准问题进行比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的陈述将直接影响事实的收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例子：穷人保健费用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贫穷：衡量贫穷的数据、家庭的规模；不同收入类型的家庭与个人的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支付更多：医疗保健支出的定义、如何支付、不同人群支付多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医疗保健：药品、诊费、牙医、预防医疗费用、住院医疗费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8763120" cy="510552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列出政策目的：一般性的目的陈述和目标列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目标陈述的可以衡量，目标衡量也需要陈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保障社会健康是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目标是提高享用机会：付得起医疗保健费用；提高医疗保健质量；降低医疗保健成本；降低低收入人群的医疗保健支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增加疾病预防的出诊次数，减少由于疾病导致的工资损失，降低用于药品和住院医疗的开支，减少低收入家庭在医疗保健和医疗保险方面的开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列出政策目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5943600" cy="9144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策封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839080" cy="50292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确定政策的范围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的范围可能由委托人确定，有时取决于分析者的工作环境，受到时间和可利用的资源的制约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非典穷人的医疗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穷人医疗费用问题，变量有病人或者家庭的支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是否应该包括其他方的支出：住院病人和门诊病人的支出；医院的管理效率；消费者、保险公司和医生的一些做法；医疗保险机构、医疗协会、传媒等是否也在政策范围里呢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领取低保的人享受政府非典治疗补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772400" cy="76176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5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显示潜在的成本和收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4864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用叙述、图表说明相关行动者和利益集团的潜在收益和成本：</a:t>
            </a:r>
            <a:r>
              <a:rPr b="0" lang="en-US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SARS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利益集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集中的问题是什么，理论上如何解决这一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重申假设和分析的限制，让独立的人员发现无意的假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选择：为穷人建立政府支持的医疗保健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穷人通过更好的医疗保健、提高医疗质量收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医院和医生可以从较快的医疗保健付款收益，成本是病人数量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穷人以外的群体：如果现行政策鼓励没有加入医疗保健系统的人加入系统，穷人的收益将外溢，实际情况是政策效应降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095880" cy="8380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非典治理的成本和收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一个官员，一个病人，一个健康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官员不采取隔离措施，病人死亡；健康人可能受感染，健康人死亡；官员即使不死亡，也失去统治基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官员采取隔离措施，健康人拥护；病人拥护，得到及时救治。状况最好，官员维持统治，健康人和病人都健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官员采取隔离措施，病人反对，健康人拥护，强制隔离。结果为次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官员采取隔离措施，病人逃跑，隔离失效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019920" cy="9144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6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申问题陈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的陈述适合行动的需要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的分析具有足够的洞察力，并提出了有关可能的选择之变通办法了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假定医疗成本影响人们医疗：</a:t>
            </a:r>
            <a:r>
              <a:rPr b="0" lang="en-US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SARS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和肺结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解决方案将集中于减轻负担上：免费治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由于并非所有的人都能理解，所以问题界定可能需要包含医疗教育方面的因素：</a:t>
            </a:r>
            <a:r>
              <a:rPr b="0" lang="en-US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SARS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防治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4038480" y="65530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8088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  <a:path fill="darken" w="43175" h="21600">
                <a:moveTo>
                  <a:pt x="14581" y="3794"/>
                </a:moveTo>
                <a:lnTo>
                  <a:pt x="16243" y="3794"/>
                </a:lnTo>
                <a:lnTo>
                  <a:pt x="16243" y="17806"/>
                </a:lnTo>
                <a:lnTo>
                  <a:pt x="14581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20T16:01:51Z</dcterms:modified>
  <cp:revision>15</cp:revision>
  <dc:subject/>
  <dc:title>PowerPoint Presentation</dc:title>
</cp:coreProperties>
</file>