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370-A1C7-415F-80A5-84E69529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96D-0D7D-4A6D-9E08-268263FD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11B-0CF7-4A6C-A953-77B78E2F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986-B657-4E21-847C-79187D91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5F4-240C-4E12-B296-FAD2F13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D53-944F-48A4-86D0-1DB11D0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1B2-BF5F-44A2-85C2-CD7319C9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963-F244-4973-B2FF-92427DE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A03-F99D-4C0D-B237-DDC37E7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9C7-D0F3-49DE-8186-FDF5DED9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A8E-AC63-40B8-ACEC-B2FA972A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8AD-1C64-404E-A4CD-2B4B030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B53-3DA5-4487-B9F3-AB4D3D3B742E}" type="slidenum"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31532;&#22235;&#35762;&#35748;&#23450;&#19982;&#32454;&#21270;&#38382;&#39064;.p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924680" cy="990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  可操作性界定的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3657600" cy="3733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数量化及其适当性检验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虚假关联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3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可操作定义标准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4" name="6376_wallpaper280" descr="&quot;Birthday Roses&quot; © The Image Bank">
            <a:hlinkClick r:id="rId1"/>
          </p:cNvPr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957920" y="2590920"/>
            <a:ext cx="3728880" cy="36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数量化及其适当性检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衡量的可靠性：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用人均每小时收集垃圾的吨数判断垃圾收集系统的效率，适当吗？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用阅读字数评价一个学生的成绩适当吗？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分衡量：可数量化的部分进行量化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部分测量的问题是过于信赖数量而忽视质量标准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能够计量的标准往往优先于不能计量的标准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论文篇数和字数，优先于论文质量评估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间接衡量：不能直接衡量，只能间接地衡量，如教师绩效如何，用学生成绩来衡量；用被引用率来衡量著作和论文的受欢迎程度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5257800" cy="609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虚假关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3337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美国：日本人多的地方，犯罪率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是日本人犯罪率最高吗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方案：控制日本人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中国：外地人多的地方，犯罪率高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是外地人犯罪率高吗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方案：控制和驱赶外地人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河南人的困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河南人惹了谁？什么都与河南人相关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温州人的困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9144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可操作定义的标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用明确的术语表述概念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对数量和质量的测量给与同等的关注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注意额外的成分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尽可能使用原始数据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使用为所要研究的分析对象所收集的数据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只产生能够得到分析对象证实的结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避免从有关群体的数据中推测个体的特性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针对现实中的政治和社会单位制定政策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685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可操作定义例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839080" cy="5715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穷人以取暖补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操作性界定：能源费用在收入中所占比重大，叫穷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家庭：居住在一个单元中的人，户数等与住宅单位数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住宅：分成不同居住区的已经住人或者打算住人的一个房子、一套楼房、单元房或者一间屋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居住者可能是一家人，一个人，和住的两个或者两个以上的家庭，或者合居的特定群体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进一步分析给穷人以住房补贴！！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可操作性定义举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收入界定：采用人口普查的操作性定义，工资、利息、社会保障或者退休收入，公共福利发放数量，离婚后的赡养费或者儿童生活保障金。所有其他现金收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未扣除前的收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扣除之后的收入：个人所得税、社会保障费、工会费、购买债券和健康保险费、养老医疗保险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支付和燃料的定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">
            <a:hlinkClick r:id="rId1"/>
          </p:cNvPr>
          <p:cNvSpPr/>
          <p:nvPr/>
        </p:nvSpPr>
        <p:spPr>
          <a:xfrm>
            <a:off x="4038480" y="6324480"/>
            <a:ext cx="609840" cy="30492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5" h="21600">
                <a:moveTo>
                  <a:pt x="18088" y="10800"/>
                </a:moveTo>
                <a:lnTo>
                  <a:pt x="28594" y="3794"/>
                </a:lnTo>
                <a:lnTo>
                  <a:pt x="28594" y="17806"/>
                </a:lnTo>
                <a:close/>
              </a:path>
              <a:path fill="darken" w="43175" h="21600">
                <a:moveTo>
                  <a:pt x="14581" y="3794"/>
                </a:moveTo>
                <a:lnTo>
                  <a:pt x="16243" y="3794"/>
                </a:lnTo>
                <a:lnTo>
                  <a:pt x="16243" y="17806"/>
                </a:lnTo>
                <a:lnTo>
                  <a:pt x="14581" y="17806"/>
                </a:lnTo>
                <a:close/>
              </a:path>
            </a:pathLst>
          </a:custGeom>
          <a:solidFill>
            <a:srgbClr val="006699"/>
          </a:solidFill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y</cp:lastModifiedBy>
  <dcterms:modified xsi:type="dcterms:W3CDTF">2003-07-20T07:16:37Z</dcterms:modified>
  <cp:revision>12</cp:revision>
  <dc:subject/>
  <dc:title>PowerPoint Presentation</dc:title>
</cp:coreProperties>
</file>