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E38-F607-4554-8A58-7B647958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3AA-57D3-4785-9701-5387623B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74A-9DD5-4B83-A2E8-1947F1EA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5E5-3D13-4FC3-87B3-398ED6F3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BCA-1711-4062-8BC0-A2A867CC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CB7-B5DB-4B2D-A80B-3C8222A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BC9-0C5D-44F5-9432-8B9E8751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8B3-F7F0-4E0B-B694-8A3936A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930-8249-4688-84DA-7F5F4B36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860-B54D-4CD4-8B58-6F6B4C76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5B5-5702-4AC5-BD41-55742CC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311-678D-4C86-9247-5918095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CCA-084C-4D20-B1B0-A8069CFE5A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&#22235;&#35762;&#35748;&#23450;&#19982;&#32454;&#21270;&#38382;&#39064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12444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进行简单快速的计算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331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什么是简单快速计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加减乘除＋边际分析，是简单快速计算的基本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快速查找未知数字的四大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引文出处寻找数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系统的考察或调查收集数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对数字进行推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请专家帮助推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黄河水资源有效配置的简单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SARS</a:t>
            </a: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周期简单计算；肺结核病简单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例子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：地下经济推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定量推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以用电量计算实际经济规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用征税量推测地上经济规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两者相减，就是地下经济规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其他方法推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定性推测：用什么方法推测学位论文不是自己写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用什么方法推测一个人的收入水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例子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推测腐败数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429000" cy="350532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每年查实的腐败资金数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推测查获的比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计算腐败资金总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666880"/>
            <a:ext cx="3429000" cy="3429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问题：如何推测艾滋病人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在你的工作中，有什么数据需要推测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华文新魏"/>
                <a:ea typeface="华文新魏"/>
              </a:rPr>
              <a:t>怎么推测才是准确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例子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吸毒者盗窃数量之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很多毒品研究者、机构都使用一些夸大的数字，比如纽约市海洛因吸食者每年盗窃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亿美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专家推算：检查推测的逻辑，如估计吸毒者数量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*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估计日消费现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检查吸毒者数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检查吸毒者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检查日吸毒资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检查吸毒者的资金来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检查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20-50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亿美元与全部被盗财产的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根据吸毒者盗窃类型分析所有的盗窃行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以纽约市的人口统计数字检查吸毒者的人口统计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6699"/>
                </a:solidFill>
                <a:latin typeface="华文新魏"/>
                <a:ea typeface="华文新魏"/>
              </a:rPr>
              <a:t>检验吸毒人口规模数字的真实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什么喜欢假数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结果表明</a:t>
            </a: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实际数字是人们所常用的数字的十分之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13</a:t>
            </a: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年之后</a:t>
            </a: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,</a:t>
            </a:r>
            <a:r>
              <a:rPr b="0" lang="en-US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Reuter</a:t>
            </a: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再次检验此数字，发现吸毒人数和犯罪人数高估惊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两个原因：推测方法太复杂，很难发现缺陷；人们对高数字感兴趣，不注意其精确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府机构也可能喜欢假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60984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例子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非典病人数字之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81880" cy="579132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人们对数字的感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老百姓对政府的数字不相信，习惯：喜欢政府假数字；若政府提供真数字，反而不习惯，缺少心理宣泄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国际组织不相信中国政府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人们喜欢高数字？不注意其精确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政府机构也可能喜欢假数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非典的传染性，要求无错误操作，要求准确无误的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但诊断标准不同，技术障碍等，难以精确统计非典病人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外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在日常工作中，你是如何估计数字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根据经验，写一个估计某个数字的案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中国的</a:t>
            </a:r>
            <a:r>
              <a:rPr b="0" lang="en-US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GDP</a:t>
            </a: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增长数量高估了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推测：若高估，高估了多少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/>
          </p:cNvPr>
          <p:cNvSpPr/>
          <p:nvPr/>
        </p:nvSpPr>
        <p:spPr>
          <a:xfrm>
            <a:off x="4038480" y="640080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8088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16243" y="3794"/>
                </a:lnTo>
                <a:lnTo>
                  <a:pt x="16243" y="17806"/>
                </a:lnTo>
                <a:lnTo>
                  <a:pt x="14581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07:20:33Z</dcterms:modified>
  <cp:revision>12</cp:revision>
  <dc:subject/>
  <dc:title>PowerPoint Presentation</dc:title>
</cp:coreProperties>
</file>