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A019-060F-46B4-BA84-D2FCBEEB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0419-9CB0-4B67-A77B-E5A11FF1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B193-1E1F-4CD6-8ACA-50D75AFF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B1A3-E5EE-4760-AFFF-123C52AF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BF2E-A640-4B57-AAA1-4D2EE118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6E59-8B87-455B-BAED-C897DE0C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9262-3DF2-4A82-9CD1-B8411455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CAF4-2C35-491E-B137-D545B3D8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F5B3-0B54-4129-8F81-535C3E64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05F0-3A0E-4B1E-8AED-730031EB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1550-FE9B-4EFD-8319-2603D5F0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D1EC-7EF6-4175-AE0A-20B97709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A082-0555-4AC1-96B2-C3B4A662D4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299280"/>
            <a:ext cx="9144000" cy="558720"/>
            <a:chOff x="0" y="6299280"/>
            <a:chExt cx="9144000" cy="558720"/>
          </a:xfrm>
        </p:grpSpPr>
        <p:grpSp>
          <p:nvGrpSpPr>
            <p:cNvPr id="6" name=""/>
            <p:cNvGrpSpPr/>
            <p:nvPr/>
          </p:nvGrpSpPr>
          <p:grpSpPr>
            <a:xfrm>
              <a:off x="0" y="6299280"/>
              <a:ext cx="9144000" cy="558720"/>
              <a:chOff x="0" y="6299280"/>
              <a:chExt cx="9144000" cy="558720"/>
            </a:xfrm>
          </p:grpSpPr>
          <p:sp>
            <p:nvSpPr>
              <p:cNvPr id="7" name=""/>
              <p:cNvSpPr/>
              <p:nvPr/>
            </p:nvSpPr>
            <p:spPr>
              <a:xfrm>
                <a:off x="7975800" y="6299280"/>
                <a:ext cx="1168200" cy="558720"/>
              </a:xfrm>
              <a:prstGeom prst="rect">
                <a:avLst/>
              </a:prstGeom>
              <a:solidFill>
                <a:srgbClr val="009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6299280"/>
                <a:ext cx="8001000" cy="558720"/>
              </a:xfrm>
              <a:prstGeom prst="rect">
                <a:avLst/>
              </a:prstGeom>
              <a:solidFill>
                <a:srgbClr val="0041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2057400" y="6400800"/>
              <a:ext cx="403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ffff00"/>
                  </a:solidFill>
                  <a:latin typeface="Times New Roman"/>
                  <a:ea typeface="华文中宋"/>
                </a:rPr>
                <a:t>公共政策分析讲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76320" y="25560"/>
            <a:ext cx="9131040" cy="6756120"/>
            <a:chOff x="76320" y="25560"/>
            <a:chExt cx="9131040" cy="6756120"/>
          </a:xfrm>
        </p:grpSpPr>
        <p:sp>
          <p:nvSpPr>
            <p:cNvPr id="11" name=""/>
            <p:cNvSpPr/>
            <p:nvPr/>
          </p:nvSpPr>
          <p:spPr>
            <a:xfrm>
              <a:off x="152280" y="203040"/>
              <a:ext cx="8991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6320" y="25560"/>
              <a:ext cx="9131040" cy="722160"/>
              <a:chOff x="76320" y="25560"/>
              <a:chExt cx="9131040" cy="722160"/>
            </a:xfrm>
          </p:grpSpPr>
          <p:sp>
            <p:nvSpPr>
              <p:cNvPr id="13" name=""/>
              <p:cNvSpPr/>
              <p:nvPr/>
            </p:nvSpPr>
            <p:spPr>
              <a:xfrm>
                <a:off x="76320" y="165240"/>
                <a:ext cx="9131040" cy="144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39680" y="25560"/>
                <a:ext cx="1440" cy="72216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" name="image002" descr=""/>
            <p:cNvPicPr/>
            <p:nvPr/>
          </p:nvPicPr>
          <p:blipFill>
            <a:blip r:embed="rId2"/>
            <a:srcRect l="5537" t="4632" r="82671" b="39611"/>
            <a:stretch/>
          </p:blipFill>
          <p:spPr>
            <a:xfrm>
              <a:off x="6324480" y="6400800"/>
              <a:ext cx="243864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31532;&#22235;&#35762;&#35748;&#23450;&#19982;&#32454;&#21270;&#38382;&#39064;.pp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 识别和限定问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问题的个人判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个人问题与社会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3.</a:t>
            </a: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普遍性与严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4.</a:t>
            </a: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标准上升与问题升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5.</a:t>
            </a: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利益集团与问题识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大学改革的利益集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5720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大学教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大学行政官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大学行政人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大学学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大学校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政府：出资者和管理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大学公共资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1905120"/>
            <a:ext cx="4038480" cy="45720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弱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强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次强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弱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没有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强势管理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环境：广泛的舆论空间与认知共同体，强大的竞争环境和机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99036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6.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问题界定的重要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无为也是一种选择，当问题界定发现，进一步采取措施必然引起新的问题时尤其如此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如价格管制，往往引起新的问题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  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粮食问题如何界定？界定错了吗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问题界定是最困难也是最关键的一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往往为分类有无或者根本不存在的问题提出答案，给错误的问题制造正确的答案，或者解决正确的问题太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举一些实际的例子：非典，弱化还是强化，艰难的选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144756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问题界定例子：单位人事冲突问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3733560" cy="381024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时间考察：五年之后必有冲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外观考察：若有冲突，必有损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天真假定：为什么不能化解呢？共同把事情做好呢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2209680"/>
            <a:ext cx="4572000" cy="381024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对策：内部协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人事调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竞争性化解内部压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流动性化解内部冲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距离，产生冲突的空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"/>
          </p:cNvPr>
          <p:cNvSpPr/>
          <p:nvPr/>
        </p:nvSpPr>
        <p:spPr>
          <a:xfrm>
            <a:off x="4038480" y="6248520"/>
            <a:ext cx="609840" cy="30456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26" h="21600">
                <a:moveTo>
                  <a:pt x="0" y="0"/>
                </a:moveTo>
                <a:lnTo>
                  <a:pt x="43226" y="0"/>
                </a:lnTo>
                <a:lnTo>
                  <a:pt x="43226" y="21600"/>
                </a:lnTo>
                <a:lnTo>
                  <a:pt x="0" y="21600"/>
                </a:lnTo>
                <a:close/>
              </a:path>
              <a:path fill="lightenLess" w="43226" h="21600">
                <a:moveTo>
                  <a:pt x="0" y="0"/>
                </a:moveTo>
                <a:lnTo>
                  <a:pt x="43226" y="0"/>
                </a:lnTo>
                <a:lnTo>
                  <a:pt x="41826" y="1400"/>
                </a:lnTo>
                <a:lnTo>
                  <a:pt x="1400" y="1400"/>
                </a:lnTo>
                <a:close/>
              </a:path>
              <a:path fill="darken" w="43226" h="21600">
                <a:moveTo>
                  <a:pt x="43226" y="0"/>
                </a:moveTo>
                <a:lnTo>
                  <a:pt x="43226" y="21600"/>
                </a:lnTo>
                <a:lnTo>
                  <a:pt x="41826" y="20200"/>
                </a:lnTo>
                <a:lnTo>
                  <a:pt x="41826" y="1400"/>
                </a:lnTo>
                <a:close/>
              </a:path>
              <a:path fill="darkenLess" w="43226" h="21600">
                <a:moveTo>
                  <a:pt x="43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6" y="20200"/>
                </a:lnTo>
                <a:close/>
              </a:path>
              <a:path fill="lighten" w="43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26" h="21600">
                <a:moveTo>
                  <a:pt x="18114" y="10800"/>
                </a:moveTo>
                <a:lnTo>
                  <a:pt x="28619" y="3794"/>
                </a:lnTo>
                <a:lnTo>
                  <a:pt x="28619" y="17806"/>
                </a:lnTo>
                <a:close/>
              </a:path>
              <a:path fill="darken" w="43226" h="21600">
                <a:moveTo>
                  <a:pt x="14606" y="3794"/>
                </a:moveTo>
                <a:lnTo>
                  <a:pt x="16269" y="3794"/>
                </a:lnTo>
                <a:lnTo>
                  <a:pt x="16269" y="17806"/>
                </a:lnTo>
                <a:lnTo>
                  <a:pt x="14606" y="17806"/>
                </a:lnTo>
                <a:close/>
              </a:path>
            </a:pathLst>
          </a:custGeom>
          <a:solidFill>
            <a:srgbClr val="00cc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5257800" cy="9144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问题的个人判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95324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个人判断法：个人都面临着各种各样的问题。这些问题，每个人都有自己的判断，并进行政策分析，诉诸行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社会标准研究法：</a:t>
            </a:r>
            <a:r>
              <a:rPr b="0" lang="en-US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social criterion approach</a:t>
            </a:r>
            <a:r>
              <a:rPr b="0" lang="en-US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从社会的角度来判断问题的性质。比如，女大学生可以结婚，但不可以拥抱、接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个人标准：各不相同，有冲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社会标准：道德社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法律标准：性权利、生理权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6858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的重要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感觉非常关键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比如：对穷人的态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一个穷人，可怜同情：采取道德行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两三个穷人，有些害怕：采取收容行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一大批穷人，感到非常可怕：消灭贫困的行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这是对贫穷的感觉：不同的感觉，显然有不同的看法，从而采取不同的政策选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315200" cy="60948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个人问题与社会问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381880" cy="586728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公共政策问题，往往是社会性的问题，即不局限于个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个人问题不见得是社会问题，即使是严重的问题也是如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艾滋病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艾滋病，在过去往往被认为是个人问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影响越来越多的人，包括婴儿、小孩、名流，艾滋病开始成为社会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艾滋病问题，已经成为公共政策研究的重要领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非典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开始时是个人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然后是医院防护问题：感染医护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然后是政治稳定问题：政治交接班，两会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然后是国际问题：香港、越南、加拿大、美国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然后是外交问题与内政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非典为什么比艾滋病更严重？与选择机制有什么关系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638680" cy="60948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普遍性与严重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153640" cy="533376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普遍的问题并不是严重的问题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普遍的问题也不见得是共同的问题，不要一致解决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如上下班需要花很长时间，是普遍的问题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解决这一问题，将需要付出更大的代价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例子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贫困问题普遍存在，但是否是严重的问题呢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非典：不普遍但很严重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进一步的问题：什么是普遍性的问题，什么是严重的问题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从事实举若干例子？？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标准上升与问题升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5720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贫困的标准是中等收入的一半，这是相对标准，不断上升，总是有人处于贫困状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绝对数：吃住穿的标准，问题在减少，但相对标准增长，问题似乎比过去越来越严重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1905120"/>
            <a:ext cx="3733920" cy="45720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大跃进的时候大家都很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但现在贫困问题却越来越突出，尤其是城市贫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城市贫困问题是如何确定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5105520" cy="99036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标准上升或者变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3733920" cy="365760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北京的膀爷问题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公园凳子占用问题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银行一米线问题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自行车税费问题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2895480"/>
            <a:ext cx="4038480" cy="358164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膀爷的对策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公园凳子问题对策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银行一米线问题对策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自行车税费问题对策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5.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利益集团与政策后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个人或者群体获得了直接利益，但社会利益受到净损失：渔场问题、地下水困境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委托人和政策制定者偏好狭隘的问题定义，往往忽视未来的收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政策分析家的责任是了解相关政策的所有效应，尤其是对公共利益以及第三方利益的效应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贫困：因贫困而变得有理？？？贫困利益集团</a:t>
            </a: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物业管理中的利益集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381024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兴高采烈的业主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弱势利益集团：人多，交易成本高；法规不健全，保护不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开发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政府行政部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物业管理公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2057400"/>
            <a:ext cx="3733920" cy="380988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公安机关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公用事业部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居委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地方性法规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中央法规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yy</cp:lastModifiedBy>
  <dcterms:modified xsi:type="dcterms:W3CDTF">2003-07-20T15:59:38Z</dcterms:modified>
  <cp:revision>17</cp:revision>
  <dc:subject/>
  <dc:title>PowerPoint Presentation</dc:title>
</cp:coreProperties>
</file>