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492-3A70-4215-8E9D-5F51E2AC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90C-6041-43D0-B714-04A6F1DB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63B-2FB3-4A7D-AEB7-A51C4D06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F5D-CCFA-4B17-8629-583C0E32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7D4-330C-4ADE-99B7-59E61A32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FA6-7C0F-45F3-873F-76B1782A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DC9-FFB5-4945-9F0C-783EF4C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D5F-9C1B-4F0A-B11D-2522D3D0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5EC-6897-4B57-8CE6-2D87F519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F71-094B-4DCF-AA58-BBCE685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0F7-447E-4DB2-BA59-8735A54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EC2-DBF8-4332-A679-FA9861E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CB0-CE90-4EEA-BC13-EF4FF03B4F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&#22235;&#35762;&#35748;&#23450;&#19982;&#32454;&#21270;&#38382;&#3906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决策树与快速决策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快速决策分析与研究性分析相对，在时间上适应紧迫的决策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决策树是一个比较简单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实际过程中可以做得更加复杂一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两个简单的决策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决策树：快速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914400" cy="6098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572000"/>
            <a:ext cx="7617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50532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10552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5334120"/>
            <a:ext cx="0" cy="761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609588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3809520"/>
            <a:ext cx="1219320" cy="762120"/>
            <a:chOff x="3657600" y="3809520"/>
            <a:chExt cx="1219320" cy="762120"/>
          </a:xfrm>
        </p:grpSpPr>
        <p:sp>
          <p:nvSpPr>
            <p:cNvPr id="62" name=""/>
            <p:cNvSpPr/>
            <p:nvPr/>
          </p:nvSpPr>
          <p:spPr>
            <a:xfrm flipV="1">
              <a:off x="3657600" y="3809520"/>
              <a:ext cx="0" cy="762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3809880"/>
              <a:ext cx="1219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76920" y="5715000"/>
            <a:ext cx="533160" cy="609480"/>
            <a:chOff x="4876920" y="5715000"/>
            <a:chExt cx="533160" cy="609480"/>
          </a:xfrm>
        </p:grpSpPr>
        <p:sp>
          <p:nvSpPr>
            <p:cNvPr id="65" name=""/>
            <p:cNvSpPr/>
            <p:nvPr/>
          </p:nvSpPr>
          <p:spPr>
            <a:xfrm flipV="1">
              <a:off x="4952880" y="5715000"/>
              <a:ext cx="456840" cy="380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6095880"/>
              <a:ext cx="533160" cy="22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10080" y="5715000"/>
              <a:ext cx="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876920" y="3429000"/>
            <a:ext cx="533160" cy="609480"/>
            <a:chOff x="4876920" y="3429000"/>
            <a:chExt cx="533160" cy="609480"/>
          </a:xfrm>
        </p:grpSpPr>
        <p:sp>
          <p:nvSpPr>
            <p:cNvPr id="69" name=""/>
            <p:cNvSpPr/>
            <p:nvPr/>
          </p:nvSpPr>
          <p:spPr>
            <a:xfrm flipV="1">
              <a:off x="4952880" y="3429000"/>
              <a:ext cx="456840" cy="380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3809880"/>
              <a:ext cx="533160" cy="22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0080" y="3429000"/>
              <a:ext cx="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flipV="1">
            <a:off x="1143000" y="22093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209680"/>
            <a:ext cx="33526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495680" y="1828800"/>
            <a:ext cx="533520" cy="609480"/>
            <a:chOff x="4495680" y="1828800"/>
            <a:chExt cx="533520" cy="609480"/>
          </a:xfrm>
        </p:grpSpPr>
        <p:sp>
          <p:nvSpPr>
            <p:cNvPr id="75" name=""/>
            <p:cNvSpPr/>
            <p:nvPr/>
          </p:nvSpPr>
          <p:spPr>
            <a:xfrm flipV="1">
              <a:off x="4572000" y="1828800"/>
              <a:ext cx="457200" cy="380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2209680"/>
              <a:ext cx="533520" cy="22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28800"/>
              <a:ext cx="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7652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无风险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有风险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结果确定，中间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成功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6248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失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-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最优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867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最差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3048120"/>
            <a:ext cx="914400" cy="6094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决策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4724280"/>
            <a:ext cx="7621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657600"/>
            <a:ext cx="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257800"/>
            <a:ext cx="2133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48640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2485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33920" y="3962520"/>
            <a:ext cx="1218960" cy="761760"/>
            <a:chOff x="3733920" y="3962520"/>
            <a:chExt cx="1218960" cy="761760"/>
          </a:xfrm>
        </p:grpSpPr>
        <p:sp>
          <p:nvSpPr>
            <p:cNvPr id="92" name=""/>
            <p:cNvSpPr/>
            <p:nvPr/>
          </p:nvSpPr>
          <p:spPr>
            <a:xfrm flipV="1">
              <a:off x="3733920" y="3962520"/>
              <a:ext cx="0" cy="761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3920" y="3962520"/>
              <a:ext cx="12189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952880" y="5866920"/>
            <a:ext cx="533520" cy="610200"/>
            <a:chOff x="4952880" y="5866920"/>
            <a:chExt cx="533520" cy="610200"/>
          </a:xfrm>
        </p:grpSpPr>
        <p:sp>
          <p:nvSpPr>
            <p:cNvPr id="95" name=""/>
            <p:cNvSpPr/>
            <p:nvPr/>
          </p:nvSpPr>
          <p:spPr>
            <a:xfrm flipV="1">
              <a:off x="5029200" y="5866920"/>
              <a:ext cx="457200" cy="381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880" y="6248520"/>
              <a:ext cx="53352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5867280"/>
              <a:ext cx="0" cy="609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52880" y="3580920"/>
            <a:ext cx="533520" cy="610200"/>
            <a:chOff x="4952880" y="3580920"/>
            <a:chExt cx="533520" cy="610200"/>
          </a:xfrm>
        </p:grpSpPr>
        <p:sp>
          <p:nvSpPr>
            <p:cNvPr id="99" name=""/>
            <p:cNvSpPr/>
            <p:nvPr/>
          </p:nvSpPr>
          <p:spPr>
            <a:xfrm flipV="1">
              <a:off x="5029200" y="3580920"/>
              <a:ext cx="457200" cy="381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52880" y="3962520"/>
              <a:ext cx="533520" cy="228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447920" y="4724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减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4290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发 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6400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开发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-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657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第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6019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最差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219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752480"/>
            <a:ext cx="0" cy="129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752480"/>
            <a:ext cx="21337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981080"/>
            <a:ext cx="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7432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657600" y="456840"/>
            <a:ext cx="1219320" cy="762120"/>
            <a:chOff x="3657600" y="456840"/>
            <a:chExt cx="1219320" cy="762120"/>
          </a:xfrm>
        </p:grpSpPr>
        <p:sp>
          <p:nvSpPr>
            <p:cNvPr id="113" name=""/>
            <p:cNvSpPr/>
            <p:nvPr/>
          </p:nvSpPr>
          <p:spPr>
            <a:xfrm flipV="1">
              <a:off x="3657600" y="456840"/>
              <a:ext cx="0" cy="762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457200"/>
              <a:ext cx="1219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76920" y="2362320"/>
            <a:ext cx="533160" cy="609480"/>
            <a:chOff x="4876920" y="2362320"/>
            <a:chExt cx="533160" cy="609480"/>
          </a:xfrm>
        </p:grpSpPr>
        <p:sp>
          <p:nvSpPr>
            <p:cNvPr id="116" name=""/>
            <p:cNvSpPr/>
            <p:nvPr/>
          </p:nvSpPr>
          <p:spPr>
            <a:xfrm flipV="1">
              <a:off x="4952880" y="2362320"/>
              <a:ext cx="456840" cy="380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2743200"/>
              <a:ext cx="533160" cy="22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2362320"/>
              <a:ext cx="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76920" y="76320"/>
            <a:ext cx="533160" cy="609480"/>
            <a:chOff x="4876920" y="76320"/>
            <a:chExt cx="533160" cy="609480"/>
          </a:xfrm>
        </p:grpSpPr>
        <p:sp>
          <p:nvSpPr>
            <p:cNvPr id="120" name=""/>
            <p:cNvSpPr/>
            <p:nvPr/>
          </p:nvSpPr>
          <p:spPr>
            <a:xfrm flipV="1">
              <a:off x="4952880" y="76320"/>
              <a:ext cx="456840" cy="380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6920" y="457200"/>
              <a:ext cx="533160" cy="2282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10080" y="76320"/>
              <a:ext cx="0" cy="6094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37160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减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-763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发 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8954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开发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-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152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最优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第三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/>
          </p:cNvPr>
          <p:cNvSpPr/>
          <p:nvPr/>
        </p:nvSpPr>
        <p:spPr>
          <a:xfrm>
            <a:off x="7924680" y="640080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8088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16243" y="3794"/>
                </a:lnTo>
                <a:lnTo>
                  <a:pt x="16243" y="17806"/>
                </a:lnTo>
                <a:lnTo>
                  <a:pt x="14581" y="17806"/>
                </a:lnTo>
                <a:close/>
              </a:path>
            </a:pathLst>
          </a:custGeom>
          <a:solidFill>
            <a:srgbClr val="00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19T07:19:53Z</dcterms:modified>
  <cp:revision>5</cp:revision>
  <dc:subject/>
  <dc:title>PowerPoint Presentation</dc:title>
</cp:coreProperties>
</file>