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F1C-240A-4477-8EE9-302B81B5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26A-BEE4-4F65-9888-4419939D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19B-713E-4B44-A0F1-BB41AF40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BBA-A75D-4938-B74F-C916052F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441-8ED5-420C-91CF-A6270CC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06E-62BC-471A-B089-14835A9C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5AB-2122-4D5C-8A04-0DF5DF2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1F4-DA8F-46DF-866F-112FF2A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9B3-9148-493E-A5AE-0800673C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6A1-5686-47D8-A591-7972A17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991-668E-4AD0-941A-0F3428F7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3CB-B9E8-4803-8DBB-190EF7E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8A01-9087-4417-B91A-AA91AF34D4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31867;&#22411;&#12289;&#36807;&#31243;&#19982;&#26041;&#27861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快速政策</a:t>
            </a:r>
            <a:br>
              <a:rPr sz="5500"/>
            </a:br>
            <a:r>
              <a:rPr b="1" lang="zh-CN" sz="55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分析要领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快速分析的必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572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人员面临着约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人员有局限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政标准的迫切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研究基础上开发快速分析的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981080"/>
            <a:ext cx="350496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分析者所面临的约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572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委托人的意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于分析材料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影响决策的专业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的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获取方面的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1981080"/>
            <a:ext cx="350496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分析人员的局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很难要求自然科学家利用现有的资料作出迅速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很难要求人文社会科学家利用标准的科学方法处理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很多场合，分析家唯一能做的是就能够得到的资料进行快速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行政标准：快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好的行政官员总是能迅速地行动而且常常是正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日常生活中一样，政府作决定的步子通常是很快的，犹豫的人将会失去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共政策分析课程，目的就是培养快速政策分析所需要的技巧，同时具备慢速完备研究所需要的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快速决策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简单的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决策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成本和利润作淡化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实现快速决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备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、资金有限，需要快速决策，但更需要平时未雨绸缪，并培养分析的预见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简单计算和初步做表，并不意味着排斥用尽所有的数据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/>
          </p:cNvPr>
          <p:cNvSpPr/>
          <p:nvPr/>
        </p:nvSpPr>
        <p:spPr>
          <a:xfrm>
            <a:off x="4114800" y="63244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2-07-19T02:16:23Z</dcterms:modified>
  <cp:revision>6</cp:revision>
  <dc:subject/>
  <dc:title>PowerPoint Presentation</dc:title>
</cp:coreProperties>
</file>