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113-BE0B-4317-9D88-2B13361C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262-B6E6-4567-B3E3-E44E3D10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F3E-6E0A-47B2-8D31-5E723F71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C2B-2220-4A1E-9DA8-B7371841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2F6-0C22-4B2A-909E-5E6BA0E7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607-D2D5-4982-97DB-EDA64AEB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316-DBF6-4BE8-943C-B0EF764D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F5C-6B4E-4662-82B8-F15E07DB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614-3EF4-4494-B7C8-169509CC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704-79E2-4BBF-9CF9-CCE4B160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1617-9F4B-472F-959A-972FABD3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0F4D-DE2C-4D7A-9ACC-76FEC5E3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807D-3E38-4F22-81CC-52B3939DA0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MPA</a:t>
              </a: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课程之公共政策分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31532;&#19968;&#33410;&#25919;&#31574;&#20998;&#26512;&#30340;&#31867;&#22411;.ppt" TargetMode="External"/><Relationship Id="rId2" Type="http://schemas.openxmlformats.org/officeDocument/2006/relationships/hyperlink" Target="file:///&#31532;&#19977;&#33410;&#25919;&#31574;&#20998;&#26512;&#30340;&#22522;&#26412;&#35201;&#39046;.ppt" TargetMode="External"/><Relationship Id="rId3" Type="http://schemas.openxmlformats.org/officeDocument/2006/relationships/hyperlink" Target="file:///&#31532;&#22235;&#33410;&#24555;&#36895;&#25919;&#31574;&#20998;&#26512;&#35201;&#39046;.ppt" TargetMode="External"/><Relationship Id="rId4" Type="http://schemas.openxmlformats.org/officeDocument/2006/relationships/hyperlink" Target="file:///&#31532;&#20108;&#33410;&#25919;&#31574;&#20998;&#26512;&#36807;&#31243;&#27169;&#22411;.ppt" TargetMode="External"/><Relationship Id="rId5" Type="http://schemas.openxmlformats.org/officeDocument/2006/relationships/hyperlink" Target="file:///&#31532;&#20116;&#33410;&#22522;&#26412;&#25216;&#26415;&#26041;&#27861;.ppt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743200"/>
            <a:ext cx="39625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99"/>
                </a:solidFill>
                <a:latin typeface="Book Antiqua"/>
                <a:ea typeface="华文新魏"/>
              </a:rPr>
              <a:t>公共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99"/>
                </a:solidFill>
                <a:latin typeface="Book Antiqua"/>
                <a:ea typeface="华文新魏"/>
              </a:rPr>
              <a:t>政策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ffbff"/>
                </a:solidFill>
                <a:latin typeface="Times New Roman"/>
                <a:ea typeface="华文新魏"/>
              </a:rPr>
              <a:t>你相信：眼睛还是头脑？经验还是知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305560" cy="221004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讲  政策分析的类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型、过程与方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1143000" cy="259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</a:rPr>
              <a:t>提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华文新魏"/>
              </a:rPr>
              <a:t>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781680" cy="4419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政策分析的类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政策分析的过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政策分析的基本要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快速政策分析要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政策分析的基本技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/>
          </p:cNvPr>
          <p:cNvSpPr/>
          <p:nvPr/>
        </p:nvSpPr>
        <p:spPr>
          <a:xfrm>
            <a:off x="8534520" y="2209680"/>
            <a:ext cx="152280" cy="15264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00" y="20251"/>
                </a:lnTo>
                <a:lnTo>
                  <a:pt x="20200" y="140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400" y="20251"/>
                </a:lnTo>
                <a:lnTo>
                  <a:pt x="20200" y="2025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1"/>
                </a:lnTo>
                <a:close/>
              </a:path>
              <a:path fill="darken" w="21600" h="21651">
                <a:moveTo>
                  <a:pt x="3794" y="3819"/>
                </a:moveTo>
                <a:lnTo>
                  <a:pt x="17806" y="10825"/>
                </a:lnTo>
                <a:lnTo>
                  <a:pt x="3794" y="17832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"/>
          </p:cNvPr>
          <p:cNvSpPr/>
          <p:nvPr/>
        </p:nvSpPr>
        <p:spPr>
          <a:xfrm>
            <a:off x="8534520" y="373392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"/>
          </p:cNvPr>
          <p:cNvSpPr/>
          <p:nvPr/>
        </p:nvSpPr>
        <p:spPr>
          <a:xfrm>
            <a:off x="8534520" y="45720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4"/>
          </p:cNvPr>
          <p:cNvSpPr/>
          <p:nvPr/>
        </p:nvSpPr>
        <p:spPr>
          <a:xfrm>
            <a:off x="8534520" y="29718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5"/>
          </p:cNvPr>
          <p:cNvSpPr/>
          <p:nvPr/>
        </p:nvSpPr>
        <p:spPr>
          <a:xfrm>
            <a:off x="8534520" y="5410080"/>
            <a:ext cx="152280" cy="15264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00" y="20251"/>
                </a:lnTo>
                <a:lnTo>
                  <a:pt x="20200" y="140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400" y="20251"/>
                </a:lnTo>
                <a:lnTo>
                  <a:pt x="20200" y="2025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1"/>
                </a:lnTo>
                <a:close/>
              </a:path>
              <a:path fill="darken" w="21600" h="21651">
                <a:moveTo>
                  <a:pt x="3794" y="3819"/>
                </a:moveTo>
                <a:lnTo>
                  <a:pt x="17806" y="10825"/>
                </a:lnTo>
                <a:lnTo>
                  <a:pt x="3794" y="17832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6477120" cy="76212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后作业：政策分析报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华文新魏"/>
                <a:ea typeface="华文新魏"/>
              </a:rPr>
              <a:t>举出一个当地政府当前所关心的公共问题，如非典问题，分析其作为公共问题的性质，以及用理性分析模型做政策分析的潜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华文新魏"/>
                <a:ea typeface="华文新魏"/>
              </a:rPr>
              <a:t>1000</a:t>
            </a:r>
            <a:r>
              <a:rPr b="1" lang="zh-CN" sz="4000" spc="-1" strike="noStrike">
                <a:solidFill>
                  <a:srgbClr val="006699"/>
                </a:solidFill>
                <a:latin typeface="华文新魏"/>
                <a:ea typeface="华文新魏"/>
              </a:rPr>
              <a:t>字左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4572000"/>
            <a:ext cx="2590920" cy="1639440"/>
            <a:chOff x="0" y="4572000"/>
            <a:chExt cx="2590920" cy="1639440"/>
          </a:xfrm>
        </p:grpSpPr>
        <p:grpSp>
          <p:nvGrpSpPr>
            <p:cNvPr id="67" name=""/>
            <p:cNvGrpSpPr/>
            <p:nvPr/>
          </p:nvGrpSpPr>
          <p:grpSpPr>
            <a:xfrm>
              <a:off x="0" y="4574160"/>
              <a:ext cx="2332800" cy="1637280"/>
              <a:chOff x="0" y="4574160"/>
              <a:chExt cx="2332800" cy="163728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0" y="4574160"/>
                <a:ext cx="1301400" cy="1637280"/>
                <a:chOff x="0" y="4574160"/>
                <a:chExt cx="1301400" cy="163728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0" y="4926600"/>
                  <a:ext cx="1301400" cy="1284840"/>
                  <a:chOff x="0" y="4926600"/>
                  <a:chExt cx="1301400" cy="1284840"/>
                </a:xfrm>
              </p:grpSpPr>
              <p:grpSp>
                <p:nvGrpSpPr>
                  <p:cNvPr id="70" name=""/>
                  <p:cNvGrpSpPr/>
                  <p:nvPr/>
                </p:nvGrpSpPr>
                <p:grpSpPr>
                  <a:xfrm>
                    <a:off x="0" y="5146920"/>
                    <a:ext cx="562680" cy="1059120"/>
                    <a:chOff x="0" y="5146920"/>
                    <a:chExt cx="562680" cy="1059120"/>
                  </a:xfrm>
                </p:grpSpPr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0" y="5146920"/>
                      <a:ext cx="562680" cy="105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2" h="4372">
                          <a:moveTo>
                            <a:pt x="1806" y="4372"/>
                          </a:moveTo>
                          <a:lnTo>
                            <a:pt x="1469" y="4168"/>
                          </a:lnTo>
                          <a:lnTo>
                            <a:pt x="1211" y="3980"/>
                          </a:lnTo>
                          <a:lnTo>
                            <a:pt x="973" y="3729"/>
                          </a:lnTo>
                          <a:lnTo>
                            <a:pt x="774" y="3510"/>
                          </a:lnTo>
                          <a:lnTo>
                            <a:pt x="576" y="3259"/>
                          </a:lnTo>
                          <a:lnTo>
                            <a:pt x="437" y="2993"/>
                          </a:lnTo>
                          <a:lnTo>
                            <a:pt x="338" y="2664"/>
                          </a:lnTo>
                          <a:lnTo>
                            <a:pt x="238" y="2303"/>
                          </a:lnTo>
                          <a:lnTo>
                            <a:pt x="199" y="2052"/>
                          </a:lnTo>
                          <a:lnTo>
                            <a:pt x="179" y="1739"/>
                          </a:lnTo>
                          <a:lnTo>
                            <a:pt x="179" y="1410"/>
                          </a:lnTo>
                          <a:lnTo>
                            <a:pt x="179" y="1159"/>
                          </a:lnTo>
                          <a:lnTo>
                            <a:pt x="199" y="862"/>
                          </a:lnTo>
                          <a:lnTo>
                            <a:pt x="199" y="595"/>
                          </a:lnTo>
                          <a:lnTo>
                            <a:pt x="119" y="329"/>
                          </a:lnTo>
                          <a:lnTo>
                            <a:pt x="0" y="0"/>
                          </a:lnTo>
                          <a:lnTo>
                            <a:pt x="338" y="313"/>
                          </a:lnTo>
                          <a:lnTo>
                            <a:pt x="476" y="564"/>
                          </a:lnTo>
                          <a:lnTo>
                            <a:pt x="596" y="767"/>
                          </a:lnTo>
                          <a:lnTo>
                            <a:pt x="715" y="1081"/>
                          </a:lnTo>
                          <a:lnTo>
                            <a:pt x="794" y="1473"/>
                          </a:lnTo>
                          <a:lnTo>
                            <a:pt x="834" y="1786"/>
                          </a:lnTo>
                          <a:lnTo>
                            <a:pt x="834" y="2052"/>
                          </a:lnTo>
                          <a:lnTo>
                            <a:pt x="893" y="2397"/>
                          </a:lnTo>
                          <a:lnTo>
                            <a:pt x="953" y="2695"/>
                          </a:lnTo>
                          <a:lnTo>
                            <a:pt x="1092" y="2946"/>
                          </a:lnTo>
                          <a:lnTo>
                            <a:pt x="1250" y="3228"/>
                          </a:lnTo>
                          <a:lnTo>
                            <a:pt x="1469" y="3510"/>
                          </a:lnTo>
                          <a:lnTo>
                            <a:pt x="1707" y="3808"/>
                          </a:lnTo>
                          <a:lnTo>
                            <a:pt x="1965" y="4105"/>
                          </a:lnTo>
                          <a:lnTo>
                            <a:pt x="2302" y="4372"/>
                          </a:lnTo>
                          <a:lnTo>
                            <a:pt x="1806" y="4372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91800" y="5325480"/>
                      <a:ext cx="266760" cy="77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2" h="3213">
                          <a:moveTo>
                            <a:pt x="0" y="0"/>
                          </a:moveTo>
                          <a:lnTo>
                            <a:pt x="40" y="267"/>
                          </a:lnTo>
                          <a:lnTo>
                            <a:pt x="60" y="502"/>
                          </a:lnTo>
                          <a:lnTo>
                            <a:pt x="60" y="784"/>
                          </a:lnTo>
                          <a:lnTo>
                            <a:pt x="60" y="1003"/>
                          </a:lnTo>
                          <a:lnTo>
                            <a:pt x="139" y="1379"/>
                          </a:lnTo>
                          <a:lnTo>
                            <a:pt x="238" y="1740"/>
                          </a:lnTo>
                          <a:lnTo>
                            <a:pt x="338" y="2053"/>
                          </a:lnTo>
                          <a:lnTo>
                            <a:pt x="457" y="2382"/>
                          </a:lnTo>
                          <a:lnTo>
                            <a:pt x="715" y="2821"/>
                          </a:lnTo>
                          <a:lnTo>
                            <a:pt x="1092" y="3213"/>
                          </a:lnTo>
                          <a:lnTo>
                            <a:pt x="794" y="2758"/>
                          </a:lnTo>
                          <a:lnTo>
                            <a:pt x="556" y="2429"/>
                          </a:lnTo>
                          <a:lnTo>
                            <a:pt x="357" y="1928"/>
                          </a:lnTo>
                          <a:lnTo>
                            <a:pt x="278" y="1599"/>
                          </a:lnTo>
                          <a:lnTo>
                            <a:pt x="159" y="1254"/>
                          </a:lnTo>
                          <a:lnTo>
                            <a:pt x="119" y="893"/>
                          </a:lnTo>
                          <a:lnTo>
                            <a:pt x="99" y="6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3" name=""/>
                  <p:cNvSpPr/>
                  <p:nvPr/>
                </p:nvSpPr>
                <p:spPr>
                  <a:xfrm>
                    <a:off x="436320" y="5008320"/>
                    <a:ext cx="13680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61" h="4936">
                        <a:moveTo>
                          <a:pt x="283" y="0"/>
                        </a:moveTo>
                        <a:lnTo>
                          <a:pt x="238" y="119"/>
                        </a:lnTo>
                        <a:lnTo>
                          <a:pt x="189" y="287"/>
                        </a:lnTo>
                        <a:lnTo>
                          <a:pt x="144" y="455"/>
                        </a:lnTo>
                        <a:lnTo>
                          <a:pt x="109" y="628"/>
                        </a:lnTo>
                        <a:lnTo>
                          <a:pt x="85" y="824"/>
                        </a:lnTo>
                        <a:lnTo>
                          <a:pt x="65" y="1034"/>
                        </a:lnTo>
                        <a:lnTo>
                          <a:pt x="40" y="1298"/>
                        </a:lnTo>
                        <a:lnTo>
                          <a:pt x="25" y="1520"/>
                        </a:lnTo>
                        <a:lnTo>
                          <a:pt x="5" y="1927"/>
                        </a:lnTo>
                        <a:lnTo>
                          <a:pt x="0" y="2093"/>
                        </a:lnTo>
                        <a:lnTo>
                          <a:pt x="5" y="2272"/>
                        </a:lnTo>
                        <a:lnTo>
                          <a:pt x="5" y="2453"/>
                        </a:lnTo>
                        <a:lnTo>
                          <a:pt x="10" y="2661"/>
                        </a:lnTo>
                        <a:lnTo>
                          <a:pt x="35" y="2978"/>
                        </a:lnTo>
                        <a:lnTo>
                          <a:pt x="55" y="3178"/>
                        </a:lnTo>
                        <a:lnTo>
                          <a:pt x="65" y="3337"/>
                        </a:lnTo>
                        <a:lnTo>
                          <a:pt x="99" y="3593"/>
                        </a:lnTo>
                        <a:lnTo>
                          <a:pt x="129" y="3797"/>
                        </a:lnTo>
                        <a:lnTo>
                          <a:pt x="174" y="4032"/>
                        </a:lnTo>
                        <a:lnTo>
                          <a:pt x="223" y="4262"/>
                        </a:lnTo>
                        <a:lnTo>
                          <a:pt x="263" y="4444"/>
                        </a:lnTo>
                        <a:lnTo>
                          <a:pt x="293" y="4608"/>
                        </a:lnTo>
                        <a:lnTo>
                          <a:pt x="323" y="4753"/>
                        </a:lnTo>
                        <a:lnTo>
                          <a:pt x="362" y="4936"/>
                        </a:lnTo>
                        <a:lnTo>
                          <a:pt x="561" y="4936"/>
                        </a:lnTo>
                        <a:lnTo>
                          <a:pt x="531" y="4835"/>
                        </a:lnTo>
                        <a:lnTo>
                          <a:pt x="491" y="4671"/>
                        </a:lnTo>
                        <a:lnTo>
                          <a:pt x="462" y="4526"/>
                        </a:lnTo>
                        <a:lnTo>
                          <a:pt x="422" y="4356"/>
                        </a:lnTo>
                        <a:lnTo>
                          <a:pt x="387" y="4169"/>
                        </a:lnTo>
                        <a:lnTo>
                          <a:pt x="343" y="3949"/>
                        </a:lnTo>
                        <a:lnTo>
                          <a:pt x="308" y="3758"/>
                        </a:lnTo>
                        <a:lnTo>
                          <a:pt x="288" y="3593"/>
                        </a:lnTo>
                        <a:lnTo>
                          <a:pt x="248" y="3311"/>
                        </a:lnTo>
                        <a:lnTo>
                          <a:pt x="223" y="3119"/>
                        </a:lnTo>
                        <a:lnTo>
                          <a:pt x="204" y="2883"/>
                        </a:lnTo>
                        <a:lnTo>
                          <a:pt x="184" y="2732"/>
                        </a:lnTo>
                        <a:lnTo>
                          <a:pt x="174" y="2504"/>
                        </a:lnTo>
                        <a:lnTo>
                          <a:pt x="174" y="2234"/>
                        </a:lnTo>
                        <a:lnTo>
                          <a:pt x="174" y="2046"/>
                        </a:lnTo>
                        <a:lnTo>
                          <a:pt x="184" y="1833"/>
                        </a:lnTo>
                        <a:lnTo>
                          <a:pt x="204" y="1441"/>
                        </a:lnTo>
                        <a:lnTo>
                          <a:pt x="223" y="1145"/>
                        </a:lnTo>
                        <a:lnTo>
                          <a:pt x="243" y="893"/>
                        </a:lnTo>
                        <a:lnTo>
                          <a:pt x="253" y="738"/>
                        </a:lnTo>
                        <a:lnTo>
                          <a:pt x="288" y="569"/>
                        </a:lnTo>
                        <a:lnTo>
                          <a:pt x="328" y="389"/>
                        </a:lnTo>
                        <a:lnTo>
                          <a:pt x="377" y="209"/>
                        </a:lnTo>
                        <a:lnTo>
                          <a:pt x="442" y="15"/>
                        </a:lnTo>
                        <a:lnTo>
                          <a:pt x="283" y="0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462960" y="4926600"/>
                    <a:ext cx="1706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391">
                        <a:moveTo>
                          <a:pt x="0" y="0"/>
                        </a:moveTo>
                        <a:lnTo>
                          <a:pt x="14" y="63"/>
                        </a:lnTo>
                        <a:lnTo>
                          <a:pt x="67" y="122"/>
                        </a:lnTo>
                        <a:lnTo>
                          <a:pt x="159" y="151"/>
                        </a:lnTo>
                        <a:lnTo>
                          <a:pt x="200" y="162"/>
                        </a:lnTo>
                        <a:lnTo>
                          <a:pt x="191" y="215"/>
                        </a:lnTo>
                        <a:lnTo>
                          <a:pt x="169" y="296"/>
                        </a:lnTo>
                        <a:lnTo>
                          <a:pt x="154" y="360"/>
                        </a:lnTo>
                        <a:lnTo>
                          <a:pt x="209" y="377"/>
                        </a:lnTo>
                        <a:lnTo>
                          <a:pt x="306" y="387"/>
                        </a:lnTo>
                        <a:lnTo>
                          <a:pt x="333" y="391"/>
                        </a:lnTo>
                        <a:lnTo>
                          <a:pt x="364" y="292"/>
                        </a:lnTo>
                        <a:lnTo>
                          <a:pt x="387" y="211"/>
                        </a:lnTo>
                        <a:lnTo>
                          <a:pt x="406" y="195"/>
                        </a:lnTo>
                        <a:lnTo>
                          <a:pt x="516" y="192"/>
                        </a:lnTo>
                        <a:lnTo>
                          <a:pt x="606" y="170"/>
                        </a:lnTo>
                        <a:lnTo>
                          <a:pt x="672" y="126"/>
                        </a:lnTo>
                        <a:lnTo>
                          <a:pt x="690" y="88"/>
                        </a:lnTo>
                        <a:lnTo>
                          <a:pt x="698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5" name=""/>
                  <p:cNvGrpSpPr/>
                  <p:nvPr/>
                </p:nvGrpSpPr>
                <p:grpSpPr>
                  <a:xfrm>
                    <a:off x="539640" y="5099040"/>
                    <a:ext cx="761760" cy="1112400"/>
                    <a:chOff x="539640" y="5099040"/>
                    <a:chExt cx="761760" cy="1112400"/>
                  </a:xfrm>
                </p:grpSpPr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539640" y="5099040"/>
                      <a:ext cx="761760" cy="111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5" h="4592">
                          <a:moveTo>
                            <a:pt x="0" y="4592"/>
                          </a:moveTo>
                          <a:lnTo>
                            <a:pt x="99" y="3683"/>
                          </a:lnTo>
                          <a:lnTo>
                            <a:pt x="198" y="3307"/>
                          </a:lnTo>
                          <a:lnTo>
                            <a:pt x="258" y="2883"/>
                          </a:lnTo>
                          <a:lnTo>
                            <a:pt x="357" y="2429"/>
                          </a:lnTo>
                          <a:lnTo>
                            <a:pt x="496" y="2022"/>
                          </a:lnTo>
                          <a:lnTo>
                            <a:pt x="615" y="1693"/>
                          </a:lnTo>
                          <a:lnTo>
                            <a:pt x="793" y="1363"/>
                          </a:lnTo>
                          <a:lnTo>
                            <a:pt x="1031" y="1034"/>
                          </a:lnTo>
                          <a:lnTo>
                            <a:pt x="1250" y="784"/>
                          </a:lnTo>
                          <a:lnTo>
                            <a:pt x="1448" y="580"/>
                          </a:lnTo>
                          <a:lnTo>
                            <a:pt x="1666" y="423"/>
                          </a:lnTo>
                          <a:lnTo>
                            <a:pt x="2063" y="235"/>
                          </a:lnTo>
                          <a:lnTo>
                            <a:pt x="2520" y="94"/>
                          </a:lnTo>
                          <a:lnTo>
                            <a:pt x="3115" y="0"/>
                          </a:lnTo>
                          <a:lnTo>
                            <a:pt x="2817" y="204"/>
                          </a:lnTo>
                          <a:lnTo>
                            <a:pt x="2619" y="361"/>
                          </a:lnTo>
                          <a:lnTo>
                            <a:pt x="2401" y="580"/>
                          </a:lnTo>
                          <a:lnTo>
                            <a:pt x="2242" y="737"/>
                          </a:lnTo>
                          <a:lnTo>
                            <a:pt x="2024" y="925"/>
                          </a:lnTo>
                          <a:lnTo>
                            <a:pt x="1825" y="1113"/>
                          </a:lnTo>
                          <a:lnTo>
                            <a:pt x="1547" y="1379"/>
                          </a:lnTo>
                          <a:lnTo>
                            <a:pt x="1329" y="1583"/>
                          </a:lnTo>
                          <a:lnTo>
                            <a:pt x="1151" y="1818"/>
                          </a:lnTo>
                          <a:lnTo>
                            <a:pt x="972" y="2084"/>
                          </a:lnTo>
                          <a:lnTo>
                            <a:pt x="853" y="2319"/>
                          </a:lnTo>
                          <a:lnTo>
                            <a:pt x="674" y="2633"/>
                          </a:lnTo>
                          <a:lnTo>
                            <a:pt x="516" y="2993"/>
                          </a:lnTo>
                          <a:lnTo>
                            <a:pt x="377" y="3385"/>
                          </a:lnTo>
                          <a:lnTo>
                            <a:pt x="277" y="3808"/>
                          </a:lnTo>
                          <a:lnTo>
                            <a:pt x="198" y="4231"/>
                          </a:lnTo>
                          <a:lnTo>
                            <a:pt x="218" y="4592"/>
                          </a:lnTo>
                          <a:lnTo>
                            <a:pt x="0" y="4592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617040" y="5182200"/>
                      <a:ext cx="480240" cy="67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5" h="2805">
                          <a:moveTo>
                            <a:pt x="1965" y="0"/>
                          </a:moveTo>
                          <a:lnTo>
                            <a:pt x="1687" y="172"/>
                          </a:lnTo>
                          <a:lnTo>
                            <a:pt x="1310" y="501"/>
                          </a:lnTo>
                          <a:lnTo>
                            <a:pt x="1032" y="783"/>
                          </a:lnTo>
                          <a:lnTo>
                            <a:pt x="734" y="1144"/>
                          </a:lnTo>
                          <a:lnTo>
                            <a:pt x="496" y="1551"/>
                          </a:lnTo>
                          <a:lnTo>
                            <a:pt x="278" y="1927"/>
                          </a:lnTo>
                          <a:lnTo>
                            <a:pt x="139" y="2366"/>
                          </a:lnTo>
                          <a:lnTo>
                            <a:pt x="0" y="2805"/>
                          </a:lnTo>
                          <a:lnTo>
                            <a:pt x="139" y="2162"/>
                          </a:lnTo>
                          <a:lnTo>
                            <a:pt x="357" y="1614"/>
                          </a:lnTo>
                          <a:lnTo>
                            <a:pt x="615" y="1160"/>
                          </a:lnTo>
                          <a:lnTo>
                            <a:pt x="913" y="815"/>
                          </a:lnTo>
                          <a:lnTo>
                            <a:pt x="1191" y="517"/>
                          </a:lnTo>
                          <a:lnTo>
                            <a:pt x="1965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" name=""/>
                  <p:cNvGrpSpPr/>
                  <p:nvPr/>
                </p:nvGrpSpPr>
                <p:grpSpPr>
                  <a:xfrm>
                    <a:off x="213120" y="5192280"/>
                    <a:ext cx="339480" cy="1017360"/>
                    <a:chOff x="213120" y="5192280"/>
                    <a:chExt cx="339480" cy="1017360"/>
                  </a:xfrm>
                </p:grpSpPr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213120" y="5192280"/>
                      <a:ext cx="339480" cy="101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9" h="4199">
                          <a:moveTo>
                            <a:pt x="1389" y="4199"/>
                          </a:moveTo>
                          <a:lnTo>
                            <a:pt x="1290" y="3949"/>
                          </a:lnTo>
                          <a:lnTo>
                            <a:pt x="1132" y="3698"/>
                          </a:lnTo>
                          <a:lnTo>
                            <a:pt x="993" y="3416"/>
                          </a:lnTo>
                          <a:lnTo>
                            <a:pt x="874" y="3118"/>
                          </a:lnTo>
                          <a:lnTo>
                            <a:pt x="794" y="2820"/>
                          </a:lnTo>
                          <a:lnTo>
                            <a:pt x="735" y="2538"/>
                          </a:lnTo>
                          <a:lnTo>
                            <a:pt x="715" y="2303"/>
                          </a:lnTo>
                          <a:lnTo>
                            <a:pt x="635" y="1943"/>
                          </a:lnTo>
                          <a:lnTo>
                            <a:pt x="596" y="1551"/>
                          </a:lnTo>
                          <a:lnTo>
                            <a:pt x="596" y="1191"/>
                          </a:lnTo>
                          <a:lnTo>
                            <a:pt x="596" y="830"/>
                          </a:lnTo>
                          <a:lnTo>
                            <a:pt x="616" y="517"/>
                          </a:lnTo>
                          <a:lnTo>
                            <a:pt x="675" y="0"/>
                          </a:lnTo>
                          <a:lnTo>
                            <a:pt x="516" y="313"/>
                          </a:lnTo>
                          <a:lnTo>
                            <a:pt x="377" y="642"/>
                          </a:lnTo>
                          <a:lnTo>
                            <a:pt x="239" y="940"/>
                          </a:lnTo>
                          <a:lnTo>
                            <a:pt x="119" y="1269"/>
                          </a:lnTo>
                          <a:lnTo>
                            <a:pt x="80" y="1535"/>
                          </a:lnTo>
                          <a:lnTo>
                            <a:pt x="40" y="1755"/>
                          </a:lnTo>
                          <a:lnTo>
                            <a:pt x="0" y="2037"/>
                          </a:lnTo>
                          <a:lnTo>
                            <a:pt x="20" y="2397"/>
                          </a:lnTo>
                          <a:lnTo>
                            <a:pt x="80" y="2711"/>
                          </a:lnTo>
                          <a:lnTo>
                            <a:pt x="139" y="2961"/>
                          </a:lnTo>
                          <a:lnTo>
                            <a:pt x="219" y="3181"/>
                          </a:lnTo>
                          <a:lnTo>
                            <a:pt x="318" y="3431"/>
                          </a:lnTo>
                          <a:lnTo>
                            <a:pt x="457" y="3698"/>
                          </a:lnTo>
                          <a:lnTo>
                            <a:pt x="616" y="3886"/>
                          </a:lnTo>
                          <a:lnTo>
                            <a:pt x="754" y="4043"/>
                          </a:lnTo>
                          <a:lnTo>
                            <a:pt x="933" y="4199"/>
                          </a:lnTo>
                          <a:lnTo>
                            <a:pt x="1389" y="4199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75760" y="5492160"/>
                      <a:ext cx="184320" cy="68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4" h="2820">
                          <a:moveTo>
                            <a:pt x="80" y="0"/>
                          </a:moveTo>
                          <a:lnTo>
                            <a:pt x="0" y="376"/>
                          </a:lnTo>
                          <a:lnTo>
                            <a:pt x="20" y="799"/>
                          </a:lnTo>
                          <a:lnTo>
                            <a:pt x="100" y="1285"/>
                          </a:lnTo>
                          <a:lnTo>
                            <a:pt x="199" y="1786"/>
                          </a:lnTo>
                          <a:lnTo>
                            <a:pt x="358" y="2209"/>
                          </a:lnTo>
                          <a:lnTo>
                            <a:pt x="616" y="2617"/>
                          </a:lnTo>
                          <a:lnTo>
                            <a:pt x="754" y="2820"/>
                          </a:lnTo>
                          <a:lnTo>
                            <a:pt x="576" y="2444"/>
                          </a:lnTo>
                          <a:lnTo>
                            <a:pt x="397" y="2084"/>
                          </a:lnTo>
                          <a:lnTo>
                            <a:pt x="258" y="1645"/>
                          </a:lnTo>
                          <a:lnTo>
                            <a:pt x="159" y="1238"/>
                          </a:lnTo>
                          <a:lnTo>
                            <a:pt x="80" y="767"/>
                          </a:lnTo>
                          <a:lnTo>
                            <a:pt x="20" y="485"/>
                          </a:lnTo>
                          <a:lnTo>
                            <a:pt x="80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385200" y="4574160"/>
                  <a:ext cx="375840" cy="371880"/>
                  <a:chOff x="385200" y="4574160"/>
                  <a:chExt cx="375840" cy="371880"/>
                </a:xfrm>
              </p:grpSpPr>
              <p:grpSp>
                <p:nvGrpSpPr>
                  <p:cNvPr id="82" name=""/>
                  <p:cNvGrpSpPr/>
                  <p:nvPr/>
                </p:nvGrpSpPr>
                <p:grpSpPr>
                  <a:xfrm>
                    <a:off x="518400" y="4574160"/>
                    <a:ext cx="160200" cy="157320"/>
                    <a:chOff x="518400" y="4574160"/>
                    <a:chExt cx="160200" cy="15732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518400" y="4574160"/>
                      <a:ext cx="16020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4" h="651">
                          <a:moveTo>
                            <a:pt x="0" y="314"/>
                          </a:moveTo>
                          <a:lnTo>
                            <a:pt x="49" y="236"/>
                          </a:lnTo>
                          <a:lnTo>
                            <a:pt x="119" y="173"/>
                          </a:lnTo>
                          <a:lnTo>
                            <a:pt x="258" y="94"/>
                          </a:lnTo>
                          <a:lnTo>
                            <a:pt x="387" y="47"/>
                          </a:lnTo>
                          <a:lnTo>
                            <a:pt x="525" y="0"/>
                          </a:lnTo>
                          <a:lnTo>
                            <a:pt x="545" y="87"/>
                          </a:lnTo>
                          <a:lnTo>
                            <a:pt x="565" y="173"/>
                          </a:lnTo>
                          <a:lnTo>
                            <a:pt x="605" y="243"/>
                          </a:lnTo>
                          <a:lnTo>
                            <a:pt x="654" y="361"/>
                          </a:lnTo>
                          <a:lnTo>
                            <a:pt x="635" y="510"/>
                          </a:lnTo>
                          <a:lnTo>
                            <a:pt x="208" y="651"/>
                          </a:lnTo>
                          <a:lnTo>
                            <a:pt x="0" y="314"/>
                          </a:lnTo>
                          <a:close/>
                        </a:path>
                      </a:pathLst>
                    </a:custGeom>
                    <a:solidFill>
                      <a:srgbClr val="c00000"/>
                    </a:solidFill>
                    <a:ln w="111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530280" y="4585680"/>
                      <a:ext cx="10656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7" h="400">
                          <a:moveTo>
                            <a:pt x="124" y="130"/>
                          </a:moveTo>
                          <a:lnTo>
                            <a:pt x="214" y="83"/>
                          </a:lnTo>
                          <a:lnTo>
                            <a:pt x="283" y="47"/>
                          </a:lnTo>
                          <a:lnTo>
                            <a:pt x="367" y="20"/>
                          </a:lnTo>
                          <a:lnTo>
                            <a:pt x="437" y="0"/>
                          </a:lnTo>
                          <a:lnTo>
                            <a:pt x="372" y="91"/>
                          </a:lnTo>
                          <a:lnTo>
                            <a:pt x="333" y="173"/>
                          </a:lnTo>
                          <a:lnTo>
                            <a:pt x="303" y="239"/>
                          </a:lnTo>
                          <a:lnTo>
                            <a:pt x="278" y="318"/>
                          </a:lnTo>
                          <a:lnTo>
                            <a:pt x="228" y="400"/>
                          </a:lnTo>
                          <a:lnTo>
                            <a:pt x="0" y="204"/>
                          </a:lnTo>
                          <a:lnTo>
                            <a:pt x="124" y="130"/>
                          </a:lnTo>
                          <a:close/>
                        </a:path>
                      </a:pathLst>
                    </a:cu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01920" y="4591800"/>
                      <a:ext cx="71640" cy="8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3" h="368">
                          <a:moveTo>
                            <a:pt x="154" y="0"/>
                          </a:moveTo>
                          <a:lnTo>
                            <a:pt x="89" y="106"/>
                          </a:lnTo>
                          <a:lnTo>
                            <a:pt x="49" y="188"/>
                          </a:lnTo>
                          <a:lnTo>
                            <a:pt x="35" y="255"/>
                          </a:lnTo>
                          <a:lnTo>
                            <a:pt x="0" y="368"/>
                          </a:lnTo>
                          <a:lnTo>
                            <a:pt x="258" y="349"/>
                          </a:lnTo>
                          <a:lnTo>
                            <a:pt x="293" y="219"/>
                          </a:lnTo>
                          <a:lnTo>
                            <a:pt x="218" y="172"/>
                          </a:lnTo>
                          <a:lnTo>
                            <a:pt x="178" y="106"/>
                          </a:lnTo>
                          <a:lnTo>
                            <a:pt x="164" y="70"/>
                          </a:lnTo>
                          <a:lnTo>
                            <a:pt x="154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840" bIns="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" name=""/>
                  <p:cNvSpPr/>
                  <p:nvPr/>
                </p:nvSpPr>
                <p:spPr>
                  <a:xfrm>
                    <a:off x="385200" y="4592880"/>
                    <a:ext cx="25956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2" h="1441">
                        <a:moveTo>
                          <a:pt x="258" y="78"/>
                        </a:moveTo>
                        <a:lnTo>
                          <a:pt x="298" y="172"/>
                        </a:lnTo>
                        <a:lnTo>
                          <a:pt x="302" y="235"/>
                        </a:lnTo>
                        <a:lnTo>
                          <a:pt x="288" y="298"/>
                        </a:lnTo>
                        <a:lnTo>
                          <a:pt x="268" y="360"/>
                        </a:lnTo>
                        <a:lnTo>
                          <a:pt x="238" y="419"/>
                        </a:lnTo>
                        <a:lnTo>
                          <a:pt x="193" y="497"/>
                        </a:lnTo>
                        <a:lnTo>
                          <a:pt x="159" y="564"/>
                        </a:lnTo>
                        <a:lnTo>
                          <a:pt x="109" y="634"/>
                        </a:lnTo>
                        <a:lnTo>
                          <a:pt x="59" y="744"/>
                        </a:lnTo>
                        <a:lnTo>
                          <a:pt x="25" y="834"/>
                        </a:lnTo>
                        <a:lnTo>
                          <a:pt x="5" y="913"/>
                        </a:lnTo>
                        <a:lnTo>
                          <a:pt x="0" y="1007"/>
                        </a:lnTo>
                        <a:lnTo>
                          <a:pt x="5" y="1073"/>
                        </a:lnTo>
                        <a:lnTo>
                          <a:pt x="25" y="1155"/>
                        </a:lnTo>
                        <a:lnTo>
                          <a:pt x="64" y="1222"/>
                        </a:lnTo>
                        <a:lnTo>
                          <a:pt x="99" y="1277"/>
                        </a:lnTo>
                        <a:lnTo>
                          <a:pt x="188" y="1347"/>
                        </a:lnTo>
                        <a:lnTo>
                          <a:pt x="298" y="1394"/>
                        </a:lnTo>
                        <a:lnTo>
                          <a:pt x="476" y="1418"/>
                        </a:lnTo>
                        <a:lnTo>
                          <a:pt x="704" y="1441"/>
                        </a:lnTo>
                        <a:lnTo>
                          <a:pt x="853" y="1402"/>
                        </a:lnTo>
                        <a:lnTo>
                          <a:pt x="952" y="1332"/>
                        </a:lnTo>
                        <a:lnTo>
                          <a:pt x="1012" y="1222"/>
                        </a:lnTo>
                        <a:lnTo>
                          <a:pt x="1042" y="1097"/>
                        </a:lnTo>
                        <a:lnTo>
                          <a:pt x="1062" y="987"/>
                        </a:lnTo>
                        <a:lnTo>
                          <a:pt x="1062" y="869"/>
                        </a:lnTo>
                        <a:lnTo>
                          <a:pt x="1052" y="775"/>
                        </a:lnTo>
                        <a:lnTo>
                          <a:pt x="1042" y="666"/>
                        </a:lnTo>
                        <a:lnTo>
                          <a:pt x="1022" y="564"/>
                        </a:lnTo>
                        <a:lnTo>
                          <a:pt x="992" y="439"/>
                        </a:lnTo>
                        <a:lnTo>
                          <a:pt x="933" y="345"/>
                        </a:lnTo>
                        <a:lnTo>
                          <a:pt x="863" y="243"/>
                        </a:lnTo>
                        <a:lnTo>
                          <a:pt x="774" y="164"/>
                        </a:lnTo>
                        <a:lnTo>
                          <a:pt x="684" y="117"/>
                        </a:lnTo>
                        <a:lnTo>
                          <a:pt x="575" y="62"/>
                        </a:lnTo>
                        <a:lnTo>
                          <a:pt x="461" y="35"/>
                        </a:lnTo>
                        <a:lnTo>
                          <a:pt x="357" y="15"/>
                        </a:lnTo>
                        <a:lnTo>
                          <a:pt x="218" y="0"/>
                        </a:lnTo>
                        <a:lnTo>
                          <a:pt x="258" y="78"/>
                        </a:lnTo>
                        <a:close/>
                      </a:path>
                    </a:pathLst>
                  </a:custGeom>
                  <a:solidFill>
                    <a:srgbClr val="e0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04360" y="4592880"/>
                    <a:ext cx="2566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2" h="1457">
                        <a:moveTo>
                          <a:pt x="357" y="446"/>
                        </a:moveTo>
                        <a:lnTo>
                          <a:pt x="447" y="329"/>
                        </a:lnTo>
                        <a:lnTo>
                          <a:pt x="526" y="251"/>
                        </a:lnTo>
                        <a:lnTo>
                          <a:pt x="625" y="180"/>
                        </a:lnTo>
                        <a:lnTo>
                          <a:pt x="734" y="117"/>
                        </a:lnTo>
                        <a:lnTo>
                          <a:pt x="824" y="86"/>
                        </a:lnTo>
                        <a:lnTo>
                          <a:pt x="898" y="59"/>
                        </a:lnTo>
                        <a:lnTo>
                          <a:pt x="962" y="35"/>
                        </a:lnTo>
                        <a:lnTo>
                          <a:pt x="1052" y="0"/>
                        </a:lnTo>
                        <a:lnTo>
                          <a:pt x="992" y="109"/>
                        </a:lnTo>
                        <a:lnTo>
                          <a:pt x="953" y="196"/>
                        </a:lnTo>
                        <a:lnTo>
                          <a:pt x="953" y="290"/>
                        </a:lnTo>
                        <a:lnTo>
                          <a:pt x="953" y="384"/>
                        </a:lnTo>
                        <a:lnTo>
                          <a:pt x="962" y="470"/>
                        </a:lnTo>
                        <a:lnTo>
                          <a:pt x="982" y="572"/>
                        </a:lnTo>
                        <a:lnTo>
                          <a:pt x="1012" y="666"/>
                        </a:lnTo>
                        <a:lnTo>
                          <a:pt x="1032" y="760"/>
                        </a:lnTo>
                        <a:lnTo>
                          <a:pt x="1052" y="846"/>
                        </a:lnTo>
                        <a:lnTo>
                          <a:pt x="1052" y="932"/>
                        </a:lnTo>
                        <a:lnTo>
                          <a:pt x="1042" y="1018"/>
                        </a:lnTo>
                        <a:lnTo>
                          <a:pt x="1012" y="1112"/>
                        </a:lnTo>
                        <a:lnTo>
                          <a:pt x="972" y="1206"/>
                        </a:lnTo>
                        <a:lnTo>
                          <a:pt x="933" y="1277"/>
                        </a:lnTo>
                        <a:lnTo>
                          <a:pt x="834" y="1379"/>
                        </a:lnTo>
                        <a:lnTo>
                          <a:pt x="724" y="1418"/>
                        </a:lnTo>
                        <a:lnTo>
                          <a:pt x="585" y="1449"/>
                        </a:lnTo>
                        <a:lnTo>
                          <a:pt x="427" y="1457"/>
                        </a:lnTo>
                        <a:lnTo>
                          <a:pt x="327" y="1457"/>
                        </a:lnTo>
                        <a:lnTo>
                          <a:pt x="179" y="1438"/>
                        </a:lnTo>
                        <a:lnTo>
                          <a:pt x="104" y="1398"/>
                        </a:lnTo>
                        <a:lnTo>
                          <a:pt x="40" y="1332"/>
                        </a:lnTo>
                        <a:lnTo>
                          <a:pt x="10" y="1238"/>
                        </a:lnTo>
                        <a:lnTo>
                          <a:pt x="0" y="1159"/>
                        </a:lnTo>
                        <a:lnTo>
                          <a:pt x="0" y="1034"/>
                        </a:lnTo>
                        <a:lnTo>
                          <a:pt x="40" y="924"/>
                        </a:lnTo>
                        <a:lnTo>
                          <a:pt x="119" y="791"/>
                        </a:lnTo>
                        <a:lnTo>
                          <a:pt x="198" y="666"/>
                        </a:lnTo>
                        <a:lnTo>
                          <a:pt x="268" y="556"/>
                        </a:lnTo>
                        <a:lnTo>
                          <a:pt x="357" y="446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402120" y="4718520"/>
                    <a:ext cx="6048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846">
                        <a:moveTo>
                          <a:pt x="139" y="0"/>
                        </a:moveTo>
                        <a:lnTo>
                          <a:pt x="60" y="188"/>
                        </a:lnTo>
                        <a:lnTo>
                          <a:pt x="20" y="313"/>
                        </a:lnTo>
                        <a:lnTo>
                          <a:pt x="0" y="470"/>
                        </a:lnTo>
                        <a:lnTo>
                          <a:pt x="10" y="611"/>
                        </a:lnTo>
                        <a:lnTo>
                          <a:pt x="70" y="729"/>
                        </a:lnTo>
                        <a:lnTo>
                          <a:pt x="159" y="807"/>
                        </a:lnTo>
                        <a:lnTo>
                          <a:pt x="248" y="846"/>
                        </a:lnTo>
                        <a:lnTo>
                          <a:pt x="119" y="666"/>
                        </a:lnTo>
                        <a:lnTo>
                          <a:pt x="80" y="517"/>
                        </a:lnTo>
                        <a:lnTo>
                          <a:pt x="90" y="360"/>
                        </a:lnTo>
                        <a:lnTo>
                          <a:pt x="90" y="251"/>
                        </a:lnTo>
                        <a:lnTo>
                          <a:pt x="109" y="141"/>
                        </a:lnTo>
                        <a:lnTo>
                          <a:pt x="139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602280" y="4604400"/>
                    <a:ext cx="14940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10" h="403">
                        <a:moveTo>
                          <a:pt x="546" y="27"/>
                        </a:moveTo>
                        <a:lnTo>
                          <a:pt x="481" y="47"/>
                        </a:lnTo>
                        <a:lnTo>
                          <a:pt x="407" y="74"/>
                        </a:lnTo>
                        <a:lnTo>
                          <a:pt x="337" y="110"/>
                        </a:lnTo>
                        <a:lnTo>
                          <a:pt x="283" y="141"/>
                        </a:lnTo>
                        <a:lnTo>
                          <a:pt x="213" y="188"/>
                        </a:lnTo>
                        <a:lnTo>
                          <a:pt x="149" y="235"/>
                        </a:lnTo>
                        <a:lnTo>
                          <a:pt x="69" y="313"/>
                        </a:lnTo>
                        <a:lnTo>
                          <a:pt x="0" y="403"/>
                        </a:lnTo>
                        <a:lnTo>
                          <a:pt x="104" y="356"/>
                        </a:lnTo>
                        <a:lnTo>
                          <a:pt x="188" y="317"/>
                        </a:lnTo>
                        <a:lnTo>
                          <a:pt x="263" y="290"/>
                        </a:lnTo>
                        <a:lnTo>
                          <a:pt x="342" y="266"/>
                        </a:lnTo>
                        <a:lnTo>
                          <a:pt x="407" y="251"/>
                        </a:lnTo>
                        <a:lnTo>
                          <a:pt x="461" y="231"/>
                        </a:lnTo>
                        <a:lnTo>
                          <a:pt x="501" y="196"/>
                        </a:lnTo>
                        <a:lnTo>
                          <a:pt x="531" y="137"/>
                        </a:lnTo>
                        <a:lnTo>
                          <a:pt x="551" y="90"/>
                        </a:lnTo>
                        <a:lnTo>
                          <a:pt x="610" y="0"/>
                        </a:lnTo>
                        <a:lnTo>
                          <a:pt x="546" y="27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454320" y="4602600"/>
                    <a:ext cx="1148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47">
                        <a:moveTo>
                          <a:pt x="0" y="0"/>
                        </a:moveTo>
                        <a:lnTo>
                          <a:pt x="89" y="12"/>
                        </a:lnTo>
                        <a:lnTo>
                          <a:pt x="193" y="39"/>
                        </a:lnTo>
                        <a:lnTo>
                          <a:pt x="332" y="98"/>
                        </a:lnTo>
                        <a:lnTo>
                          <a:pt x="387" y="145"/>
                        </a:lnTo>
                        <a:lnTo>
                          <a:pt x="441" y="208"/>
                        </a:lnTo>
                        <a:lnTo>
                          <a:pt x="471" y="247"/>
                        </a:lnTo>
                        <a:lnTo>
                          <a:pt x="337" y="215"/>
                        </a:lnTo>
                        <a:lnTo>
                          <a:pt x="173" y="208"/>
                        </a:lnTo>
                        <a:lnTo>
                          <a:pt x="104" y="192"/>
                        </a:lnTo>
                        <a:lnTo>
                          <a:pt x="59" y="145"/>
                        </a:lnTo>
                        <a:lnTo>
                          <a:pt x="15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513720" y="4788720"/>
                    <a:ext cx="4140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99">
                        <a:moveTo>
                          <a:pt x="144" y="0"/>
                        </a:moveTo>
                        <a:lnTo>
                          <a:pt x="54" y="113"/>
                        </a:lnTo>
                        <a:lnTo>
                          <a:pt x="20" y="188"/>
                        </a:lnTo>
                        <a:lnTo>
                          <a:pt x="0" y="270"/>
                        </a:lnTo>
                        <a:lnTo>
                          <a:pt x="0" y="341"/>
                        </a:lnTo>
                        <a:lnTo>
                          <a:pt x="10" y="407"/>
                        </a:lnTo>
                        <a:lnTo>
                          <a:pt x="25" y="474"/>
                        </a:lnTo>
                        <a:lnTo>
                          <a:pt x="54" y="509"/>
                        </a:lnTo>
                        <a:lnTo>
                          <a:pt x="94" y="560"/>
                        </a:lnTo>
                        <a:lnTo>
                          <a:pt x="168" y="599"/>
                        </a:lnTo>
                        <a:lnTo>
                          <a:pt x="119" y="505"/>
                        </a:lnTo>
                        <a:lnTo>
                          <a:pt x="99" y="450"/>
                        </a:lnTo>
                        <a:lnTo>
                          <a:pt x="84" y="392"/>
                        </a:lnTo>
                        <a:lnTo>
                          <a:pt x="79" y="337"/>
                        </a:lnTo>
                        <a:lnTo>
                          <a:pt x="84" y="278"/>
                        </a:lnTo>
                        <a:lnTo>
                          <a:pt x="84" y="219"/>
                        </a:lnTo>
                        <a:lnTo>
                          <a:pt x="104" y="137"/>
                        </a:lnTo>
                        <a:lnTo>
                          <a:pt x="144" y="0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2000" y="4725360"/>
                    <a:ext cx="507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776">
                        <a:moveTo>
                          <a:pt x="114" y="0"/>
                        </a:moveTo>
                        <a:lnTo>
                          <a:pt x="178" y="153"/>
                        </a:lnTo>
                        <a:lnTo>
                          <a:pt x="203" y="259"/>
                        </a:lnTo>
                        <a:lnTo>
                          <a:pt x="208" y="373"/>
                        </a:lnTo>
                        <a:lnTo>
                          <a:pt x="193" y="498"/>
                        </a:lnTo>
                        <a:lnTo>
                          <a:pt x="144" y="619"/>
                        </a:lnTo>
                        <a:lnTo>
                          <a:pt x="74" y="729"/>
                        </a:lnTo>
                        <a:lnTo>
                          <a:pt x="0" y="776"/>
                        </a:lnTo>
                        <a:lnTo>
                          <a:pt x="79" y="639"/>
                        </a:lnTo>
                        <a:lnTo>
                          <a:pt x="119" y="431"/>
                        </a:lnTo>
                        <a:lnTo>
                          <a:pt x="119" y="263"/>
                        </a:lnTo>
                        <a:lnTo>
                          <a:pt x="119" y="145"/>
                        </a:lnTo>
                        <a:lnTo>
                          <a:pt x="114" y="0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3" name=""/>
                  <p:cNvGrpSpPr/>
                  <p:nvPr/>
                </p:nvGrpSpPr>
                <p:grpSpPr>
                  <a:xfrm>
                    <a:off x="454320" y="4730400"/>
                    <a:ext cx="184680" cy="171360"/>
                    <a:chOff x="454320" y="4730400"/>
                    <a:chExt cx="184680" cy="171360"/>
                  </a:xfrm>
                </p:grpSpPr>
                <p:grpSp>
                  <p:nvGrpSpPr>
                    <p:cNvPr id="94" name=""/>
                    <p:cNvGrpSpPr/>
                    <p:nvPr/>
                  </p:nvGrpSpPr>
                  <p:grpSpPr>
                    <a:xfrm>
                      <a:off x="457560" y="4732200"/>
                      <a:ext cx="181440" cy="169560"/>
                      <a:chOff x="457560" y="4732200"/>
                      <a:chExt cx="181440" cy="169560"/>
                    </a:xfrm>
                  </p:grpSpPr>
                  <p:sp>
                    <p:nvSpPr>
                      <p:cNvPr id="95" name=""/>
                      <p:cNvSpPr/>
                      <p:nvPr/>
                    </p:nvSpPr>
                    <p:spPr>
                      <a:xfrm>
                        <a:off x="603360" y="4835880"/>
                        <a:ext cx="19440" cy="1476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" name=""/>
                      <p:cNvSpPr/>
                      <p:nvPr/>
                    </p:nvSpPr>
                    <p:spPr>
                      <a:xfrm>
                        <a:off x="628560" y="4788360"/>
                        <a:ext cx="10440" cy="1116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" name=""/>
                      <p:cNvSpPr/>
                      <p:nvPr/>
                    </p:nvSpPr>
                    <p:spPr>
                      <a:xfrm>
                        <a:off x="477000" y="4732200"/>
                        <a:ext cx="10440" cy="1620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" name=""/>
                      <p:cNvSpPr/>
                      <p:nvPr/>
                    </p:nvSpPr>
                    <p:spPr>
                      <a:xfrm>
                        <a:off x="457560" y="4833000"/>
                        <a:ext cx="15840" cy="1764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" name=""/>
                      <p:cNvSpPr/>
                      <p:nvPr/>
                    </p:nvSpPr>
                    <p:spPr>
                      <a:xfrm>
                        <a:off x="616320" y="4889160"/>
                        <a:ext cx="14040" cy="1260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0" name=""/>
                    <p:cNvGrpSpPr/>
                    <p:nvPr/>
                  </p:nvGrpSpPr>
                  <p:grpSpPr>
                    <a:xfrm>
                      <a:off x="454320" y="4730400"/>
                      <a:ext cx="181440" cy="169200"/>
                      <a:chOff x="454320" y="4730400"/>
                      <a:chExt cx="181440" cy="169200"/>
                    </a:xfrm>
                  </p:grpSpPr>
                  <p:sp>
                    <p:nvSpPr>
                      <p:cNvPr id="101" name=""/>
                      <p:cNvSpPr/>
                      <p:nvPr/>
                    </p:nvSpPr>
                    <p:spPr>
                      <a:xfrm>
                        <a:off x="599400" y="4834080"/>
                        <a:ext cx="19440" cy="1476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625320" y="4786560"/>
                        <a:ext cx="10440" cy="1080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473760" y="4730400"/>
                        <a:ext cx="10440" cy="1620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454320" y="4831200"/>
                        <a:ext cx="15480" cy="1764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613080" y="4887360"/>
                        <a:ext cx="14040" cy="1224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01920" y="4837680"/>
                      <a:ext cx="10080" cy="79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627840" y="4789440"/>
                      <a:ext cx="3960" cy="64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475560" y="4734000"/>
                      <a:ext cx="6120" cy="97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456120" y="4834080"/>
                      <a:ext cx="7560" cy="118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15600" y="4889880"/>
                      <a:ext cx="6120" cy="64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11" name=""/>
              <p:cNvGrpSpPr/>
              <p:nvPr/>
            </p:nvGrpSpPr>
            <p:grpSpPr>
              <a:xfrm>
                <a:off x="630000" y="4779720"/>
                <a:ext cx="1134720" cy="1431360"/>
                <a:chOff x="630000" y="4779720"/>
                <a:chExt cx="1134720" cy="143136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630000" y="5141520"/>
                  <a:ext cx="1134720" cy="1069560"/>
                  <a:chOff x="630000" y="5141520"/>
                  <a:chExt cx="1134720" cy="1069560"/>
                </a:xfrm>
              </p:grpSpPr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1051920" y="5286240"/>
                    <a:ext cx="712800" cy="920520"/>
                    <a:chOff x="1051920" y="5286240"/>
                    <a:chExt cx="712800" cy="92052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1051920" y="5286240"/>
                      <a:ext cx="712800" cy="9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15" h="3798">
                          <a:moveTo>
                            <a:pt x="0" y="3798"/>
                          </a:moveTo>
                          <a:lnTo>
                            <a:pt x="92" y="3047"/>
                          </a:lnTo>
                          <a:lnTo>
                            <a:pt x="185" y="2735"/>
                          </a:lnTo>
                          <a:lnTo>
                            <a:pt x="241" y="2385"/>
                          </a:lnTo>
                          <a:lnTo>
                            <a:pt x="334" y="2009"/>
                          </a:lnTo>
                          <a:lnTo>
                            <a:pt x="464" y="1672"/>
                          </a:lnTo>
                          <a:lnTo>
                            <a:pt x="575" y="1401"/>
                          </a:lnTo>
                          <a:lnTo>
                            <a:pt x="742" y="1128"/>
                          </a:lnTo>
                          <a:lnTo>
                            <a:pt x="966" y="856"/>
                          </a:lnTo>
                          <a:lnTo>
                            <a:pt x="1169" y="649"/>
                          </a:lnTo>
                          <a:lnTo>
                            <a:pt x="1356" y="480"/>
                          </a:lnTo>
                          <a:lnTo>
                            <a:pt x="1559" y="350"/>
                          </a:lnTo>
                          <a:lnTo>
                            <a:pt x="1931" y="194"/>
                          </a:lnTo>
                          <a:lnTo>
                            <a:pt x="2358" y="78"/>
                          </a:lnTo>
                          <a:lnTo>
                            <a:pt x="2915" y="0"/>
                          </a:lnTo>
                          <a:lnTo>
                            <a:pt x="2636" y="168"/>
                          </a:lnTo>
                          <a:lnTo>
                            <a:pt x="2451" y="299"/>
                          </a:lnTo>
                          <a:lnTo>
                            <a:pt x="2246" y="480"/>
                          </a:lnTo>
                          <a:lnTo>
                            <a:pt x="2098" y="609"/>
                          </a:lnTo>
                          <a:lnTo>
                            <a:pt x="1893" y="765"/>
                          </a:lnTo>
                          <a:lnTo>
                            <a:pt x="1708" y="920"/>
                          </a:lnTo>
                          <a:lnTo>
                            <a:pt x="1448" y="1141"/>
                          </a:lnTo>
                          <a:lnTo>
                            <a:pt x="1243" y="1309"/>
                          </a:lnTo>
                          <a:lnTo>
                            <a:pt x="1076" y="1504"/>
                          </a:lnTo>
                          <a:lnTo>
                            <a:pt x="909" y="1725"/>
                          </a:lnTo>
                          <a:lnTo>
                            <a:pt x="799" y="1919"/>
                          </a:lnTo>
                          <a:lnTo>
                            <a:pt x="632" y="2178"/>
                          </a:lnTo>
                          <a:lnTo>
                            <a:pt x="483" y="2477"/>
                          </a:lnTo>
                          <a:lnTo>
                            <a:pt x="352" y="2801"/>
                          </a:lnTo>
                          <a:lnTo>
                            <a:pt x="259" y="3151"/>
                          </a:lnTo>
                          <a:lnTo>
                            <a:pt x="185" y="3501"/>
                          </a:lnTo>
                          <a:lnTo>
                            <a:pt x="205" y="3798"/>
                          </a:lnTo>
                          <a:lnTo>
                            <a:pt x="0" y="3798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1124640" y="5355360"/>
                      <a:ext cx="448920" cy="56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8" h="2320">
                          <a:moveTo>
                            <a:pt x="1838" y="0"/>
                          </a:moveTo>
                          <a:lnTo>
                            <a:pt x="1578" y="142"/>
                          </a:lnTo>
                          <a:lnTo>
                            <a:pt x="1226" y="415"/>
                          </a:lnTo>
                          <a:lnTo>
                            <a:pt x="965" y="647"/>
                          </a:lnTo>
                          <a:lnTo>
                            <a:pt x="687" y="946"/>
                          </a:lnTo>
                          <a:lnTo>
                            <a:pt x="463" y="1283"/>
                          </a:lnTo>
                          <a:lnTo>
                            <a:pt x="260" y="1594"/>
                          </a:lnTo>
                          <a:lnTo>
                            <a:pt x="129" y="1957"/>
                          </a:lnTo>
                          <a:lnTo>
                            <a:pt x="0" y="2320"/>
                          </a:lnTo>
                          <a:lnTo>
                            <a:pt x="129" y="1789"/>
                          </a:lnTo>
                          <a:lnTo>
                            <a:pt x="335" y="1334"/>
                          </a:lnTo>
                          <a:lnTo>
                            <a:pt x="576" y="959"/>
                          </a:lnTo>
                          <a:lnTo>
                            <a:pt x="854" y="673"/>
                          </a:lnTo>
                          <a:lnTo>
                            <a:pt x="1113" y="427"/>
                          </a:lnTo>
                          <a:lnTo>
                            <a:pt x="1838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" name=""/>
                  <p:cNvGrpSpPr/>
                  <p:nvPr/>
                </p:nvGrpSpPr>
                <p:grpSpPr>
                  <a:xfrm>
                    <a:off x="630000" y="5333760"/>
                    <a:ext cx="526320" cy="876240"/>
                    <a:chOff x="630000" y="5333760"/>
                    <a:chExt cx="526320" cy="876240"/>
                  </a:xfrm>
                </p:grpSpPr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30000" y="5333760"/>
                      <a:ext cx="526320" cy="87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3" h="3618">
                          <a:moveTo>
                            <a:pt x="1688" y="3618"/>
                          </a:moveTo>
                          <a:lnTo>
                            <a:pt x="1373" y="3449"/>
                          </a:lnTo>
                          <a:lnTo>
                            <a:pt x="1131" y="3294"/>
                          </a:lnTo>
                          <a:lnTo>
                            <a:pt x="910" y="3086"/>
                          </a:lnTo>
                          <a:lnTo>
                            <a:pt x="723" y="2905"/>
                          </a:lnTo>
                          <a:lnTo>
                            <a:pt x="537" y="2697"/>
                          </a:lnTo>
                          <a:lnTo>
                            <a:pt x="407" y="2478"/>
                          </a:lnTo>
                          <a:lnTo>
                            <a:pt x="314" y="2205"/>
                          </a:lnTo>
                          <a:lnTo>
                            <a:pt x="222" y="1907"/>
                          </a:lnTo>
                          <a:lnTo>
                            <a:pt x="185" y="1699"/>
                          </a:lnTo>
                          <a:lnTo>
                            <a:pt x="167" y="1439"/>
                          </a:lnTo>
                          <a:lnTo>
                            <a:pt x="167" y="1168"/>
                          </a:lnTo>
                          <a:lnTo>
                            <a:pt x="167" y="960"/>
                          </a:lnTo>
                          <a:lnTo>
                            <a:pt x="185" y="713"/>
                          </a:lnTo>
                          <a:lnTo>
                            <a:pt x="185" y="493"/>
                          </a:lnTo>
                          <a:lnTo>
                            <a:pt x="111" y="273"/>
                          </a:lnTo>
                          <a:lnTo>
                            <a:pt x="0" y="0"/>
                          </a:lnTo>
                          <a:lnTo>
                            <a:pt x="314" y="260"/>
                          </a:lnTo>
                          <a:lnTo>
                            <a:pt x="445" y="468"/>
                          </a:lnTo>
                          <a:lnTo>
                            <a:pt x="556" y="636"/>
                          </a:lnTo>
                          <a:lnTo>
                            <a:pt x="668" y="895"/>
                          </a:lnTo>
                          <a:lnTo>
                            <a:pt x="743" y="1219"/>
                          </a:lnTo>
                          <a:lnTo>
                            <a:pt x="779" y="1479"/>
                          </a:lnTo>
                          <a:lnTo>
                            <a:pt x="779" y="1699"/>
                          </a:lnTo>
                          <a:lnTo>
                            <a:pt x="835" y="1984"/>
                          </a:lnTo>
                          <a:lnTo>
                            <a:pt x="890" y="2231"/>
                          </a:lnTo>
                          <a:lnTo>
                            <a:pt x="1020" y="2438"/>
                          </a:lnTo>
                          <a:lnTo>
                            <a:pt x="1169" y="2671"/>
                          </a:lnTo>
                          <a:lnTo>
                            <a:pt x="1373" y="2905"/>
                          </a:lnTo>
                          <a:lnTo>
                            <a:pt x="1596" y="3151"/>
                          </a:lnTo>
                          <a:lnTo>
                            <a:pt x="1837" y="3397"/>
                          </a:lnTo>
                          <a:lnTo>
                            <a:pt x="2153" y="3618"/>
                          </a:lnTo>
                          <a:lnTo>
                            <a:pt x="1688" y="3618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716400" y="5481360"/>
                      <a:ext cx="249120" cy="64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1" h="2658">
                          <a:moveTo>
                            <a:pt x="0" y="0"/>
                          </a:moveTo>
                          <a:lnTo>
                            <a:pt x="37" y="221"/>
                          </a:lnTo>
                          <a:lnTo>
                            <a:pt x="55" y="416"/>
                          </a:lnTo>
                          <a:lnTo>
                            <a:pt x="55" y="648"/>
                          </a:lnTo>
                          <a:lnTo>
                            <a:pt x="55" y="829"/>
                          </a:lnTo>
                          <a:lnTo>
                            <a:pt x="129" y="1142"/>
                          </a:lnTo>
                          <a:lnTo>
                            <a:pt x="222" y="1439"/>
                          </a:lnTo>
                          <a:lnTo>
                            <a:pt x="316" y="1698"/>
                          </a:lnTo>
                          <a:lnTo>
                            <a:pt x="427" y="1971"/>
                          </a:lnTo>
                          <a:lnTo>
                            <a:pt x="668" y="2334"/>
                          </a:lnTo>
                          <a:lnTo>
                            <a:pt x="1021" y="2658"/>
                          </a:lnTo>
                          <a:lnTo>
                            <a:pt x="743" y="2282"/>
                          </a:lnTo>
                          <a:lnTo>
                            <a:pt x="519" y="2010"/>
                          </a:lnTo>
                          <a:lnTo>
                            <a:pt x="334" y="1595"/>
                          </a:lnTo>
                          <a:lnTo>
                            <a:pt x="260" y="1323"/>
                          </a:lnTo>
                          <a:lnTo>
                            <a:pt x="149" y="1037"/>
                          </a:lnTo>
                          <a:lnTo>
                            <a:pt x="111" y="739"/>
                          </a:lnTo>
                          <a:lnTo>
                            <a:pt x="93" y="50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929160" y="5141520"/>
                    <a:ext cx="181800" cy="1069560"/>
                    <a:chOff x="929160" y="5141520"/>
                    <a:chExt cx="181800" cy="10695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982800" y="5220360"/>
                      <a:ext cx="128160" cy="9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4" h="4090">
                          <a:moveTo>
                            <a:pt x="104" y="11"/>
                          </a:moveTo>
                          <a:lnTo>
                            <a:pt x="124" y="152"/>
                          </a:lnTo>
                          <a:lnTo>
                            <a:pt x="124" y="266"/>
                          </a:lnTo>
                          <a:lnTo>
                            <a:pt x="114" y="399"/>
                          </a:lnTo>
                          <a:lnTo>
                            <a:pt x="102" y="526"/>
                          </a:lnTo>
                          <a:lnTo>
                            <a:pt x="77" y="688"/>
                          </a:lnTo>
                          <a:lnTo>
                            <a:pt x="59" y="861"/>
                          </a:lnTo>
                          <a:lnTo>
                            <a:pt x="36" y="1080"/>
                          </a:lnTo>
                          <a:lnTo>
                            <a:pt x="23" y="1264"/>
                          </a:lnTo>
                          <a:lnTo>
                            <a:pt x="5" y="1601"/>
                          </a:lnTo>
                          <a:lnTo>
                            <a:pt x="0" y="1738"/>
                          </a:lnTo>
                          <a:lnTo>
                            <a:pt x="5" y="1885"/>
                          </a:lnTo>
                          <a:lnTo>
                            <a:pt x="5" y="2035"/>
                          </a:lnTo>
                          <a:lnTo>
                            <a:pt x="8" y="2208"/>
                          </a:lnTo>
                          <a:lnTo>
                            <a:pt x="31" y="2470"/>
                          </a:lnTo>
                          <a:lnTo>
                            <a:pt x="51" y="2636"/>
                          </a:lnTo>
                          <a:lnTo>
                            <a:pt x="59" y="2768"/>
                          </a:lnTo>
                          <a:lnTo>
                            <a:pt x="92" y="2980"/>
                          </a:lnTo>
                          <a:lnTo>
                            <a:pt x="120" y="3148"/>
                          </a:lnTo>
                          <a:lnTo>
                            <a:pt x="162" y="3343"/>
                          </a:lnTo>
                          <a:lnTo>
                            <a:pt x="208" y="3532"/>
                          </a:lnTo>
                          <a:lnTo>
                            <a:pt x="244" y="3682"/>
                          </a:lnTo>
                          <a:lnTo>
                            <a:pt x="273" y="3819"/>
                          </a:lnTo>
                          <a:lnTo>
                            <a:pt x="301" y="3938"/>
                          </a:lnTo>
                          <a:lnTo>
                            <a:pt x="339" y="4090"/>
                          </a:lnTo>
                          <a:lnTo>
                            <a:pt x="524" y="4090"/>
                          </a:lnTo>
                          <a:lnTo>
                            <a:pt x="496" y="4007"/>
                          </a:lnTo>
                          <a:lnTo>
                            <a:pt x="459" y="3870"/>
                          </a:lnTo>
                          <a:lnTo>
                            <a:pt x="431" y="3750"/>
                          </a:lnTo>
                          <a:lnTo>
                            <a:pt x="393" y="3610"/>
                          </a:lnTo>
                          <a:lnTo>
                            <a:pt x="362" y="3456"/>
                          </a:lnTo>
                          <a:lnTo>
                            <a:pt x="319" y="3273"/>
                          </a:lnTo>
                          <a:lnTo>
                            <a:pt x="287" y="3115"/>
                          </a:lnTo>
                          <a:lnTo>
                            <a:pt x="269" y="2980"/>
                          </a:lnTo>
                          <a:lnTo>
                            <a:pt x="231" y="2746"/>
                          </a:lnTo>
                          <a:lnTo>
                            <a:pt x="208" y="2587"/>
                          </a:lnTo>
                          <a:lnTo>
                            <a:pt x="190" y="2392"/>
                          </a:lnTo>
                          <a:lnTo>
                            <a:pt x="172" y="2267"/>
                          </a:lnTo>
                          <a:lnTo>
                            <a:pt x="162" y="2079"/>
                          </a:lnTo>
                          <a:lnTo>
                            <a:pt x="162" y="1854"/>
                          </a:lnTo>
                          <a:lnTo>
                            <a:pt x="162" y="1699"/>
                          </a:lnTo>
                          <a:lnTo>
                            <a:pt x="172" y="1522"/>
                          </a:lnTo>
                          <a:lnTo>
                            <a:pt x="190" y="1198"/>
                          </a:lnTo>
                          <a:lnTo>
                            <a:pt x="208" y="953"/>
                          </a:lnTo>
                          <a:lnTo>
                            <a:pt x="226" y="745"/>
                          </a:lnTo>
                          <a:lnTo>
                            <a:pt x="253" y="615"/>
                          </a:lnTo>
                          <a:lnTo>
                            <a:pt x="269" y="478"/>
                          </a:lnTo>
                          <a:lnTo>
                            <a:pt x="277" y="352"/>
                          </a:lnTo>
                          <a:lnTo>
                            <a:pt x="287" y="227"/>
                          </a:lnTo>
                          <a:lnTo>
                            <a:pt x="292" y="86"/>
                          </a:lnTo>
                          <a:lnTo>
                            <a:pt x="273" y="0"/>
                          </a:lnTo>
                          <a:lnTo>
                            <a:pt x="104" y="11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929160" y="5141520"/>
                      <a:ext cx="15876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2" h="358">
                          <a:moveTo>
                            <a:pt x="0" y="0"/>
                          </a:moveTo>
                          <a:lnTo>
                            <a:pt x="12" y="51"/>
                          </a:lnTo>
                          <a:lnTo>
                            <a:pt x="61" y="100"/>
                          </a:lnTo>
                          <a:lnTo>
                            <a:pt x="121" y="127"/>
                          </a:lnTo>
                          <a:lnTo>
                            <a:pt x="190" y="151"/>
                          </a:lnTo>
                          <a:lnTo>
                            <a:pt x="255" y="162"/>
                          </a:lnTo>
                          <a:lnTo>
                            <a:pt x="289" y="213"/>
                          </a:lnTo>
                          <a:lnTo>
                            <a:pt x="309" y="284"/>
                          </a:lnTo>
                          <a:lnTo>
                            <a:pt x="324" y="354"/>
                          </a:lnTo>
                          <a:lnTo>
                            <a:pt x="404" y="358"/>
                          </a:lnTo>
                          <a:lnTo>
                            <a:pt x="463" y="350"/>
                          </a:lnTo>
                          <a:lnTo>
                            <a:pt x="503" y="335"/>
                          </a:lnTo>
                          <a:lnTo>
                            <a:pt x="473" y="260"/>
                          </a:lnTo>
                          <a:lnTo>
                            <a:pt x="463" y="198"/>
                          </a:lnTo>
                          <a:lnTo>
                            <a:pt x="481" y="158"/>
                          </a:lnTo>
                          <a:lnTo>
                            <a:pt x="566" y="140"/>
                          </a:lnTo>
                          <a:lnTo>
                            <a:pt x="627" y="104"/>
                          </a:lnTo>
                          <a:lnTo>
                            <a:pt x="645" y="72"/>
                          </a:lnTo>
                          <a:lnTo>
                            <a:pt x="652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1066680" y="5369040"/>
                    <a:ext cx="317520" cy="841320"/>
                    <a:chOff x="1066680" y="5369040"/>
                    <a:chExt cx="317520" cy="84132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1066680" y="5369040"/>
                      <a:ext cx="317520" cy="84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0" h="3475">
                          <a:moveTo>
                            <a:pt x="0" y="3475"/>
                          </a:moveTo>
                          <a:lnTo>
                            <a:pt x="93" y="3268"/>
                          </a:lnTo>
                          <a:lnTo>
                            <a:pt x="241" y="3060"/>
                          </a:lnTo>
                          <a:lnTo>
                            <a:pt x="370" y="2828"/>
                          </a:lnTo>
                          <a:lnTo>
                            <a:pt x="483" y="2581"/>
                          </a:lnTo>
                          <a:lnTo>
                            <a:pt x="557" y="2334"/>
                          </a:lnTo>
                          <a:lnTo>
                            <a:pt x="612" y="2101"/>
                          </a:lnTo>
                          <a:lnTo>
                            <a:pt x="630" y="1907"/>
                          </a:lnTo>
                          <a:lnTo>
                            <a:pt x="704" y="1608"/>
                          </a:lnTo>
                          <a:lnTo>
                            <a:pt x="742" y="1284"/>
                          </a:lnTo>
                          <a:lnTo>
                            <a:pt x="742" y="986"/>
                          </a:lnTo>
                          <a:lnTo>
                            <a:pt x="742" y="689"/>
                          </a:lnTo>
                          <a:lnTo>
                            <a:pt x="724" y="429"/>
                          </a:lnTo>
                          <a:lnTo>
                            <a:pt x="668" y="0"/>
                          </a:lnTo>
                          <a:lnTo>
                            <a:pt x="817" y="260"/>
                          </a:lnTo>
                          <a:lnTo>
                            <a:pt x="946" y="532"/>
                          </a:lnTo>
                          <a:lnTo>
                            <a:pt x="1077" y="779"/>
                          </a:lnTo>
                          <a:lnTo>
                            <a:pt x="1187" y="1052"/>
                          </a:lnTo>
                          <a:lnTo>
                            <a:pt x="1225" y="1271"/>
                          </a:lnTo>
                          <a:lnTo>
                            <a:pt x="1262" y="1452"/>
                          </a:lnTo>
                          <a:lnTo>
                            <a:pt x="1300" y="1686"/>
                          </a:lnTo>
                          <a:lnTo>
                            <a:pt x="1280" y="1984"/>
                          </a:lnTo>
                          <a:lnTo>
                            <a:pt x="1225" y="2244"/>
                          </a:lnTo>
                          <a:lnTo>
                            <a:pt x="1169" y="2451"/>
                          </a:lnTo>
                          <a:lnTo>
                            <a:pt x="1095" y="2633"/>
                          </a:lnTo>
                          <a:lnTo>
                            <a:pt x="1002" y="2841"/>
                          </a:lnTo>
                          <a:lnTo>
                            <a:pt x="871" y="3060"/>
                          </a:lnTo>
                          <a:lnTo>
                            <a:pt x="724" y="3217"/>
                          </a:lnTo>
                          <a:lnTo>
                            <a:pt x="594" y="3346"/>
                          </a:lnTo>
                          <a:lnTo>
                            <a:pt x="427" y="3475"/>
                          </a:lnTo>
                          <a:lnTo>
                            <a:pt x="0" y="3475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1153080" y="5617080"/>
                      <a:ext cx="172440" cy="56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6" h="2334">
                          <a:moveTo>
                            <a:pt x="632" y="0"/>
                          </a:moveTo>
                          <a:lnTo>
                            <a:pt x="706" y="311"/>
                          </a:lnTo>
                          <a:lnTo>
                            <a:pt x="687" y="661"/>
                          </a:lnTo>
                          <a:lnTo>
                            <a:pt x="614" y="1063"/>
                          </a:lnTo>
                          <a:lnTo>
                            <a:pt x="519" y="1479"/>
                          </a:lnTo>
                          <a:lnTo>
                            <a:pt x="372" y="1829"/>
                          </a:lnTo>
                          <a:lnTo>
                            <a:pt x="131" y="2166"/>
                          </a:lnTo>
                          <a:lnTo>
                            <a:pt x="0" y="2334"/>
                          </a:lnTo>
                          <a:lnTo>
                            <a:pt x="167" y="2023"/>
                          </a:lnTo>
                          <a:lnTo>
                            <a:pt x="334" y="1724"/>
                          </a:lnTo>
                          <a:lnTo>
                            <a:pt x="465" y="1361"/>
                          </a:lnTo>
                          <a:lnTo>
                            <a:pt x="558" y="1024"/>
                          </a:lnTo>
                          <a:lnTo>
                            <a:pt x="632" y="635"/>
                          </a:lnTo>
                          <a:lnTo>
                            <a:pt x="687" y="401"/>
                          </a:lnTo>
                          <a:lnTo>
                            <a:pt x="632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794880" y="4779720"/>
                  <a:ext cx="375840" cy="371880"/>
                  <a:chOff x="794880" y="4779720"/>
                  <a:chExt cx="375840" cy="371880"/>
                </a:xfrm>
              </p:grpSpPr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877320" y="4779720"/>
                    <a:ext cx="159840" cy="157320"/>
                    <a:chOff x="877320" y="4779720"/>
                    <a:chExt cx="159840" cy="157320"/>
                  </a:xfrm>
                </p:grpSpPr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77320" y="4779720"/>
                      <a:ext cx="15984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5" h="650">
                          <a:moveTo>
                            <a:pt x="655" y="313"/>
                          </a:moveTo>
                          <a:lnTo>
                            <a:pt x="605" y="235"/>
                          </a:lnTo>
                          <a:lnTo>
                            <a:pt x="536" y="172"/>
                          </a:lnTo>
                          <a:lnTo>
                            <a:pt x="397" y="94"/>
                          </a:lnTo>
                          <a:lnTo>
                            <a:pt x="268" y="47"/>
                          </a:lnTo>
                          <a:lnTo>
                            <a:pt x="129" y="0"/>
                          </a:lnTo>
                          <a:lnTo>
                            <a:pt x="109" y="86"/>
                          </a:lnTo>
                          <a:lnTo>
                            <a:pt x="89" y="172"/>
                          </a:lnTo>
                          <a:lnTo>
                            <a:pt x="50" y="242"/>
                          </a:lnTo>
                          <a:lnTo>
                            <a:pt x="0" y="360"/>
                          </a:lnTo>
                          <a:lnTo>
                            <a:pt x="20" y="509"/>
                          </a:lnTo>
                          <a:lnTo>
                            <a:pt x="447" y="650"/>
                          </a:lnTo>
                          <a:lnTo>
                            <a:pt x="655" y="313"/>
                          </a:lnTo>
                          <a:close/>
                        </a:path>
                      </a:pathLst>
                    </a:custGeom>
                    <a:solidFill>
                      <a:srgbClr val="c00000"/>
                    </a:solidFill>
                    <a:ln w="111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918360" y="4791240"/>
                      <a:ext cx="10656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6" h="399">
                          <a:moveTo>
                            <a:pt x="312" y="129"/>
                          </a:moveTo>
                          <a:lnTo>
                            <a:pt x="223" y="82"/>
                          </a:lnTo>
                          <a:lnTo>
                            <a:pt x="154" y="47"/>
                          </a:lnTo>
                          <a:lnTo>
                            <a:pt x="69" y="19"/>
                          </a:lnTo>
                          <a:lnTo>
                            <a:pt x="0" y="0"/>
                          </a:lnTo>
                          <a:lnTo>
                            <a:pt x="64" y="90"/>
                          </a:lnTo>
                          <a:lnTo>
                            <a:pt x="104" y="172"/>
                          </a:lnTo>
                          <a:lnTo>
                            <a:pt x="134" y="239"/>
                          </a:lnTo>
                          <a:lnTo>
                            <a:pt x="158" y="317"/>
                          </a:lnTo>
                          <a:lnTo>
                            <a:pt x="208" y="399"/>
                          </a:lnTo>
                          <a:lnTo>
                            <a:pt x="436" y="203"/>
                          </a:lnTo>
                          <a:lnTo>
                            <a:pt x="312" y="129"/>
                          </a:lnTo>
                          <a:close/>
                        </a:path>
                      </a:pathLst>
                    </a:cu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881640" y="4797360"/>
                      <a:ext cx="72000" cy="8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3" h="368">
                          <a:moveTo>
                            <a:pt x="139" y="0"/>
                          </a:moveTo>
                          <a:lnTo>
                            <a:pt x="203" y="106"/>
                          </a:lnTo>
                          <a:lnTo>
                            <a:pt x="243" y="188"/>
                          </a:lnTo>
                          <a:lnTo>
                            <a:pt x="258" y="255"/>
                          </a:lnTo>
                          <a:lnTo>
                            <a:pt x="293" y="368"/>
                          </a:lnTo>
                          <a:lnTo>
                            <a:pt x="35" y="349"/>
                          </a:lnTo>
                          <a:lnTo>
                            <a:pt x="0" y="219"/>
                          </a:lnTo>
                          <a:lnTo>
                            <a:pt x="74" y="172"/>
                          </a:lnTo>
                          <a:lnTo>
                            <a:pt x="114" y="106"/>
                          </a:lnTo>
                          <a:lnTo>
                            <a:pt x="129" y="71"/>
                          </a:lnTo>
                          <a:lnTo>
                            <a:pt x="139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840" bIns="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0" name=""/>
                  <p:cNvSpPr/>
                  <p:nvPr/>
                </p:nvSpPr>
                <p:spPr>
                  <a:xfrm>
                    <a:off x="911160" y="4798440"/>
                    <a:ext cx="25956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2" h="1442">
                        <a:moveTo>
                          <a:pt x="804" y="78"/>
                        </a:moveTo>
                        <a:lnTo>
                          <a:pt x="764" y="172"/>
                        </a:lnTo>
                        <a:lnTo>
                          <a:pt x="759" y="235"/>
                        </a:lnTo>
                        <a:lnTo>
                          <a:pt x="774" y="298"/>
                        </a:lnTo>
                        <a:lnTo>
                          <a:pt x="794" y="360"/>
                        </a:lnTo>
                        <a:lnTo>
                          <a:pt x="824" y="419"/>
                        </a:lnTo>
                        <a:lnTo>
                          <a:pt x="868" y="497"/>
                        </a:lnTo>
                        <a:lnTo>
                          <a:pt x="903" y="564"/>
                        </a:lnTo>
                        <a:lnTo>
                          <a:pt x="952" y="635"/>
                        </a:lnTo>
                        <a:lnTo>
                          <a:pt x="1002" y="744"/>
                        </a:lnTo>
                        <a:lnTo>
                          <a:pt x="1037" y="834"/>
                        </a:lnTo>
                        <a:lnTo>
                          <a:pt x="1057" y="913"/>
                        </a:lnTo>
                        <a:lnTo>
                          <a:pt x="1062" y="1007"/>
                        </a:lnTo>
                        <a:lnTo>
                          <a:pt x="1057" y="1073"/>
                        </a:lnTo>
                        <a:lnTo>
                          <a:pt x="1037" y="1156"/>
                        </a:lnTo>
                        <a:lnTo>
                          <a:pt x="997" y="1222"/>
                        </a:lnTo>
                        <a:lnTo>
                          <a:pt x="962" y="1277"/>
                        </a:lnTo>
                        <a:lnTo>
                          <a:pt x="873" y="1348"/>
                        </a:lnTo>
                        <a:lnTo>
                          <a:pt x="764" y="1395"/>
                        </a:lnTo>
                        <a:lnTo>
                          <a:pt x="585" y="1418"/>
                        </a:lnTo>
                        <a:lnTo>
                          <a:pt x="357" y="1442"/>
                        </a:lnTo>
                        <a:lnTo>
                          <a:pt x="208" y="1402"/>
                        </a:lnTo>
                        <a:lnTo>
                          <a:pt x="109" y="1332"/>
                        </a:lnTo>
                        <a:lnTo>
                          <a:pt x="50" y="1222"/>
                        </a:lnTo>
                        <a:lnTo>
                          <a:pt x="20" y="1097"/>
                        </a:lnTo>
                        <a:lnTo>
                          <a:pt x="0" y="987"/>
                        </a:lnTo>
                        <a:lnTo>
                          <a:pt x="0" y="870"/>
                        </a:lnTo>
                        <a:lnTo>
                          <a:pt x="10" y="776"/>
                        </a:lnTo>
                        <a:lnTo>
                          <a:pt x="20" y="666"/>
                        </a:lnTo>
                        <a:lnTo>
                          <a:pt x="40" y="564"/>
                        </a:lnTo>
                        <a:lnTo>
                          <a:pt x="69" y="439"/>
                        </a:lnTo>
                        <a:lnTo>
                          <a:pt x="129" y="345"/>
                        </a:lnTo>
                        <a:lnTo>
                          <a:pt x="198" y="243"/>
                        </a:lnTo>
                        <a:lnTo>
                          <a:pt x="288" y="164"/>
                        </a:lnTo>
                        <a:lnTo>
                          <a:pt x="377" y="117"/>
                        </a:lnTo>
                        <a:lnTo>
                          <a:pt x="486" y="63"/>
                        </a:lnTo>
                        <a:lnTo>
                          <a:pt x="600" y="35"/>
                        </a:lnTo>
                        <a:lnTo>
                          <a:pt x="704" y="16"/>
                        </a:lnTo>
                        <a:lnTo>
                          <a:pt x="843" y="0"/>
                        </a:lnTo>
                        <a:lnTo>
                          <a:pt x="804" y="78"/>
                        </a:lnTo>
                        <a:close/>
                      </a:path>
                    </a:pathLst>
                  </a:custGeom>
                  <a:solidFill>
                    <a:srgbClr val="e0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94880" y="4798440"/>
                    <a:ext cx="25704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1" h="1457">
                        <a:moveTo>
                          <a:pt x="694" y="447"/>
                        </a:moveTo>
                        <a:lnTo>
                          <a:pt x="605" y="329"/>
                        </a:lnTo>
                        <a:lnTo>
                          <a:pt x="526" y="251"/>
                        </a:lnTo>
                        <a:lnTo>
                          <a:pt x="426" y="180"/>
                        </a:lnTo>
                        <a:lnTo>
                          <a:pt x="317" y="117"/>
                        </a:lnTo>
                        <a:lnTo>
                          <a:pt x="228" y="86"/>
                        </a:lnTo>
                        <a:lnTo>
                          <a:pt x="153" y="59"/>
                        </a:lnTo>
                        <a:lnTo>
                          <a:pt x="89" y="35"/>
                        </a:lnTo>
                        <a:lnTo>
                          <a:pt x="0" y="0"/>
                        </a:lnTo>
                        <a:lnTo>
                          <a:pt x="59" y="110"/>
                        </a:lnTo>
                        <a:lnTo>
                          <a:pt x="99" y="196"/>
                        </a:lnTo>
                        <a:lnTo>
                          <a:pt x="99" y="290"/>
                        </a:lnTo>
                        <a:lnTo>
                          <a:pt x="99" y="384"/>
                        </a:lnTo>
                        <a:lnTo>
                          <a:pt x="89" y="470"/>
                        </a:lnTo>
                        <a:lnTo>
                          <a:pt x="69" y="572"/>
                        </a:lnTo>
                        <a:lnTo>
                          <a:pt x="39" y="666"/>
                        </a:lnTo>
                        <a:lnTo>
                          <a:pt x="20" y="760"/>
                        </a:lnTo>
                        <a:lnTo>
                          <a:pt x="0" y="846"/>
                        </a:lnTo>
                        <a:lnTo>
                          <a:pt x="0" y="932"/>
                        </a:lnTo>
                        <a:lnTo>
                          <a:pt x="10" y="1018"/>
                        </a:lnTo>
                        <a:lnTo>
                          <a:pt x="39" y="1112"/>
                        </a:lnTo>
                        <a:lnTo>
                          <a:pt x="79" y="1207"/>
                        </a:lnTo>
                        <a:lnTo>
                          <a:pt x="119" y="1277"/>
                        </a:lnTo>
                        <a:lnTo>
                          <a:pt x="218" y="1379"/>
                        </a:lnTo>
                        <a:lnTo>
                          <a:pt x="327" y="1418"/>
                        </a:lnTo>
                        <a:lnTo>
                          <a:pt x="466" y="1449"/>
                        </a:lnTo>
                        <a:lnTo>
                          <a:pt x="625" y="1457"/>
                        </a:lnTo>
                        <a:lnTo>
                          <a:pt x="724" y="1457"/>
                        </a:lnTo>
                        <a:lnTo>
                          <a:pt x="873" y="1438"/>
                        </a:lnTo>
                        <a:lnTo>
                          <a:pt x="947" y="1398"/>
                        </a:lnTo>
                        <a:lnTo>
                          <a:pt x="1012" y="1332"/>
                        </a:lnTo>
                        <a:lnTo>
                          <a:pt x="1042" y="1238"/>
                        </a:lnTo>
                        <a:lnTo>
                          <a:pt x="1051" y="1160"/>
                        </a:lnTo>
                        <a:lnTo>
                          <a:pt x="1051" y="1034"/>
                        </a:lnTo>
                        <a:lnTo>
                          <a:pt x="1012" y="924"/>
                        </a:lnTo>
                        <a:lnTo>
                          <a:pt x="932" y="791"/>
                        </a:lnTo>
                        <a:lnTo>
                          <a:pt x="853" y="666"/>
                        </a:lnTo>
                        <a:lnTo>
                          <a:pt x="784" y="556"/>
                        </a:lnTo>
                        <a:lnTo>
                          <a:pt x="694" y="447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092960" y="4924080"/>
                    <a:ext cx="6048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846">
                        <a:moveTo>
                          <a:pt x="109" y="0"/>
                        </a:moveTo>
                        <a:lnTo>
                          <a:pt x="189" y="188"/>
                        </a:lnTo>
                        <a:lnTo>
                          <a:pt x="228" y="313"/>
                        </a:lnTo>
                        <a:lnTo>
                          <a:pt x="248" y="470"/>
                        </a:lnTo>
                        <a:lnTo>
                          <a:pt x="238" y="611"/>
                        </a:lnTo>
                        <a:lnTo>
                          <a:pt x="179" y="729"/>
                        </a:lnTo>
                        <a:lnTo>
                          <a:pt x="89" y="807"/>
                        </a:lnTo>
                        <a:lnTo>
                          <a:pt x="0" y="846"/>
                        </a:lnTo>
                        <a:lnTo>
                          <a:pt x="129" y="666"/>
                        </a:lnTo>
                        <a:lnTo>
                          <a:pt x="169" y="517"/>
                        </a:lnTo>
                        <a:lnTo>
                          <a:pt x="159" y="360"/>
                        </a:lnTo>
                        <a:lnTo>
                          <a:pt x="159" y="251"/>
                        </a:lnTo>
                        <a:lnTo>
                          <a:pt x="139" y="141"/>
                        </a:lnTo>
                        <a:lnTo>
                          <a:pt x="109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804600" y="4809960"/>
                    <a:ext cx="14904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403">
                        <a:moveTo>
                          <a:pt x="65" y="27"/>
                        </a:moveTo>
                        <a:lnTo>
                          <a:pt x="129" y="47"/>
                        </a:lnTo>
                        <a:lnTo>
                          <a:pt x="204" y="74"/>
                        </a:lnTo>
                        <a:lnTo>
                          <a:pt x="273" y="110"/>
                        </a:lnTo>
                        <a:lnTo>
                          <a:pt x="328" y="141"/>
                        </a:lnTo>
                        <a:lnTo>
                          <a:pt x="397" y="188"/>
                        </a:lnTo>
                        <a:lnTo>
                          <a:pt x="462" y="235"/>
                        </a:lnTo>
                        <a:lnTo>
                          <a:pt x="541" y="313"/>
                        </a:lnTo>
                        <a:lnTo>
                          <a:pt x="611" y="403"/>
                        </a:lnTo>
                        <a:lnTo>
                          <a:pt x="506" y="356"/>
                        </a:lnTo>
                        <a:lnTo>
                          <a:pt x="422" y="317"/>
                        </a:lnTo>
                        <a:lnTo>
                          <a:pt x="348" y="290"/>
                        </a:lnTo>
                        <a:lnTo>
                          <a:pt x="268" y="266"/>
                        </a:lnTo>
                        <a:lnTo>
                          <a:pt x="204" y="251"/>
                        </a:lnTo>
                        <a:lnTo>
                          <a:pt x="149" y="231"/>
                        </a:lnTo>
                        <a:lnTo>
                          <a:pt x="110" y="196"/>
                        </a:lnTo>
                        <a:lnTo>
                          <a:pt x="80" y="137"/>
                        </a:lnTo>
                        <a:lnTo>
                          <a:pt x="60" y="90"/>
                        </a:lnTo>
                        <a:lnTo>
                          <a:pt x="0" y="0"/>
                        </a:lnTo>
                        <a:lnTo>
                          <a:pt x="65" y="27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986400" y="4808160"/>
                    <a:ext cx="1148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47">
                        <a:moveTo>
                          <a:pt x="471" y="0"/>
                        </a:moveTo>
                        <a:lnTo>
                          <a:pt x="382" y="12"/>
                        </a:lnTo>
                        <a:lnTo>
                          <a:pt x="277" y="39"/>
                        </a:lnTo>
                        <a:lnTo>
                          <a:pt x="138" y="98"/>
                        </a:lnTo>
                        <a:lnTo>
                          <a:pt x="84" y="145"/>
                        </a:lnTo>
                        <a:lnTo>
                          <a:pt x="29" y="208"/>
                        </a:lnTo>
                        <a:lnTo>
                          <a:pt x="0" y="247"/>
                        </a:lnTo>
                        <a:lnTo>
                          <a:pt x="133" y="216"/>
                        </a:lnTo>
                        <a:lnTo>
                          <a:pt x="297" y="208"/>
                        </a:lnTo>
                        <a:lnTo>
                          <a:pt x="367" y="192"/>
                        </a:lnTo>
                        <a:lnTo>
                          <a:pt x="411" y="145"/>
                        </a:lnTo>
                        <a:lnTo>
                          <a:pt x="456" y="78"/>
                        </a:lnTo>
                        <a:lnTo>
                          <a:pt x="471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001160" y="4994280"/>
                    <a:ext cx="4104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599">
                        <a:moveTo>
                          <a:pt x="25" y="0"/>
                        </a:moveTo>
                        <a:lnTo>
                          <a:pt x="114" y="114"/>
                        </a:lnTo>
                        <a:lnTo>
                          <a:pt x="149" y="188"/>
                        </a:lnTo>
                        <a:lnTo>
                          <a:pt x="169" y="270"/>
                        </a:lnTo>
                        <a:lnTo>
                          <a:pt x="169" y="341"/>
                        </a:lnTo>
                        <a:lnTo>
                          <a:pt x="159" y="407"/>
                        </a:lnTo>
                        <a:lnTo>
                          <a:pt x="144" y="474"/>
                        </a:lnTo>
                        <a:lnTo>
                          <a:pt x="114" y="509"/>
                        </a:lnTo>
                        <a:lnTo>
                          <a:pt x="74" y="560"/>
                        </a:lnTo>
                        <a:lnTo>
                          <a:pt x="0" y="599"/>
                        </a:lnTo>
                        <a:lnTo>
                          <a:pt x="50" y="505"/>
                        </a:lnTo>
                        <a:lnTo>
                          <a:pt x="70" y="450"/>
                        </a:lnTo>
                        <a:lnTo>
                          <a:pt x="84" y="392"/>
                        </a:lnTo>
                        <a:lnTo>
                          <a:pt x="89" y="337"/>
                        </a:lnTo>
                        <a:lnTo>
                          <a:pt x="84" y="278"/>
                        </a:lnTo>
                        <a:lnTo>
                          <a:pt x="84" y="219"/>
                        </a:lnTo>
                        <a:lnTo>
                          <a:pt x="65" y="137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803160" y="4930560"/>
                    <a:ext cx="507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776">
                        <a:moveTo>
                          <a:pt x="95" y="0"/>
                        </a:moveTo>
                        <a:lnTo>
                          <a:pt x="30" y="153"/>
                        </a:lnTo>
                        <a:lnTo>
                          <a:pt x="5" y="259"/>
                        </a:lnTo>
                        <a:lnTo>
                          <a:pt x="0" y="373"/>
                        </a:lnTo>
                        <a:lnTo>
                          <a:pt x="15" y="498"/>
                        </a:lnTo>
                        <a:lnTo>
                          <a:pt x="65" y="619"/>
                        </a:lnTo>
                        <a:lnTo>
                          <a:pt x="134" y="729"/>
                        </a:lnTo>
                        <a:lnTo>
                          <a:pt x="209" y="776"/>
                        </a:lnTo>
                        <a:lnTo>
                          <a:pt x="129" y="639"/>
                        </a:lnTo>
                        <a:lnTo>
                          <a:pt x="90" y="431"/>
                        </a:lnTo>
                        <a:lnTo>
                          <a:pt x="90" y="263"/>
                        </a:lnTo>
                        <a:lnTo>
                          <a:pt x="90" y="145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915840" y="4935960"/>
                    <a:ext cx="185040" cy="171000"/>
                    <a:chOff x="915840" y="4935960"/>
                    <a:chExt cx="185040" cy="171000"/>
                  </a:xfrm>
                </p:grpSpPr>
                <p:grpSp>
                  <p:nvGrpSpPr>
                    <p:cNvPr id="138" name=""/>
                    <p:cNvGrpSpPr/>
                    <p:nvPr/>
                  </p:nvGrpSpPr>
                  <p:grpSpPr>
                    <a:xfrm>
                      <a:off x="915840" y="4937760"/>
                      <a:ext cx="181440" cy="169200"/>
                      <a:chOff x="915840" y="4937760"/>
                      <a:chExt cx="181440" cy="169200"/>
                    </a:xfrm>
                  </p:grpSpPr>
                  <p:sp>
                    <p:nvSpPr>
                      <p:cNvPr id="139" name=""/>
                      <p:cNvSpPr/>
                      <p:nvPr/>
                    </p:nvSpPr>
                    <p:spPr>
                      <a:xfrm>
                        <a:off x="932760" y="5041440"/>
                        <a:ext cx="19080" cy="1476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915840" y="4993920"/>
                        <a:ext cx="10440" cy="1116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1067400" y="4937760"/>
                        <a:ext cx="10440" cy="1620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1081800" y="5038560"/>
                        <a:ext cx="15480" cy="1764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924480" y="5094720"/>
                        <a:ext cx="14040" cy="1224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4" name=""/>
                    <p:cNvGrpSpPr/>
                    <p:nvPr/>
                  </p:nvGrpSpPr>
                  <p:grpSpPr>
                    <a:xfrm>
                      <a:off x="919080" y="4935960"/>
                      <a:ext cx="181800" cy="169560"/>
                      <a:chOff x="919080" y="4935960"/>
                      <a:chExt cx="181800" cy="169560"/>
                    </a:xfrm>
                  </p:grpSpPr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936000" y="5039640"/>
                        <a:ext cx="19440" cy="1476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919080" y="4992120"/>
                        <a:ext cx="11160" cy="1152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>
                        <a:off x="1070640" y="4935960"/>
                        <a:ext cx="11160" cy="1620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1085400" y="5036760"/>
                        <a:ext cx="15480" cy="1800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928080" y="5092920"/>
                        <a:ext cx="13320" cy="1260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943200" y="5043240"/>
                      <a:ext cx="10080" cy="79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923400" y="4995000"/>
                      <a:ext cx="4320" cy="64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1073160" y="4939560"/>
                      <a:ext cx="6120" cy="100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091160" y="5039640"/>
                      <a:ext cx="7560" cy="118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933120" y="5095800"/>
                      <a:ext cx="6840" cy="61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5" name=""/>
              <p:cNvGrpSpPr/>
              <p:nvPr/>
            </p:nvGrpSpPr>
            <p:grpSpPr>
              <a:xfrm>
                <a:off x="653760" y="5055120"/>
                <a:ext cx="1679040" cy="1155960"/>
                <a:chOff x="653760" y="5055120"/>
                <a:chExt cx="1679040" cy="115596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653760" y="5270040"/>
                  <a:ext cx="1679040" cy="941040"/>
                  <a:chOff x="653760" y="5270040"/>
                  <a:chExt cx="1679040" cy="94104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1685880" y="5270040"/>
                    <a:ext cx="1713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701" h="523">
                        <a:moveTo>
                          <a:pt x="172" y="0"/>
                        </a:moveTo>
                        <a:lnTo>
                          <a:pt x="106" y="105"/>
                        </a:lnTo>
                        <a:lnTo>
                          <a:pt x="106" y="199"/>
                        </a:lnTo>
                        <a:lnTo>
                          <a:pt x="145" y="303"/>
                        </a:lnTo>
                        <a:lnTo>
                          <a:pt x="0" y="429"/>
                        </a:lnTo>
                        <a:lnTo>
                          <a:pt x="132" y="523"/>
                        </a:lnTo>
                        <a:lnTo>
                          <a:pt x="238" y="429"/>
                        </a:lnTo>
                        <a:lnTo>
                          <a:pt x="423" y="481"/>
                        </a:lnTo>
                        <a:lnTo>
                          <a:pt x="595" y="481"/>
                        </a:lnTo>
                        <a:lnTo>
                          <a:pt x="701" y="418"/>
                        </a:lnTo>
                        <a:lnTo>
                          <a:pt x="172" y="0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653760" y="5288760"/>
                    <a:ext cx="1679040" cy="922320"/>
                    <a:chOff x="653760" y="5288760"/>
                    <a:chExt cx="1679040" cy="922320"/>
                  </a:xfrm>
                </p:grpSpPr>
                <p:grpSp>
                  <p:nvGrpSpPr>
                    <p:cNvPr id="159" name=""/>
                    <p:cNvGrpSpPr/>
                    <p:nvPr/>
                  </p:nvGrpSpPr>
                  <p:grpSpPr>
                    <a:xfrm>
                      <a:off x="1333440" y="5622480"/>
                      <a:ext cx="999360" cy="588600"/>
                      <a:chOff x="1333440" y="5622480"/>
                      <a:chExt cx="999360" cy="588600"/>
                    </a:xfrm>
                  </p:grpSpPr>
                  <p:sp>
                    <p:nvSpPr>
                      <p:cNvPr id="160" name=""/>
                      <p:cNvSpPr/>
                      <p:nvPr/>
                    </p:nvSpPr>
                    <p:spPr>
                      <a:xfrm>
                        <a:off x="1333440" y="5622480"/>
                        <a:ext cx="999360" cy="58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88" h="2429">
                            <a:moveTo>
                              <a:pt x="0" y="2429"/>
                            </a:moveTo>
                            <a:lnTo>
                              <a:pt x="59" y="1535"/>
                            </a:lnTo>
                            <a:lnTo>
                              <a:pt x="178" y="1144"/>
                            </a:lnTo>
                            <a:lnTo>
                              <a:pt x="357" y="909"/>
                            </a:lnTo>
                            <a:lnTo>
                              <a:pt x="575" y="689"/>
                            </a:lnTo>
                            <a:lnTo>
                              <a:pt x="853" y="501"/>
                            </a:lnTo>
                            <a:lnTo>
                              <a:pt x="1091" y="344"/>
                            </a:lnTo>
                            <a:lnTo>
                              <a:pt x="1369" y="235"/>
                            </a:lnTo>
                            <a:lnTo>
                              <a:pt x="1746" y="125"/>
                            </a:lnTo>
                            <a:lnTo>
                              <a:pt x="2083" y="31"/>
                            </a:lnTo>
                            <a:lnTo>
                              <a:pt x="2401" y="15"/>
                            </a:lnTo>
                            <a:lnTo>
                              <a:pt x="2738" y="0"/>
                            </a:lnTo>
                            <a:lnTo>
                              <a:pt x="3016" y="31"/>
                            </a:lnTo>
                            <a:lnTo>
                              <a:pt x="3354" y="94"/>
                            </a:lnTo>
                            <a:lnTo>
                              <a:pt x="3552" y="172"/>
                            </a:lnTo>
                            <a:lnTo>
                              <a:pt x="4088" y="548"/>
                            </a:lnTo>
                            <a:lnTo>
                              <a:pt x="3512" y="454"/>
                            </a:lnTo>
                            <a:lnTo>
                              <a:pt x="3234" y="564"/>
                            </a:lnTo>
                            <a:lnTo>
                              <a:pt x="2897" y="579"/>
                            </a:lnTo>
                            <a:lnTo>
                              <a:pt x="2619" y="611"/>
                            </a:lnTo>
                            <a:lnTo>
                              <a:pt x="2302" y="689"/>
                            </a:lnTo>
                            <a:lnTo>
                              <a:pt x="1945" y="705"/>
                            </a:lnTo>
                            <a:lnTo>
                              <a:pt x="1687" y="752"/>
                            </a:lnTo>
                            <a:lnTo>
                              <a:pt x="1329" y="815"/>
                            </a:lnTo>
                            <a:lnTo>
                              <a:pt x="1012" y="877"/>
                            </a:lnTo>
                            <a:lnTo>
                              <a:pt x="833" y="1018"/>
                            </a:lnTo>
                            <a:lnTo>
                              <a:pt x="595" y="1316"/>
                            </a:lnTo>
                            <a:lnTo>
                              <a:pt x="476" y="1629"/>
                            </a:lnTo>
                            <a:lnTo>
                              <a:pt x="417" y="1896"/>
                            </a:lnTo>
                            <a:lnTo>
                              <a:pt x="397" y="2429"/>
                            </a:lnTo>
                            <a:lnTo>
                              <a:pt x="0" y="2429"/>
                            </a:lnTo>
                            <a:close/>
                          </a:path>
                        </a:pathLst>
                      </a:custGeom>
                      <a:solidFill>
                        <a:srgbClr val="006000"/>
                      </a:solidFill>
                      <a:ln w="11160">
                        <a:solidFill>
                          <a:srgbClr val="004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1382040" y="5683320"/>
                        <a:ext cx="737280" cy="432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17" h="1787">
                            <a:moveTo>
                              <a:pt x="0" y="1787"/>
                            </a:moveTo>
                            <a:lnTo>
                              <a:pt x="40" y="1317"/>
                            </a:lnTo>
                            <a:lnTo>
                              <a:pt x="258" y="831"/>
                            </a:lnTo>
                            <a:lnTo>
                              <a:pt x="715" y="502"/>
                            </a:lnTo>
                            <a:lnTo>
                              <a:pt x="1409" y="298"/>
                            </a:lnTo>
                            <a:lnTo>
                              <a:pt x="1965" y="204"/>
                            </a:lnTo>
                            <a:lnTo>
                              <a:pt x="2620" y="47"/>
                            </a:lnTo>
                            <a:lnTo>
                              <a:pt x="3017" y="47"/>
                            </a:lnTo>
                            <a:lnTo>
                              <a:pt x="2501" y="0"/>
                            </a:lnTo>
                            <a:lnTo>
                              <a:pt x="2064" y="63"/>
                            </a:lnTo>
                            <a:lnTo>
                              <a:pt x="1608" y="220"/>
                            </a:lnTo>
                            <a:lnTo>
                              <a:pt x="893" y="423"/>
                            </a:lnTo>
                            <a:lnTo>
                              <a:pt x="238" y="737"/>
                            </a:lnTo>
                            <a:lnTo>
                              <a:pt x="100" y="1003"/>
                            </a:lnTo>
                            <a:lnTo>
                              <a:pt x="0" y="1787"/>
                            </a:lnTo>
                            <a:close/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1330920" y="5368680"/>
                      <a:ext cx="392400" cy="84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8" h="3474">
                          <a:moveTo>
                            <a:pt x="1494" y="0"/>
                          </a:moveTo>
                          <a:lnTo>
                            <a:pt x="1335" y="114"/>
                          </a:lnTo>
                          <a:lnTo>
                            <a:pt x="1186" y="231"/>
                          </a:lnTo>
                          <a:lnTo>
                            <a:pt x="978" y="406"/>
                          </a:lnTo>
                          <a:lnTo>
                            <a:pt x="829" y="568"/>
                          </a:lnTo>
                          <a:lnTo>
                            <a:pt x="695" y="729"/>
                          </a:lnTo>
                          <a:lnTo>
                            <a:pt x="581" y="889"/>
                          </a:lnTo>
                          <a:lnTo>
                            <a:pt x="491" y="1042"/>
                          </a:lnTo>
                          <a:lnTo>
                            <a:pt x="422" y="1211"/>
                          </a:lnTo>
                          <a:lnTo>
                            <a:pt x="369" y="1399"/>
                          </a:lnTo>
                          <a:lnTo>
                            <a:pt x="328" y="1598"/>
                          </a:lnTo>
                          <a:lnTo>
                            <a:pt x="276" y="1811"/>
                          </a:lnTo>
                          <a:lnTo>
                            <a:pt x="214" y="2088"/>
                          </a:lnTo>
                          <a:lnTo>
                            <a:pt x="144" y="2300"/>
                          </a:lnTo>
                          <a:lnTo>
                            <a:pt x="75" y="2557"/>
                          </a:lnTo>
                          <a:lnTo>
                            <a:pt x="45" y="2745"/>
                          </a:lnTo>
                          <a:lnTo>
                            <a:pt x="20" y="2906"/>
                          </a:lnTo>
                          <a:lnTo>
                            <a:pt x="0" y="3113"/>
                          </a:lnTo>
                          <a:lnTo>
                            <a:pt x="0" y="3297"/>
                          </a:lnTo>
                          <a:lnTo>
                            <a:pt x="0" y="3474"/>
                          </a:lnTo>
                          <a:lnTo>
                            <a:pt x="157" y="3472"/>
                          </a:lnTo>
                          <a:lnTo>
                            <a:pt x="159" y="3207"/>
                          </a:lnTo>
                          <a:lnTo>
                            <a:pt x="174" y="2996"/>
                          </a:lnTo>
                          <a:lnTo>
                            <a:pt x="197" y="2846"/>
                          </a:lnTo>
                          <a:lnTo>
                            <a:pt x="219" y="2674"/>
                          </a:lnTo>
                          <a:lnTo>
                            <a:pt x="248" y="2515"/>
                          </a:lnTo>
                          <a:lnTo>
                            <a:pt x="293" y="2370"/>
                          </a:lnTo>
                          <a:lnTo>
                            <a:pt x="343" y="2221"/>
                          </a:lnTo>
                          <a:lnTo>
                            <a:pt x="387" y="2065"/>
                          </a:lnTo>
                          <a:lnTo>
                            <a:pt x="437" y="1869"/>
                          </a:lnTo>
                          <a:lnTo>
                            <a:pt x="481" y="1649"/>
                          </a:lnTo>
                          <a:lnTo>
                            <a:pt x="515" y="1430"/>
                          </a:lnTo>
                          <a:lnTo>
                            <a:pt x="601" y="1152"/>
                          </a:lnTo>
                          <a:lnTo>
                            <a:pt x="680" y="983"/>
                          </a:lnTo>
                          <a:lnTo>
                            <a:pt x="789" y="831"/>
                          </a:lnTo>
                          <a:lnTo>
                            <a:pt x="928" y="654"/>
                          </a:lnTo>
                          <a:lnTo>
                            <a:pt x="1110" y="458"/>
                          </a:lnTo>
                          <a:lnTo>
                            <a:pt x="1255" y="325"/>
                          </a:lnTo>
                          <a:lnTo>
                            <a:pt x="1464" y="176"/>
                          </a:lnTo>
                          <a:lnTo>
                            <a:pt x="1608" y="74"/>
                          </a:lnTo>
                          <a:lnTo>
                            <a:pt x="1494" y="0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3" name=""/>
                    <p:cNvGrpSpPr/>
                    <p:nvPr/>
                  </p:nvGrpSpPr>
                  <p:grpSpPr>
                    <a:xfrm>
                      <a:off x="653760" y="5288760"/>
                      <a:ext cx="712440" cy="920880"/>
                      <a:chOff x="653760" y="5288760"/>
                      <a:chExt cx="712440" cy="920880"/>
                    </a:xfrm>
                  </p:grpSpPr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653760" y="5288760"/>
                        <a:ext cx="712440" cy="9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16" h="3799">
                            <a:moveTo>
                              <a:pt x="2916" y="3799"/>
                            </a:moveTo>
                            <a:lnTo>
                              <a:pt x="2823" y="3048"/>
                            </a:lnTo>
                            <a:lnTo>
                              <a:pt x="2731" y="2736"/>
                            </a:lnTo>
                            <a:lnTo>
                              <a:pt x="2674" y="2386"/>
                            </a:lnTo>
                            <a:lnTo>
                              <a:pt x="2582" y="2010"/>
                            </a:lnTo>
                            <a:lnTo>
                              <a:pt x="2451" y="1673"/>
                            </a:lnTo>
                            <a:lnTo>
                              <a:pt x="2340" y="1401"/>
                            </a:lnTo>
                            <a:lnTo>
                              <a:pt x="2173" y="1128"/>
                            </a:lnTo>
                            <a:lnTo>
                              <a:pt x="1950" y="857"/>
                            </a:lnTo>
                            <a:lnTo>
                              <a:pt x="1747" y="649"/>
                            </a:lnTo>
                            <a:lnTo>
                              <a:pt x="1560" y="481"/>
                            </a:lnTo>
                            <a:lnTo>
                              <a:pt x="1356" y="350"/>
                            </a:lnTo>
                            <a:lnTo>
                              <a:pt x="984" y="195"/>
                            </a:lnTo>
                            <a:lnTo>
                              <a:pt x="558" y="78"/>
                            </a:lnTo>
                            <a:lnTo>
                              <a:pt x="0" y="0"/>
                            </a:lnTo>
                            <a:lnTo>
                              <a:pt x="280" y="168"/>
                            </a:lnTo>
                            <a:lnTo>
                              <a:pt x="465" y="299"/>
                            </a:lnTo>
                            <a:lnTo>
                              <a:pt x="670" y="481"/>
                            </a:lnTo>
                            <a:lnTo>
                              <a:pt x="817" y="610"/>
                            </a:lnTo>
                            <a:lnTo>
                              <a:pt x="1022" y="765"/>
                            </a:lnTo>
                            <a:lnTo>
                              <a:pt x="1208" y="921"/>
                            </a:lnTo>
                            <a:lnTo>
                              <a:pt x="1467" y="1141"/>
                            </a:lnTo>
                            <a:lnTo>
                              <a:pt x="1672" y="1310"/>
                            </a:lnTo>
                            <a:lnTo>
                              <a:pt x="1839" y="1504"/>
                            </a:lnTo>
                            <a:lnTo>
                              <a:pt x="2006" y="1725"/>
                            </a:lnTo>
                            <a:lnTo>
                              <a:pt x="2117" y="1920"/>
                            </a:lnTo>
                            <a:lnTo>
                              <a:pt x="2284" y="2178"/>
                            </a:lnTo>
                            <a:lnTo>
                              <a:pt x="2433" y="2477"/>
                            </a:lnTo>
                            <a:lnTo>
                              <a:pt x="2564" y="2801"/>
                            </a:lnTo>
                            <a:lnTo>
                              <a:pt x="2656" y="3151"/>
                            </a:lnTo>
                            <a:lnTo>
                              <a:pt x="2731" y="3501"/>
                            </a:lnTo>
                            <a:lnTo>
                              <a:pt x="2711" y="3799"/>
                            </a:lnTo>
                            <a:lnTo>
                              <a:pt x="2916" y="3799"/>
                            </a:lnTo>
                            <a:close/>
                          </a:path>
                        </a:pathLst>
                      </a:custGeom>
                      <a:solidFill>
                        <a:srgbClr val="006000"/>
                      </a:solidFill>
                      <a:ln w="11160">
                        <a:solidFill>
                          <a:srgbClr val="004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844200" y="5357880"/>
                        <a:ext cx="449280" cy="56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7" h="2320">
                            <a:moveTo>
                              <a:pt x="0" y="0"/>
                            </a:moveTo>
                            <a:lnTo>
                              <a:pt x="259" y="142"/>
                            </a:lnTo>
                            <a:lnTo>
                              <a:pt x="612" y="415"/>
                            </a:lnTo>
                            <a:lnTo>
                              <a:pt x="873" y="648"/>
                            </a:lnTo>
                            <a:lnTo>
                              <a:pt x="1151" y="947"/>
                            </a:lnTo>
                            <a:lnTo>
                              <a:pt x="1374" y="1284"/>
                            </a:lnTo>
                            <a:lnTo>
                              <a:pt x="1577" y="1594"/>
                            </a:lnTo>
                            <a:lnTo>
                              <a:pt x="1708" y="1957"/>
                            </a:lnTo>
                            <a:lnTo>
                              <a:pt x="1837" y="2320"/>
                            </a:lnTo>
                            <a:lnTo>
                              <a:pt x="1708" y="1789"/>
                            </a:lnTo>
                            <a:lnTo>
                              <a:pt x="1503" y="1335"/>
                            </a:lnTo>
                            <a:lnTo>
                              <a:pt x="1262" y="960"/>
                            </a:lnTo>
                            <a:lnTo>
                              <a:pt x="984" y="674"/>
                            </a:lnTo>
                            <a:lnTo>
                              <a:pt x="724" y="42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1693440" y="5055120"/>
                  <a:ext cx="518760" cy="325440"/>
                  <a:chOff x="1693440" y="5055120"/>
                  <a:chExt cx="518760" cy="325440"/>
                </a:xfrm>
              </p:grpSpPr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1909440" y="5103360"/>
                    <a:ext cx="266760" cy="150480"/>
                    <a:chOff x="1909440" y="5103360"/>
                    <a:chExt cx="266760" cy="150480"/>
                  </a:xfrm>
                </p:grpSpPr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1909440" y="5103360"/>
                      <a:ext cx="26676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1" h="623">
                          <a:moveTo>
                            <a:pt x="213" y="43"/>
                          </a:moveTo>
                          <a:lnTo>
                            <a:pt x="407" y="31"/>
                          </a:lnTo>
                          <a:lnTo>
                            <a:pt x="560" y="0"/>
                          </a:lnTo>
                          <a:lnTo>
                            <a:pt x="689" y="4"/>
                          </a:lnTo>
                          <a:lnTo>
                            <a:pt x="793" y="20"/>
                          </a:lnTo>
                          <a:lnTo>
                            <a:pt x="863" y="43"/>
                          </a:lnTo>
                          <a:lnTo>
                            <a:pt x="927" y="78"/>
                          </a:lnTo>
                          <a:lnTo>
                            <a:pt x="1012" y="122"/>
                          </a:lnTo>
                          <a:lnTo>
                            <a:pt x="1091" y="145"/>
                          </a:lnTo>
                          <a:lnTo>
                            <a:pt x="1022" y="169"/>
                          </a:lnTo>
                          <a:lnTo>
                            <a:pt x="962" y="216"/>
                          </a:lnTo>
                          <a:lnTo>
                            <a:pt x="913" y="325"/>
                          </a:lnTo>
                          <a:lnTo>
                            <a:pt x="793" y="419"/>
                          </a:lnTo>
                          <a:lnTo>
                            <a:pt x="20" y="623"/>
                          </a:lnTo>
                          <a:lnTo>
                            <a:pt x="0" y="278"/>
                          </a:lnTo>
                          <a:lnTo>
                            <a:pt x="213" y="43"/>
                          </a:lnTo>
                          <a:close/>
                        </a:path>
                      </a:pathLst>
                    </a:custGeom>
                    <a:solidFill>
                      <a:srgbClr val="c00000"/>
                    </a:solidFill>
                    <a:ln w="111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1928880" y="5114160"/>
                      <a:ext cx="21816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3" h="310">
                          <a:moveTo>
                            <a:pt x="347" y="16"/>
                          </a:moveTo>
                          <a:lnTo>
                            <a:pt x="496" y="0"/>
                          </a:lnTo>
                          <a:lnTo>
                            <a:pt x="590" y="0"/>
                          </a:lnTo>
                          <a:lnTo>
                            <a:pt x="660" y="4"/>
                          </a:lnTo>
                          <a:lnTo>
                            <a:pt x="754" y="24"/>
                          </a:lnTo>
                          <a:lnTo>
                            <a:pt x="819" y="59"/>
                          </a:lnTo>
                          <a:lnTo>
                            <a:pt x="893" y="82"/>
                          </a:lnTo>
                          <a:lnTo>
                            <a:pt x="744" y="98"/>
                          </a:lnTo>
                          <a:lnTo>
                            <a:pt x="640" y="126"/>
                          </a:lnTo>
                          <a:lnTo>
                            <a:pt x="531" y="157"/>
                          </a:lnTo>
                          <a:lnTo>
                            <a:pt x="402" y="204"/>
                          </a:lnTo>
                          <a:lnTo>
                            <a:pt x="233" y="310"/>
                          </a:lnTo>
                          <a:lnTo>
                            <a:pt x="0" y="149"/>
                          </a:lnTo>
                          <a:lnTo>
                            <a:pt x="347" y="16"/>
                          </a:lnTo>
                          <a:close/>
                        </a:path>
                      </a:pathLst>
                    </a:cu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1984680" y="5140080"/>
                      <a:ext cx="17316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0" h="255">
                          <a:moveTo>
                            <a:pt x="159" y="145"/>
                          </a:moveTo>
                          <a:lnTo>
                            <a:pt x="298" y="78"/>
                          </a:lnTo>
                          <a:lnTo>
                            <a:pt x="392" y="47"/>
                          </a:lnTo>
                          <a:lnTo>
                            <a:pt x="496" y="23"/>
                          </a:lnTo>
                          <a:lnTo>
                            <a:pt x="586" y="4"/>
                          </a:lnTo>
                          <a:lnTo>
                            <a:pt x="670" y="0"/>
                          </a:lnTo>
                          <a:lnTo>
                            <a:pt x="710" y="0"/>
                          </a:lnTo>
                          <a:lnTo>
                            <a:pt x="645" y="27"/>
                          </a:lnTo>
                          <a:lnTo>
                            <a:pt x="610" y="74"/>
                          </a:lnTo>
                          <a:lnTo>
                            <a:pt x="591" y="117"/>
                          </a:lnTo>
                          <a:lnTo>
                            <a:pt x="556" y="227"/>
                          </a:lnTo>
                          <a:lnTo>
                            <a:pt x="0" y="255"/>
                          </a:lnTo>
                          <a:lnTo>
                            <a:pt x="159" y="145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" name=""/>
                  <p:cNvSpPr/>
                  <p:nvPr/>
                </p:nvSpPr>
                <p:spPr>
                  <a:xfrm>
                    <a:off x="1739520" y="5172480"/>
                    <a:ext cx="47268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5" h="862">
                        <a:moveTo>
                          <a:pt x="0" y="627"/>
                        </a:moveTo>
                        <a:lnTo>
                          <a:pt x="119" y="729"/>
                        </a:lnTo>
                        <a:lnTo>
                          <a:pt x="248" y="791"/>
                        </a:lnTo>
                        <a:lnTo>
                          <a:pt x="377" y="823"/>
                        </a:lnTo>
                        <a:lnTo>
                          <a:pt x="501" y="850"/>
                        </a:lnTo>
                        <a:lnTo>
                          <a:pt x="625" y="862"/>
                        </a:lnTo>
                        <a:lnTo>
                          <a:pt x="744" y="862"/>
                        </a:lnTo>
                        <a:lnTo>
                          <a:pt x="878" y="850"/>
                        </a:lnTo>
                        <a:lnTo>
                          <a:pt x="992" y="835"/>
                        </a:lnTo>
                        <a:lnTo>
                          <a:pt x="1092" y="799"/>
                        </a:lnTo>
                        <a:lnTo>
                          <a:pt x="1171" y="764"/>
                        </a:lnTo>
                        <a:lnTo>
                          <a:pt x="1235" y="725"/>
                        </a:lnTo>
                        <a:lnTo>
                          <a:pt x="1300" y="674"/>
                        </a:lnTo>
                        <a:lnTo>
                          <a:pt x="1379" y="603"/>
                        </a:lnTo>
                        <a:lnTo>
                          <a:pt x="1439" y="533"/>
                        </a:lnTo>
                        <a:lnTo>
                          <a:pt x="1469" y="439"/>
                        </a:lnTo>
                        <a:lnTo>
                          <a:pt x="1528" y="345"/>
                        </a:lnTo>
                        <a:lnTo>
                          <a:pt x="1578" y="290"/>
                        </a:lnTo>
                        <a:lnTo>
                          <a:pt x="1622" y="239"/>
                        </a:lnTo>
                        <a:lnTo>
                          <a:pt x="1687" y="204"/>
                        </a:lnTo>
                        <a:lnTo>
                          <a:pt x="1737" y="180"/>
                        </a:lnTo>
                        <a:lnTo>
                          <a:pt x="1836" y="157"/>
                        </a:lnTo>
                        <a:lnTo>
                          <a:pt x="1935" y="110"/>
                        </a:lnTo>
                        <a:lnTo>
                          <a:pt x="1776" y="71"/>
                        </a:lnTo>
                        <a:lnTo>
                          <a:pt x="1598" y="39"/>
                        </a:lnTo>
                        <a:lnTo>
                          <a:pt x="1449" y="16"/>
                        </a:lnTo>
                        <a:lnTo>
                          <a:pt x="1270" y="8"/>
                        </a:lnTo>
                        <a:lnTo>
                          <a:pt x="1072" y="0"/>
                        </a:lnTo>
                        <a:lnTo>
                          <a:pt x="863" y="24"/>
                        </a:lnTo>
                        <a:lnTo>
                          <a:pt x="695" y="63"/>
                        </a:lnTo>
                        <a:lnTo>
                          <a:pt x="526" y="125"/>
                        </a:lnTo>
                        <a:lnTo>
                          <a:pt x="417" y="196"/>
                        </a:lnTo>
                        <a:lnTo>
                          <a:pt x="268" y="298"/>
                        </a:lnTo>
                        <a:lnTo>
                          <a:pt x="149" y="415"/>
                        </a:lnTo>
                        <a:lnTo>
                          <a:pt x="60" y="549"/>
                        </a:lnTo>
                        <a:lnTo>
                          <a:pt x="0" y="627"/>
                        </a:lnTo>
                        <a:close/>
                      </a:path>
                    </a:pathLst>
                  </a:custGeom>
                  <a:solidFill>
                    <a:srgbClr val="e0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032920" y="5181840"/>
                    <a:ext cx="1562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40" h="161">
                        <a:moveTo>
                          <a:pt x="0" y="0"/>
                        </a:moveTo>
                        <a:lnTo>
                          <a:pt x="183" y="4"/>
                        </a:lnTo>
                        <a:lnTo>
                          <a:pt x="357" y="28"/>
                        </a:lnTo>
                        <a:lnTo>
                          <a:pt x="436" y="43"/>
                        </a:lnTo>
                        <a:lnTo>
                          <a:pt x="526" y="63"/>
                        </a:lnTo>
                        <a:lnTo>
                          <a:pt x="605" y="79"/>
                        </a:lnTo>
                        <a:lnTo>
                          <a:pt x="640" y="79"/>
                        </a:lnTo>
                        <a:lnTo>
                          <a:pt x="521" y="118"/>
                        </a:lnTo>
                        <a:lnTo>
                          <a:pt x="446" y="149"/>
                        </a:lnTo>
                        <a:lnTo>
                          <a:pt x="317" y="161"/>
                        </a:lnTo>
                        <a:lnTo>
                          <a:pt x="173" y="137"/>
                        </a:lnTo>
                        <a:lnTo>
                          <a:pt x="34" y="7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775880" y="5298840"/>
                    <a:ext cx="2970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15" h="310">
                        <a:moveTo>
                          <a:pt x="104" y="204"/>
                        </a:moveTo>
                        <a:lnTo>
                          <a:pt x="208" y="223"/>
                        </a:lnTo>
                        <a:lnTo>
                          <a:pt x="313" y="235"/>
                        </a:lnTo>
                        <a:lnTo>
                          <a:pt x="506" y="247"/>
                        </a:lnTo>
                        <a:lnTo>
                          <a:pt x="699" y="231"/>
                        </a:lnTo>
                        <a:lnTo>
                          <a:pt x="848" y="200"/>
                        </a:lnTo>
                        <a:lnTo>
                          <a:pt x="992" y="153"/>
                        </a:lnTo>
                        <a:lnTo>
                          <a:pt x="1131" y="75"/>
                        </a:lnTo>
                        <a:lnTo>
                          <a:pt x="1215" y="0"/>
                        </a:lnTo>
                        <a:lnTo>
                          <a:pt x="1166" y="102"/>
                        </a:lnTo>
                        <a:lnTo>
                          <a:pt x="1096" y="157"/>
                        </a:lnTo>
                        <a:lnTo>
                          <a:pt x="987" y="216"/>
                        </a:lnTo>
                        <a:lnTo>
                          <a:pt x="888" y="263"/>
                        </a:lnTo>
                        <a:lnTo>
                          <a:pt x="779" y="290"/>
                        </a:lnTo>
                        <a:lnTo>
                          <a:pt x="630" y="306"/>
                        </a:lnTo>
                        <a:lnTo>
                          <a:pt x="466" y="310"/>
                        </a:lnTo>
                        <a:lnTo>
                          <a:pt x="317" y="302"/>
                        </a:lnTo>
                        <a:lnTo>
                          <a:pt x="174" y="274"/>
                        </a:lnTo>
                        <a:lnTo>
                          <a:pt x="84" y="247"/>
                        </a:lnTo>
                        <a:lnTo>
                          <a:pt x="0" y="200"/>
                        </a:lnTo>
                        <a:lnTo>
                          <a:pt x="104" y="204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1693440" y="5055120"/>
                    <a:ext cx="339480" cy="288000"/>
                    <a:chOff x="1693440" y="5055120"/>
                    <a:chExt cx="339480" cy="28800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1693440" y="5055120"/>
                      <a:ext cx="3394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9" h="1191">
                          <a:moveTo>
                            <a:pt x="109" y="1082"/>
                          </a:moveTo>
                          <a:lnTo>
                            <a:pt x="39" y="964"/>
                          </a:lnTo>
                          <a:lnTo>
                            <a:pt x="10" y="878"/>
                          </a:lnTo>
                          <a:lnTo>
                            <a:pt x="0" y="753"/>
                          </a:lnTo>
                          <a:lnTo>
                            <a:pt x="10" y="666"/>
                          </a:lnTo>
                          <a:lnTo>
                            <a:pt x="59" y="572"/>
                          </a:lnTo>
                          <a:lnTo>
                            <a:pt x="158" y="478"/>
                          </a:lnTo>
                          <a:lnTo>
                            <a:pt x="238" y="416"/>
                          </a:lnTo>
                          <a:lnTo>
                            <a:pt x="337" y="361"/>
                          </a:lnTo>
                          <a:lnTo>
                            <a:pt x="476" y="306"/>
                          </a:lnTo>
                          <a:lnTo>
                            <a:pt x="585" y="282"/>
                          </a:lnTo>
                          <a:lnTo>
                            <a:pt x="724" y="251"/>
                          </a:lnTo>
                          <a:lnTo>
                            <a:pt x="873" y="235"/>
                          </a:lnTo>
                          <a:lnTo>
                            <a:pt x="972" y="212"/>
                          </a:lnTo>
                          <a:lnTo>
                            <a:pt x="1141" y="173"/>
                          </a:lnTo>
                          <a:lnTo>
                            <a:pt x="1260" y="94"/>
                          </a:lnTo>
                          <a:lnTo>
                            <a:pt x="1389" y="0"/>
                          </a:lnTo>
                          <a:lnTo>
                            <a:pt x="1379" y="110"/>
                          </a:lnTo>
                          <a:lnTo>
                            <a:pt x="1329" y="259"/>
                          </a:lnTo>
                          <a:lnTo>
                            <a:pt x="1280" y="369"/>
                          </a:lnTo>
                          <a:lnTo>
                            <a:pt x="1220" y="502"/>
                          </a:lnTo>
                          <a:lnTo>
                            <a:pt x="1180" y="604"/>
                          </a:lnTo>
                          <a:lnTo>
                            <a:pt x="1121" y="706"/>
                          </a:lnTo>
                          <a:lnTo>
                            <a:pt x="1071" y="792"/>
                          </a:lnTo>
                          <a:lnTo>
                            <a:pt x="982" y="925"/>
                          </a:lnTo>
                          <a:lnTo>
                            <a:pt x="903" y="988"/>
                          </a:lnTo>
                          <a:lnTo>
                            <a:pt x="783" y="1082"/>
                          </a:lnTo>
                          <a:lnTo>
                            <a:pt x="585" y="1168"/>
                          </a:lnTo>
                          <a:lnTo>
                            <a:pt x="456" y="1183"/>
                          </a:lnTo>
                          <a:lnTo>
                            <a:pt x="287" y="1191"/>
                          </a:lnTo>
                          <a:lnTo>
                            <a:pt x="109" y="1082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11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1700640" y="5134320"/>
                      <a:ext cx="132480" cy="10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1" h="447">
                          <a:moveTo>
                            <a:pt x="0" y="447"/>
                          </a:moveTo>
                          <a:lnTo>
                            <a:pt x="10" y="345"/>
                          </a:lnTo>
                          <a:lnTo>
                            <a:pt x="55" y="259"/>
                          </a:lnTo>
                          <a:lnTo>
                            <a:pt x="139" y="177"/>
                          </a:lnTo>
                          <a:lnTo>
                            <a:pt x="248" y="110"/>
                          </a:lnTo>
                          <a:lnTo>
                            <a:pt x="338" y="63"/>
                          </a:lnTo>
                          <a:lnTo>
                            <a:pt x="457" y="20"/>
                          </a:lnTo>
                          <a:lnTo>
                            <a:pt x="541" y="0"/>
                          </a:lnTo>
                          <a:lnTo>
                            <a:pt x="412" y="98"/>
                          </a:lnTo>
                          <a:lnTo>
                            <a:pt x="338" y="204"/>
                          </a:lnTo>
                          <a:lnTo>
                            <a:pt x="258" y="310"/>
                          </a:lnTo>
                          <a:lnTo>
                            <a:pt x="189" y="369"/>
                          </a:lnTo>
                          <a:lnTo>
                            <a:pt x="100" y="424"/>
                          </a:lnTo>
                          <a:lnTo>
                            <a:pt x="0" y="447"/>
                          </a:lnTo>
                          <a:close/>
                        </a:path>
                      </a:pathLst>
                    </a:cu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1900440" y="5072040"/>
                      <a:ext cx="12024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1" h="227">
                          <a:moveTo>
                            <a:pt x="491" y="0"/>
                          </a:moveTo>
                          <a:lnTo>
                            <a:pt x="377" y="94"/>
                          </a:lnTo>
                          <a:lnTo>
                            <a:pt x="243" y="153"/>
                          </a:lnTo>
                          <a:lnTo>
                            <a:pt x="129" y="176"/>
                          </a:lnTo>
                          <a:lnTo>
                            <a:pt x="0" y="192"/>
                          </a:lnTo>
                          <a:lnTo>
                            <a:pt x="84" y="215"/>
                          </a:lnTo>
                          <a:lnTo>
                            <a:pt x="193" y="227"/>
                          </a:lnTo>
                          <a:lnTo>
                            <a:pt x="322" y="223"/>
                          </a:lnTo>
                          <a:lnTo>
                            <a:pt x="387" y="204"/>
                          </a:lnTo>
                          <a:lnTo>
                            <a:pt x="446" y="149"/>
                          </a:lnTo>
                          <a:lnTo>
                            <a:pt x="471" y="86"/>
                          </a:lnTo>
                          <a:lnTo>
                            <a:pt x="491" y="0"/>
                          </a:lnTo>
                          <a:close/>
                        </a:path>
                      </a:pathLst>
                    </a:cu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1801440" y="5256000"/>
                    <a:ext cx="22320" cy="16920"/>
                    <a:chOff x="1801440" y="5256000"/>
                    <a:chExt cx="22320" cy="1692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1805040" y="5257800"/>
                      <a:ext cx="18720" cy="1512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1801440" y="5256000"/>
                      <a:ext cx="19440" cy="1512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1803600" y="5259600"/>
                      <a:ext cx="10080" cy="82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2109240" y="5150880"/>
                    <a:ext cx="14400" cy="12960"/>
                    <a:chOff x="2109240" y="5150880"/>
                    <a:chExt cx="14400" cy="1296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2113200" y="5152320"/>
                      <a:ext cx="10440" cy="1152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2109240" y="5150880"/>
                      <a:ext cx="10440" cy="1116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2111400" y="5153040"/>
                      <a:ext cx="3960" cy="64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2048760" y="5271840"/>
                    <a:ext cx="14400" cy="17640"/>
                    <a:chOff x="2048760" y="5271840"/>
                    <a:chExt cx="14400" cy="176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2052720" y="5273640"/>
                      <a:ext cx="10440" cy="1584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2048760" y="5271840"/>
                      <a:ext cx="10440" cy="162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2050920" y="5275440"/>
                      <a:ext cx="5760" cy="97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1965240" y="5137200"/>
                    <a:ext cx="19440" cy="19800"/>
                    <a:chOff x="1965240" y="5137200"/>
                    <a:chExt cx="19440" cy="1980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1968480" y="5139000"/>
                      <a:ext cx="16200" cy="1800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1965240" y="5137200"/>
                      <a:ext cx="15480" cy="180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1968480" y="5141160"/>
                      <a:ext cx="6840" cy="118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1814400" y="5309280"/>
                    <a:ext cx="17640" cy="14400"/>
                    <a:chOff x="1814400" y="5309280"/>
                    <a:chExt cx="17640" cy="1440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1818000" y="5311080"/>
                      <a:ext cx="14040" cy="1260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1814400" y="5309280"/>
                      <a:ext cx="14040" cy="126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1816560" y="5312160"/>
                      <a:ext cx="6840" cy="61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98" name=""/>
            <p:cNvGrpSpPr/>
            <p:nvPr/>
          </p:nvGrpSpPr>
          <p:grpSpPr>
            <a:xfrm>
              <a:off x="1311120" y="4572000"/>
              <a:ext cx="1279800" cy="1637280"/>
              <a:chOff x="1311120" y="4572000"/>
              <a:chExt cx="1279800" cy="163728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1311120" y="4924440"/>
                <a:ext cx="1279800" cy="1284840"/>
                <a:chOff x="1311120" y="4924440"/>
                <a:chExt cx="1279800" cy="128484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2037600" y="5144760"/>
                  <a:ext cx="553320" cy="1059120"/>
                  <a:chOff x="2037600" y="5144760"/>
                  <a:chExt cx="553320" cy="10591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>
                    <a:off x="2037240" y="5144760"/>
                    <a:ext cx="553320" cy="10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2" h="4372">
                        <a:moveTo>
                          <a:pt x="1806" y="4372"/>
                        </a:moveTo>
                        <a:lnTo>
                          <a:pt x="1469" y="4168"/>
                        </a:lnTo>
                        <a:lnTo>
                          <a:pt x="1211" y="3980"/>
                        </a:lnTo>
                        <a:lnTo>
                          <a:pt x="973" y="3729"/>
                        </a:lnTo>
                        <a:lnTo>
                          <a:pt x="774" y="3510"/>
                        </a:lnTo>
                        <a:lnTo>
                          <a:pt x="576" y="3259"/>
                        </a:lnTo>
                        <a:lnTo>
                          <a:pt x="437" y="2993"/>
                        </a:lnTo>
                        <a:lnTo>
                          <a:pt x="338" y="2664"/>
                        </a:lnTo>
                        <a:lnTo>
                          <a:pt x="238" y="2303"/>
                        </a:lnTo>
                        <a:lnTo>
                          <a:pt x="199" y="2052"/>
                        </a:lnTo>
                        <a:lnTo>
                          <a:pt x="179" y="1739"/>
                        </a:lnTo>
                        <a:lnTo>
                          <a:pt x="179" y="1410"/>
                        </a:lnTo>
                        <a:lnTo>
                          <a:pt x="179" y="1159"/>
                        </a:lnTo>
                        <a:lnTo>
                          <a:pt x="199" y="862"/>
                        </a:lnTo>
                        <a:lnTo>
                          <a:pt x="199" y="595"/>
                        </a:lnTo>
                        <a:lnTo>
                          <a:pt x="119" y="329"/>
                        </a:lnTo>
                        <a:lnTo>
                          <a:pt x="0" y="0"/>
                        </a:lnTo>
                        <a:lnTo>
                          <a:pt x="338" y="313"/>
                        </a:lnTo>
                        <a:lnTo>
                          <a:pt x="476" y="564"/>
                        </a:lnTo>
                        <a:lnTo>
                          <a:pt x="596" y="767"/>
                        </a:lnTo>
                        <a:lnTo>
                          <a:pt x="715" y="1081"/>
                        </a:lnTo>
                        <a:lnTo>
                          <a:pt x="794" y="1473"/>
                        </a:lnTo>
                        <a:lnTo>
                          <a:pt x="834" y="1786"/>
                        </a:lnTo>
                        <a:lnTo>
                          <a:pt x="834" y="2052"/>
                        </a:lnTo>
                        <a:lnTo>
                          <a:pt x="893" y="2397"/>
                        </a:lnTo>
                        <a:lnTo>
                          <a:pt x="953" y="2695"/>
                        </a:lnTo>
                        <a:lnTo>
                          <a:pt x="1092" y="2946"/>
                        </a:lnTo>
                        <a:lnTo>
                          <a:pt x="1250" y="3228"/>
                        </a:lnTo>
                        <a:lnTo>
                          <a:pt x="1469" y="3510"/>
                        </a:lnTo>
                        <a:lnTo>
                          <a:pt x="1707" y="3808"/>
                        </a:lnTo>
                        <a:lnTo>
                          <a:pt x="1965" y="4105"/>
                        </a:lnTo>
                        <a:lnTo>
                          <a:pt x="2302" y="4372"/>
                        </a:lnTo>
                        <a:lnTo>
                          <a:pt x="1806" y="4372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>
                    <a:off x="2237760" y="5323320"/>
                    <a:ext cx="262440" cy="77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2" h="3213">
                        <a:moveTo>
                          <a:pt x="0" y="0"/>
                        </a:moveTo>
                        <a:lnTo>
                          <a:pt x="40" y="267"/>
                        </a:lnTo>
                        <a:lnTo>
                          <a:pt x="60" y="502"/>
                        </a:lnTo>
                        <a:lnTo>
                          <a:pt x="60" y="784"/>
                        </a:lnTo>
                        <a:lnTo>
                          <a:pt x="60" y="1003"/>
                        </a:lnTo>
                        <a:lnTo>
                          <a:pt x="139" y="1379"/>
                        </a:lnTo>
                        <a:lnTo>
                          <a:pt x="238" y="1740"/>
                        </a:lnTo>
                        <a:lnTo>
                          <a:pt x="338" y="2053"/>
                        </a:lnTo>
                        <a:lnTo>
                          <a:pt x="457" y="2382"/>
                        </a:lnTo>
                        <a:lnTo>
                          <a:pt x="715" y="2821"/>
                        </a:lnTo>
                        <a:lnTo>
                          <a:pt x="1092" y="3213"/>
                        </a:lnTo>
                        <a:lnTo>
                          <a:pt x="794" y="2758"/>
                        </a:lnTo>
                        <a:lnTo>
                          <a:pt x="556" y="2429"/>
                        </a:lnTo>
                        <a:lnTo>
                          <a:pt x="357" y="1928"/>
                        </a:lnTo>
                        <a:lnTo>
                          <a:pt x="278" y="1599"/>
                        </a:lnTo>
                        <a:lnTo>
                          <a:pt x="159" y="1254"/>
                        </a:lnTo>
                        <a:lnTo>
                          <a:pt x="119" y="893"/>
                        </a:lnTo>
                        <a:lnTo>
                          <a:pt x="99" y="6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 flipH="1">
                  <a:off x="2026800" y="5006160"/>
                  <a:ext cx="134280" cy="1195560"/>
                </a:xfrm>
                <a:custGeom>
                  <a:avLst/>
                  <a:gdLst/>
                  <a:ahLst/>
                  <a:rect l="l" t="t" r="r" b="b"/>
                  <a:pathLst>
                    <a:path w="561" h="4936">
                      <a:moveTo>
                        <a:pt x="283" y="0"/>
                      </a:moveTo>
                      <a:lnTo>
                        <a:pt x="238" y="119"/>
                      </a:lnTo>
                      <a:lnTo>
                        <a:pt x="189" y="287"/>
                      </a:lnTo>
                      <a:lnTo>
                        <a:pt x="144" y="455"/>
                      </a:lnTo>
                      <a:lnTo>
                        <a:pt x="109" y="628"/>
                      </a:lnTo>
                      <a:lnTo>
                        <a:pt x="85" y="824"/>
                      </a:lnTo>
                      <a:lnTo>
                        <a:pt x="65" y="1034"/>
                      </a:lnTo>
                      <a:lnTo>
                        <a:pt x="40" y="1298"/>
                      </a:lnTo>
                      <a:lnTo>
                        <a:pt x="25" y="1520"/>
                      </a:lnTo>
                      <a:lnTo>
                        <a:pt x="5" y="1927"/>
                      </a:lnTo>
                      <a:lnTo>
                        <a:pt x="0" y="2093"/>
                      </a:lnTo>
                      <a:lnTo>
                        <a:pt x="5" y="2272"/>
                      </a:lnTo>
                      <a:lnTo>
                        <a:pt x="5" y="2453"/>
                      </a:lnTo>
                      <a:lnTo>
                        <a:pt x="10" y="2661"/>
                      </a:lnTo>
                      <a:lnTo>
                        <a:pt x="35" y="2978"/>
                      </a:lnTo>
                      <a:lnTo>
                        <a:pt x="55" y="3178"/>
                      </a:lnTo>
                      <a:lnTo>
                        <a:pt x="65" y="3337"/>
                      </a:lnTo>
                      <a:lnTo>
                        <a:pt x="99" y="3593"/>
                      </a:lnTo>
                      <a:lnTo>
                        <a:pt x="129" y="3797"/>
                      </a:lnTo>
                      <a:lnTo>
                        <a:pt x="174" y="4032"/>
                      </a:lnTo>
                      <a:lnTo>
                        <a:pt x="223" y="4262"/>
                      </a:lnTo>
                      <a:lnTo>
                        <a:pt x="263" y="4444"/>
                      </a:lnTo>
                      <a:lnTo>
                        <a:pt x="293" y="4608"/>
                      </a:lnTo>
                      <a:lnTo>
                        <a:pt x="323" y="4753"/>
                      </a:lnTo>
                      <a:lnTo>
                        <a:pt x="362" y="4936"/>
                      </a:lnTo>
                      <a:lnTo>
                        <a:pt x="561" y="4936"/>
                      </a:lnTo>
                      <a:lnTo>
                        <a:pt x="531" y="4835"/>
                      </a:lnTo>
                      <a:lnTo>
                        <a:pt x="491" y="4671"/>
                      </a:lnTo>
                      <a:lnTo>
                        <a:pt x="462" y="4526"/>
                      </a:lnTo>
                      <a:lnTo>
                        <a:pt x="422" y="4356"/>
                      </a:lnTo>
                      <a:lnTo>
                        <a:pt x="387" y="4169"/>
                      </a:lnTo>
                      <a:lnTo>
                        <a:pt x="343" y="3949"/>
                      </a:lnTo>
                      <a:lnTo>
                        <a:pt x="308" y="3758"/>
                      </a:lnTo>
                      <a:lnTo>
                        <a:pt x="288" y="3593"/>
                      </a:lnTo>
                      <a:lnTo>
                        <a:pt x="248" y="3311"/>
                      </a:lnTo>
                      <a:lnTo>
                        <a:pt x="223" y="3119"/>
                      </a:lnTo>
                      <a:lnTo>
                        <a:pt x="204" y="2883"/>
                      </a:lnTo>
                      <a:lnTo>
                        <a:pt x="184" y="2732"/>
                      </a:lnTo>
                      <a:lnTo>
                        <a:pt x="174" y="2504"/>
                      </a:lnTo>
                      <a:lnTo>
                        <a:pt x="174" y="2234"/>
                      </a:lnTo>
                      <a:lnTo>
                        <a:pt x="174" y="2046"/>
                      </a:lnTo>
                      <a:lnTo>
                        <a:pt x="184" y="1833"/>
                      </a:lnTo>
                      <a:lnTo>
                        <a:pt x="204" y="1441"/>
                      </a:lnTo>
                      <a:lnTo>
                        <a:pt x="223" y="1145"/>
                      </a:lnTo>
                      <a:lnTo>
                        <a:pt x="243" y="893"/>
                      </a:lnTo>
                      <a:lnTo>
                        <a:pt x="253" y="738"/>
                      </a:lnTo>
                      <a:lnTo>
                        <a:pt x="288" y="569"/>
                      </a:lnTo>
                      <a:lnTo>
                        <a:pt x="328" y="389"/>
                      </a:lnTo>
                      <a:lnTo>
                        <a:pt x="377" y="209"/>
                      </a:lnTo>
                      <a:lnTo>
                        <a:pt x="442" y="15"/>
                      </a:lnTo>
                      <a:lnTo>
                        <a:pt x="283" y="0"/>
                      </a:lnTo>
                      <a:close/>
                    </a:path>
                  </a:pathLst>
                </a:custGeom>
                <a:solidFill>
                  <a:srgbClr val="006000"/>
                </a:solidFill>
                <a:ln w="11160">
                  <a:solidFill>
                    <a:srgbClr val="0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1967760" y="4924440"/>
                  <a:ext cx="167760" cy="94320"/>
                </a:xfrm>
                <a:custGeom>
                  <a:avLst/>
                  <a:gdLst/>
                  <a:ahLst/>
                  <a:rect l="l" t="t" r="r" b="b"/>
                  <a:pathLst>
                    <a:path w="698" h="391">
                      <a:moveTo>
                        <a:pt x="0" y="0"/>
                      </a:moveTo>
                      <a:lnTo>
                        <a:pt x="14" y="63"/>
                      </a:lnTo>
                      <a:lnTo>
                        <a:pt x="67" y="122"/>
                      </a:lnTo>
                      <a:lnTo>
                        <a:pt x="159" y="151"/>
                      </a:lnTo>
                      <a:lnTo>
                        <a:pt x="200" y="162"/>
                      </a:lnTo>
                      <a:lnTo>
                        <a:pt x="191" y="215"/>
                      </a:lnTo>
                      <a:lnTo>
                        <a:pt x="169" y="296"/>
                      </a:lnTo>
                      <a:lnTo>
                        <a:pt x="154" y="360"/>
                      </a:lnTo>
                      <a:lnTo>
                        <a:pt x="209" y="377"/>
                      </a:lnTo>
                      <a:lnTo>
                        <a:pt x="306" y="387"/>
                      </a:lnTo>
                      <a:lnTo>
                        <a:pt x="333" y="391"/>
                      </a:lnTo>
                      <a:lnTo>
                        <a:pt x="364" y="292"/>
                      </a:lnTo>
                      <a:lnTo>
                        <a:pt x="387" y="211"/>
                      </a:lnTo>
                      <a:lnTo>
                        <a:pt x="406" y="195"/>
                      </a:lnTo>
                      <a:lnTo>
                        <a:pt x="516" y="192"/>
                      </a:lnTo>
                      <a:lnTo>
                        <a:pt x="606" y="170"/>
                      </a:lnTo>
                      <a:lnTo>
                        <a:pt x="672" y="126"/>
                      </a:lnTo>
                      <a:lnTo>
                        <a:pt x="690" y="88"/>
                      </a:lnTo>
                      <a:lnTo>
                        <a:pt x="698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000"/>
                </a:solidFill>
                <a:ln w="11160">
                  <a:solidFill>
                    <a:srgbClr val="0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1311120" y="5096880"/>
                  <a:ext cx="749160" cy="1112400"/>
                  <a:chOff x="1311120" y="5096880"/>
                  <a:chExt cx="749160" cy="111240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flipH="1">
                    <a:off x="1310760" y="5096880"/>
                    <a:ext cx="749160" cy="11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5" h="4592">
                        <a:moveTo>
                          <a:pt x="0" y="4592"/>
                        </a:moveTo>
                        <a:lnTo>
                          <a:pt x="99" y="3683"/>
                        </a:lnTo>
                        <a:lnTo>
                          <a:pt x="198" y="3307"/>
                        </a:lnTo>
                        <a:lnTo>
                          <a:pt x="258" y="2883"/>
                        </a:lnTo>
                        <a:lnTo>
                          <a:pt x="357" y="2429"/>
                        </a:lnTo>
                        <a:lnTo>
                          <a:pt x="496" y="2022"/>
                        </a:lnTo>
                        <a:lnTo>
                          <a:pt x="615" y="1693"/>
                        </a:lnTo>
                        <a:lnTo>
                          <a:pt x="793" y="1363"/>
                        </a:lnTo>
                        <a:lnTo>
                          <a:pt x="1031" y="1034"/>
                        </a:lnTo>
                        <a:lnTo>
                          <a:pt x="1250" y="784"/>
                        </a:lnTo>
                        <a:lnTo>
                          <a:pt x="1448" y="580"/>
                        </a:lnTo>
                        <a:lnTo>
                          <a:pt x="1666" y="423"/>
                        </a:lnTo>
                        <a:lnTo>
                          <a:pt x="2063" y="235"/>
                        </a:lnTo>
                        <a:lnTo>
                          <a:pt x="2520" y="94"/>
                        </a:lnTo>
                        <a:lnTo>
                          <a:pt x="3115" y="0"/>
                        </a:lnTo>
                        <a:lnTo>
                          <a:pt x="2817" y="204"/>
                        </a:lnTo>
                        <a:lnTo>
                          <a:pt x="2619" y="361"/>
                        </a:lnTo>
                        <a:lnTo>
                          <a:pt x="2401" y="580"/>
                        </a:lnTo>
                        <a:lnTo>
                          <a:pt x="2242" y="737"/>
                        </a:lnTo>
                        <a:lnTo>
                          <a:pt x="2024" y="925"/>
                        </a:lnTo>
                        <a:lnTo>
                          <a:pt x="1825" y="1113"/>
                        </a:lnTo>
                        <a:lnTo>
                          <a:pt x="1547" y="1379"/>
                        </a:lnTo>
                        <a:lnTo>
                          <a:pt x="1329" y="1583"/>
                        </a:lnTo>
                        <a:lnTo>
                          <a:pt x="1151" y="1818"/>
                        </a:lnTo>
                        <a:lnTo>
                          <a:pt x="972" y="2084"/>
                        </a:lnTo>
                        <a:lnTo>
                          <a:pt x="853" y="2319"/>
                        </a:lnTo>
                        <a:lnTo>
                          <a:pt x="674" y="2633"/>
                        </a:lnTo>
                        <a:lnTo>
                          <a:pt x="516" y="2993"/>
                        </a:lnTo>
                        <a:lnTo>
                          <a:pt x="377" y="3385"/>
                        </a:lnTo>
                        <a:lnTo>
                          <a:pt x="277" y="3808"/>
                        </a:lnTo>
                        <a:lnTo>
                          <a:pt x="198" y="4231"/>
                        </a:lnTo>
                        <a:lnTo>
                          <a:pt x="218" y="4592"/>
                        </a:lnTo>
                        <a:lnTo>
                          <a:pt x="0" y="4592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>
                    <a:off x="1511640" y="5180040"/>
                    <a:ext cx="472320" cy="67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65" h="2805">
                        <a:moveTo>
                          <a:pt x="1965" y="0"/>
                        </a:moveTo>
                        <a:lnTo>
                          <a:pt x="1687" y="172"/>
                        </a:lnTo>
                        <a:lnTo>
                          <a:pt x="1310" y="501"/>
                        </a:lnTo>
                        <a:lnTo>
                          <a:pt x="1032" y="783"/>
                        </a:lnTo>
                        <a:lnTo>
                          <a:pt x="734" y="1144"/>
                        </a:lnTo>
                        <a:lnTo>
                          <a:pt x="496" y="1551"/>
                        </a:lnTo>
                        <a:lnTo>
                          <a:pt x="278" y="1927"/>
                        </a:lnTo>
                        <a:lnTo>
                          <a:pt x="139" y="2366"/>
                        </a:lnTo>
                        <a:lnTo>
                          <a:pt x="0" y="2805"/>
                        </a:lnTo>
                        <a:lnTo>
                          <a:pt x="139" y="2162"/>
                        </a:lnTo>
                        <a:lnTo>
                          <a:pt x="357" y="1614"/>
                        </a:lnTo>
                        <a:lnTo>
                          <a:pt x="615" y="1160"/>
                        </a:lnTo>
                        <a:lnTo>
                          <a:pt x="913" y="815"/>
                        </a:lnTo>
                        <a:lnTo>
                          <a:pt x="1191" y="517"/>
                        </a:lnTo>
                        <a:lnTo>
                          <a:pt x="1965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2047320" y="5190120"/>
                  <a:ext cx="334080" cy="1017360"/>
                  <a:chOff x="2047320" y="5190120"/>
                  <a:chExt cx="334080" cy="101736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flipH="1">
                    <a:off x="2047320" y="5190120"/>
                    <a:ext cx="334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" h="4199">
                        <a:moveTo>
                          <a:pt x="1389" y="4199"/>
                        </a:moveTo>
                        <a:lnTo>
                          <a:pt x="1290" y="3949"/>
                        </a:lnTo>
                        <a:lnTo>
                          <a:pt x="1132" y="3698"/>
                        </a:lnTo>
                        <a:lnTo>
                          <a:pt x="993" y="3416"/>
                        </a:lnTo>
                        <a:lnTo>
                          <a:pt x="874" y="3118"/>
                        </a:lnTo>
                        <a:lnTo>
                          <a:pt x="794" y="2820"/>
                        </a:lnTo>
                        <a:lnTo>
                          <a:pt x="735" y="2538"/>
                        </a:lnTo>
                        <a:lnTo>
                          <a:pt x="715" y="2303"/>
                        </a:lnTo>
                        <a:lnTo>
                          <a:pt x="635" y="1943"/>
                        </a:lnTo>
                        <a:lnTo>
                          <a:pt x="596" y="1551"/>
                        </a:lnTo>
                        <a:lnTo>
                          <a:pt x="596" y="1191"/>
                        </a:lnTo>
                        <a:lnTo>
                          <a:pt x="596" y="830"/>
                        </a:lnTo>
                        <a:lnTo>
                          <a:pt x="616" y="517"/>
                        </a:lnTo>
                        <a:lnTo>
                          <a:pt x="675" y="0"/>
                        </a:lnTo>
                        <a:lnTo>
                          <a:pt x="516" y="313"/>
                        </a:lnTo>
                        <a:lnTo>
                          <a:pt x="377" y="642"/>
                        </a:lnTo>
                        <a:lnTo>
                          <a:pt x="239" y="940"/>
                        </a:lnTo>
                        <a:lnTo>
                          <a:pt x="119" y="1269"/>
                        </a:lnTo>
                        <a:lnTo>
                          <a:pt x="80" y="1535"/>
                        </a:lnTo>
                        <a:lnTo>
                          <a:pt x="40" y="1755"/>
                        </a:lnTo>
                        <a:lnTo>
                          <a:pt x="0" y="2037"/>
                        </a:lnTo>
                        <a:lnTo>
                          <a:pt x="20" y="2397"/>
                        </a:lnTo>
                        <a:lnTo>
                          <a:pt x="80" y="2711"/>
                        </a:lnTo>
                        <a:lnTo>
                          <a:pt x="139" y="2961"/>
                        </a:lnTo>
                        <a:lnTo>
                          <a:pt x="219" y="3181"/>
                        </a:lnTo>
                        <a:lnTo>
                          <a:pt x="318" y="3431"/>
                        </a:lnTo>
                        <a:lnTo>
                          <a:pt x="457" y="3698"/>
                        </a:lnTo>
                        <a:lnTo>
                          <a:pt x="616" y="3886"/>
                        </a:lnTo>
                        <a:lnTo>
                          <a:pt x="754" y="4043"/>
                        </a:lnTo>
                        <a:lnTo>
                          <a:pt x="933" y="4199"/>
                        </a:lnTo>
                        <a:lnTo>
                          <a:pt x="1389" y="4199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>
                    <a:off x="2138040" y="5490000"/>
                    <a:ext cx="181440" cy="68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4" h="2820">
                        <a:moveTo>
                          <a:pt x="80" y="0"/>
                        </a:moveTo>
                        <a:lnTo>
                          <a:pt x="0" y="376"/>
                        </a:lnTo>
                        <a:lnTo>
                          <a:pt x="20" y="799"/>
                        </a:lnTo>
                        <a:lnTo>
                          <a:pt x="100" y="1285"/>
                        </a:lnTo>
                        <a:lnTo>
                          <a:pt x="199" y="1786"/>
                        </a:lnTo>
                        <a:lnTo>
                          <a:pt x="358" y="2209"/>
                        </a:lnTo>
                        <a:lnTo>
                          <a:pt x="616" y="2617"/>
                        </a:lnTo>
                        <a:lnTo>
                          <a:pt x="754" y="2820"/>
                        </a:lnTo>
                        <a:lnTo>
                          <a:pt x="576" y="2444"/>
                        </a:lnTo>
                        <a:lnTo>
                          <a:pt x="397" y="2084"/>
                        </a:lnTo>
                        <a:lnTo>
                          <a:pt x="258" y="1645"/>
                        </a:lnTo>
                        <a:lnTo>
                          <a:pt x="159" y="1238"/>
                        </a:lnTo>
                        <a:lnTo>
                          <a:pt x="80" y="767"/>
                        </a:lnTo>
                        <a:lnTo>
                          <a:pt x="20" y="485"/>
                        </a:lnTo>
                        <a:lnTo>
                          <a:pt x="8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1842480" y="4572000"/>
                <a:ext cx="369000" cy="371880"/>
                <a:chOff x="1842480" y="4572000"/>
                <a:chExt cx="369000" cy="37188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923120" y="4572000"/>
                  <a:ext cx="157320" cy="157320"/>
                  <a:chOff x="1923120" y="4572000"/>
                  <a:chExt cx="157320" cy="15732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>
                    <a:off x="1922760" y="4572000"/>
                    <a:ext cx="15732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654" h="651">
                        <a:moveTo>
                          <a:pt x="0" y="314"/>
                        </a:moveTo>
                        <a:lnTo>
                          <a:pt x="49" y="236"/>
                        </a:lnTo>
                        <a:lnTo>
                          <a:pt x="119" y="173"/>
                        </a:lnTo>
                        <a:lnTo>
                          <a:pt x="258" y="94"/>
                        </a:lnTo>
                        <a:lnTo>
                          <a:pt x="387" y="47"/>
                        </a:lnTo>
                        <a:lnTo>
                          <a:pt x="525" y="0"/>
                        </a:lnTo>
                        <a:lnTo>
                          <a:pt x="545" y="87"/>
                        </a:lnTo>
                        <a:lnTo>
                          <a:pt x="565" y="173"/>
                        </a:lnTo>
                        <a:lnTo>
                          <a:pt x="605" y="243"/>
                        </a:lnTo>
                        <a:lnTo>
                          <a:pt x="654" y="361"/>
                        </a:lnTo>
                        <a:lnTo>
                          <a:pt x="635" y="510"/>
                        </a:lnTo>
                        <a:lnTo>
                          <a:pt x="208" y="651"/>
                        </a:lnTo>
                        <a:lnTo>
                          <a:pt x="0" y="314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>
                    <a:off x="1964160" y="4583520"/>
                    <a:ext cx="1044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7" h="400">
                        <a:moveTo>
                          <a:pt x="124" y="130"/>
                        </a:moveTo>
                        <a:lnTo>
                          <a:pt x="214" y="83"/>
                        </a:lnTo>
                        <a:lnTo>
                          <a:pt x="283" y="47"/>
                        </a:lnTo>
                        <a:lnTo>
                          <a:pt x="367" y="20"/>
                        </a:lnTo>
                        <a:lnTo>
                          <a:pt x="437" y="0"/>
                        </a:lnTo>
                        <a:lnTo>
                          <a:pt x="372" y="91"/>
                        </a:lnTo>
                        <a:lnTo>
                          <a:pt x="333" y="173"/>
                        </a:lnTo>
                        <a:lnTo>
                          <a:pt x="303" y="239"/>
                        </a:lnTo>
                        <a:lnTo>
                          <a:pt x="278" y="318"/>
                        </a:lnTo>
                        <a:lnTo>
                          <a:pt x="228" y="400"/>
                        </a:lnTo>
                        <a:lnTo>
                          <a:pt x="0" y="204"/>
                        </a:lnTo>
                        <a:lnTo>
                          <a:pt x="124" y="130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>
                    <a:off x="1927800" y="4589640"/>
                    <a:ext cx="70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368">
                        <a:moveTo>
                          <a:pt x="154" y="0"/>
                        </a:moveTo>
                        <a:lnTo>
                          <a:pt x="89" y="106"/>
                        </a:lnTo>
                        <a:lnTo>
                          <a:pt x="49" y="188"/>
                        </a:lnTo>
                        <a:lnTo>
                          <a:pt x="35" y="255"/>
                        </a:lnTo>
                        <a:lnTo>
                          <a:pt x="0" y="368"/>
                        </a:lnTo>
                        <a:lnTo>
                          <a:pt x="258" y="349"/>
                        </a:lnTo>
                        <a:lnTo>
                          <a:pt x="293" y="219"/>
                        </a:lnTo>
                        <a:lnTo>
                          <a:pt x="218" y="172"/>
                        </a:lnTo>
                        <a:lnTo>
                          <a:pt x="178" y="106"/>
                        </a:lnTo>
                        <a:lnTo>
                          <a:pt x="164" y="70"/>
                        </a:lnTo>
                        <a:lnTo>
                          <a:pt x="15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>
                  <a:off x="1956600" y="4590720"/>
                  <a:ext cx="254880" cy="349200"/>
                </a:xfrm>
                <a:custGeom>
                  <a:avLst/>
                  <a:gdLst/>
                  <a:ahLst/>
                  <a:rect l="l" t="t" r="r" b="b"/>
                  <a:pathLst>
                    <a:path w="1062" h="1441">
                      <a:moveTo>
                        <a:pt x="258" y="78"/>
                      </a:moveTo>
                      <a:lnTo>
                        <a:pt x="298" y="172"/>
                      </a:lnTo>
                      <a:lnTo>
                        <a:pt x="302" y="235"/>
                      </a:lnTo>
                      <a:lnTo>
                        <a:pt x="288" y="298"/>
                      </a:lnTo>
                      <a:lnTo>
                        <a:pt x="268" y="360"/>
                      </a:lnTo>
                      <a:lnTo>
                        <a:pt x="238" y="419"/>
                      </a:lnTo>
                      <a:lnTo>
                        <a:pt x="193" y="497"/>
                      </a:lnTo>
                      <a:lnTo>
                        <a:pt x="159" y="564"/>
                      </a:lnTo>
                      <a:lnTo>
                        <a:pt x="109" y="634"/>
                      </a:lnTo>
                      <a:lnTo>
                        <a:pt x="59" y="744"/>
                      </a:lnTo>
                      <a:lnTo>
                        <a:pt x="25" y="834"/>
                      </a:lnTo>
                      <a:lnTo>
                        <a:pt x="5" y="913"/>
                      </a:lnTo>
                      <a:lnTo>
                        <a:pt x="0" y="1007"/>
                      </a:lnTo>
                      <a:lnTo>
                        <a:pt x="5" y="1073"/>
                      </a:lnTo>
                      <a:lnTo>
                        <a:pt x="25" y="1155"/>
                      </a:lnTo>
                      <a:lnTo>
                        <a:pt x="64" y="1222"/>
                      </a:lnTo>
                      <a:lnTo>
                        <a:pt x="99" y="1277"/>
                      </a:lnTo>
                      <a:lnTo>
                        <a:pt x="188" y="1347"/>
                      </a:lnTo>
                      <a:lnTo>
                        <a:pt x="298" y="1394"/>
                      </a:lnTo>
                      <a:lnTo>
                        <a:pt x="476" y="1418"/>
                      </a:lnTo>
                      <a:lnTo>
                        <a:pt x="704" y="1441"/>
                      </a:lnTo>
                      <a:lnTo>
                        <a:pt x="853" y="1402"/>
                      </a:lnTo>
                      <a:lnTo>
                        <a:pt x="952" y="1332"/>
                      </a:lnTo>
                      <a:lnTo>
                        <a:pt x="1012" y="1222"/>
                      </a:lnTo>
                      <a:lnTo>
                        <a:pt x="1042" y="1097"/>
                      </a:lnTo>
                      <a:lnTo>
                        <a:pt x="1062" y="987"/>
                      </a:lnTo>
                      <a:lnTo>
                        <a:pt x="1062" y="869"/>
                      </a:lnTo>
                      <a:lnTo>
                        <a:pt x="1052" y="775"/>
                      </a:lnTo>
                      <a:lnTo>
                        <a:pt x="1042" y="666"/>
                      </a:lnTo>
                      <a:lnTo>
                        <a:pt x="1022" y="564"/>
                      </a:lnTo>
                      <a:lnTo>
                        <a:pt x="992" y="439"/>
                      </a:lnTo>
                      <a:lnTo>
                        <a:pt x="933" y="345"/>
                      </a:lnTo>
                      <a:lnTo>
                        <a:pt x="863" y="243"/>
                      </a:lnTo>
                      <a:lnTo>
                        <a:pt x="774" y="164"/>
                      </a:lnTo>
                      <a:lnTo>
                        <a:pt x="684" y="117"/>
                      </a:lnTo>
                      <a:lnTo>
                        <a:pt x="575" y="62"/>
                      </a:lnTo>
                      <a:lnTo>
                        <a:pt x="461" y="35"/>
                      </a:lnTo>
                      <a:lnTo>
                        <a:pt x="357" y="15"/>
                      </a:lnTo>
                      <a:lnTo>
                        <a:pt x="218" y="0"/>
                      </a:lnTo>
                      <a:lnTo>
                        <a:pt x="258" y="78"/>
                      </a:lnTo>
                      <a:close/>
                    </a:path>
                  </a:pathLst>
                </a:custGeom>
                <a:solidFill>
                  <a:srgbClr val="e00000"/>
                </a:solidFill>
                <a:ln w="11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1842480" y="4590720"/>
                  <a:ext cx="252000" cy="353160"/>
                </a:xfrm>
                <a:custGeom>
                  <a:avLst/>
                  <a:gdLst/>
                  <a:ahLst/>
                  <a:rect l="l" t="t" r="r" b="b"/>
                  <a:pathLst>
                    <a:path w="1052" h="1457">
                      <a:moveTo>
                        <a:pt x="357" y="446"/>
                      </a:moveTo>
                      <a:lnTo>
                        <a:pt x="447" y="329"/>
                      </a:lnTo>
                      <a:lnTo>
                        <a:pt x="526" y="251"/>
                      </a:lnTo>
                      <a:lnTo>
                        <a:pt x="625" y="180"/>
                      </a:lnTo>
                      <a:lnTo>
                        <a:pt x="734" y="117"/>
                      </a:lnTo>
                      <a:lnTo>
                        <a:pt x="824" y="86"/>
                      </a:lnTo>
                      <a:lnTo>
                        <a:pt x="898" y="59"/>
                      </a:lnTo>
                      <a:lnTo>
                        <a:pt x="962" y="35"/>
                      </a:lnTo>
                      <a:lnTo>
                        <a:pt x="1052" y="0"/>
                      </a:lnTo>
                      <a:lnTo>
                        <a:pt x="992" y="109"/>
                      </a:lnTo>
                      <a:lnTo>
                        <a:pt x="953" y="196"/>
                      </a:lnTo>
                      <a:lnTo>
                        <a:pt x="953" y="290"/>
                      </a:lnTo>
                      <a:lnTo>
                        <a:pt x="953" y="384"/>
                      </a:lnTo>
                      <a:lnTo>
                        <a:pt x="962" y="470"/>
                      </a:lnTo>
                      <a:lnTo>
                        <a:pt x="982" y="572"/>
                      </a:lnTo>
                      <a:lnTo>
                        <a:pt x="1012" y="666"/>
                      </a:lnTo>
                      <a:lnTo>
                        <a:pt x="1032" y="760"/>
                      </a:lnTo>
                      <a:lnTo>
                        <a:pt x="1052" y="846"/>
                      </a:lnTo>
                      <a:lnTo>
                        <a:pt x="1052" y="932"/>
                      </a:lnTo>
                      <a:lnTo>
                        <a:pt x="1042" y="1018"/>
                      </a:lnTo>
                      <a:lnTo>
                        <a:pt x="1012" y="1112"/>
                      </a:lnTo>
                      <a:lnTo>
                        <a:pt x="972" y="1206"/>
                      </a:lnTo>
                      <a:lnTo>
                        <a:pt x="933" y="1277"/>
                      </a:lnTo>
                      <a:lnTo>
                        <a:pt x="834" y="1379"/>
                      </a:lnTo>
                      <a:lnTo>
                        <a:pt x="724" y="1418"/>
                      </a:lnTo>
                      <a:lnTo>
                        <a:pt x="585" y="1449"/>
                      </a:lnTo>
                      <a:lnTo>
                        <a:pt x="427" y="1457"/>
                      </a:lnTo>
                      <a:lnTo>
                        <a:pt x="327" y="1457"/>
                      </a:lnTo>
                      <a:lnTo>
                        <a:pt x="179" y="1438"/>
                      </a:lnTo>
                      <a:lnTo>
                        <a:pt x="104" y="1398"/>
                      </a:lnTo>
                      <a:lnTo>
                        <a:pt x="40" y="1332"/>
                      </a:lnTo>
                      <a:lnTo>
                        <a:pt x="10" y="1238"/>
                      </a:lnTo>
                      <a:lnTo>
                        <a:pt x="0" y="1159"/>
                      </a:lnTo>
                      <a:lnTo>
                        <a:pt x="0" y="1034"/>
                      </a:lnTo>
                      <a:lnTo>
                        <a:pt x="40" y="924"/>
                      </a:lnTo>
                      <a:lnTo>
                        <a:pt x="119" y="791"/>
                      </a:lnTo>
                      <a:lnTo>
                        <a:pt x="198" y="666"/>
                      </a:lnTo>
                      <a:lnTo>
                        <a:pt x="268" y="556"/>
                      </a:lnTo>
                      <a:lnTo>
                        <a:pt x="357" y="44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1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2135160" y="4716360"/>
                  <a:ext cx="59400" cy="204840"/>
                </a:xfrm>
                <a:custGeom>
                  <a:avLst/>
                  <a:gdLst/>
                  <a:ahLst/>
                  <a:rect l="l" t="t" r="r" b="b"/>
                  <a:pathLst>
                    <a:path w="248" h="846">
                      <a:moveTo>
                        <a:pt x="139" y="0"/>
                      </a:moveTo>
                      <a:lnTo>
                        <a:pt x="60" y="188"/>
                      </a:lnTo>
                      <a:lnTo>
                        <a:pt x="20" y="313"/>
                      </a:lnTo>
                      <a:lnTo>
                        <a:pt x="0" y="470"/>
                      </a:lnTo>
                      <a:lnTo>
                        <a:pt x="10" y="611"/>
                      </a:lnTo>
                      <a:lnTo>
                        <a:pt x="70" y="729"/>
                      </a:lnTo>
                      <a:lnTo>
                        <a:pt x="159" y="807"/>
                      </a:lnTo>
                      <a:lnTo>
                        <a:pt x="248" y="846"/>
                      </a:lnTo>
                      <a:lnTo>
                        <a:pt x="119" y="666"/>
                      </a:lnTo>
                      <a:lnTo>
                        <a:pt x="80" y="517"/>
                      </a:lnTo>
                      <a:lnTo>
                        <a:pt x="90" y="360"/>
                      </a:lnTo>
                      <a:lnTo>
                        <a:pt x="90" y="251"/>
                      </a:lnTo>
                      <a:lnTo>
                        <a:pt x="109" y="141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1851480" y="4602240"/>
                  <a:ext cx="146880" cy="97560"/>
                </a:xfrm>
                <a:custGeom>
                  <a:avLst/>
                  <a:gdLst/>
                  <a:ahLst/>
                  <a:rect l="l" t="t" r="r" b="b"/>
                  <a:pathLst>
                    <a:path w="610" h="403">
                      <a:moveTo>
                        <a:pt x="546" y="27"/>
                      </a:moveTo>
                      <a:lnTo>
                        <a:pt x="481" y="47"/>
                      </a:lnTo>
                      <a:lnTo>
                        <a:pt x="407" y="74"/>
                      </a:lnTo>
                      <a:lnTo>
                        <a:pt x="337" y="110"/>
                      </a:lnTo>
                      <a:lnTo>
                        <a:pt x="283" y="141"/>
                      </a:lnTo>
                      <a:lnTo>
                        <a:pt x="213" y="188"/>
                      </a:lnTo>
                      <a:lnTo>
                        <a:pt x="149" y="235"/>
                      </a:lnTo>
                      <a:lnTo>
                        <a:pt x="69" y="313"/>
                      </a:lnTo>
                      <a:lnTo>
                        <a:pt x="0" y="403"/>
                      </a:lnTo>
                      <a:lnTo>
                        <a:pt x="104" y="356"/>
                      </a:lnTo>
                      <a:lnTo>
                        <a:pt x="188" y="317"/>
                      </a:lnTo>
                      <a:lnTo>
                        <a:pt x="263" y="290"/>
                      </a:lnTo>
                      <a:lnTo>
                        <a:pt x="342" y="266"/>
                      </a:lnTo>
                      <a:lnTo>
                        <a:pt x="407" y="251"/>
                      </a:lnTo>
                      <a:lnTo>
                        <a:pt x="461" y="231"/>
                      </a:lnTo>
                      <a:lnTo>
                        <a:pt x="501" y="196"/>
                      </a:lnTo>
                      <a:lnTo>
                        <a:pt x="531" y="137"/>
                      </a:lnTo>
                      <a:lnTo>
                        <a:pt x="551" y="90"/>
                      </a:lnTo>
                      <a:lnTo>
                        <a:pt x="610" y="0"/>
                      </a:lnTo>
                      <a:lnTo>
                        <a:pt x="546" y="27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2030400" y="4600440"/>
                  <a:ext cx="112680" cy="59400"/>
                </a:xfrm>
                <a:custGeom>
                  <a:avLst/>
                  <a:gdLst/>
                  <a:ahLst/>
                  <a:rect l="l" t="t" r="r" b="b"/>
                  <a:pathLst>
                    <a:path w="471" h="247">
                      <a:moveTo>
                        <a:pt x="0" y="0"/>
                      </a:moveTo>
                      <a:lnTo>
                        <a:pt x="89" y="12"/>
                      </a:lnTo>
                      <a:lnTo>
                        <a:pt x="193" y="39"/>
                      </a:lnTo>
                      <a:lnTo>
                        <a:pt x="332" y="98"/>
                      </a:lnTo>
                      <a:lnTo>
                        <a:pt x="387" y="145"/>
                      </a:lnTo>
                      <a:lnTo>
                        <a:pt x="441" y="208"/>
                      </a:lnTo>
                      <a:lnTo>
                        <a:pt x="471" y="247"/>
                      </a:lnTo>
                      <a:lnTo>
                        <a:pt x="337" y="215"/>
                      </a:lnTo>
                      <a:lnTo>
                        <a:pt x="173" y="208"/>
                      </a:lnTo>
                      <a:lnTo>
                        <a:pt x="104" y="192"/>
                      </a:lnTo>
                      <a:lnTo>
                        <a:pt x="59" y="145"/>
                      </a:lnTo>
                      <a:lnTo>
                        <a:pt x="15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>
                  <a:off x="2044440" y="4786560"/>
                  <a:ext cx="40680" cy="145080"/>
                </a:xfrm>
                <a:custGeom>
                  <a:avLst/>
                  <a:gdLst/>
                  <a:ahLst/>
                  <a:rect l="l" t="t" r="r" b="b"/>
                  <a:pathLst>
                    <a:path w="168" h="599">
                      <a:moveTo>
                        <a:pt x="144" y="0"/>
                      </a:moveTo>
                      <a:lnTo>
                        <a:pt x="54" y="113"/>
                      </a:lnTo>
                      <a:lnTo>
                        <a:pt x="20" y="188"/>
                      </a:lnTo>
                      <a:lnTo>
                        <a:pt x="0" y="270"/>
                      </a:lnTo>
                      <a:lnTo>
                        <a:pt x="0" y="341"/>
                      </a:lnTo>
                      <a:lnTo>
                        <a:pt x="10" y="407"/>
                      </a:lnTo>
                      <a:lnTo>
                        <a:pt x="25" y="474"/>
                      </a:lnTo>
                      <a:lnTo>
                        <a:pt x="54" y="509"/>
                      </a:lnTo>
                      <a:lnTo>
                        <a:pt x="94" y="560"/>
                      </a:lnTo>
                      <a:lnTo>
                        <a:pt x="168" y="599"/>
                      </a:lnTo>
                      <a:lnTo>
                        <a:pt x="119" y="505"/>
                      </a:lnTo>
                      <a:lnTo>
                        <a:pt x="99" y="450"/>
                      </a:lnTo>
                      <a:lnTo>
                        <a:pt x="84" y="392"/>
                      </a:lnTo>
                      <a:lnTo>
                        <a:pt x="79" y="337"/>
                      </a:lnTo>
                      <a:lnTo>
                        <a:pt x="84" y="278"/>
                      </a:lnTo>
                      <a:lnTo>
                        <a:pt x="84" y="219"/>
                      </a:lnTo>
                      <a:lnTo>
                        <a:pt x="104" y="137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ff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1850400" y="4723200"/>
                  <a:ext cx="49680" cy="187920"/>
                </a:xfrm>
                <a:custGeom>
                  <a:avLst/>
                  <a:gdLst/>
                  <a:ahLst/>
                  <a:rect l="l" t="t" r="r" b="b"/>
                  <a:pathLst>
                    <a:path w="208" h="776">
                      <a:moveTo>
                        <a:pt x="114" y="0"/>
                      </a:moveTo>
                      <a:lnTo>
                        <a:pt x="178" y="153"/>
                      </a:lnTo>
                      <a:lnTo>
                        <a:pt x="203" y="259"/>
                      </a:lnTo>
                      <a:lnTo>
                        <a:pt x="208" y="373"/>
                      </a:lnTo>
                      <a:lnTo>
                        <a:pt x="193" y="498"/>
                      </a:lnTo>
                      <a:lnTo>
                        <a:pt x="144" y="619"/>
                      </a:lnTo>
                      <a:lnTo>
                        <a:pt x="74" y="729"/>
                      </a:lnTo>
                      <a:lnTo>
                        <a:pt x="0" y="776"/>
                      </a:lnTo>
                      <a:lnTo>
                        <a:pt x="79" y="639"/>
                      </a:lnTo>
                      <a:lnTo>
                        <a:pt x="119" y="431"/>
                      </a:lnTo>
                      <a:lnTo>
                        <a:pt x="119" y="263"/>
                      </a:lnTo>
                      <a:lnTo>
                        <a:pt x="119" y="145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ff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1961640" y="4728240"/>
                  <a:ext cx="181800" cy="171360"/>
                  <a:chOff x="1961640" y="4728240"/>
                  <a:chExt cx="181800" cy="171360"/>
                </a:xfrm>
              </p:grpSpPr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1961640" y="4730040"/>
                    <a:ext cx="178560" cy="169560"/>
                    <a:chOff x="1961640" y="4730040"/>
                    <a:chExt cx="178560" cy="16956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 flipH="1">
                      <a:off x="1977840" y="4833720"/>
                      <a:ext cx="19080" cy="1476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flipH="1">
                      <a:off x="1961280" y="4786200"/>
                      <a:ext cx="10440" cy="1116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>
                      <a:off x="2110320" y="4730040"/>
                      <a:ext cx="10440" cy="1620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 flipH="1">
                      <a:off x="2124360" y="4830840"/>
                      <a:ext cx="15480" cy="1764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flipH="1">
                      <a:off x="1970280" y="4887000"/>
                      <a:ext cx="13680" cy="1260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1964880" y="4728240"/>
                    <a:ext cx="178560" cy="169200"/>
                    <a:chOff x="1964880" y="4728240"/>
                    <a:chExt cx="178560" cy="16920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flipH="1">
                      <a:off x="1981440" y="4831920"/>
                      <a:ext cx="19080" cy="1476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flipH="1">
                      <a:off x="1964520" y="4784400"/>
                      <a:ext cx="10440" cy="108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>
                      <a:off x="2113560" y="4728240"/>
                      <a:ext cx="10440" cy="162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 flipH="1">
                      <a:off x="2128320" y="4829040"/>
                      <a:ext cx="15120" cy="1764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flipH="1">
                      <a:off x="1973520" y="4885200"/>
                      <a:ext cx="13680" cy="1224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6" name=""/>
                  <p:cNvSpPr/>
                  <p:nvPr/>
                </p:nvSpPr>
                <p:spPr>
                  <a:xfrm flipH="1">
                    <a:off x="1988280" y="4835520"/>
                    <a:ext cx="9720" cy="7920"/>
                  </a:xfrm>
                  <a:prstGeom prst="ellipse">
                    <a:avLst/>
                  </a:pr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>
                    <a:off x="1969560" y="4787280"/>
                    <a:ext cx="3600" cy="6480"/>
                  </a:xfrm>
                  <a:prstGeom prst="ellipse">
                    <a:avLst/>
                  </a:pr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>
                    <a:off x="2116080" y="4731840"/>
                    <a:ext cx="6120" cy="9720"/>
                  </a:xfrm>
                  <a:prstGeom prst="ellipse">
                    <a:avLst/>
                  </a:pr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H="1">
                    <a:off x="2133720" y="4831920"/>
                    <a:ext cx="7560" cy="11880"/>
                  </a:xfrm>
                  <a:prstGeom prst="ellipse">
                    <a:avLst/>
                  </a:pr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H="1">
                    <a:off x="1978560" y="4887720"/>
                    <a:ext cx="6120" cy="6480"/>
                  </a:xfrm>
                  <a:prstGeom prst="ellipse">
                    <a:avLst/>
                  </a:pr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46479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fbff"/>
                </a:solidFill>
                <a:latin typeface="Monotype Corsiv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2:26:18Z</dcterms:created>
  <dc:creator>ipa</dc:creator>
  <dc:description/>
  <dc:language>en-US</dc:language>
  <cp:lastModifiedBy>wyy</cp:lastModifiedBy>
  <dcterms:modified xsi:type="dcterms:W3CDTF">2002-07-19T02:21:18Z</dcterms:modified>
  <cp:revision>368</cp:revision>
  <dc:subject/>
  <dc:title>PowerPoint 演示文稿</dc:title>
</cp:coreProperties>
</file>