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EB21-46CC-4D4A-95F8-B8DD2EF3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A831-4802-41C7-94C7-E7FC4542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870B-2417-4CCF-8141-E8D2311F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F6D5-8CC0-4D6C-B714-2BD4ED57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2A00-0AE6-4282-ACD6-BF083046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90FC-505B-4038-A2F9-5EB143B0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981A-1B10-4FA6-9E52-5175AD61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EBFF-000B-45FA-97AF-DE7424DC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E420-9246-43DC-BCD7-E9410840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7B3B-15F6-4593-9809-817E5ADB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5871-D895-45F0-AFB9-214D2E06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0307-B56B-462F-AF6D-41F178D3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63CB-5B5D-4367-90AB-0630385005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31532;&#19977;&#35762;&#25919;&#31574;&#20998;&#26512;&#30340;&#31867;&#22411;&#12289;&#36807;&#31243;&#19982;&#26041;&#27861;.p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7467480" cy="2286000"/>
          </a:xfrm>
          <a:prstGeom prst="rect">
            <a:avLst/>
          </a:prstGeom>
          <a:solidFill>
            <a:srgbClr val="006699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 政策分析的类型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6699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描述性与评价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华文新魏"/>
                <a:ea typeface="华文新魏"/>
              </a:rPr>
              <a:t>时间上的划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华文新魏"/>
                <a:ea typeface="华文新魏"/>
              </a:rPr>
              <a:t>政策执行之后的分析：描述性政策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华文新魏"/>
                <a:ea typeface="华文新魏"/>
              </a:rPr>
              <a:t>政策执行之前的分析：事前的、预先的、预见性的、预期的政策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一、描述性与评价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华文新魏"/>
                <a:ea typeface="华文新魏"/>
              </a:rPr>
              <a:t>描述性政策分析：对以往政策的历史分析，对执行中的新政策的评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华文新魏"/>
                <a:ea typeface="华文新魏"/>
              </a:rPr>
              <a:t>事后的、后期的或者回溯性的政策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华文新魏"/>
                <a:ea typeface="华文新魏"/>
              </a:rPr>
              <a:t>回溯性的政策分析：描述和阐释发生了什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华文新魏"/>
                <a:ea typeface="华文新魏"/>
              </a:rPr>
              <a:t>评价性的政策分析，评价过去或者现行的政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华文新魏"/>
                <a:ea typeface="华文新魏"/>
              </a:rPr>
              <a:t>合乎某个标准吗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华文新魏"/>
                <a:ea typeface="华文新魏"/>
              </a:rPr>
              <a:t>政策分析可以是描述性的，也可以是评价性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华文新魏"/>
                <a:ea typeface="华文新魏"/>
              </a:rPr>
              <a:t>如学生贷款政策与学生贷款拖欠状况分析，可以是回溯性的，也可以是评价性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99"/>
                </a:solidFill>
                <a:latin typeface="Times New Roman"/>
                <a:ea typeface="华文行楷"/>
              </a:rPr>
              <a:t>二、政策执行之前的分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27432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预测性政策分析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redictive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：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析采用特定方案可能导致的未来后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指示性政策分析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rescriptive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：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诊断性的政策分析：由于能产生特定结果而建议如何行动的分析，如开药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99"/>
                </a:solidFill>
                <a:latin typeface="Times New Roman"/>
                <a:ea typeface="华文行楷"/>
              </a:rPr>
              <a:t>三、有说服力的政策分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说服力的政策分析建议：特定的案例分析已经表明特定的政策方案会产生什么结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政策制定者不知道问题的性质，没有标准方法对备选方案进行选择，政策分析家提出建议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vice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并对决策者产生影响。（马琼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Majone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99"/>
                </a:solidFill>
                <a:latin typeface="Times New Roman"/>
                <a:ea typeface="华文行楷"/>
              </a:rPr>
              <a:t>四、政治分析与技术分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政治分析：涉及政策的支持度，以及政策在政治上的可行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技术分析：把政治分析排除在外，不涉及个人利益或者集团利益问题，只考虑公共利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99"/>
                </a:solidFill>
                <a:latin typeface="Times New Roman"/>
                <a:ea typeface="华文行楷"/>
              </a:rPr>
              <a:t>五、定量分析与定性分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2590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量分析使用非常广泛，受到了批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主要是伦理价值方面的批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但定量分析不会减少，伦理价值判断不能完全取代定量分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Times New Roman"/>
                <a:ea typeface="华文行楷"/>
              </a:rPr>
              <a:t>六、良好的或者完整的政策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7335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强调逻辑的、有效的、可重复性方法的重要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为决策者提供信息，以便与决策者采用经济上可行、技术上可能和理论、政治上可接受的政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助于解决公共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助于增进公共利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"/>
          </p:cNvPr>
          <p:cNvSpPr/>
          <p:nvPr/>
        </p:nvSpPr>
        <p:spPr>
          <a:xfrm>
            <a:off x="4114800" y="6095880"/>
            <a:ext cx="990720" cy="304920"/>
          </a:xfrm>
          <a:custGeom>
            <a:avLst/>
            <a:gdLst>
              <a:gd name="textAreaLeft" fmla="*/ 19440 w 990720"/>
              <a:gd name="textAreaRight" fmla="*/ 971280 w 9907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70124" h="21600">
                <a:moveTo>
                  <a:pt x="0" y="0"/>
                </a:moveTo>
                <a:lnTo>
                  <a:pt x="70124" y="0"/>
                </a:lnTo>
                <a:lnTo>
                  <a:pt x="70124" y="21600"/>
                </a:lnTo>
                <a:lnTo>
                  <a:pt x="0" y="21600"/>
                </a:lnTo>
                <a:close/>
              </a:path>
              <a:path fill="lightenLess" w="70124" h="21600">
                <a:moveTo>
                  <a:pt x="0" y="0"/>
                </a:moveTo>
                <a:lnTo>
                  <a:pt x="70124" y="0"/>
                </a:lnTo>
                <a:lnTo>
                  <a:pt x="68724" y="1400"/>
                </a:lnTo>
                <a:lnTo>
                  <a:pt x="1400" y="1400"/>
                </a:lnTo>
                <a:close/>
              </a:path>
              <a:path fill="darken" w="70124" h="21600">
                <a:moveTo>
                  <a:pt x="70124" y="0"/>
                </a:moveTo>
                <a:lnTo>
                  <a:pt x="70124" y="21600"/>
                </a:lnTo>
                <a:lnTo>
                  <a:pt x="68724" y="20200"/>
                </a:lnTo>
                <a:lnTo>
                  <a:pt x="68724" y="1400"/>
                </a:lnTo>
                <a:close/>
              </a:path>
              <a:path fill="darkenLess" w="70124" h="21600">
                <a:moveTo>
                  <a:pt x="70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24" y="20200"/>
                </a:lnTo>
                <a:close/>
              </a:path>
              <a:path fill="lighten" w="70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124" h="21600">
                <a:moveTo>
                  <a:pt x="28055" y="3794"/>
                </a:moveTo>
                <a:lnTo>
                  <a:pt x="42068" y="10800"/>
                </a:lnTo>
                <a:lnTo>
                  <a:pt x="28055" y="17806"/>
                </a:lnTo>
                <a:close/>
              </a:path>
            </a:pathLst>
          </a:cu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yy</cp:lastModifiedBy>
  <dcterms:modified xsi:type="dcterms:W3CDTF">2002-07-19T02:16:16Z</dcterms:modified>
  <cp:revision>4</cp:revision>
  <dc:subject/>
  <dc:title>PowerPoint Presentation</dc:title>
</cp:coreProperties>
</file>