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9F2-AC4D-4216-8A26-D1E97C89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B0C-6E24-43D7-820D-8D344132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2EC-6ACF-4976-93CF-91FCD746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C12-4E0E-4621-91AE-D5F39FC6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A39-0214-4147-A491-67C7ED5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35B-E73C-483D-A7E0-68A40616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49E-D51E-4B15-B7FB-20AD54F0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7EB-0220-489A-A6AD-E68955A8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9E7-29C7-4B56-BE68-60F959FA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E9B-2D12-48D2-B233-5D48B4E5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70B-2A62-4C45-8FDA-482CA5D4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150-EF63-4B8E-827A-79577A7F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B442-A9F0-424A-8852-0034548734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31867;&#22411;&#12289;&#36807;&#31243;&#19982;&#26041;&#27861;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8458200" cy="20574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第二节  政策分析过程模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a. Verify, define and detail the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b. Establish evaluation crite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c. Identify alternative pol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d. Assess alternative pol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e. Display and distinguish among alterna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f. Implement, monitor, and evaluate the policy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880"/>
            <a:ext cx="8534520" cy="1219320"/>
          </a:xfrm>
          <a:prstGeom prst="roundRect">
            <a:avLst>
              <a:gd name="adj" fmla="val 16667"/>
            </a:avLst>
          </a:prstGeom>
          <a:solidFill>
            <a:srgbClr val="e6f4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7) </a:t>
            </a:r>
            <a:r>
              <a:rPr b="1" lang="en-US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Patton and Sawick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.  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与人群的属性：价值与问题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--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地理人文环境：问题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c.   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物品属性：价值与问题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d.   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制度分析：多中心与公共经济理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e.   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政策分析的意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--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教育政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--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森林政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--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国防政策、气象服务、治安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57200"/>
            <a:ext cx="7620120" cy="1219320"/>
          </a:xfrm>
          <a:prstGeom prst="roundRect">
            <a:avLst>
              <a:gd name="adj" fmla="val 16667"/>
            </a:avLst>
          </a:prstGeom>
          <a:solidFill>
            <a:srgbClr val="e6f4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二、</a:t>
            </a:r>
            <a:r>
              <a:rPr b="1" lang="en-US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IAPP</a:t>
            </a:r>
            <a:r>
              <a:rPr b="1" lang="zh-CN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政策分析模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三、理想模型与实际模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0832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理想模型需要精力，而且消耗时间和金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实际上，在完成理想模型的过程中，即使精力、时间和  资金都非常充分，所探讨的问题，可能在这一过程中已经发生了变化，甚至消失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问题消失的例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如处理奇装异服的公共政策，由于人们价值观念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变化，不再成为问题，反而成为人们追求的价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如处理投机倒把的公共政策，因为发展市场经济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而失去了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通货膨胀问题变成了通货紧缩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折衷方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3505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日常生活中，迅速决策、大概正确的需求要求在理性模型中进行折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Simon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选择好的、可接受的方案，不必选择最好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林德布罗姆：采用渐进方法，进行连续有限的比较，选择至少比其他方案好一点的方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其中种种综合理性方法和渐进方法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没有更好的替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理性方案虽然遭到各方面的批评，而且有很多局限性，但似乎没有任何方案可以取代理性的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理性模型的偏离，往往是因为政治原因导致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理性的、逻辑的、技术可行的方案，很可能为政治不接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不管如何，政策分析优于政策不分析，有分析的即使是有缺陷的政策，也比没有分析的一塌糊涂的政策要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本课程的公共政策分析，仍以理性模型为基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Times New Roman"/>
                <a:ea typeface="华文行楷"/>
              </a:rPr>
              <a:t>四、政策分析的六个步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57400" y="335268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952640"/>
            <a:ext cx="7467480" cy="4269600"/>
            <a:chOff x="685800" y="1952640"/>
            <a:chExt cx="7467480" cy="4269600"/>
          </a:xfrm>
        </p:grpSpPr>
        <p:grpSp>
          <p:nvGrpSpPr>
            <p:cNvPr id="72" name=""/>
            <p:cNvGrpSpPr/>
            <p:nvPr/>
          </p:nvGrpSpPr>
          <p:grpSpPr>
            <a:xfrm>
              <a:off x="685800" y="1952640"/>
              <a:ext cx="6705360" cy="4269600"/>
              <a:chOff x="685800" y="1952640"/>
              <a:chExt cx="6705360" cy="4269600"/>
            </a:xfrm>
          </p:grpSpPr>
          <p:sp>
            <p:nvSpPr>
              <p:cNvPr id="73" name=""/>
              <p:cNvSpPr/>
              <p:nvPr/>
            </p:nvSpPr>
            <p:spPr>
              <a:xfrm>
                <a:off x="3047760" y="1952640"/>
                <a:ext cx="1828800" cy="520560"/>
              </a:xfrm>
              <a:prstGeom prst="rect">
                <a:avLst/>
              </a:prstGeom>
              <a:solidFill>
                <a:srgbClr val="006699"/>
              </a:solid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  <a:ea typeface="华文新魏"/>
                  </a:rPr>
                  <a:t>认定以及细化问题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86400" y="2790720"/>
                <a:ext cx="1752480" cy="520560"/>
              </a:xfrm>
              <a:prstGeom prst="rect">
                <a:avLst/>
              </a:prstGeom>
              <a:solidFill>
                <a:srgbClr val="006699"/>
              </a:solid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  <a:ea typeface="华文新魏"/>
                  </a:rPr>
                  <a:t>建立评估标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410080" y="4695840"/>
                <a:ext cx="1981080" cy="520560"/>
              </a:xfrm>
              <a:prstGeom prst="rect">
                <a:avLst/>
              </a:prstGeom>
              <a:solidFill>
                <a:srgbClr val="006699"/>
              </a:solid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  <a:ea typeface="华文新魏"/>
                  </a:rPr>
                  <a:t>确认被选政策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24080" y="5762520"/>
                <a:ext cx="1981080" cy="459720"/>
              </a:xfrm>
              <a:prstGeom prst="rect">
                <a:avLst/>
              </a:prstGeom>
              <a:solidFill>
                <a:srgbClr val="006699"/>
              </a:solid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新魏"/>
                  </a:rPr>
                  <a:t>评估被选政策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8080" y="4848120"/>
                <a:ext cx="1905120" cy="947160"/>
              </a:xfrm>
              <a:prstGeom prst="rect">
                <a:avLst/>
              </a:prstGeom>
              <a:solidFill>
                <a:srgbClr val="006699"/>
              </a:solid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  <a:ea typeface="华文新魏"/>
                  </a:rPr>
                  <a:t>展示和区分被选政策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5800" y="2943360"/>
                <a:ext cx="2133360" cy="505440"/>
              </a:xfrm>
              <a:prstGeom prst="rect">
                <a:avLst/>
              </a:prstGeom>
              <a:solidFill>
                <a:srgbClr val="006699"/>
              </a:solid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fffff"/>
                    </a:solidFill>
                    <a:latin typeface="Times New Roman"/>
                    <a:ea typeface="华文新魏"/>
                  </a:rPr>
                  <a:t>监督政策实施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828800" y="2257200"/>
              <a:ext cx="4572000" cy="3962520"/>
              <a:chOff x="1828800" y="2257200"/>
              <a:chExt cx="4572000" cy="396252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4952880" y="2257560"/>
                <a:ext cx="1447920" cy="533160"/>
                <a:chOff x="4952880" y="2257560"/>
                <a:chExt cx="1447920" cy="5331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952880" y="225756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0800" y="2257560"/>
                  <a:ext cx="0" cy="533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6400800" y="3629160"/>
                <a:ext cx="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5257440" y="5610240"/>
                <a:ext cx="1143360" cy="609480"/>
                <a:chOff x="5257440" y="5610240"/>
                <a:chExt cx="1143360" cy="6094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00800" y="5610240"/>
                  <a:ext cx="0" cy="6094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>
                  <a:off x="5257440" y="621972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828800" y="5762520"/>
                <a:ext cx="1371600" cy="457200"/>
                <a:chOff x="1828800" y="5762520"/>
                <a:chExt cx="1371600" cy="457200"/>
              </a:xfrm>
            </p:grpSpPr>
            <p:sp>
              <p:nvSpPr>
                <p:cNvPr id="88" name=""/>
                <p:cNvSpPr/>
                <p:nvPr/>
              </p:nvSpPr>
              <p:spPr>
                <a:xfrm flipH="1">
                  <a:off x="1828800" y="6219720"/>
                  <a:ext cx="13716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V="1">
                  <a:off x="1828800" y="57625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828800" y="2257200"/>
                <a:ext cx="1219320" cy="685800"/>
                <a:chOff x="1828800" y="2257200"/>
                <a:chExt cx="1219320" cy="685800"/>
              </a:xfrm>
            </p:grpSpPr>
            <p:sp>
              <p:nvSpPr>
                <p:cNvPr id="91" name=""/>
                <p:cNvSpPr/>
                <p:nvPr/>
              </p:nvSpPr>
              <p:spPr>
                <a:xfrm flipV="1">
                  <a:off x="1828800" y="2257200"/>
                  <a:ext cx="0" cy="6858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828800" y="2257560"/>
                  <a:ext cx="12193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" name=""/>
            <p:cNvGrpSpPr/>
            <p:nvPr/>
          </p:nvGrpSpPr>
          <p:grpSpPr>
            <a:xfrm>
              <a:off x="4419720" y="2028960"/>
              <a:ext cx="3733560" cy="3733200"/>
              <a:chOff x="4419720" y="2028960"/>
              <a:chExt cx="3733560" cy="3733200"/>
            </a:xfrm>
          </p:grpSpPr>
          <p:sp>
            <p:nvSpPr>
              <p:cNvPr id="94" name=""/>
              <p:cNvSpPr/>
              <p:nvPr/>
            </p:nvSpPr>
            <p:spPr>
              <a:xfrm>
                <a:off x="4419720" y="34005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4419720" y="2028960"/>
                <a:ext cx="3733560" cy="3733200"/>
                <a:chOff x="4419720" y="2028960"/>
                <a:chExt cx="3733560" cy="3733200"/>
              </a:xfrm>
            </p:grpSpPr>
            <p:sp>
              <p:nvSpPr>
                <p:cNvPr id="96" name=""/>
                <p:cNvSpPr/>
                <p:nvPr/>
              </p:nvSpPr>
              <p:spPr>
                <a:xfrm flipV="1">
                  <a:off x="4419720" y="3400200"/>
                  <a:ext cx="0" cy="236196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467480" y="5153040"/>
                  <a:ext cx="68580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8153280" y="2028960"/>
                  <a:ext cx="0" cy="312408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4952880" y="2028960"/>
                  <a:ext cx="320040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" name=""/>
            <p:cNvSpPr/>
            <p:nvPr/>
          </p:nvSpPr>
          <p:spPr>
            <a:xfrm flipV="1">
              <a:off x="3809880" y="2790360"/>
              <a:ext cx="0" cy="29718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99036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实际运用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分析家因为所受训练不同、时间不同、问题复杂性不同、资源不同、组之间联系不同、客户不同，实际应用时会有所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一般使用自己学科的方法和观点：经济学家用经济理论，社会学家运用集团理论，甚至是阶级理论，律师主要看问题的法律维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时间越少，跳过的步骤越多；大机构往往有很多分工合作；小机构往往自己动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刚开始时，还需要先学整体，然后再学草体；先来正规的，后来灵活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画家涂鸦也是中归中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30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所有步骤：基本分析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572000"/>
          </a:xfrm>
          <a:prstGeom prst="rect">
            <a:avLst/>
          </a:prstGeom>
          <a:solidFill>
            <a:srgbClr val="e6f4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有阶段都运用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甄别和搜集资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文献调查方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政策信息访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快速调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资料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传播或者沟通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认定及细化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简易计算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对确定一个问题的研究领域和大小具有重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意义的数字进行评估的简单方法，可用来确立问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某些关键属性并根据已知的参照点检查数字的评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快速决策分析：分析技巧兼决策工具。有助于鉴别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题的关键组成部分，以及可供选择的解决方法的优缺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产生有效的、操作的界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政治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问题报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建立评估标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技术可行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经济和财政可能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治可行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行政可操作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注：</a:t>
            </a: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IAPP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评估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结果：效率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成本收益：财政平衡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权利：权利配置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分配：公平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政策分析过程的阶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2057400"/>
            <a:ext cx="350496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905120"/>
            <a:ext cx="4114800" cy="4495680"/>
          </a:xfrm>
          <a:custGeom>
            <a:avLst/>
            <a:gdLst>
              <a:gd name="textAreaLeft" fmla="*/ 200880 w 4114800"/>
              <a:gd name="textAreaRight" fmla="*/ 3913920 w 4114800"/>
              <a:gd name="textAreaTop" fmla="*/ 200880 h 4495680"/>
              <a:gd name="textAreaBottom" fmla="*/ 4294800 h 4495680"/>
            </a:gdLst>
            <a:ahLst/>
            <a:rect l="textAreaLeft" t="textAreaTop" r="textAreaRight" b="textAreaBottom"/>
            <a:pathLst>
              <a:path w="21600" h="23599">
                <a:moveTo>
                  <a:pt x="3600" y="0"/>
                </a:moveTo>
                <a:arcTo wR="3600" hR="3600" stAng="16200000" swAng="-5400000"/>
                <a:lnTo>
                  <a:pt x="0" y="19999"/>
                </a:lnTo>
                <a:arcTo wR="3600" hR="3600" stAng="10800000" swAng="-5400000"/>
                <a:lnTo>
                  <a:pt x="18000" y="23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没有简单的、一致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可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许多人都试图给出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策分析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许多模型都是理性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型的，很难遵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但许多政策分析家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出了自己的分析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下面是国外常见的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确定备选方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研究分析：认真研究各项备选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不作为（维持现状分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快速调查：建立分析研究人员的同行网络，对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专家进行快速电话调查，以产生不同的观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并发现可以联系的一些人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文献述评：寻找大量的文献资源，阅读总结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9144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评估备选方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预测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推断预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理论预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直觉预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贴现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敏感性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快速决策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治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实施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方案拟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5.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展示和区分备选方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成对比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满意度打分：上博还是工作；中餐还是西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排列顺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非支配性被选方案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等价备选方案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标准备选方案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矩阵展示系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方案拟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6.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监督和评估政策实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前后对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有为与无为的实验对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实际对预期的比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实验模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半实验模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成本取向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共政策的特殊标准：最少损失，最少的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01000" cy="6858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课外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01000" cy="441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挑选当地最关心的政策问题，查找资料，运用政策分析的六个步骤，为当地政府提供一份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2000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字的政策分析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当地政府确认、界定和细化问题：正确确认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建立评价标准，以此来检验可能的被选解决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确认尽可能多的相关备选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评价这些备选政策，给出每个前因后果以及预期和非预期的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设计一个方法来展示备选方案，并从当地政府的角度选择可取的备选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揭示当地政府如何监督政策实施后的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/>
          </p:cNvPr>
          <p:cNvSpPr/>
          <p:nvPr/>
        </p:nvSpPr>
        <p:spPr>
          <a:xfrm>
            <a:off x="3962520" y="6248520"/>
            <a:ext cx="990360" cy="304560"/>
          </a:xfrm>
          <a:custGeom>
            <a:avLst/>
            <a:gdLst>
              <a:gd name="textAreaLeft" fmla="*/ 19440 w 990360"/>
              <a:gd name="textAreaRight" fmla="*/ 970920 w 990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81" h="21600">
                <a:moveTo>
                  <a:pt x="28084" y="3794"/>
                </a:moveTo>
                <a:lnTo>
                  <a:pt x="42097" y="10800"/>
                </a:lnTo>
                <a:lnTo>
                  <a:pt x="28084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839080" cy="129528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一、 国外常见的政策过程模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a.</a:t>
            </a: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Policy form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b. Search for alterna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c. Forecast the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d. Model the impacts of the altern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e. Evaluate, compare, rank the alternatives</a:t>
            </a: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33520"/>
            <a:ext cx="7162920" cy="838080"/>
          </a:xfrm>
          <a:prstGeom prst="roundRect">
            <a:avLst>
              <a:gd name="adj" fmla="val 16667"/>
            </a:avLst>
          </a:prstGeom>
          <a:solidFill>
            <a:srgbClr val="e6f4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1) </a:t>
            </a:r>
            <a:r>
              <a:rPr b="1" lang="en-US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Qu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solidFill>
            <a:srgbClr val="d5ef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a. Define the problem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b. Determine criteria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c. Generate alternatives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d. Choose course of action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e. Evaluate policy after Implementa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80880"/>
            <a:ext cx="7467480" cy="990720"/>
          </a:xfrm>
          <a:prstGeom prst="roundRect">
            <a:avLst>
              <a:gd name="adj" fmla="val 16667"/>
            </a:avLst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2)</a:t>
            </a:r>
            <a:r>
              <a:rPr b="1" lang="zh-CN" sz="4000" spc="-1" strike="noStrike">
                <a:solidFill>
                  <a:srgbClr val="003366"/>
                </a:solidFill>
                <a:latin typeface="华文行楷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MacRae and</a:t>
            </a:r>
            <a:r>
              <a:rPr b="1" lang="en-US" sz="4000" spc="-1" strike="noStrike">
                <a:solidFill>
                  <a:srgbClr val="003366"/>
                </a:solidFill>
                <a:latin typeface="华文行楷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Wil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solidFill>
            <a:srgbClr val="e6f4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3) </a:t>
            </a:r>
            <a:r>
              <a:rPr b="1" lang="en-US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Stokey and Eckhau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 anchorCtr="1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a. Determine the underlying problem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b. Determine the objectives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c. Generate alternatives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d. Predict consequences of each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     </a:t>
            </a: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alternative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e. Determine criteria for measu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     </a:t>
            </a: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achievements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仿宋_GB2312"/>
                <a:ea typeface="仿宋_GB2312"/>
              </a:rPr>
              <a:t>f. Choose course of ac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solidFill>
            <a:srgbClr val="e6f4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4) </a:t>
            </a:r>
            <a:r>
              <a:rPr b="1" lang="en-US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Urba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3300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a. Define the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b. Identify objec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c. Select crite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d. Specify the 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e. Calculate the cost of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altern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f. Assess the effectiveness of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altern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g. Present the finding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a. Problem analysis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a.1. Understand the problem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a.2. Choose goals and constraints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a.3. Choose method of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b. Solution analysis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b.1. Choose evaluation criteria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b.2. Specify alternatives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b.3. Assess alternatives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b.4. Recommend solu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0492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006699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57200"/>
            <a:ext cx="701028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宋体"/>
              </a:rPr>
              <a:t>5) </a:t>
            </a: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Weiner and V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9096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a.</a:t>
            </a:r>
            <a:r>
              <a:rPr b="1" lang="en-US" sz="24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Define problem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b.  Identify alternatives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c.  Quantify alternatives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d.  Apply decision aids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e.  Choose alternative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f.   Implement solu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33520"/>
            <a:ext cx="7696080" cy="761760"/>
          </a:xfrm>
          <a:prstGeom prst="rect">
            <a:avLst/>
          </a:prstGeom>
          <a:solidFill>
            <a:srgbClr val="e6f4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6) </a:t>
            </a:r>
            <a:r>
              <a:rPr b="1" lang="en-US" sz="40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2-07-19T02:16:00Z</dcterms:modified>
  <cp:revision>5</cp:revision>
  <dc:subject/>
  <dc:title>PowerPoint Presentation</dc:title>
</cp:coreProperties>
</file>