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A336-CBA3-4C6D-8B11-E567EF0E6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6EB3-0F9C-4834-B3B0-A418F0CB0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94EE-A4EB-4478-85AB-465496012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6425-A559-4AB0-BB18-5665A8169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BF0F-59C8-4CE9-AEB5-EC300B2C0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A6DD-D443-4C17-A88A-2B429A29C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40F2-14AC-494E-BFD3-28E652B12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5FD5-0BB0-48CD-AB2B-B45F6C3C2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DE84-FFEF-47AD-9838-6DCDDA521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6451-524F-4916-81FF-0E42999D2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B4CB-7699-4D0D-ACFA-58ADD6CB3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A193-8067-4EAF-A15C-529566DC0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35CDF-4C5C-43A6-93B3-41CA9F9D0A9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file:///&#31532;&#19977;&#35762;&#25919;&#31574;&#20998;&#26512;&#30340;&#31867;&#22411;&#12289;&#36807;&#31243;&#19982;&#26041;&#27861;.ppt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1523880"/>
            <a:ext cx="7391520" cy="213372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第三节  政策分析基本要领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99"/>
                </a:solidFill>
                <a:latin typeface="华文新魏"/>
                <a:ea typeface="华文新魏"/>
              </a:rPr>
              <a:t>运用什么方法去解决非典问题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运用各种学习手段，积累各个方面的知识与技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理性选择模型：各个不同的步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案例分析：国际国内外各大城市的好经验，尤其是台湾的好经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政策辩论：报刊杂志、电视台、政府内部、公共论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专家咨询：根据专家现有的研究，进行探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99"/>
                </a:solidFill>
                <a:latin typeface="华文新魏"/>
                <a:ea typeface="华文新魏"/>
              </a:rPr>
              <a:t>运用什么方法去解决物业管理问题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运用各种学习手段，积累各个方面的知识与技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理性选择模型：各个不同的步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案例分析：国际国内外各大城市的好经验，尤其是台湾的好经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政策辩论：报刊杂志、电视台、政府内部、公共论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专家咨询：根据专家现有的研究，进行探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076960" cy="838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99"/>
                </a:solidFill>
                <a:latin typeface="华文新魏"/>
                <a:ea typeface="华文新魏"/>
              </a:rPr>
              <a:t>四、处理不确定性问题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381880" cy="472428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学会寻找变量，并确定其中的价值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如为了某个地区发展，免去该地区的财产税。免税是否导致了发展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如非典问题的不同价值，不同的变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不确定性问题：是否存在其它不确定性因素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公共交通：公共交通的发展，缓解交通吗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最后发现，关键还是要发展地铁，但是资金不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各种途径筹款，解决地铁发展资金不足问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7772400" cy="6094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99"/>
                </a:solidFill>
                <a:latin typeface="华文新魏"/>
                <a:ea typeface="华文新魏"/>
              </a:rPr>
              <a:t>五、让数字说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610480" cy="556272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简单地算术运算，可增加政策分析的说服力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定量分析是其他定性分析的良好基础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城乡地市合并，可以使得中心城市带动农村发展：缺乏数据分析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电动自行车速度过快，与人力自行车同行有安全隐患：缺乏数据分析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华文新魏"/>
                <a:ea typeface="华文新魏"/>
              </a:rPr>
              <a:t>数据分析与定性分析相结合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华文新魏"/>
                <a:ea typeface="华文新魏"/>
              </a:rPr>
              <a:t>飞机比火车、汽车安全：有数据分析，但人们还是感觉到坐飞机很让人担心。坐飞机的人老买保险，</a:t>
            </a:r>
            <a:r>
              <a:rPr b="0" lang="zh-CN" sz="2600" spc="-1" strike="noStrike">
                <a:solidFill>
                  <a:srgbClr val="ffffff"/>
                </a:solidFill>
                <a:latin typeface="华文新魏"/>
                <a:ea typeface="华文新魏"/>
              </a:rPr>
              <a:t>700</a:t>
            </a:r>
            <a:r>
              <a:rPr b="0" lang="zh-CN" sz="26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％利润，还是买买彩票，得奖率极低，有数据分析，但人们还是买彩票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华文新魏"/>
                <a:ea typeface="华文新魏"/>
              </a:rPr>
              <a:t>政策分析需要有数字，还需要对数字的效应进行定性分析：</a:t>
            </a:r>
            <a:r>
              <a:rPr b="0" lang="zh-CN" sz="2600" spc="-1" strike="noStrike">
                <a:solidFill>
                  <a:srgbClr val="ffffff"/>
                </a:solidFill>
                <a:latin typeface="华文新魏"/>
                <a:ea typeface="华文新魏"/>
              </a:rPr>
              <a:t>1400</a:t>
            </a:r>
            <a:r>
              <a:rPr b="0" lang="zh-CN" sz="2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多万人，非典病例很少，但政策重要性极大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六、分析简单而明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03848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6699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6699"/>
                </a:solidFill>
                <a:latin typeface="华文新魏"/>
                <a:ea typeface="华文新魏"/>
              </a:rPr>
              <a:t>让更多的人能简单地理解，分析必须简单、明晰，但头脑要复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6699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6699"/>
                </a:solidFill>
                <a:latin typeface="华文新魏"/>
                <a:ea typeface="华文新魏"/>
              </a:rPr>
              <a:t>就像录音机、计算机一样，内部非常复杂，但结果非常简单明晰，一目了然，利于使用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6699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6699"/>
                </a:solidFill>
                <a:latin typeface="华文新魏"/>
                <a:ea typeface="华文新魏"/>
              </a:rPr>
              <a:t>政策分析也是一样的，最后总是归纳为若干简单而且明晰的结论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6699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6699"/>
                </a:solidFill>
                <a:latin typeface="华文新魏"/>
                <a:ea typeface="华文新魏"/>
              </a:rPr>
              <a:t>比如：政策分析报告的结论总是由一系列的政策建议组成，这些建议需要落实在行动上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772400" cy="83808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七、学会拥护他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6320" y="1447920"/>
            <a:ext cx="8686800" cy="457200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99"/>
                </a:solidFill>
                <a:latin typeface="华文新魏"/>
                <a:ea typeface="华文新魏"/>
              </a:rPr>
              <a:t>人的心理本能：对他人的观点本能地反对；对领导有意地顺从；对不同意见的人本能地反感，认为是敌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99"/>
                </a:solidFill>
                <a:latin typeface="华文新魏"/>
                <a:ea typeface="华文新魏"/>
              </a:rPr>
              <a:t>考虑不同的观点，坚持原则的基础上，乐于其他争论方的观点：提高争论水平，利于达成妥协；提高分析技巧和处理陌生资料的水平；巩固辩论程序的传统。竞争性和辩护性的程序，也是政策分析和辩论的程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99"/>
                </a:solidFill>
                <a:latin typeface="华文新魏"/>
                <a:ea typeface="华文新魏"/>
              </a:rPr>
              <a:t>向律师学习，考虑每一方的情况，并在法定的和政治的程序规则范围内发挥作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99"/>
                </a:solidFill>
                <a:latin typeface="华文新魏"/>
                <a:ea typeface="华文新魏"/>
              </a:rPr>
              <a:t>政策分析家是政策辩论的制造者，更像是律师，而不是一位工程师或者科学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99"/>
                </a:solidFill>
                <a:latin typeface="华文新魏"/>
                <a:ea typeface="华文新魏"/>
              </a:rPr>
              <a:t>政策分析家要在分析的基础上学会令人信服的辩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八、提供分析不提供决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4197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99"/>
                </a:solidFill>
                <a:latin typeface="华文新魏"/>
                <a:ea typeface="华文新魏"/>
              </a:rPr>
              <a:t>分析重要的假定、价值和不确定因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99"/>
                </a:solidFill>
                <a:latin typeface="华文新魏"/>
                <a:ea typeface="华文新魏"/>
              </a:rPr>
              <a:t>让决策者检验假定、评估价值和估计不确定因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99"/>
                </a:solidFill>
                <a:latin typeface="华文新魏"/>
                <a:ea typeface="华文新魏"/>
              </a:rPr>
              <a:t>珍珠港事件之前，有情报官员要求珍珠港舰队司令动员整个舰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99"/>
                </a:solidFill>
                <a:latin typeface="华文新魏"/>
                <a:ea typeface="华文新魏"/>
              </a:rPr>
              <a:t>舰队司令说，情报可靠吗？花数百万美元值得吗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99"/>
                </a:solidFill>
                <a:latin typeface="华文新魏"/>
                <a:ea typeface="华文新魏"/>
              </a:rPr>
              <a:t>决定不动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九、超越政策封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502920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6699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6699"/>
                </a:solidFill>
                <a:latin typeface="华文新魏"/>
                <a:ea typeface="华文新魏"/>
              </a:rPr>
              <a:t>政策封界：进行分析所受的限制，包括问题的界定、变量的价值判断、选择性方案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6699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6699"/>
                </a:solidFill>
                <a:latin typeface="华文新魏"/>
                <a:ea typeface="华文新魏"/>
              </a:rPr>
              <a:t>超越的内容：分析家需要扩展问题的界定和可选择的解决方案，包括已经确定的价值判断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6699"/>
                </a:solidFill>
                <a:latin typeface="华文新魏"/>
                <a:ea typeface="华文新魏"/>
              </a:rPr>
              <a:t>例一：如何解决北京市的上访村问题？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0066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6699"/>
                </a:solidFill>
                <a:latin typeface="华文新魏"/>
                <a:ea typeface="华文新魏"/>
              </a:rPr>
              <a:t>全面分析其中的问题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0066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6699"/>
                </a:solidFill>
                <a:latin typeface="华文新魏"/>
                <a:ea typeface="华文新魏"/>
              </a:rPr>
              <a:t>法学的、社会学的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0066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6699"/>
                </a:solidFill>
                <a:latin typeface="华文新魏"/>
                <a:ea typeface="华文新魏"/>
              </a:rPr>
              <a:t>制度分析角度的界定：鱼塘喂食模型，单中心喂食与多中心喂食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6699"/>
                </a:solidFill>
                <a:latin typeface="华文新魏"/>
                <a:ea typeface="华文新魏"/>
              </a:rPr>
              <a:t>例二：公共交通问题？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0066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6699"/>
                </a:solidFill>
                <a:latin typeface="华文新魏"/>
                <a:ea typeface="华文新魏"/>
              </a:rPr>
              <a:t>仅仅分析地面交通，没有研究地下交通；更没有研究单中心环形城市结构是交通堵塞的根源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0066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6699"/>
                </a:solidFill>
                <a:latin typeface="华文新魏"/>
                <a:ea typeface="华文新魏"/>
              </a:rPr>
              <a:t>类比方法：鱼塘喂食模型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华文新魏"/>
                <a:ea typeface="华文新魏"/>
              </a:rPr>
              <a:t>十、没有绝对正确、合理和完善的分析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不追求真理，不追求完美，这是政策分析与传统政策研究的区别所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如果找到了真理，实现了完美，那是碰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政策分析没有如此充足的时间、精力和资金，让人去追求真理，实现完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追求实际效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时间和资源双重限制条件下进行政策分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良好的训练：当然，政策分析还是有好坏之分，这取决于多个方面的因素，良好的训练是其中的重要组成部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>
            <a:hlinkClick r:id="rId1"/>
          </p:cNvPr>
          <p:cNvSpPr/>
          <p:nvPr/>
        </p:nvSpPr>
        <p:spPr>
          <a:xfrm>
            <a:off x="4114800" y="6324480"/>
            <a:ext cx="990720" cy="304920"/>
          </a:xfrm>
          <a:custGeom>
            <a:avLst/>
            <a:gdLst>
              <a:gd name="textAreaLeft" fmla="*/ 19440 w 990720"/>
              <a:gd name="textAreaRight" fmla="*/ 971280 w 9907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70124" h="21600">
                <a:moveTo>
                  <a:pt x="0" y="0"/>
                </a:moveTo>
                <a:lnTo>
                  <a:pt x="70124" y="0"/>
                </a:lnTo>
                <a:lnTo>
                  <a:pt x="70124" y="21600"/>
                </a:lnTo>
                <a:lnTo>
                  <a:pt x="0" y="21600"/>
                </a:lnTo>
                <a:close/>
              </a:path>
              <a:path fill="lightenLess" w="70124" h="21600">
                <a:moveTo>
                  <a:pt x="0" y="0"/>
                </a:moveTo>
                <a:lnTo>
                  <a:pt x="70124" y="0"/>
                </a:lnTo>
                <a:lnTo>
                  <a:pt x="68724" y="1400"/>
                </a:lnTo>
                <a:lnTo>
                  <a:pt x="1400" y="1400"/>
                </a:lnTo>
                <a:close/>
              </a:path>
              <a:path fill="darken" w="70124" h="21600">
                <a:moveTo>
                  <a:pt x="70124" y="0"/>
                </a:moveTo>
                <a:lnTo>
                  <a:pt x="70124" y="21600"/>
                </a:lnTo>
                <a:lnTo>
                  <a:pt x="68724" y="20200"/>
                </a:lnTo>
                <a:lnTo>
                  <a:pt x="68724" y="1400"/>
                </a:lnTo>
                <a:close/>
              </a:path>
              <a:path fill="darkenLess" w="70124" h="21600">
                <a:moveTo>
                  <a:pt x="701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724" y="20200"/>
                </a:lnTo>
                <a:close/>
              </a:path>
              <a:path fill="lighten" w="701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0124" h="21600">
                <a:moveTo>
                  <a:pt x="28055" y="3794"/>
                </a:moveTo>
                <a:lnTo>
                  <a:pt x="42068" y="10800"/>
                </a:lnTo>
                <a:lnTo>
                  <a:pt x="28055" y="17806"/>
                </a:lnTo>
                <a:close/>
              </a:path>
            </a:pathLst>
          </a:cu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914400" y="380880"/>
            <a:ext cx="7848720" cy="55627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99"/>
                </a:solidFill>
                <a:latin typeface="Times New Roman"/>
                <a:ea typeface="华文新魏"/>
              </a:rPr>
              <a:t>标准：学会迅速集中有关问题的主要抉择标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99"/>
                </a:solidFill>
                <a:latin typeface="Times New Roman"/>
                <a:ea typeface="华文新魏"/>
              </a:rPr>
              <a:t>行动：找到能够采取政策行动的类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99"/>
                </a:solidFill>
                <a:latin typeface="Times New Roman"/>
                <a:ea typeface="华文新魏"/>
              </a:rPr>
              <a:t>方法：避免工具相似的政策分析方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99"/>
                </a:solidFill>
                <a:latin typeface="Times New Roman"/>
                <a:ea typeface="华文新魏"/>
              </a:rPr>
              <a:t>不确定：学会处理不确定性问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99"/>
                </a:solidFill>
                <a:latin typeface="Times New Roman"/>
                <a:ea typeface="华文新魏"/>
              </a:rPr>
              <a:t>数据与故事综合：让数字说话，让故事产生力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99"/>
                </a:solidFill>
                <a:latin typeface="Times New Roman"/>
                <a:ea typeface="华文新魏"/>
              </a:rPr>
              <a:t>思路：让分析简单而明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99"/>
                </a:solidFill>
                <a:latin typeface="Times New Roman"/>
                <a:ea typeface="华文新魏"/>
              </a:rPr>
              <a:t>数据资料：核查实际资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99"/>
                </a:solidFill>
                <a:latin typeface="Times New Roman"/>
                <a:ea typeface="华文新魏"/>
              </a:rPr>
              <a:t>关系：超越心理本能，学会拥护别人的立场，律师的立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99"/>
                </a:solidFill>
                <a:latin typeface="Times New Roman"/>
                <a:ea typeface="华文新魏"/>
              </a:rPr>
              <a:t>超越：分析的视野要超越“政策封界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99"/>
                </a:solidFill>
                <a:latin typeface="Times New Roman"/>
                <a:ea typeface="华文新魏"/>
              </a:rPr>
              <a:t>怀疑：没有什么绝对正确、合理和完善的分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724280" y="6172200"/>
            <a:ext cx="3048120" cy="68580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50000">
                <a:srgbClr val="ffffff"/>
              </a:gs>
              <a:gs pos="100000">
                <a:srgbClr val="00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帕顿等，</a:t>
            </a: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2000</a:t>
            </a: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9</a:t>
            </a: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－</a:t>
            </a: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99"/>
                </a:solidFill>
                <a:latin typeface="Times New Roman"/>
                <a:ea typeface="华文新魏"/>
              </a:rPr>
              <a:t>一、迅速确定问题主要抉择标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18184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寻找关键：寻找天然金块（</a:t>
            </a:r>
            <a:r>
              <a:rPr b="1" lang="en-US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Nugget</a:t>
            </a:r>
            <a:r>
              <a:rPr b="1" lang="en-US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）：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寻找关键。如黄河断流问题，是断流，还是水资源分配不合理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选择目标：迅速选中目标，节约大好时光：从水资源配置不合理入手分析黄河问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及时开始：必须要有开端，糟糕的开端也比没有开端要好：即使从断流入手，问题也不大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价值标准案例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黄河案例，不断流，环境保护，水资源合理配置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打击娼妓的基本目标是什么？消灭娼妓、消灭自愿性交易？消灭自愿的货币化性交易？消灭自愿相爱的性交易？消灭街头妓女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非典的价值标准、小区物业的价值、养狗的价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公交优先政策的基本价值是什么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99"/>
                </a:solidFill>
                <a:latin typeface="Times New Roman"/>
                <a:ea typeface="华文新魏"/>
              </a:rPr>
              <a:t>二、能采取政策行动的类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95324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针对内需不足问题，用什么政策行动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积极财政政策：降低税收，赤字财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积极货币政策：降低利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其他政策，鼓励树立消费的人生观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进一步的考察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道德风险：勤俭节约的传统，可能因拉动内需的政策而遭到破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两者能够相互兼容吗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能够既宣传节约，又促进内需吗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宏观经济政策需要那么多配套吗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一个社会只能有一个政策吗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多样化的公共政策，具有更多的包容性与回旋余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304920" y="990720"/>
            <a:ext cx="8534160" cy="5181480"/>
            <a:chOff x="304920" y="990720"/>
            <a:chExt cx="8534160" cy="5181480"/>
          </a:xfrm>
        </p:grpSpPr>
        <p:sp>
          <p:nvSpPr>
            <p:cNvPr id="49" name=""/>
            <p:cNvSpPr/>
            <p:nvPr/>
          </p:nvSpPr>
          <p:spPr>
            <a:xfrm>
              <a:off x="380880" y="990720"/>
              <a:ext cx="8458200" cy="5181480"/>
            </a:xfrm>
            <a:prstGeom prst="cube">
              <a:avLst>
                <a:gd name="adj" fmla="val 7291"/>
              </a:avLst>
            </a:prstGeom>
            <a:solidFill>
              <a:srgbClr val="e6f4ff">
                <a:alpha val="50000"/>
              </a:srgbClr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04920" y="2492280"/>
              <a:ext cx="8076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1447920" y="1295280"/>
            <a:ext cx="7010280" cy="4876920"/>
            <a:chOff x="1447920" y="1295280"/>
            <a:chExt cx="7010280" cy="4876920"/>
          </a:xfrm>
        </p:grpSpPr>
        <p:sp>
          <p:nvSpPr>
            <p:cNvPr id="52" name=""/>
            <p:cNvSpPr/>
            <p:nvPr/>
          </p:nvSpPr>
          <p:spPr>
            <a:xfrm>
              <a:off x="1447920" y="4495680"/>
              <a:ext cx="7010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362320" y="1295280"/>
              <a:ext cx="0" cy="4876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334120" y="1828800"/>
              <a:ext cx="0" cy="4343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362320" y="1828800"/>
              <a:ext cx="6095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447920" y="2438280"/>
              <a:ext cx="0" cy="3733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362320" y="3429000"/>
              <a:ext cx="6095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62320" y="5410080"/>
              <a:ext cx="6095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685800" y="1295280"/>
            <a:ext cx="7924680" cy="5029200"/>
            <a:chOff x="685800" y="1295280"/>
            <a:chExt cx="7924680" cy="5029200"/>
          </a:xfrm>
        </p:grpSpPr>
        <p:sp>
          <p:nvSpPr>
            <p:cNvPr id="60" name=""/>
            <p:cNvSpPr/>
            <p:nvPr/>
          </p:nvSpPr>
          <p:spPr>
            <a:xfrm>
              <a:off x="2514600" y="2590920"/>
              <a:ext cx="25146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6699"/>
                  </a:solidFill>
                  <a:latin typeface="Times New Roman"/>
                </a:rPr>
                <a:t>供给：政府直接供给，如救灾、公立教育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486400" y="2666880"/>
              <a:ext cx="2819520" cy="56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6699"/>
                  </a:solidFill>
                  <a:latin typeface="Times New Roman"/>
                </a:rPr>
                <a:t>税收：征税、关税、罚金、杂费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666880" y="3657600"/>
              <a:ext cx="22100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6699"/>
                  </a:solidFill>
                  <a:latin typeface="Times New Roman"/>
                </a:rPr>
                <a:t>购买：私人生产，政府购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638680" y="3613320"/>
              <a:ext cx="2560680" cy="57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6699"/>
                  </a:solidFill>
                  <a:latin typeface="Times New Roman"/>
                </a:rPr>
                <a:t>补贴：补助，资助，福利支出、免税等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590920" y="4572000"/>
              <a:ext cx="274320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6699"/>
                  </a:solidFill>
                  <a:latin typeface="Times New Roman"/>
                </a:rPr>
                <a:t>要求：很少，如义务教育、配合人口普查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514600" y="5486400"/>
              <a:ext cx="2773440" cy="5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6699"/>
                  </a:solidFill>
                  <a:latin typeface="Times New Roman"/>
                </a:rPr>
                <a:t>禁止、限制：颁发执照，制定规章，标准等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638680" y="4724280"/>
              <a:ext cx="26672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rmAutofit fontScale="67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6699"/>
                  </a:solidFill>
                  <a:latin typeface="Times New Roman"/>
                </a:rPr>
                <a:t>告知：提供信息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486400" y="5502240"/>
              <a:ext cx="312408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6699"/>
                  </a:solidFill>
                  <a:latin typeface="Times New Roman"/>
                </a:rPr>
                <a:t>恳求：诱导和恳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600200" y="2438280"/>
              <a:ext cx="609480" cy="18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6699"/>
                  </a:solidFill>
                  <a:latin typeface="Times New Roman"/>
                </a:rPr>
                <a:t>与货币相关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600200" y="4495680"/>
              <a:ext cx="609480" cy="18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6699"/>
                  </a:solidFill>
                  <a:latin typeface="Times New Roman"/>
                </a:rPr>
                <a:t>与货币无关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819520" y="1828800"/>
              <a:ext cx="1904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5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6699"/>
                  </a:solidFill>
                  <a:latin typeface="Times New Roman"/>
                </a:rPr>
                <a:t>直接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638680" y="182880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5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6699"/>
                  </a:solidFill>
                  <a:latin typeface="Times New Roman"/>
                </a:rPr>
                <a:t>间接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05320" y="1295280"/>
              <a:ext cx="1904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5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6699"/>
                  </a:solidFill>
                  <a:latin typeface="Times New Roman"/>
                </a:rPr>
                <a:t>直接性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85800" y="3124080"/>
              <a:ext cx="457200" cy="281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6699"/>
                  </a:solidFill>
                  <a:latin typeface="Times New Roman"/>
                </a:rPr>
                <a:t>与货币相关性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" name=""/>
          <p:cNvSpPr/>
          <p:nvPr/>
        </p:nvSpPr>
        <p:spPr>
          <a:xfrm>
            <a:off x="304920" y="228600"/>
            <a:ext cx="5867280" cy="68580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政策行动的一般类型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gradFill rotWithShape="0">
            <a:gsLst>
              <a:gs pos="0">
                <a:srgbClr val="007500"/>
              </a:gs>
              <a:gs pos="50000">
                <a:srgbClr val="00ff00"/>
              </a:gs>
              <a:gs pos="100000">
                <a:srgbClr val="0075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问题：公交优先政策的政策行动类型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fffff"/>
              </a:gs>
              <a:gs pos="100000">
                <a:srgbClr val="00ff00"/>
              </a:gs>
            </a:gsLst>
            <a:lin ang="81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政府直接扩大提供规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私人公司发展公交，政府补贴或者购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对私人小车交通进行征税或者罚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公务活动必须坐公交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请求公民多坐公交车，不买私人轿车，少坐出租车，不骑自行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gradFill rotWithShape="0">
            <a:gsLst>
              <a:gs pos="0">
                <a:srgbClr val="007500"/>
              </a:gs>
              <a:gs pos="50000">
                <a:srgbClr val="00ff00"/>
              </a:gs>
              <a:gs pos="100000">
                <a:srgbClr val="0075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问题：非典问题的政策行动类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fffff"/>
              </a:gs>
              <a:gs pos="100000">
                <a:srgbClr val="00ff00"/>
              </a:gs>
            </a:gsLst>
            <a:lin ang="81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政府直接扩大提供规模：紧急拨款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7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亿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人、单位主动防止非典，政府鼓励、允许、补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要求交通运输工具必须消毒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政府及时提供公共信息，安定人心，提供防治方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请求公民多洗手、不集会，发现可疑迹象立即处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6699"/>
                </a:solidFill>
                <a:latin typeface="Times New Roman"/>
                <a:ea typeface="华文行楷"/>
              </a:rPr>
              <a:t>三、问题决定方法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8001000" cy="403848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通过学习，掌握一箱子方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实际分析时需要采取措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从最简单而且合适的方法入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如果没有现成的，则设计一个适当的方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合并使用多个方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7772400" cy="9144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99"/>
                </a:solidFill>
                <a:latin typeface="华文新魏"/>
                <a:ea typeface="华文新魏"/>
              </a:rPr>
              <a:t>运用什么方法去解决公交问题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7772400" cy="457200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运用各种学习手段，积累各个方面的知识与技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理性选择模型：各个不同的步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案例分析：国际国内外各大城市的好经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政策辩论：报刊杂志、电视台、政府内部、公共论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专家咨询：根据专家现有的研究，进行探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yy</cp:lastModifiedBy>
  <dcterms:modified xsi:type="dcterms:W3CDTF">2002-07-19T02:16:09Z</dcterms:modified>
  <cp:revision>7</cp:revision>
  <dc:subject/>
  <dc:title>PowerPoint Presentation</dc:title>
</cp:coreProperties>
</file>