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B5B9-30BA-40F9-9D65-236B29191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5F68-0BDF-4760-9E91-0AF40B274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3A79-27AE-449A-9F18-69E0FB059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F770-C5D0-4E5A-B240-107BAA574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080E-C94C-4693-8AA2-25C8AB05C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E492-EE6F-48A5-9E77-8D1EC2866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789A-CD35-4B42-A1CD-279BF7E2F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1881-56AB-41E5-9A85-9709D7BE3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B569-8635-42DF-AB9A-A673E1899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9941-DF11-4BAA-9D09-B9709037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BFC7-D700-41F4-84A0-7F9F95FC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ED4E-DDA8-4B85-9FC1-63BD23C1B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2B22C-D5E7-463E-AC5D-EC391BA0C83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6299280"/>
            <a:ext cx="9144000" cy="558720"/>
            <a:chOff x="0" y="6299280"/>
            <a:chExt cx="9144000" cy="558720"/>
          </a:xfrm>
        </p:grpSpPr>
        <p:grpSp>
          <p:nvGrpSpPr>
            <p:cNvPr id="6" name=""/>
            <p:cNvGrpSpPr/>
            <p:nvPr/>
          </p:nvGrpSpPr>
          <p:grpSpPr>
            <a:xfrm>
              <a:off x="0" y="6299280"/>
              <a:ext cx="9144000" cy="558720"/>
              <a:chOff x="0" y="6299280"/>
              <a:chExt cx="9144000" cy="558720"/>
            </a:xfrm>
          </p:grpSpPr>
          <p:sp>
            <p:nvSpPr>
              <p:cNvPr id="7" name=""/>
              <p:cNvSpPr/>
              <p:nvPr/>
            </p:nvSpPr>
            <p:spPr>
              <a:xfrm>
                <a:off x="7975800" y="6299280"/>
                <a:ext cx="1168200" cy="558720"/>
              </a:xfrm>
              <a:prstGeom prst="rect">
                <a:avLst/>
              </a:prstGeom>
              <a:solidFill>
                <a:srgbClr val="009b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6299280"/>
                <a:ext cx="8001000" cy="558720"/>
              </a:xfrm>
              <a:prstGeom prst="rect">
                <a:avLst/>
              </a:prstGeom>
              <a:solidFill>
                <a:srgbClr val="0041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2057400" y="6400800"/>
              <a:ext cx="403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>
                  <a:solidFill>
                    <a:srgbClr val="ffff00"/>
                  </a:solidFill>
                  <a:latin typeface="Times New Roman"/>
                  <a:ea typeface="华文中宋"/>
                </a:rPr>
                <a:t>公共政策分析讲义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" name=""/>
          <p:cNvGrpSpPr/>
          <p:nvPr/>
        </p:nvGrpSpPr>
        <p:grpSpPr>
          <a:xfrm>
            <a:off x="76320" y="25560"/>
            <a:ext cx="9131040" cy="6756120"/>
            <a:chOff x="76320" y="25560"/>
            <a:chExt cx="9131040" cy="6756120"/>
          </a:xfrm>
        </p:grpSpPr>
        <p:sp>
          <p:nvSpPr>
            <p:cNvPr id="11" name=""/>
            <p:cNvSpPr/>
            <p:nvPr/>
          </p:nvSpPr>
          <p:spPr>
            <a:xfrm>
              <a:off x="152280" y="203040"/>
              <a:ext cx="899172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" name=""/>
            <p:cNvGrpSpPr/>
            <p:nvPr/>
          </p:nvGrpSpPr>
          <p:grpSpPr>
            <a:xfrm>
              <a:off x="76320" y="25560"/>
              <a:ext cx="9131040" cy="722160"/>
              <a:chOff x="76320" y="25560"/>
              <a:chExt cx="9131040" cy="722160"/>
            </a:xfrm>
          </p:grpSpPr>
          <p:sp>
            <p:nvSpPr>
              <p:cNvPr id="13" name=""/>
              <p:cNvSpPr/>
              <p:nvPr/>
            </p:nvSpPr>
            <p:spPr>
              <a:xfrm>
                <a:off x="76320" y="165240"/>
                <a:ext cx="9131040" cy="1440"/>
              </a:xfrm>
              <a:prstGeom prst="line">
                <a:avLst/>
              </a:prstGeom>
              <a:ln w="12600">
                <a:solidFill>
                  <a:srgbClr val="009b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39680" y="25560"/>
                <a:ext cx="1440" cy="722160"/>
              </a:xfrm>
              <a:prstGeom prst="line">
                <a:avLst/>
              </a:prstGeom>
              <a:ln w="12600">
                <a:solidFill>
                  <a:srgbClr val="009b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5" name="image002" descr=""/>
            <p:cNvPicPr/>
            <p:nvPr/>
          </p:nvPicPr>
          <p:blipFill>
            <a:blip r:embed="rId2"/>
            <a:srcRect l="5537" t="4632" r="82671" b="39611"/>
            <a:stretch/>
          </p:blipFill>
          <p:spPr>
            <a:xfrm>
              <a:off x="6324480" y="6400800"/>
              <a:ext cx="2438640" cy="38088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&#31532;&#19968;&#33410;&#25919;&#31574;&#20998;&#26512;&#27169;&#22411;&#27010;&#35828;.ppt" TargetMode="External"/><Relationship Id="rId2" Type="http://schemas.openxmlformats.org/officeDocument/2006/relationships/hyperlink" Target="file:///&#31532;&#20108;&#33410;&#21046;&#24230;&#27169;&#22411;.ppt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743200"/>
            <a:ext cx="396252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6699"/>
                </a:solidFill>
                <a:latin typeface="Book Antiqua"/>
                <a:ea typeface="华文新魏"/>
              </a:rPr>
              <a:t>公共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6699"/>
                </a:solidFill>
                <a:latin typeface="Book Antiqua"/>
                <a:ea typeface="华文新魏"/>
              </a:rPr>
              <a:t>政策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ffbff"/>
                </a:solidFill>
                <a:latin typeface="Times New Roman"/>
                <a:ea typeface="华文新魏"/>
              </a:rPr>
              <a:t>你相信：眼睛还是头脑？经验还是知识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第三讲政策分析的理论模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2133720"/>
            <a:ext cx="3810240" cy="3809880"/>
          </a:xfrm>
          <a:prstGeom prst="roundRect">
            <a:avLst>
              <a:gd name="adj" fmla="val 16667"/>
            </a:avLst>
          </a:prstGeom>
          <a:solidFill>
            <a:srgbClr val="d1f0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</a:rPr>
              <a:t>概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</a:rPr>
              <a:t>制度模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</a:rPr>
              <a:t>过程模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</a:rPr>
              <a:t>团体模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</a:rPr>
              <a:t>精英模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952880" y="2133720"/>
            <a:ext cx="3886200" cy="3809880"/>
          </a:xfrm>
          <a:prstGeom prst="roundRect">
            <a:avLst>
              <a:gd name="adj" fmla="val 16667"/>
            </a:avLst>
          </a:prstGeom>
          <a:solidFill>
            <a:srgbClr val="d1f0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</a:rPr>
              <a:t>理性模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</a:rPr>
              <a:t>渐进模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</a:rPr>
              <a:t>博弈理论模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</a:rPr>
              <a:t>公共选择模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</a:rPr>
              <a:t>系统模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"/>
          </p:cNvPr>
          <p:cNvSpPr/>
          <p:nvPr/>
        </p:nvSpPr>
        <p:spPr>
          <a:xfrm>
            <a:off x="3200400" y="23623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3794"/>
                </a:moveTo>
                <a:lnTo>
                  <a:pt x="23213" y="10800"/>
                </a:lnTo>
                <a:lnTo>
                  <a:pt x="9200" y="17806"/>
                </a:lnTo>
                <a:close/>
              </a:path>
            </a:pathLst>
          </a:custGeom>
          <a:solidFill>
            <a:srgbClr val="ffcc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2"/>
          </p:cNvPr>
          <p:cNvSpPr/>
          <p:nvPr/>
        </p:nvSpPr>
        <p:spPr>
          <a:xfrm>
            <a:off x="3200400" y="30481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3794"/>
                </a:moveTo>
                <a:lnTo>
                  <a:pt x="23213" y="10800"/>
                </a:lnTo>
                <a:lnTo>
                  <a:pt x="9200" y="17806"/>
                </a:lnTo>
                <a:close/>
              </a:path>
            </a:pathLst>
          </a:custGeom>
          <a:solidFill>
            <a:srgbClr val="ffcc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00400" y="37339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3794"/>
                </a:moveTo>
                <a:lnTo>
                  <a:pt x="23213" y="10800"/>
                </a:lnTo>
                <a:lnTo>
                  <a:pt x="9200" y="17806"/>
                </a:lnTo>
                <a:close/>
              </a:path>
            </a:pathLst>
          </a:custGeom>
          <a:solidFill>
            <a:srgbClr val="ffcc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434340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23194" y="10800"/>
                </a:lnTo>
                <a:lnTo>
                  <a:pt x="9181" y="17806"/>
                </a:lnTo>
                <a:close/>
              </a:path>
            </a:pathLst>
          </a:custGeom>
          <a:solidFill>
            <a:srgbClr val="ffcc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502920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23194" y="10800"/>
                </a:lnTo>
                <a:lnTo>
                  <a:pt x="9181" y="17806"/>
                </a:lnTo>
                <a:close/>
              </a:path>
            </a:pathLst>
          </a:custGeom>
          <a:solidFill>
            <a:srgbClr val="ffcc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229600" y="26668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23194" y="10800"/>
                </a:lnTo>
                <a:lnTo>
                  <a:pt x="9181" y="17806"/>
                </a:lnTo>
                <a:close/>
              </a:path>
            </a:pathLst>
          </a:custGeom>
          <a:solidFill>
            <a:srgbClr val="ffcc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229600" y="320040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23194" y="10800"/>
                </a:lnTo>
                <a:lnTo>
                  <a:pt x="9181" y="17806"/>
                </a:lnTo>
                <a:close/>
              </a:path>
            </a:pathLst>
          </a:custGeom>
          <a:solidFill>
            <a:srgbClr val="ffcc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229600" y="388620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23194" y="10800"/>
                </a:lnTo>
                <a:lnTo>
                  <a:pt x="9181" y="17806"/>
                </a:lnTo>
                <a:close/>
              </a:path>
            </a:pathLst>
          </a:custGeom>
          <a:solidFill>
            <a:srgbClr val="ffcc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229600" y="44956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23194" y="10800"/>
                </a:lnTo>
                <a:lnTo>
                  <a:pt x="9181" y="17806"/>
                </a:lnTo>
                <a:close/>
              </a:path>
            </a:pathLst>
          </a:custGeom>
          <a:solidFill>
            <a:srgbClr val="ffcc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229600" y="5181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23194" y="10800"/>
                </a:lnTo>
                <a:lnTo>
                  <a:pt x="9181" y="17806"/>
                </a:lnTo>
                <a:close/>
              </a:path>
            </a:pathLst>
          </a:custGeom>
          <a:solidFill>
            <a:srgbClr val="ffcc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19760" cy="68580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传统研究与政策分析差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57200" y="1066680"/>
          <a:ext cx="8458200" cy="5370480"/>
        </p:xfrm>
        <a:graphic>
          <a:graphicData uri="http://schemas.openxmlformats.org/drawingml/2006/table">
            <a:tbl>
              <a:tblPr/>
              <a:tblGrid>
                <a:gridCol w="4114800"/>
                <a:gridCol w="4343400"/>
              </a:tblGrid>
              <a:tr h="990720">
                <a:tc>
                  <a:txBody>
                    <a:bodyPr lIns="90000" rIns="90000" tIns="4680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华文行楷"/>
                          <a:ea typeface="方正舒体"/>
                        </a:rPr>
                        <a:t>传统研究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90000" rIns="90000" tIns="4680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华文新魏"/>
                          <a:ea typeface="方正舒体"/>
                        </a:rPr>
                        <a:t>政策分析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</a:tr>
              <a:tr h="825480">
                <a:tc>
                  <a:txBody>
                    <a:bodyPr lIns="90000" rIns="90000" tIns="4680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寻求“真理”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90000" rIns="90000" tIns="4680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实用的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</a:tr>
              <a:tr h="1163520">
                <a:tc>
                  <a:txBody>
                    <a:bodyPr lIns="90000" rIns="90000" tIns="4680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明显的步骤和程序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90000" rIns="90000" tIns="4680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步骤和程序灵活，根据清境发生变化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</a:tr>
              <a:tr h="787320">
                <a:tc>
                  <a:txBody>
                    <a:bodyPr lIns="90000" rIns="90000" tIns="4680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针对广泛的问题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90000" rIns="90000" tIns="4680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针对当地的问题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</a:tr>
              <a:tr h="787320">
                <a:tc>
                  <a:txBody>
                    <a:bodyPr lIns="90000" rIns="90000" tIns="4680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针对复杂性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90000" rIns="90000" tIns="4680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针对决策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</a:tr>
              <a:tr h="816120">
                <a:tc>
                  <a:txBody>
                    <a:bodyPr lIns="90000" rIns="90000" tIns="4680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科学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90000" rIns="90000" tIns="4680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手艺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Craf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960" y="151920"/>
            <a:ext cx="7391160" cy="68580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理论与政策的关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57913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完美的理论，一旦落实在政策上就有可怕的后果，是否“理论就不完美？”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不完美得理论一旦落实在政策上就会导致适当的结果，是否“理论就是完美的”？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如何认识理论与政策之间的关系？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政策分析学者对理论进行行动的检验，并以此怀疑理论的怀疑性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公共政策有公共性，意味着开放性，包容各种理论，尽可能以政策的复杂性来处理理论与问题的复杂性，避免单一化、行政化倾向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理论的单一性，政策的开放性与多样性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宏观经济理论，导致中国公共政策的宏观化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7467480" cy="76176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完美的理论、可怕的政策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5562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阶级分析理论非常完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运用这种理论制定的政策却非常可怕：把所有的人都分成不同的阶级，并对其进行区别对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性恶的理论，也似乎非常完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运用这种理论制定的政策也非常可怕：把人看成是恶的，人越恶，越有利于历史发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腐败有害还是有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多中心的看法，多中心的行动，多中心的制约，多中心的发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320" y="304920"/>
            <a:ext cx="7772400" cy="83808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不完美的理论、适当的政策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839440" cy="4800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男女平等理论、男女不平等理论：完美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男女在生理、能力、习惯、文化等各个方面都有很大的差异；也有很多类似的地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些公共政策需要男女有别：征兵，即使需要女兵，也很难完全实现男女完全一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绝大多数公共政策不能以男女有别为基础，否则对女性的歧视将越来越制度化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ffff"/>
                </a:solidFill>
                <a:latin typeface="Times New Roman"/>
              </a:rPr>
              <a:t>模型的运用：我们如何分辨其效用？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2133720"/>
            <a:ext cx="3886200" cy="3809880"/>
          </a:xfrm>
          <a:prstGeom prst="roundRect">
            <a:avLst>
              <a:gd name="adj" fmla="val 16667"/>
            </a:avLst>
          </a:prstGeom>
          <a:solidFill>
            <a:srgbClr val="d1f0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华文新魏"/>
              </a:rPr>
              <a:t>排列并简化现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华文新魏"/>
              </a:rPr>
              <a:t>认定重要层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华文新魏"/>
              </a:rPr>
              <a:t>符合现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95680" y="2133720"/>
            <a:ext cx="4267440" cy="3809880"/>
          </a:xfrm>
          <a:prstGeom prst="roundRect">
            <a:avLst>
              <a:gd name="adj" fmla="val 16667"/>
            </a:avLst>
          </a:prstGeom>
          <a:solidFill>
            <a:srgbClr val="d1f0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华文新魏"/>
              </a:rPr>
              <a:t>提供有意义的沟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华文新魏"/>
              </a:rPr>
              <a:t>引导调查研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华文新魏"/>
              </a:rPr>
              <a:t>提出解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06668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快速练习：下列政策领域可用哪些模型？  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                如何分析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4120" y="1523880"/>
            <a:ext cx="3276360" cy="4724640"/>
          </a:xfrm>
          <a:custGeom>
            <a:avLst/>
            <a:gdLst>
              <a:gd name="textAreaLeft" fmla="*/ 159840 w 3276360"/>
              <a:gd name="textAreaRight" fmla="*/ 3116520 w 3276360"/>
              <a:gd name="textAreaTop" fmla="*/ 159840 h 4724640"/>
              <a:gd name="textAreaBottom" fmla="*/ 4564800 h 4724640"/>
            </a:gdLst>
            <a:ahLst/>
            <a:rect l="textAreaLeft" t="textAreaTop" r="textAreaRight" b="textAreaBottom"/>
            <a:pathLst>
              <a:path w="21600" h="31147">
                <a:moveTo>
                  <a:pt x="3600" y="0"/>
                </a:moveTo>
                <a:arcTo wR="3600" hR="3600" stAng="16200000" swAng="-5400000"/>
                <a:lnTo>
                  <a:pt x="0" y="27547"/>
                </a:lnTo>
                <a:arcTo wR="3600" hR="3600" stAng="10800000" swAng="-5400000"/>
                <a:lnTo>
                  <a:pt x="18000" y="31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1f0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  <a:ea typeface="华文新魏"/>
              </a:rPr>
              <a:t>交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  <a:ea typeface="华文新魏"/>
              </a:rPr>
              <a:t>住房制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  <a:ea typeface="华文新魏"/>
              </a:rPr>
              <a:t>医疗保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  <a:ea typeface="华文新魏"/>
              </a:rPr>
              <a:t>外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  <a:ea typeface="华文新魏"/>
              </a:rPr>
              <a:t>城市规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  <a:ea typeface="华文新魏"/>
              </a:rPr>
              <a:t>刑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  <a:ea typeface="华文新魏"/>
              </a:rPr>
              <a:t>婚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  <a:ea typeface="华文新魏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1371600"/>
            <a:ext cx="3047760" cy="4952880"/>
          </a:xfrm>
          <a:custGeom>
            <a:avLst/>
            <a:gdLst>
              <a:gd name="textAreaLeft" fmla="*/ 148680 w 3047760"/>
              <a:gd name="textAreaRight" fmla="*/ 2899080 w 3047760"/>
              <a:gd name="textAreaTop" fmla="*/ 148680 h 4952880"/>
              <a:gd name="textAreaBottom" fmla="*/ 4804200 h 4952880"/>
            </a:gdLst>
            <a:ahLst/>
            <a:rect l="textAreaLeft" t="textAreaTop" r="textAreaRight" b="textAreaBottom"/>
            <a:pathLst>
              <a:path w="21600" h="35100">
                <a:moveTo>
                  <a:pt x="3600" y="0"/>
                </a:moveTo>
                <a:arcTo wR="3600" hR="3600" stAng="16200000" swAng="-5400000"/>
                <a:lnTo>
                  <a:pt x="0" y="31500"/>
                </a:lnTo>
                <a:arcTo wR="3600" hR="3600" stAng="10800000" swAng="-5400000"/>
                <a:lnTo>
                  <a:pt x="18000" y="351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1f0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  <a:ea typeface="华文新魏"/>
              </a:rPr>
              <a:t>粮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  <a:ea typeface="华文新魏"/>
              </a:rPr>
              <a:t>水资源保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  <a:ea typeface="华文新魏"/>
              </a:rPr>
              <a:t>教育资源分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  <a:ea typeface="华文新魏"/>
              </a:rPr>
              <a:t>就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  <a:ea typeface="华文新魏"/>
              </a:rPr>
              <a:t>经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  <a:ea typeface="华文新魏"/>
              </a:rPr>
              <a:t>税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  <a:ea typeface="华文新魏"/>
              </a:rPr>
              <a:t>户籍制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  <a:ea typeface="华文新魏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0" y="4572000"/>
            <a:ext cx="2590920" cy="1639440"/>
            <a:chOff x="0" y="4572000"/>
            <a:chExt cx="2590920" cy="1639440"/>
          </a:xfrm>
        </p:grpSpPr>
        <p:grpSp>
          <p:nvGrpSpPr>
            <p:cNvPr id="84" name=""/>
            <p:cNvGrpSpPr/>
            <p:nvPr/>
          </p:nvGrpSpPr>
          <p:grpSpPr>
            <a:xfrm>
              <a:off x="0" y="4574160"/>
              <a:ext cx="2332800" cy="1637280"/>
              <a:chOff x="0" y="4574160"/>
              <a:chExt cx="2332800" cy="1637280"/>
            </a:xfrm>
          </p:grpSpPr>
          <p:grpSp>
            <p:nvGrpSpPr>
              <p:cNvPr id="85" name=""/>
              <p:cNvGrpSpPr/>
              <p:nvPr/>
            </p:nvGrpSpPr>
            <p:grpSpPr>
              <a:xfrm>
                <a:off x="0" y="4574160"/>
                <a:ext cx="1301400" cy="1637280"/>
                <a:chOff x="0" y="4574160"/>
                <a:chExt cx="1301400" cy="1637280"/>
              </a:xfrm>
            </p:grpSpPr>
            <p:grpSp>
              <p:nvGrpSpPr>
                <p:cNvPr id="86" name=""/>
                <p:cNvGrpSpPr/>
                <p:nvPr/>
              </p:nvGrpSpPr>
              <p:grpSpPr>
                <a:xfrm>
                  <a:off x="0" y="4926600"/>
                  <a:ext cx="1301400" cy="1284840"/>
                  <a:chOff x="0" y="4926600"/>
                  <a:chExt cx="1301400" cy="1284840"/>
                </a:xfrm>
              </p:grpSpPr>
              <p:grpSp>
                <p:nvGrpSpPr>
                  <p:cNvPr id="87" name=""/>
                  <p:cNvGrpSpPr/>
                  <p:nvPr/>
                </p:nvGrpSpPr>
                <p:grpSpPr>
                  <a:xfrm>
                    <a:off x="0" y="5146920"/>
                    <a:ext cx="562680" cy="1059120"/>
                    <a:chOff x="0" y="5146920"/>
                    <a:chExt cx="562680" cy="1059120"/>
                  </a:xfrm>
                </p:grpSpPr>
                <p:sp>
                  <p:nvSpPr>
                    <p:cNvPr id="88" name=""/>
                    <p:cNvSpPr/>
                    <p:nvPr/>
                  </p:nvSpPr>
                  <p:spPr>
                    <a:xfrm>
                      <a:off x="0" y="5146920"/>
                      <a:ext cx="562680" cy="105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02" h="4372">
                          <a:moveTo>
                            <a:pt x="1806" y="4372"/>
                          </a:moveTo>
                          <a:lnTo>
                            <a:pt x="1469" y="4168"/>
                          </a:lnTo>
                          <a:lnTo>
                            <a:pt x="1211" y="3980"/>
                          </a:lnTo>
                          <a:lnTo>
                            <a:pt x="973" y="3729"/>
                          </a:lnTo>
                          <a:lnTo>
                            <a:pt x="774" y="3510"/>
                          </a:lnTo>
                          <a:lnTo>
                            <a:pt x="576" y="3259"/>
                          </a:lnTo>
                          <a:lnTo>
                            <a:pt x="437" y="2993"/>
                          </a:lnTo>
                          <a:lnTo>
                            <a:pt x="338" y="2664"/>
                          </a:lnTo>
                          <a:lnTo>
                            <a:pt x="238" y="2303"/>
                          </a:lnTo>
                          <a:lnTo>
                            <a:pt x="199" y="2052"/>
                          </a:lnTo>
                          <a:lnTo>
                            <a:pt x="179" y="1739"/>
                          </a:lnTo>
                          <a:lnTo>
                            <a:pt x="179" y="1410"/>
                          </a:lnTo>
                          <a:lnTo>
                            <a:pt x="179" y="1159"/>
                          </a:lnTo>
                          <a:lnTo>
                            <a:pt x="199" y="862"/>
                          </a:lnTo>
                          <a:lnTo>
                            <a:pt x="199" y="595"/>
                          </a:lnTo>
                          <a:lnTo>
                            <a:pt x="119" y="329"/>
                          </a:lnTo>
                          <a:lnTo>
                            <a:pt x="0" y="0"/>
                          </a:lnTo>
                          <a:lnTo>
                            <a:pt x="338" y="313"/>
                          </a:lnTo>
                          <a:lnTo>
                            <a:pt x="476" y="564"/>
                          </a:lnTo>
                          <a:lnTo>
                            <a:pt x="596" y="767"/>
                          </a:lnTo>
                          <a:lnTo>
                            <a:pt x="715" y="1081"/>
                          </a:lnTo>
                          <a:lnTo>
                            <a:pt x="794" y="1473"/>
                          </a:lnTo>
                          <a:lnTo>
                            <a:pt x="834" y="1786"/>
                          </a:lnTo>
                          <a:lnTo>
                            <a:pt x="834" y="2052"/>
                          </a:lnTo>
                          <a:lnTo>
                            <a:pt x="893" y="2397"/>
                          </a:lnTo>
                          <a:lnTo>
                            <a:pt x="953" y="2695"/>
                          </a:lnTo>
                          <a:lnTo>
                            <a:pt x="1092" y="2946"/>
                          </a:lnTo>
                          <a:lnTo>
                            <a:pt x="1250" y="3228"/>
                          </a:lnTo>
                          <a:lnTo>
                            <a:pt x="1469" y="3510"/>
                          </a:lnTo>
                          <a:lnTo>
                            <a:pt x="1707" y="3808"/>
                          </a:lnTo>
                          <a:lnTo>
                            <a:pt x="1965" y="4105"/>
                          </a:lnTo>
                          <a:lnTo>
                            <a:pt x="2302" y="4372"/>
                          </a:lnTo>
                          <a:lnTo>
                            <a:pt x="1806" y="4372"/>
                          </a:lnTo>
                          <a:close/>
                        </a:path>
                      </a:pathLst>
                    </a:custGeom>
                    <a:solidFill>
                      <a:srgbClr val="006000"/>
                    </a:solidFill>
                    <a:ln w="11160">
                      <a:solidFill>
                        <a:srgbClr val="004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" name=""/>
                    <p:cNvSpPr/>
                    <p:nvPr/>
                  </p:nvSpPr>
                  <p:spPr>
                    <a:xfrm>
                      <a:off x="91800" y="5325480"/>
                      <a:ext cx="266760" cy="77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2" h="3213">
                          <a:moveTo>
                            <a:pt x="0" y="0"/>
                          </a:moveTo>
                          <a:lnTo>
                            <a:pt x="40" y="267"/>
                          </a:lnTo>
                          <a:lnTo>
                            <a:pt x="60" y="502"/>
                          </a:lnTo>
                          <a:lnTo>
                            <a:pt x="60" y="784"/>
                          </a:lnTo>
                          <a:lnTo>
                            <a:pt x="60" y="1003"/>
                          </a:lnTo>
                          <a:lnTo>
                            <a:pt x="139" y="1379"/>
                          </a:lnTo>
                          <a:lnTo>
                            <a:pt x="238" y="1740"/>
                          </a:lnTo>
                          <a:lnTo>
                            <a:pt x="338" y="2053"/>
                          </a:lnTo>
                          <a:lnTo>
                            <a:pt x="457" y="2382"/>
                          </a:lnTo>
                          <a:lnTo>
                            <a:pt x="715" y="2821"/>
                          </a:lnTo>
                          <a:lnTo>
                            <a:pt x="1092" y="3213"/>
                          </a:lnTo>
                          <a:lnTo>
                            <a:pt x="794" y="2758"/>
                          </a:lnTo>
                          <a:lnTo>
                            <a:pt x="556" y="2429"/>
                          </a:lnTo>
                          <a:lnTo>
                            <a:pt x="357" y="1928"/>
                          </a:lnTo>
                          <a:lnTo>
                            <a:pt x="278" y="1599"/>
                          </a:lnTo>
                          <a:lnTo>
                            <a:pt x="159" y="1254"/>
                          </a:lnTo>
                          <a:lnTo>
                            <a:pt x="119" y="893"/>
                          </a:lnTo>
                          <a:lnTo>
                            <a:pt x="99" y="611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4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0" name=""/>
                  <p:cNvSpPr/>
                  <p:nvPr/>
                </p:nvSpPr>
                <p:spPr>
                  <a:xfrm>
                    <a:off x="436320" y="5008320"/>
                    <a:ext cx="136800" cy="1195560"/>
                  </a:xfrm>
                  <a:custGeom>
                    <a:avLst/>
                    <a:gdLst/>
                    <a:ahLst/>
                    <a:rect l="l" t="t" r="r" b="b"/>
                    <a:pathLst>
                      <a:path w="561" h="4936">
                        <a:moveTo>
                          <a:pt x="283" y="0"/>
                        </a:moveTo>
                        <a:lnTo>
                          <a:pt x="238" y="119"/>
                        </a:lnTo>
                        <a:lnTo>
                          <a:pt x="189" y="287"/>
                        </a:lnTo>
                        <a:lnTo>
                          <a:pt x="144" y="455"/>
                        </a:lnTo>
                        <a:lnTo>
                          <a:pt x="109" y="628"/>
                        </a:lnTo>
                        <a:lnTo>
                          <a:pt x="85" y="824"/>
                        </a:lnTo>
                        <a:lnTo>
                          <a:pt x="65" y="1034"/>
                        </a:lnTo>
                        <a:lnTo>
                          <a:pt x="40" y="1298"/>
                        </a:lnTo>
                        <a:lnTo>
                          <a:pt x="25" y="1520"/>
                        </a:lnTo>
                        <a:lnTo>
                          <a:pt x="5" y="1927"/>
                        </a:lnTo>
                        <a:lnTo>
                          <a:pt x="0" y="2093"/>
                        </a:lnTo>
                        <a:lnTo>
                          <a:pt x="5" y="2272"/>
                        </a:lnTo>
                        <a:lnTo>
                          <a:pt x="5" y="2453"/>
                        </a:lnTo>
                        <a:lnTo>
                          <a:pt x="10" y="2661"/>
                        </a:lnTo>
                        <a:lnTo>
                          <a:pt x="35" y="2978"/>
                        </a:lnTo>
                        <a:lnTo>
                          <a:pt x="55" y="3178"/>
                        </a:lnTo>
                        <a:lnTo>
                          <a:pt x="65" y="3337"/>
                        </a:lnTo>
                        <a:lnTo>
                          <a:pt x="99" y="3593"/>
                        </a:lnTo>
                        <a:lnTo>
                          <a:pt x="129" y="3797"/>
                        </a:lnTo>
                        <a:lnTo>
                          <a:pt x="174" y="4032"/>
                        </a:lnTo>
                        <a:lnTo>
                          <a:pt x="223" y="4262"/>
                        </a:lnTo>
                        <a:lnTo>
                          <a:pt x="263" y="4444"/>
                        </a:lnTo>
                        <a:lnTo>
                          <a:pt x="293" y="4608"/>
                        </a:lnTo>
                        <a:lnTo>
                          <a:pt x="323" y="4753"/>
                        </a:lnTo>
                        <a:lnTo>
                          <a:pt x="362" y="4936"/>
                        </a:lnTo>
                        <a:lnTo>
                          <a:pt x="561" y="4936"/>
                        </a:lnTo>
                        <a:lnTo>
                          <a:pt x="531" y="4835"/>
                        </a:lnTo>
                        <a:lnTo>
                          <a:pt x="491" y="4671"/>
                        </a:lnTo>
                        <a:lnTo>
                          <a:pt x="462" y="4526"/>
                        </a:lnTo>
                        <a:lnTo>
                          <a:pt x="422" y="4356"/>
                        </a:lnTo>
                        <a:lnTo>
                          <a:pt x="387" y="4169"/>
                        </a:lnTo>
                        <a:lnTo>
                          <a:pt x="343" y="3949"/>
                        </a:lnTo>
                        <a:lnTo>
                          <a:pt x="308" y="3758"/>
                        </a:lnTo>
                        <a:lnTo>
                          <a:pt x="288" y="3593"/>
                        </a:lnTo>
                        <a:lnTo>
                          <a:pt x="248" y="3311"/>
                        </a:lnTo>
                        <a:lnTo>
                          <a:pt x="223" y="3119"/>
                        </a:lnTo>
                        <a:lnTo>
                          <a:pt x="204" y="2883"/>
                        </a:lnTo>
                        <a:lnTo>
                          <a:pt x="184" y="2732"/>
                        </a:lnTo>
                        <a:lnTo>
                          <a:pt x="174" y="2504"/>
                        </a:lnTo>
                        <a:lnTo>
                          <a:pt x="174" y="2234"/>
                        </a:lnTo>
                        <a:lnTo>
                          <a:pt x="174" y="2046"/>
                        </a:lnTo>
                        <a:lnTo>
                          <a:pt x="184" y="1833"/>
                        </a:lnTo>
                        <a:lnTo>
                          <a:pt x="204" y="1441"/>
                        </a:lnTo>
                        <a:lnTo>
                          <a:pt x="223" y="1145"/>
                        </a:lnTo>
                        <a:lnTo>
                          <a:pt x="243" y="893"/>
                        </a:lnTo>
                        <a:lnTo>
                          <a:pt x="253" y="738"/>
                        </a:lnTo>
                        <a:lnTo>
                          <a:pt x="288" y="569"/>
                        </a:lnTo>
                        <a:lnTo>
                          <a:pt x="328" y="389"/>
                        </a:lnTo>
                        <a:lnTo>
                          <a:pt x="377" y="209"/>
                        </a:lnTo>
                        <a:lnTo>
                          <a:pt x="442" y="15"/>
                        </a:lnTo>
                        <a:lnTo>
                          <a:pt x="283" y="0"/>
                        </a:lnTo>
                        <a:close/>
                      </a:path>
                    </a:pathLst>
                  </a:custGeom>
                  <a:solidFill>
                    <a:srgbClr val="006000"/>
                  </a:solidFill>
                  <a:ln w="11160">
                    <a:solidFill>
                      <a:srgbClr val="004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462960" y="4926600"/>
                    <a:ext cx="1706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698" h="391">
                        <a:moveTo>
                          <a:pt x="0" y="0"/>
                        </a:moveTo>
                        <a:lnTo>
                          <a:pt x="14" y="63"/>
                        </a:lnTo>
                        <a:lnTo>
                          <a:pt x="67" y="122"/>
                        </a:lnTo>
                        <a:lnTo>
                          <a:pt x="159" y="151"/>
                        </a:lnTo>
                        <a:lnTo>
                          <a:pt x="200" y="162"/>
                        </a:lnTo>
                        <a:lnTo>
                          <a:pt x="191" y="215"/>
                        </a:lnTo>
                        <a:lnTo>
                          <a:pt x="169" y="296"/>
                        </a:lnTo>
                        <a:lnTo>
                          <a:pt x="154" y="360"/>
                        </a:lnTo>
                        <a:lnTo>
                          <a:pt x="209" y="377"/>
                        </a:lnTo>
                        <a:lnTo>
                          <a:pt x="306" y="387"/>
                        </a:lnTo>
                        <a:lnTo>
                          <a:pt x="333" y="391"/>
                        </a:lnTo>
                        <a:lnTo>
                          <a:pt x="364" y="292"/>
                        </a:lnTo>
                        <a:lnTo>
                          <a:pt x="387" y="211"/>
                        </a:lnTo>
                        <a:lnTo>
                          <a:pt x="406" y="195"/>
                        </a:lnTo>
                        <a:lnTo>
                          <a:pt x="516" y="192"/>
                        </a:lnTo>
                        <a:lnTo>
                          <a:pt x="606" y="170"/>
                        </a:lnTo>
                        <a:lnTo>
                          <a:pt x="672" y="126"/>
                        </a:lnTo>
                        <a:lnTo>
                          <a:pt x="690" y="88"/>
                        </a:lnTo>
                        <a:lnTo>
                          <a:pt x="698" y="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6000"/>
                  </a:solidFill>
                  <a:ln w="11160">
                    <a:solidFill>
                      <a:srgbClr val="004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2" name=""/>
                  <p:cNvGrpSpPr/>
                  <p:nvPr/>
                </p:nvGrpSpPr>
                <p:grpSpPr>
                  <a:xfrm>
                    <a:off x="539640" y="5099040"/>
                    <a:ext cx="761760" cy="1112400"/>
                    <a:chOff x="539640" y="5099040"/>
                    <a:chExt cx="761760" cy="1112400"/>
                  </a:xfrm>
                </p:grpSpPr>
                <p:sp>
                  <p:nvSpPr>
                    <p:cNvPr id="93" name=""/>
                    <p:cNvSpPr/>
                    <p:nvPr/>
                  </p:nvSpPr>
                  <p:spPr>
                    <a:xfrm>
                      <a:off x="539640" y="5099040"/>
                      <a:ext cx="761760" cy="111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5" h="4592">
                          <a:moveTo>
                            <a:pt x="0" y="4592"/>
                          </a:moveTo>
                          <a:lnTo>
                            <a:pt x="99" y="3683"/>
                          </a:lnTo>
                          <a:lnTo>
                            <a:pt x="198" y="3307"/>
                          </a:lnTo>
                          <a:lnTo>
                            <a:pt x="258" y="2883"/>
                          </a:lnTo>
                          <a:lnTo>
                            <a:pt x="357" y="2429"/>
                          </a:lnTo>
                          <a:lnTo>
                            <a:pt x="496" y="2022"/>
                          </a:lnTo>
                          <a:lnTo>
                            <a:pt x="615" y="1693"/>
                          </a:lnTo>
                          <a:lnTo>
                            <a:pt x="793" y="1363"/>
                          </a:lnTo>
                          <a:lnTo>
                            <a:pt x="1031" y="1034"/>
                          </a:lnTo>
                          <a:lnTo>
                            <a:pt x="1250" y="784"/>
                          </a:lnTo>
                          <a:lnTo>
                            <a:pt x="1448" y="580"/>
                          </a:lnTo>
                          <a:lnTo>
                            <a:pt x="1666" y="423"/>
                          </a:lnTo>
                          <a:lnTo>
                            <a:pt x="2063" y="235"/>
                          </a:lnTo>
                          <a:lnTo>
                            <a:pt x="2520" y="94"/>
                          </a:lnTo>
                          <a:lnTo>
                            <a:pt x="3115" y="0"/>
                          </a:lnTo>
                          <a:lnTo>
                            <a:pt x="2817" y="204"/>
                          </a:lnTo>
                          <a:lnTo>
                            <a:pt x="2619" y="361"/>
                          </a:lnTo>
                          <a:lnTo>
                            <a:pt x="2401" y="580"/>
                          </a:lnTo>
                          <a:lnTo>
                            <a:pt x="2242" y="737"/>
                          </a:lnTo>
                          <a:lnTo>
                            <a:pt x="2024" y="925"/>
                          </a:lnTo>
                          <a:lnTo>
                            <a:pt x="1825" y="1113"/>
                          </a:lnTo>
                          <a:lnTo>
                            <a:pt x="1547" y="1379"/>
                          </a:lnTo>
                          <a:lnTo>
                            <a:pt x="1329" y="1583"/>
                          </a:lnTo>
                          <a:lnTo>
                            <a:pt x="1151" y="1818"/>
                          </a:lnTo>
                          <a:lnTo>
                            <a:pt x="972" y="2084"/>
                          </a:lnTo>
                          <a:lnTo>
                            <a:pt x="853" y="2319"/>
                          </a:lnTo>
                          <a:lnTo>
                            <a:pt x="674" y="2633"/>
                          </a:lnTo>
                          <a:lnTo>
                            <a:pt x="516" y="2993"/>
                          </a:lnTo>
                          <a:lnTo>
                            <a:pt x="377" y="3385"/>
                          </a:lnTo>
                          <a:lnTo>
                            <a:pt x="277" y="3808"/>
                          </a:lnTo>
                          <a:lnTo>
                            <a:pt x="198" y="4231"/>
                          </a:lnTo>
                          <a:lnTo>
                            <a:pt x="218" y="4592"/>
                          </a:lnTo>
                          <a:lnTo>
                            <a:pt x="0" y="4592"/>
                          </a:lnTo>
                          <a:close/>
                        </a:path>
                      </a:pathLst>
                    </a:custGeom>
                    <a:solidFill>
                      <a:srgbClr val="006000"/>
                    </a:solidFill>
                    <a:ln w="11160">
                      <a:solidFill>
                        <a:srgbClr val="004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" name=""/>
                    <p:cNvSpPr/>
                    <p:nvPr/>
                  </p:nvSpPr>
                  <p:spPr>
                    <a:xfrm>
                      <a:off x="617040" y="5182200"/>
                      <a:ext cx="480240" cy="679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65" h="2805">
                          <a:moveTo>
                            <a:pt x="1965" y="0"/>
                          </a:moveTo>
                          <a:lnTo>
                            <a:pt x="1687" y="172"/>
                          </a:lnTo>
                          <a:lnTo>
                            <a:pt x="1310" y="501"/>
                          </a:lnTo>
                          <a:lnTo>
                            <a:pt x="1032" y="783"/>
                          </a:lnTo>
                          <a:lnTo>
                            <a:pt x="734" y="1144"/>
                          </a:lnTo>
                          <a:lnTo>
                            <a:pt x="496" y="1551"/>
                          </a:lnTo>
                          <a:lnTo>
                            <a:pt x="278" y="1927"/>
                          </a:lnTo>
                          <a:lnTo>
                            <a:pt x="139" y="2366"/>
                          </a:lnTo>
                          <a:lnTo>
                            <a:pt x="0" y="2805"/>
                          </a:lnTo>
                          <a:lnTo>
                            <a:pt x="139" y="2162"/>
                          </a:lnTo>
                          <a:lnTo>
                            <a:pt x="357" y="1614"/>
                          </a:lnTo>
                          <a:lnTo>
                            <a:pt x="615" y="1160"/>
                          </a:lnTo>
                          <a:lnTo>
                            <a:pt x="913" y="815"/>
                          </a:lnTo>
                          <a:lnTo>
                            <a:pt x="1191" y="517"/>
                          </a:lnTo>
                          <a:lnTo>
                            <a:pt x="1965" y="0"/>
                          </a:lnTo>
                          <a:close/>
                        </a:path>
                      </a:pathLst>
                    </a:custGeom>
                    <a:solidFill>
                      <a:srgbClr val="004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5" name=""/>
                  <p:cNvGrpSpPr/>
                  <p:nvPr/>
                </p:nvGrpSpPr>
                <p:grpSpPr>
                  <a:xfrm>
                    <a:off x="213120" y="5192280"/>
                    <a:ext cx="339480" cy="1017360"/>
                    <a:chOff x="213120" y="5192280"/>
                    <a:chExt cx="339480" cy="1017360"/>
                  </a:xfrm>
                </p:grpSpPr>
                <p:sp>
                  <p:nvSpPr>
                    <p:cNvPr id="96" name=""/>
                    <p:cNvSpPr/>
                    <p:nvPr/>
                  </p:nvSpPr>
                  <p:spPr>
                    <a:xfrm>
                      <a:off x="213120" y="5192280"/>
                      <a:ext cx="339480" cy="1017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89" h="4199">
                          <a:moveTo>
                            <a:pt x="1389" y="4199"/>
                          </a:moveTo>
                          <a:lnTo>
                            <a:pt x="1290" y="3949"/>
                          </a:lnTo>
                          <a:lnTo>
                            <a:pt x="1132" y="3698"/>
                          </a:lnTo>
                          <a:lnTo>
                            <a:pt x="993" y="3416"/>
                          </a:lnTo>
                          <a:lnTo>
                            <a:pt x="874" y="3118"/>
                          </a:lnTo>
                          <a:lnTo>
                            <a:pt x="794" y="2820"/>
                          </a:lnTo>
                          <a:lnTo>
                            <a:pt x="735" y="2538"/>
                          </a:lnTo>
                          <a:lnTo>
                            <a:pt x="715" y="2303"/>
                          </a:lnTo>
                          <a:lnTo>
                            <a:pt x="635" y="1943"/>
                          </a:lnTo>
                          <a:lnTo>
                            <a:pt x="596" y="1551"/>
                          </a:lnTo>
                          <a:lnTo>
                            <a:pt x="596" y="1191"/>
                          </a:lnTo>
                          <a:lnTo>
                            <a:pt x="596" y="830"/>
                          </a:lnTo>
                          <a:lnTo>
                            <a:pt x="616" y="517"/>
                          </a:lnTo>
                          <a:lnTo>
                            <a:pt x="675" y="0"/>
                          </a:lnTo>
                          <a:lnTo>
                            <a:pt x="516" y="313"/>
                          </a:lnTo>
                          <a:lnTo>
                            <a:pt x="377" y="642"/>
                          </a:lnTo>
                          <a:lnTo>
                            <a:pt x="239" y="940"/>
                          </a:lnTo>
                          <a:lnTo>
                            <a:pt x="119" y="1269"/>
                          </a:lnTo>
                          <a:lnTo>
                            <a:pt x="80" y="1535"/>
                          </a:lnTo>
                          <a:lnTo>
                            <a:pt x="40" y="1755"/>
                          </a:lnTo>
                          <a:lnTo>
                            <a:pt x="0" y="2037"/>
                          </a:lnTo>
                          <a:lnTo>
                            <a:pt x="20" y="2397"/>
                          </a:lnTo>
                          <a:lnTo>
                            <a:pt x="80" y="2711"/>
                          </a:lnTo>
                          <a:lnTo>
                            <a:pt x="139" y="2961"/>
                          </a:lnTo>
                          <a:lnTo>
                            <a:pt x="219" y="3181"/>
                          </a:lnTo>
                          <a:lnTo>
                            <a:pt x="318" y="3431"/>
                          </a:lnTo>
                          <a:lnTo>
                            <a:pt x="457" y="3698"/>
                          </a:lnTo>
                          <a:lnTo>
                            <a:pt x="616" y="3886"/>
                          </a:lnTo>
                          <a:lnTo>
                            <a:pt x="754" y="4043"/>
                          </a:lnTo>
                          <a:lnTo>
                            <a:pt x="933" y="4199"/>
                          </a:lnTo>
                          <a:lnTo>
                            <a:pt x="1389" y="4199"/>
                          </a:lnTo>
                          <a:close/>
                        </a:path>
                      </a:pathLst>
                    </a:custGeom>
                    <a:solidFill>
                      <a:srgbClr val="006000"/>
                    </a:solidFill>
                    <a:ln w="11160">
                      <a:solidFill>
                        <a:srgbClr val="004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" name=""/>
                    <p:cNvSpPr/>
                    <p:nvPr/>
                  </p:nvSpPr>
                  <p:spPr>
                    <a:xfrm>
                      <a:off x="275760" y="5492160"/>
                      <a:ext cx="184320" cy="683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54" h="2820">
                          <a:moveTo>
                            <a:pt x="80" y="0"/>
                          </a:moveTo>
                          <a:lnTo>
                            <a:pt x="0" y="376"/>
                          </a:lnTo>
                          <a:lnTo>
                            <a:pt x="20" y="799"/>
                          </a:lnTo>
                          <a:lnTo>
                            <a:pt x="100" y="1285"/>
                          </a:lnTo>
                          <a:lnTo>
                            <a:pt x="199" y="1786"/>
                          </a:lnTo>
                          <a:lnTo>
                            <a:pt x="358" y="2209"/>
                          </a:lnTo>
                          <a:lnTo>
                            <a:pt x="616" y="2617"/>
                          </a:lnTo>
                          <a:lnTo>
                            <a:pt x="754" y="2820"/>
                          </a:lnTo>
                          <a:lnTo>
                            <a:pt x="576" y="2444"/>
                          </a:lnTo>
                          <a:lnTo>
                            <a:pt x="397" y="2084"/>
                          </a:lnTo>
                          <a:lnTo>
                            <a:pt x="258" y="1645"/>
                          </a:lnTo>
                          <a:lnTo>
                            <a:pt x="159" y="1238"/>
                          </a:lnTo>
                          <a:lnTo>
                            <a:pt x="80" y="767"/>
                          </a:lnTo>
                          <a:lnTo>
                            <a:pt x="20" y="485"/>
                          </a:lnTo>
                          <a:lnTo>
                            <a:pt x="80" y="0"/>
                          </a:lnTo>
                          <a:close/>
                        </a:path>
                      </a:pathLst>
                    </a:custGeom>
                    <a:solidFill>
                      <a:srgbClr val="004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385200" y="4574160"/>
                  <a:ext cx="375840" cy="371880"/>
                  <a:chOff x="385200" y="4574160"/>
                  <a:chExt cx="375840" cy="371880"/>
                </a:xfrm>
              </p:grpSpPr>
              <p:grpSp>
                <p:nvGrpSpPr>
                  <p:cNvPr id="99" name=""/>
                  <p:cNvGrpSpPr/>
                  <p:nvPr/>
                </p:nvGrpSpPr>
                <p:grpSpPr>
                  <a:xfrm>
                    <a:off x="518400" y="4574160"/>
                    <a:ext cx="160200" cy="157320"/>
                    <a:chOff x="518400" y="4574160"/>
                    <a:chExt cx="160200" cy="157320"/>
                  </a:xfrm>
                </p:grpSpPr>
                <p:sp>
                  <p:nvSpPr>
                    <p:cNvPr id="100" name=""/>
                    <p:cNvSpPr/>
                    <p:nvPr/>
                  </p:nvSpPr>
                  <p:spPr>
                    <a:xfrm>
                      <a:off x="518400" y="4574160"/>
                      <a:ext cx="160200" cy="15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4" h="651">
                          <a:moveTo>
                            <a:pt x="0" y="314"/>
                          </a:moveTo>
                          <a:lnTo>
                            <a:pt x="49" y="236"/>
                          </a:lnTo>
                          <a:lnTo>
                            <a:pt x="119" y="173"/>
                          </a:lnTo>
                          <a:lnTo>
                            <a:pt x="258" y="94"/>
                          </a:lnTo>
                          <a:lnTo>
                            <a:pt x="387" y="47"/>
                          </a:lnTo>
                          <a:lnTo>
                            <a:pt x="525" y="0"/>
                          </a:lnTo>
                          <a:lnTo>
                            <a:pt x="545" y="87"/>
                          </a:lnTo>
                          <a:lnTo>
                            <a:pt x="565" y="173"/>
                          </a:lnTo>
                          <a:lnTo>
                            <a:pt x="605" y="243"/>
                          </a:lnTo>
                          <a:lnTo>
                            <a:pt x="654" y="361"/>
                          </a:lnTo>
                          <a:lnTo>
                            <a:pt x="635" y="510"/>
                          </a:lnTo>
                          <a:lnTo>
                            <a:pt x="208" y="651"/>
                          </a:lnTo>
                          <a:lnTo>
                            <a:pt x="0" y="314"/>
                          </a:lnTo>
                          <a:close/>
                        </a:path>
                      </a:pathLst>
                    </a:custGeom>
                    <a:solidFill>
                      <a:srgbClr val="c00000"/>
                    </a:solidFill>
                    <a:ln w="1116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" name=""/>
                    <p:cNvSpPr/>
                    <p:nvPr/>
                  </p:nvSpPr>
                  <p:spPr>
                    <a:xfrm>
                      <a:off x="530280" y="4585680"/>
                      <a:ext cx="10656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7" h="400">
                          <a:moveTo>
                            <a:pt x="124" y="130"/>
                          </a:moveTo>
                          <a:lnTo>
                            <a:pt x="214" y="83"/>
                          </a:lnTo>
                          <a:lnTo>
                            <a:pt x="283" y="47"/>
                          </a:lnTo>
                          <a:lnTo>
                            <a:pt x="367" y="20"/>
                          </a:lnTo>
                          <a:lnTo>
                            <a:pt x="437" y="0"/>
                          </a:lnTo>
                          <a:lnTo>
                            <a:pt x="372" y="91"/>
                          </a:lnTo>
                          <a:lnTo>
                            <a:pt x="333" y="173"/>
                          </a:lnTo>
                          <a:lnTo>
                            <a:pt x="303" y="239"/>
                          </a:lnTo>
                          <a:lnTo>
                            <a:pt x="278" y="318"/>
                          </a:lnTo>
                          <a:lnTo>
                            <a:pt x="228" y="400"/>
                          </a:lnTo>
                          <a:lnTo>
                            <a:pt x="0" y="204"/>
                          </a:lnTo>
                          <a:lnTo>
                            <a:pt x="124" y="130"/>
                          </a:lnTo>
                          <a:close/>
                        </a:path>
                      </a:pathLst>
                    </a:custGeom>
                    <a:solidFill>
                      <a:srgbClr val="ff4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" name=""/>
                    <p:cNvSpPr/>
                    <p:nvPr/>
                  </p:nvSpPr>
                  <p:spPr>
                    <a:xfrm>
                      <a:off x="601920" y="4591800"/>
                      <a:ext cx="71640" cy="8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3" h="368">
                          <a:moveTo>
                            <a:pt x="154" y="0"/>
                          </a:moveTo>
                          <a:lnTo>
                            <a:pt x="89" y="106"/>
                          </a:lnTo>
                          <a:lnTo>
                            <a:pt x="49" y="188"/>
                          </a:lnTo>
                          <a:lnTo>
                            <a:pt x="35" y="255"/>
                          </a:lnTo>
                          <a:lnTo>
                            <a:pt x="0" y="368"/>
                          </a:lnTo>
                          <a:lnTo>
                            <a:pt x="258" y="349"/>
                          </a:lnTo>
                          <a:lnTo>
                            <a:pt x="293" y="219"/>
                          </a:lnTo>
                          <a:lnTo>
                            <a:pt x="218" y="172"/>
                          </a:lnTo>
                          <a:lnTo>
                            <a:pt x="178" y="106"/>
                          </a:lnTo>
                          <a:lnTo>
                            <a:pt x="164" y="70"/>
                          </a:lnTo>
                          <a:lnTo>
                            <a:pt x="154" y="0"/>
                          </a:lnTo>
                          <a:close/>
                        </a:path>
                      </a:pathLst>
                    </a:cu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2840" bIns="42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3" name=""/>
                  <p:cNvSpPr/>
                  <p:nvPr/>
                </p:nvSpPr>
                <p:spPr>
                  <a:xfrm>
                    <a:off x="385200" y="4592880"/>
                    <a:ext cx="25956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062" h="1441">
                        <a:moveTo>
                          <a:pt x="258" y="78"/>
                        </a:moveTo>
                        <a:lnTo>
                          <a:pt x="298" y="172"/>
                        </a:lnTo>
                        <a:lnTo>
                          <a:pt x="302" y="235"/>
                        </a:lnTo>
                        <a:lnTo>
                          <a:pt x="288" y="298"/>
                        </a:lnTo>
                        <a:lnTo>
                          <a:pt x="268" y="360"/>
                        </a:lnTo>
                        <a:lnTo>
                          <a:pt x="238" y="419"/>
                        </a:lnTo>
                        <a:lnTo>
                          <a:pt x="193" y="497"/>
                        </a:lnTo>
                        <a:lnTo>
                          <a:pt x="159" y="564"/>
                        </a:lnTo>
                        <a:lnTo>
                          <a:pt x="109" y="634"/>
                        </a:lnTo>
                        <a:lnTo>
                          <a:pt x="59" y="744"/>
                        </a:lnTo>
                        <a:lnTo>
                          <a:pt x="25" y="834"/>
                        </a:lnTo>
                        <a:lnTo>
                          <a:pt x="5" y="913"/>
                        </a:lnTo>
                        <a:lnTo>
                          <a:pt x="0" y="1007"/>
                        </a:lnTo>
                        <a:lnTo>
                          <a:pt x="5" y="1073"/>
                        </a:lnTo>
                        <a:lnTo>
                          <a:pt x="25" y="1155"/>
                        </a:lnTo>
                        <a:lnTo>
                          <a:pt x="64" y="1222"/>
                        </a:lnTo>
                        <a:lnTo>
                          <a:pt x="99" y="1277"/>
                        </a:lnTo>
                        <a:lnTo>
                          <a:pt x="188" y="1347"/>
                        </a:lnTo>
                        <a:lnTo>
                          <a:pt x="298" y="1394"/>
                        </a:lnTo>
                        <a:lnTo>
                          <a:pt x="476" y="1418"/>
                        </a:lnTo>
                        <a:lnTo>
                          <a:pt x="704" y="1441"/>
                        </a:lnTo>
                        <a:lnTo>
                          <a:pt x="853" y="1402"/>
                        </a:lnTo>
                        <a:lnTo>
                          <a:pt x="952" y="1332"/>
                        </a:lnTo>
                        <a:lnTo>
                          <a:pt x="1012" y="1222"/>
                        </a:lnTo>
                        <a:lnTo>
                          <a:pt x="1042" y="1097"/>
                        </a:lnTo>
                        <a:lnTo>
                          <a:pt x="1062" y="987"/>
                        </a:lnTo>
                        <a:lnTo>
                          <a:pt x="1062" y="869"/>
                        </a:lnTo>
                        <a:lnTo>
                          <a:pt x="1052" y="775"/>
                        </a:lnTo>
                        <a:lnTo>
                          <a:pt x="1042" y="666"/>
                        </a:lnTo>
                        <a:lnTo>
                          <a:pt x="1022" y="564"/>
                        </a:lnTo>
                        <a:lnTo>
                          <a:pt x="992" y="439"/>
                        </a:lnTo>
                        <a:lnTo>
                          <a:pt x="933" y="345"/>
                        </a:lnTo>
                        <a:lnTo>
                          <a:pt x="863" y="243"/>
                        </a:lnTo>
                        <a:lnTo>
                          <a:pt x="774" y="164"/>
                        </a:lnTo>
                        <a:lnTo>
                          <a:pt x="684" y="117"/>
                        </a:lnTo>
                        <a:lnTo>
                          <a:pt x="575" y="62"/>
                        </a:lnTo>
                        <a:lnTo>
                          <a:pt x="461" y="35"/>
                        </a:lnTo>
                        <a:lnTo>
                          <a:pt x="357" y="15"/>
                        </a:lnTo>
                        <a:lnTo>
                          <a:pt x="218" y="0"/>
                        </a:lnTo>
                        <a:lnTo>
                          <a:pt x="258" y="78"/>
                        </a:lnTo>
                        <a:close/>
                      </a:path>
                    </a:pathLst>
                  </a:custGeom>
                  <a:solidFill>
                    <a:srgbClr val="e00000"/>
                  </a:solidFill>
                  <a:ln w="11160">
                    <a:solidFill>
                      <a:srgbClr val="8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504360" y="4592880"/>
                    <a:ext cx="256680" cy="35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52" h="1457">
                        <a:moveTo>
                          <a:pt x="357" y="446"/>
                        </a:moveTo>
                        <a:lnTo>
                          <a:pt x="447" y="329"/>
                        </a:lnTo>
                        <a:lnTo>
                          <a:pt x="526" y="251"/>
                        </a:lnTo>
                        <a:lnTo>
                          <a:pt x="625" y="180"/>
                        </a:lnTo>
                        <a:lnTo>
                          <a:pt x="734" y="117"/>
                        </a:lnTo>
                        <a:lnTo>
                          <a:pt x="824" y="86"/>
                        </a:lnTo>
                        <a:lnTo>
                          <a:pt x="898" y="59"/>
                        </a:lnTo>
                        <a:lnTo>
                          <a:pt x="962" y="35"/>
                        </a:lnTo>
                        <a:lnTo>
                          <a:pt x="1052" y="0"/>
                        </a:lnTo>
                        <a:lnTo>
                          <a:pt x="992" y="109"/>
                        </a:lnTo>
                        <a:lnTo>
                          <a:pt x="953" y="196"/>
                        </a:lnTo>
                        <a:lnTo>
                          <a:pt x="953" y="290"/>
                        </a:lnTo>
                        <a:lnTo>
                          <a:pt x="953" y="384"/>
                        </a:lnTo>
                        <a:lnTo>
                          <a:pt x="962" y="470"/>
                        </a:lnTo>
                        <a:lnTo>
                          <a:pt x="982" y="572"/>
                        </a:lnTo>
                        <a:lnTo>
                          <a:pt x="1012" y="666"/>
                        </a:lnTo>
                        <a:lnTo>
                          <a:pt x="1032" y="760"/>
                        </a:lnTo>
                        <a:lnTo>
                          <a:pt x="1052" y="846"/>
                        </a:lnTo>
                        <a:lnTo>
                          <a:pt x="1052" y="932"/>
                        </a:lnTo>
                        <a:lnTo>
                          <a:pt x="1042" y="1018"/>
                        </a:lnTo>
                        <a:lnTo>
                          <a:pt x="1012" y="1112"/>
                        </a:lnTo>
                        <a:lnTo>
                          <a:pt x="972" y="1206"/>
                        </a:lnTo>
                        <a:lnTo>
                          <a:pt x="933" y="1277"/>
                        </a:lnTo>
                        <a:lnTo>
                          <a:pt x="834" y="1379"/>
                        </a:lnTo>
                        <a:lnTo>
                          <a:pt x="724" y="1418"/>
                        </a:lnTo>
                        <a:lnTo>
                          <a:pt x="585" y="1449"/>
                        </a:lnTo>
                        <a:lnTo>
                          <a:pt x="427" y="1457"/>
                        </a:lnTo>
                        <a:lnTo>
                          <a:pt x="327" y="1457"/>
                        </a:lnTo>
                        <a:lnTo>
                          <a:pt x="179" y="1438"/>
                        </a:lnTo>
                        <a:lnTo>
                          <a:pt x="104" y="1398"/>
                        </a:lnTo>
                        <a:lnTo>
                          <a:pt x="40" y="1332"/>
                        </a:lnTo>
                        <a:lnTo>
                          <a:pt x="10" y="1238"/>
                        </a:lnTo>
                        <a:lnTo>
                          <a:pt x="0" y="1159"/>
                        </a:lnTo>
                        <a:lnTo>
                          <a:pt x="0" y="1034"/>
                        </a:lnTo>
                        <a:lnTo>
                          <a:pt x="40" y="924"/>
                        </a:lnTo>
                        <a:lnTo>
                          <a:pt x="119" y="791"/>
                        </a:lnTo>
                        <a:lnTo>
                          <a:pt x="198" y="666"/>
                        </a:lnTo>
                        <a:lnTo>
                          <a:pt x="268" y="556"/>
                        </a:lnTo>
                        <a:lnTo>
                          <a:pt x="357" y="446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11160">
                    <a:solidFill>
                      <a:srgbClr val="8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402120" y="4718520"/>
                    <a:ext cx="60480" cy="204840"/>
                  </a:xfrm>
                  <a:custGeom>
                    <a:avLst/>
                    <a:gdLst/>
                    <a:ahLst/>
                    <a:rect l="l" t="t" r="r" b="b"/>
                    <a:pathLst>
                      <a:path w="248" h="846">
                        <a:moveTo>
                          <a:pt x="139" y="0"/>
                        </a:moveTo>
                        <a:lnTo>
                          <a:pt x="60" y="188"/>
                        </a:lnTo>
                        <a:lnTo>
                          <a:pt x="20" y="313"/>
                        </a:lnTo>
                        <a:lnTo>
                          <a:pt x="0" y="470"/>
                        </a:lnTo>
                        <a:lnTo>
                          <a:pt x="10" y="611"/>
                        </a:lnTo>
                        <a:lnTo>
                          <a:pt x="70" y="729"/>
                        </a:lnTo>
                        <a:lnTo>
                          <a:pt x="159" y="807"/>
                        </a:lnTo>
                        <a:lnTo>
                          <a:pt x="248" y="846"/>
                        </a:lnTo>
                        <a:lnTo>
                          <a:pt x="119" y="666"/>
                        </a:lnTo>
                        <a:lnTo>
                          <a:pt x="80" y="517"/>
                        </a:lnTo>
                        <a:lnTo>
                          <a:pt x="90" y="360"/>
                        </a:lnTo>
                        <a:lnTo>
                          <a:pt x="90" y="251"/>
                        </a:lnTo>
                        <a:lnTo>
                          <a:pt x="109" y="141"/>
                        </a:lnTo>
                        <a:lnTo>
                          <a:pt x="139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02280" y="4604400"/>
                    <a:ext cx="149400" cy="97560"/>
                  </a:xfrm>
                  <a:custGeom>
                    <a:avLst/>
                    <a:gdLst/>
                    <a:ahLst/>
                    <a:rect l="l" t="t" r="r" b="b"/>
                    <a:pathLst>
                      <a:path w="610" h="403">
                        <a:moveTo>
                          <a:pt x="546" y="27"/>
                        </a:moveTo>
                        <a:lnTo>
                          <a:pt x="481" y="47"/>
                        </a:lnTo>
                        <a:lnTo>
                          <a:pt x="407" y="74"/>
                        </a:lnTo>
                        <a:lnTo>
                          <a:pt x="337" y="110"/>
                        </a:lnTo>
                        <a:lnTo>
                          <a:pt x="283" y="141"/>
                        </a:lnTo>
                        <a:lnTo>
                          <a:pt x="213" y="188"/>
                        </a:lnTo>
                        <a:lnTo>
                          <a:pt x="149" y="235"/>
                        </a:lnTo>
                        <a:lnTo>
                          <a:pt x="69" y="313"/>
                        </a:lnTo>
                        <a:lnTo>
                          <a:pt x="0" y="403"/>
                        </a:lnTo>
                        <a:lnTo>
                          <a:pt x="104" y="356"/>
                        </a:lnTo>
                        <a:lnTo>
                          <a:pt x="188" y="317"/>
                        </a:lnTo>
                        <a:lnTo>
                          <a:pt x="263" y="290"/>
                        </a:lnTo>
                        <a:lnTo>
                          <a:pt x="342" y="266"/>
                        </a:lnTo>
                        <a:lnTo>
                          <a:pt x="407" y="251"/>
                        </a:lnTo>
                        <a:lnTo>
                          <a:pt x="461" y="231"/>
                        </a:lnTo>
                        <a:lnTo>
                          <a:pt x="501" y="196"/>
                        </a:lnTo>
                        <a:lnTo>
                          <a:pt x="531" y="137"/>
                        </a:lnTo>
                        <a:lnTo>
                          <a:pt x="551" y="90"/>
                        </a:lnTo>
                        <a:lnTo>
                          <a:pt x="610" y="0"/>
                        </a:lnTo>
                        <a:lnTo>
                          <a:pt x="546" y="27"/>
                        </a:lnTo>
                        <a:close/>
                      </a:path>
                    </a:pathLst>
                  </a:custGeom>
                  <a:solidFill>
                    <a:srgbClr val="c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454320" y="4602600"/>
                    <a:ext cx="114840" cy="5940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47">
                        <a:moveTo>
                          <a:pt x="0" y="0"/>
                        </a:moveTo>
                        <a:lnTo>
                          <a:pt x="89" y="12"/>
                        </a:lnTo>
                        <a:lnTo>
                          <a:pt x="193" y="39"/>
                        </a:lnTo>
                        <a:lnTo>
                          <a:pt x="332" y="98"/>
                        </a:lnTo>
                        <a:lnTo>
                          <a:pt x="387" y="145"/>
                        </a:lnTo>
                        <a:lnTo>
                          <a:pt x="441" y="208"/>
                        </a:lnTo>
                        <a:lnTo>
                          <a:pt x="471" y="247"/>
                        </a:lnTo>
                        <a:lnTo>
                          <a:pt x="337" y="215"/>
                        </a:lnTo>
                        <a:lnTo>
                          <a:pt x="173" y="208"/>
                        </a:lnTo>
                        <a:lnTo>
                          <a:pt x="104" y="192"/>
                        </a:lnTo>
                        <a:lnTo>
                          <a:pt x="59" y="145"/>
                        </a:lnTo>
                        <a:lnTo>
                          <a:pt x="15" y="7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513720" y="4788720"/>
                    <a:ext cx="41400" cy="14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599">
                        <a:moveTo>
                          <a:pt x="144" y="0"/>
                        </a:moveTo>
                        <a:lnTo>
                          <a:pt x="54" y="113"/>
                        </a:lnTo>
                        <a:lnTo>
                          <a:pt x="20" y="188"/>
                        </a:lnTo>
                        <a:lnTo>
                          <a:pt x="0" y="270"/>
                        </a:lnTo>
                        <a:lnTo>
                          <a:pt x="0" y="341"/>
                        </a:lnTo>
                        <a:lnTo>
                          <a:pt x="10" y="407"/>
                        </a:lnTo>
                        <a:lnTo>
                          <a:pt x="25" y="474"/>
                        </a:lnTo>
                        <a:lnTo>
                          <a:pt x="54" y="509"/>
                        </a:lnTo>
                        <a:lnTo>
                          <a:pt x="94" y="560"/>
                        </a:lnTo>
                        <a:lnTo>
                          <a:pt x="168" y="599"/>
                        </a:lnTo>
                        <a:lnTo>
                          <a:pt x="119" y="505"/>
                        </a:lnTo>
                        <a:lnTo>
                          <a:pt x="99" y="450"/>
                        </a:lnTo>
                        <a:lnTo>
                          <a:pt x="84" y="392"/>
                        </a:lnTo>
                        <a:lnTo>
                          <a:pt x="79" y="337"/>
                        </a:lnTo>
                        <a:lnTo>
                          <a:pt x="84" y="278"/>
                        </a:lnTo>
                        <a:lnTo>
                          <a:pt x="84" y="219"/>
                        </a:lnTo>
                        <a:lnTo>
                          <a:pt x="104" y="137"/>
                        </a:lnTo>
                        <a:lnTo>
                          <a:pt x="144" y="0"/>
                        </a:lnTo>
                        <a:close/>
                      </a:path>
                    </a:pathLst>
                  </a:custGeom>
                  <a:solidFill>
                    <a:srgbClr val="ff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702000" y="4725360"/>
                    <a:ext cx="50760" cy="18792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776">
                        <a:moveTo>
                          <a:pt x="114" y="0"/>
                        </a:moveTo>
                        <a:lnTo>
                          <a:pt x="178" y="153"/>
                        </a:lnTo>
                        <a:lnTo>
                          <a:pt x="203" y="259"/>
                        </a:lnTo>
                        <a:lnTo>
                          <a:pt x="208" y="373"/>
                        </a:lnTo>
                        <a:lnTo>
                          <a:pt x="193" y="498"/>
                        </a:lnTo>
                        <a:lnTo>
                          <a:pt x="144" y="619"/>
                        </a:lnTo>
                        <a:lnTo>
                          <a:pt x="74" y="729"/>
                        </a:lnTo>
                        <a:lnTo>
                          <a:pt x="0" y="776"/>
                        </a:lnTo>
                        <a:lnTo>
                          <a:pt x="79" y="639"/>
                        </a:lnTo>
                        <a:lnTo>
                          <a:pt x="119" y="431"/>
                        </a:lnTo>
                        <a:lnTo>
                          <a:pt x="119" y="263"/>
                        </a:lnTo>
                        <a:lnTo>
                          <a:pt x="119" y="145"/>
                        </a:lnTo>
                        <a:lnTo>
                          <a:pt x="114" y="0"/>
                        </a:lnTo>
                        <a:close/>
                      </a:path>
                    </a:pathLst>
                  </a:custGeom>
                  <a:solidFill>
                    <a:srgbClr val="ff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0" name=""/>
                  <p:cNvGrpSpPr/>
                  <p:nvPr/>
                </p:nvGrpSpPr>
                <p:grpSpPr>
                  <a:xfrm>
                    <a:off x="454320" y="4730400"/>
                    <a:ext cx="184680" cy="171360"/>
                    <a:chOff x="454320" y="4730400"/>
                    <a:chExt cx="184680" cy="171360"/>
                  </a:xfrm>
                </p:grpSpPr>
                <p:grpSp>
                  <p:nvGrpSpPr>
                    <p:cNvPr id="111" name=""/>
                    <p:cNvGrpSpPr/>
                    <p:nvPr/>
                  </p:nvGrpSpPr>
                  <p:grpSpPr>
                    <a:xfrm>
                      <a:off x="457560" y="4732200"/>
                      <a:ext cx="181440" cy="169560"/>
                      <a:chOff x="457560" y="4732200"/>
                      <a:chExt cx="181440" cy="169560"/>
                    </a:xfrm>
                  </p:grpSpPr>
                  <p:sp>
                    <p:nvSpPr>
                      <p:cNvPr id="112" name=""/>
                      <p:cNvSpPr/>
                      <p:nvPr/>
                    </p:nvSpPr>
                    <p:spPr>
                      <a:xfrm>
                        <a:off x="603360" y="4835880"/>
                        <a:ext cx="19440" cy="14760"/>
                      </a:xfrm>
                      <a:prstGeom prst="ellipse">
                        <a:avLst/>
                      </a:prstGeom>
                      <a:solidFill>
                        <a:srgbClr val="8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360" bIns="-36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3" name=""/>
                      <p:cNvSpPr/>
                      <p:nvPr/>
                    </p:nvSpPr>
                    <p:spPr>
                      <a:xfrm>
                        <a:off x="628560" y="4788360"/>
                        <a:ext cx="10440" cy="11160"/>
                      </a:xfrm>
                      <a:prstGeom prst="ellipse">
                        <a:avLst/>
                      </a:prstGeom>
                      <a:solidFill>
                        <a:srgbClr val="8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4" name=""/>
                      <p:cNvSpPr/>
                      <p:nvPr/>
                    </p:nvSpPr>
                    <p:spPr>
                      <a:xfrm>
                        <a:off x="477000" y="4732200"/>
                        <a:ext cx="10440" cy="16200"/>
                      </a:xfrm>
                      <a:prstGeom prst="ellipse">
                        <a:avLst/>
                      </a:prstGeom>
                      <a:solidFill>
                        <a:srgbClr val="8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920" bIns="-34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5" name=""/>
                      <p:cNvSpPr/>
                      <p:nvPr/>
                    </p:nvSpPr>
                    <p:spPr>
                      <a:xfrm>
                        <a:off x="457560" y="4833000"/>
                        <a:ext cx="15840" cy="17640"/>
                      </a:xfrm>
                      <a:prstGeom prst="ellipse">
                        <a:avLst/>
                      </a:prstGeom>
                      <a:solidFill>
                        <a:srgbClr val="8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6" name=""/>
                      <p:cNvSpPr/>
                      <p:nvPr/>
                    </p:nvSpPr>
                    <p:spPr>
                      <a:xfrm>
                        <a:off x="616320" y="4889160"/>
                        <a:ext cx="14040" cy="12600"/>
                      </a:xfrm>
                      <a:prstGeom prst="ellipse">
                        <a:avLst/>
                      </a:prstGeom>
                      <a:solidFill>
                        <a:srgbClr val="8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17" name=""/>
                    <p:cNvGrpSpPr/>
                    <p:nvPr/>
                  </p:nvGrpSpPr>
                  <p:grpSpPr>
                    <a:xfrm>
                      <a:off x="454320" y="4730400"/>
                      <a:ext cx="181440" cy="169200"/>
                      <a:chOff x="454320" y="4730400"/>
                      <a:chExt cx="181440" cy="169200"/>
                    </a:xfrm>
                  </p:grpSpPr>
                  <p:sp>
                    <p:nvSpPr>
                      <p:cNvPr id="118" name=""/>
                      <p:cNvSpPr/>
                      <p:nvPr/>
                    </p:nvSpPr>
                    <p:spPr>
                      <a:xfrm>
                        <a:off x="599400" y="4834080"/>
                        <a:ext cx="19440" cy="14760"/>
                      </a:xfrm>
                      <a:prstGeom prst="ellipse">
                        <a:avLst/>
                      </a:prstGeom>
                      <a:solidFill>
                        <a:srgbClr val="ff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360" bIns="-36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9" name=""/>
                      <p:cNvSpPr/>
                      <p:nvPr/>
                    </p:nvSpPr>
                    <p:spPr>
                      <a:xfrm>
                        <a:off x="625320" y="4786560"/>
                        <a:ext cx="10440" cy="10800"/>
                      </a:xfrm>
                      <a:prstGeom prst="ellipse">
                        <a:avLst/>
                      </a:prstGeom>
                      <a:solidFill>
                        <a:srgbClr val="ff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0" name=""/>
                      <p:cNvSpPr/>
                      <p:nvPr/>
                    </p:nvSpPr>
                    <p:spPr>
                      <a:xfrm>
                        <a:off x="473760" y="4730400"/>
                        <a:ext cx="10440" cy="16200"/>
                      </a:xfrm>
                      <a:prstGeom prst="ellipse">
                        <a:avLst/>
                      </a:prstGeom>
                      <a:solidFill>
                        <a:srgbClr val="ff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920" bIns="-34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" name=""/>
                      <p:cNvSpPr/>
                      <p:nvPr/>
                    </p:nvSpPr>
                    <p:spPr>
                      <a:xfrm>
                        <a:off x="454320" y="4831200"/>
                        <a:ext cx="15480" cy="17640"/>
                      </a:xfrm>
                      <a:prstGeom prst="ellipse">
                        <a:avLst/>
                      </a:prstGeom>
                      <a:solidFill>
                        <a:srgbClr val="ff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2" name=""/>
                      <p:cNvSpPr/>
                      <p:nvPr/>
                    </p:nvSpPr>
                    <p:spPr>
                      <a:xfrm>
                        <a:off x="613080" y="4887360"/>
                        <a:ext cx="14040" cy="12240"/>
                      </a:xfrm>
                      <a:prstGeom prst="ellipse">
                        <a:avLst/>
                      </a:prstGeom>
                      <a:solidFill>
                        <a:srgbClr val="ff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601920" y="4837680"/>
                      <a:ext cx="10080" cy="7920"/>
                    </a:xfrm>
                    <a:prstGeom prst="ellipse">
                      <a:avLst/>
                    </a:prstGeom>
                    <a:solidFill>
                      <a:srgbClr val="ff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040" bIns="-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627840" y="4789440"/>
                      <a:ext cx="3960" cy="6480"/>
                    </a:xfrm>
                    <a:prstGeom prst="ellipse">
                      <a:avLst/>
                    </a:prstGeom>
                    <a:solidFill>
                      <a:srgbClr val="ff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475560" y="4734000"/>
                      <a:ext cx="6120" cy="9720"/>
                    </a:xfrm>
                    <a:prstGeom prst="ellipse">
                      <a:avLst/>
                    </a:prstGeom>
                    <a:solidFill>
                      <a:srgbClr val="ff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456120" y="4834080"/>
                      <a:ext cx="7560" cy="11880"/>
                    </a:xfrm>
                    <a:prstGeom prst="ellipse">
                      <a:avLst/>
                    </a:prstGeom>
                    <a:solidFill>
                      <a:srgbClr val="ff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615600" y="4889880"/>
                      <a:ext cx="6120" cy="6480"/>
                    </a:xfrm>
                    <a:prstGeom prst="ellipse">
                      <a:avLst/>
                    </a:prstGeom>
                    <a:solidFill>
                      <a:srgbClr val="ff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28" name=""/>
              <p:cNvGrpSpPr/>
              <p:nvPr/>
            </p:nvGrpSpPr>
            <p:grpSpPr>
              <a:xfrm>
                <a:off x="630000" y="4779720"/>
                <a:ext cx="1134720" cy="1431360"/>
                <a:chOff x="630000" y="4779720"/>
                <a:chExt cx="1134720" cy="1431360"/>
              </a:xfrm>
            </p:grpSpPr>
            <p:grpSp>
              <p:nvGrpSpPr>
                <p:cNvPr id="129" name=""/>
                <p:cNvGrpSpPr/>
                <p:nvPr/>
              </p:nvGrpSpPr>
              <p:grpSpPr>
                <a:xfrm>
                  <a:off x="630000" y="5141520"/>
                  <a:ext cx="1134720" cy="1069560"/>
                  <a:chOff x="630000" y="5141520"/>
                  <a:chExt cx="1134720" cy="1069560"/>
                </a:xfrm>
              </p:grpSpPr>
              <p:grpSp>
                <p:nvGrpSpPr>
                  <p:cNvPr id="130" name=""/>
                  <p:cNvGrpSpPr/>
                  <p:nvPr/>
                </p:nvGrpSpPr>
                <p:grpSpPr>
                  <a:xfrm>
                    <a:off x="1051920" y="5286240"/>
                    <a:ext cx="712800" cy="920520"/>
                    <a:chOff x="1051920" y="5286240"/>
                    <a:chExt cx="712800" cy="920520"/>
                  </a:xfrm>
                </p:grpSpPr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1051920" y="5286240"/>
                      <a:ext cx="712800" cy="92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15" h="3798">
                          <a:moveTo>
                            <a:pt x="0" y="3798"/>
                          </a:moveTo>
                          <a:lnTo>
                            <a:pt x="92" y="3047"/>
                          </a:lnTo>
                          <a:lnTo>
                            <a:pt x="185" y="2735"/>
                          </a:lnTo>
                          <a:lnTo>
                            <a:pt x="241" y="2385"/>
                          </a:lnTo>
                          <a:lnTo>
                            <a:pt x="334" y="2009"/>
                          </a:lnTo>
                          <a:lnTo>
                            <a:pt x="464" y="1672"/>
                          </a:lnTo>
                          <a:lnTo>
                            <a:pt x="575" y="1401"/>
                          </a:lnTo>
                          <a:lnTo>
                            <a:pt x="742" y="1128"/>
                          </a:lnTo>
                          <a:lnTo>
                            <a:pt x="966" y="856"/>
                          </a:lnTo>
                          <a:lnTo>
                            <a:pt x="1169" y="649"/>
                          </a:lnTo>
                          <a:lnTo>
                            <a:pt x="1356" y="480"/>
                          </a:lnTo>
                          <a:lnTo>
                            <a:pt x="1559" y="350"/>
                          </a:lnTo>
                          <a:lnTo>
                            <a:pt x="1931" y="194"/>
                          </a:lnTo>
                          <a:lnTo>
                            <a:pt x="2358" y="78"/>
                          </a:lnTo>
                          <a:lnTo>
                            <a:pt x="2915" y="0"/>
                          </a:lnTo>
                          <a:lnTo>
                            <a:pt x="2636" y="168"/>
                          </a:lnTo>
                          <a:lnTo>
                            <a:pt x="2451" y="299"/>
                          </a:lnTo>
                          <a:lnTo>
                            <a:pt x="2246" y="480"/>
                          </a:lnTo>
                          <a:lnTo>
                            <a:pt x="2098" y="609"/>
                          </a:lnTo>
                          <a:lnTo>
                            <a:pt x="1893" y="765"/>
                          </a:lnTo>
                          <a:lnTo>
                            <a:pt x="1708" y="920"/>
                          </a:lnTo>
                          <a:lnTo>
                            <a:pt x="1448" y="1141"/>
                          </a:lnTo>
                          <a:lnTo>
                            <a:pt x="1243" y="1309"/>
                          </a:lnTo>
                          <a:lnTo>
                            <a:pt x="1076" y="1504"/>
                          </a:lnTo>
                          <a:lnTo>
                            <a:pt x="909" y="1725"/>
                          </a:lnTo>
                          <a:lnTo>
                            <a:pt x="799" y="1919"/>
                          </a:lnTo>
                          <a:lnTo>
                            <a:pt x="632" y="2178"/>
                          </a:lnTo>
                          <a:lnTo>
                            <a:pt x="483" y="2477"/>
                          </a:lnTo>
                          <a:lnTo>
                            <a:pt x="352" y="2801"/>
                          </a:lnTo>
                          <a:lnTo>
                            <a:pt x="259" y="3151"/>
                          </a:lnTo>
                          <a:lnTo>
                            <a:pt x="185" y="3501"/>
                          </a:lnTo>
                          <a:lnTo>
                            <a:pt x="205" y="3798"/>
                          </a:lnTo>
                          <a:lnTo>
                            <a:pt x="0" y="3798"/>
                          </a:lnTo>
                          <a:close/>
                        </a:path>
                      </a:pathLst>
                    </a:custGeom>
                    <a:solidFill>
                      <a:srgbClr val="006000"/>
                    </a:solidFill>
                    <a:ln w="11160">
                      <a:solidFill>
                        <a:srgbClr val="004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1124640" y="5355360"/>
                      <a:ext cx="448920" cy="56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38" h="2320">
                          <a:moveTo>
                            <a:pt x="1838" y="0"/>
                          </a:moveTo>
                          <a:lnTo>
                            <a:pt x="1578" y="142"/>
                          </a:lnTo>
                          <a:lnTo>
                            <a:pt x="1226" y="415"/>
                          </a:lnTo>
                          <a:lnTo>
                            <a:pt x="965" y="647"/>
                          </a:lnTo>
                          <a:lnTo>
                            <a:pt x="687" y="946"/>
                          </a:lnTo>
                          <a:lnTo>
                            <a:pt x="463" y="1283"/>
                          </a:lnTo>
                          <a:lnTo>
                            <a:pt x="260" y="1594"/>
                          </a:lnTo>
                          <a:lnTo>
                            <a:pt x="129" y="1957"/>
                          </a:lnTo>
                          <a:lnTo>
                            <a:pt x="0" y="2320"/>
                          </a:lnTo>
                          <a:lnTo>
                            <a:pt x="129" y="1789"/>
                          </a:lnTo>
                          <a:lnTo>
                            <a:pt x="335" y="1334"/>
                          </a:lnTo>
                          <a:lnTo>
                            <a:pt x="576" y="959"/>
                          </a:lnTo>
                          <a:lnTo>
                            <a:pt x="854" y="673"/>
                          </a:lnTo>
                          <a:lnTo>
                            <a:pt x="1113" y="427"/>
                          </a:lnTo>
                          <a:lnTo>
                            <a:pt x="1838" y="0"/>
                          </a:lnTo>
                          <a:close/>
                        </a:path>
                      </a:pathLst>
                    </a:custGeom>
                    <a:solidFill>
                      <a:srgbClr val="004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3" name=""/>
                  <p:cNvGrpSpPr/>
                  <p:nvPr/>
                </p:nvGrpSpPr>
                <p:grpSpPr>
                  <a:xfrm>
                    <a:off x="630000" y="5333760"/>
                    <a:ext cx="526320" cy="876240"/>
                    <a:chOff x="630000" y="5333760"/>
                    <a:chExt cx="526320" cy="876240"/>
                  </a:xfrm>
                </p:grpSpPr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630000" y="5333760"/>
                      <a:ext cx="526320" cy="876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53" h="3618">
                          <a:moveTo>
                            <a:pt x="1688" y="3618"/>
                          </a:moveTo>
                          <a:lnTo>
                            <a:pt x="1373" y="3449"/>
                          </a:lnTo>
                          <a:lnTo>
                            <a:pt x="1131" y="3294"/>
                          </a:lnTo>
                          <a:lnTo>
                            <a:pt x="910" y="3086"/>
                          </a:lnTo>
                          <a:lnTo>
                            <a:pt x="723" y="2905"/>
                          </a:lnTo>
                          <a:lnTo>
                            <a:pt x="537" y="2697"/>
                          </a:lnTo>
                          <a:lnTo>
                            <a:pt x="407" y="2478"/>
                          </a:lnTo>
                          <a:lnTo>
                            <a:pt x="314" y="2205"/>
                          </a:lnTo>
                          <a:lnTo>
                            <a:pt x="222" y="1907"/>
                          </a:lnTo>
                          <a:lnTo>
                            <a:pt x="185" y="1699"/>
                          </a:lnTo>
                          <a:lnTo>
                            <a:pt x="167" y="1439"/>
                          </a:lnTo>
                          <a:lnTo>
                            <a:pt x="167" y="1168"/>
                          </a:lnTo>
                          <a:lnTo>
                            <a:pt x="167" y="960"/>
                          </a:lnTo>
                          <a:lnTo>
                            <a:pt x="185" y="713"/>
                          </a:lnTo>
                          <a:lnTo>
                            <a:pt x="185" y="493"/>
                          </a:lnTo>
                          <a:lnTo>
                            <a:pt x="111" y="273"/>
                          </a:lnTo>
                          <a:lnTo>
                            <a:pt x="0" y="0"/>
                          </a:lnTo>
                          <a:lnTo>
                            <a:pt x="314" y="260"/>
                          </a:lnTo>
                          <a:lnTo>
                            <a:pt x="445" y="468"/>
                          </a:lnTo>
                          <a:lnTo>
                            <a:pt x="556" y="636"/>
                          </a:lnTo>
                          <a:lnTo>
                            <a:pt x="668" y="895"/>
                          </a:lnTo>
                          <a:lnTo>
                            <a:pt x="743" y="1219"/>
                          </a:lnTo>
                          <a:lnTo>
                            <a:pt x="779" y="1479"/>
                          </a:lnTo>
                          <a:lnTo>
                            <a:pt x="779" y="1699"/>
                          </a:lnTo>
                          <a:lnTo>
                            <a:pt x="835" y="1984"/>
                          </a:lnTo>
                          <a:lnTo>
                            <a:pt x="890" y="2231"/>
                          </a:lnTo>
                          <a:lnTo>
                            <a:pt x="1020" y="2438"/>
                          </a:lnTo>
                          <a:lnTo>
                            <a:pt x="1169" y="2671"/>
                          </a:lnTo>
                          <a:lnTo>
                            <a:pt x="1373" y="2905"/>
                          </a:lnTo>
                          <a:lnTo>
                            <a:pt x="1596" y="3151"/>
                          </a:lnTo>
                          <a:lnTo>
                            <a:pt x="1837" y="3397"/>
                          </a:lnTo>
                          <a:lnTo>
                            <a:pt x="2153" y="3618"/>
                          </a:lnTo>
                          <a:lnTo>
                            <a:pt x="1688" y="3618"/>
                          </a:lnTo>
                          <a:close/>
                        </a:path>
                      </a:pathLst>
                    </a:custGeom>
                    <a:solidFill>
                      <a:srgbClr val="006000"/>
                    </a:solidFill>
                    <a:ln w="11160">
                      <a:solidFill>
                        <a:srgbClr val="004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716400" y="5481360"/>
                      <a:ext cx="249120" cy="64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21" h="2658">
                          <a:moveTo>
                            <a:pt x="0" y="0"/>
                          </a:moveTo>
                          <a:lnTo>
                            <a:pt x="37" y="221"/>
                          </a:lnTo>
                          <a:lnTo>
                            <a:pt x="55" y="416"/>
                          </a:lnTo>
                          <a:lnTo>
                            <a:pt x="55" y="648"/>
                          </a:lnTo>
                          <a:lnTo>
                            <a:pt x="55" y="829"/>
                          </a:lnTo>
                          <a:lnTo>
                            <a:pt x="129" y="1142"/>
                          </a:lnTo>
                          <a:lnTo>
                            <a:pt x="222" y="1439"/>
                          </a:lnTo>
                          <a:lnTo>
                            <a:pt x="316" y="1698"/>
                          </a:lnTo>
                          <a:lnTo>
                            <a:pt x="427" y="1971"/>
                          </a:lnTo>
                          <a:lnTo>
                            <a:pt x="668" y="2334"/>
                          </a:lnTo>
                          <a:lnTo>
                            <a:pt x="1021" y="2658"/>
                          </a:lnTo>
                          <a:lnTo>
                            <a:pt x="743" y="2282"/>
                          </a:lnTo>
                          <a:lnTo>
                            <a:pt x="519" y="2010"/>
                          </a:lnTo>
                          <a:lnTo>
                            <a:pt x="334" y="1595"/>
                          </a:lnTo>
                          <a:lnTo>
                            <a:pt x="260" y="1323"/>
                          </a:lnTo>
                          <a:lnTo>
                            <a:pt x="149" y="1037"/>
                          </a:lnTo>
                          <a:lnTo>
                            <a:pt x="111" y="739"/>
                          </a:lnTo>
                          <a:lnTo>
                            <a:pt x="93" y="506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4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6" name=""/>
                  <p:cNvGrpSpPr/>
                  <p:nvPr/>
                </p:nvGrpSpPr>
                <p:grpSpPr>
                  <a:xfrm>
                    <a:off x="929160" y="5141520"/>
                    <a:ext cx="181800" cy="1069560"/>
                    <a:chOff x="929160" y="5141520"/>
                    <a:chExt cx="181800" cy="1069560"/>
                  </a:xfrm>
                </p:grpSpPr>
                <p:sp>
                  <p:nvSpPr>
                    <p:cNvPr id="137" name=""/>
                    <p:cNvSpPr/>
                    <p:nvPr/>
                  </p:nvSpPr>
                  <p:spPr>
                    <a:xfrm>
                      <a:off x="982800" y="5220360"/>
                      <a:ext cx="128160" cy="990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4" h="4090">
                          <a:moveTo>
                            <a:pt x="104" y="11"/>
                          </a:moveTo>
                          <a:lnTo>
                            <a:pt x="124" y="152"/>
                          </a:lnTo>
                          <a:lnTo>
                            <a:pt x="124" y="266"/>
                          </a:lnTo>
                          <a:lnTo>
                            <a:pt x="114" y="399"/>
                          </a:lnTo>
                          <a:lnTo>
                            <a:pt x="102" y="526"/>
                          </a:lnTo>
                          <a:lnTo>
                            <a:pt x="77" y="688"/>
                          </a:lnTo>
                          <a:lnTo>
                            <a:pt x="59" y="861"/>
                          </a:lnTo>
                          <a:lnTo>
                            <a:pt x="36" y="1080"/>
                          </a:lnTo>
                          <a:lnTo>
                            <a:pt x="23" y="1264"/>
                          </a:lnTo>
                          <a:lnTo>
                            <a:pt x="5" y="1601"/>
                          </a:lnTo>
                          <a:lnTo>
                            <a:pt x="0" y="1738"/>
                          </a:lnTo>
                          <a:lnTo>
                            <a:pt x="5" y="1885"/>
                          </a:lnTo>
                          <a:lnTo>
                            <a:pt x="5" y="2035"/>
                          </a:lnTo>
                          <a:lnTo>
                            <a:pt x="8" y="2208"/>
                          </a:lnTo>
                          <a:lnTo>
                            <a:pt x="31" y="2470"/>
                          </a:lnTo>
                          <a:lnTo>
                            <a:pt x="51" y="2636"/>
                          </a:lnTo>
                          <a:lnTo>
                            <a:pt x="59" y="2768"/>
                          </a:lnTo>
                          <a:lnTo>
                            <a:pt x="92" y="2980"/>
                          </a:lnTo>
                          <a:lnTo>
                            <a:pt x="120" y="3148"/>
                          </a:lnTo>
                          <a:lnTo>
                            <a:pt x="162" y="3343"/>
                          </a:lnTo>
                          <a:lnTo>
                            <a:pt x="208" y="3532"/>
                          </a:lnTo>
                          <a:lnTo>
                            <a:pt x="244" y="3682"/>
                          </a:lnTo>
                          <a:lnTo>
                            <a:pt x="273" y="3819"/>
                          </a:lnTo>
                          <a:lnTo>
                            <a:pt x="301" y="3938"/>
                          </a:lnTo>
                          <a:lnTo>
                            <a:pt x="339" y="4090"/>
                          </a:lnTo>
                          <a:lnTo>
                            <a:pt x="524" y="4090"/>
                          </a:lnTo>
                          <a:lnTo>
                            <a:pt x="496" y="4007"/>
                          </a:lnTo>
                          <a:lnTo>
                            <a:pt x="459" y="3870"/>
                          </a:lnTo>
                          <a:lnTo>
                            <a:pt x="431" y="3750"/>
                          </a:lnTo>
                          <a:lnTo>
                            <a:pt x="393" y="3610"/>
                          </a:lnTo>
                          <a:lnTo>
                            <a:pt x="362" y="3456"/>
                          </a:lnTo>
                          <a:lnTo>
                            <a:pt x="319" y="3273"/>
                          </a:lnTo>
                          <a:lnTo>
                            <a:pt x="287" y="3115"/>
                          </a:lnTo>
                          <a:lnTo>
                            <a:pt x="269" y="2980"/>
                          </a:lnTo>
                          <a:lnTo>
                            <a:pt x="231" y="2746"/>
                          </a:lnTo>
                          <a:lnTo>
                            <a:pt x="208" y="2587"/>
                          </a:lnTo>
                          <a:lnTo>
                            <a:pt x="190" y="2392"/>
                          </a:lnTo>
                          <a:lnTo>
                            <a:pt x="172" y="2267"/>
                          </a:lnTo>
                          <a:lnTo>
                            <a:pt x="162" y="2079"/>
                          </a:lnTo>
                          <a:lnTo>
                            <a:pt x="162" y="1854"/>
                          </a:lnTo>
                          <a:lnTo>
                            <a:pt x="162" y="1699"/>
                          </a:lnTo>
                          <a:lnTo>
                            <a:pt x="172" y="1522"/>
                          </a:lnTo>
                          <a:lnTo>
                            <a:pt x="190" y="1198"/>
                          </a:lnTo>
                          <a:lnTo>
                            <a:pt x="208" y="953"/>
                          </a:lnTo>
                          <a:lnTo>
                            <a:pt x="226" y="745"/>
                          </a:lnTo>
                          <a:lnTo>
                            <a:pt x="253" y="615"/>
                          </a:lnTo>
                          <a:lnTo>
                            <a:pt x="269" y="478"/>
                          </a:lnTo>
                          <a:lnTo>
                            <a:pt x="277" y="352"/>
                          </a:lnTo>
                          <a:lnTo>
                            <a:pt x="287" y="227"/>
                          </a:lnTo>
                          <a:lnTo>
                            <a:pt x="292" y="86"/>
                          </a:lnTo>
                          <a:lnTo>
                            <a:pt x="273" y="0"/>
                          </a:lnTo>
                          <a:lnTo>
                            <a:pt x="104" y="11"/>
                          </a:lnTo>
                          <a:close/>
                        </a:path>
                      </a:pathLst>
                    </a:custGeom>
                    <a:solidFill>
                      <a:srgbClr val="006000"/>
                    </a:solidFill>
                    <a:ln w="11160">
                      <a:solidFill>
                        <a:srgbClr val="004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929160" y="5141520"/>
                      <a:ext cx="158760" cy="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2" h="358">
                          <a:moveTo>
                            <a:pt x="0" y="0"/>
                          </a:moveTo>
                          <a:lnTo>
                            <a:pt x="12" y="51"/>
                          </a:lnTo>
                          <a:lnTo>
                            <a:pt x="61" y="100"/>
                          </a:lnTo>
                          <a:lnTo>
                            <a:pt x="121" y="127"/>
                          </a:lnTo>
                          <a:lnTo>
                            <a:pt x="190" y="151"/>
                          </a:lnTo>
                          <a:lnTo>
                            <a:pt x="255" y="162"/>
                          </a:lnTo>
                          <a:lnTo>
                            <a:pt x="289" y="213"/>
                          </a:lnTo>
                          <a:lnTo>
                            <a:pt x="309" y="284"/>
                          </a:lnTo>
                          <a:lnTo>
                            <a:pt x="324" y="354"/>
                          </a:lnTo>
                          <a:lnTo>
                            <a:pt x="404" y="358"/>
                          </a:lnTo>
                          <a:lnTo>
                            <a:pt x="463" y="350"/>
                          </a:lnTo>
                          <a:lnTo>
                            <a:pt x="503" y="335"/>
                          </a:lnTo>
                          <a:lnTo>
                            <a:pt x="473" y="260"/>
                          </a:lnTo>
                          <a:lnTo>
                            <a:pt x="463" y="198"/>
                          </a:lnTo>
                          <a:lnTo>
                            <a:pt x="481" y="158"/>
                          </a:lnTo>
                          <a:lnTo>
                            <a:pt x="566" y="140"/>
                          </a:lnTo>
                          <a:lnTo>
                            <a:pt x="627" y="104"/>
                          </a:lnTo>
                          <a:lnTo>
                            <a:pt x="645" y="72"/>
                          </a:lnTo>
                          <a:lnTo>
                            <a:pt x="652" y="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6000"/>
                    </a:solidFill>
                    <a:ln w="11160">
                      <a:solidFill>
                        <a:srgbClr val="004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0" bIns="39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9" name=""/>
                  <p:cNvGrpSpPr/>
                  <p:nvPr/>
                </p:nvGrpSpPr>
                <p:grpSpPr>
                  <a:xfrm>
                    <a:off x="1066680" y="5369040"/>
                    <a:ext cx="317520" cy="841320"/>
                    <a:chOff x="1066680" y="5369040"/>
                    <a:chExt cx="317520" cy="841320"/>
                  </a:xfrm>
                </p:grpSpPr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1066680" y="5369040"/>
                      <a:ext cx="317520" cy="84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00" h="3475">
                          <a:moveTo>
                            <a:pt x="0" y="3475"/>
                          </a:moveTo>
                          <a:lnTo>
                            <a:pt x="93" y="3268"/>
                          </a:lnTo>
                          <a:lnTo>
                            <a:pt x="241" y="3060"/>
                          </a:lnTo>
                          <a:lnTo>
                            <a:pt x="370" y="2828"/>
                          </a:lnTo>
                          <a:lnTo>
                            <a:pt x="483" y="2581"/>
                          </a:lnTo>
                          <a:lnTo>
                            <a:pt x="557" y="2334"/>
                          </a:lnTo>
                          <a:lnTo>
                            <a:pt x="612" y="2101"/>
                          </a:lnTo>
                          <a:lnTo>
                            <a:pt x="630" y="1907"/>
                          </a:lnTo>
                          <a:lnTo>
                            <a:pt x="704" y="1608"/>
                          </a:lnTo>
                          <a:lnTo>
                            <a:pt x="742" y="1284"/>
                          </a:lnTo>
                          <a:lnTo>
                            <a:pt x="742" y="986"/>
                          </a:lnTo>
                          <a:lnTo>
                            <a:pt x="742" y="689"/>
                          </a:lnTo>
                          <a:lnTo>
                            <a:pt x="724" y="429"/>
                          </a:lnTo>
                          <a:lnTo>
                            <a:pt x="668" y="0"/>
                          </a:lnTo>
                          <a:lnTo>
                            <a:pt x="817" y="260"/>
                          </a:lnTo>
                          <a:lnTo>
                            <a:pt x="946" y="532"/>
                          </a:lnTo>
                          <a:lnTo>
                            <a:pt x="1077" y="779"/>
                          </a:lnTo>
                          <a:lnTo>
                            <a:pt x="1187" y="1052"/>
                          </a:lnTo>
                          <a:lnTo>
                            <a:pt x="1225" y="1271"/>
                          </a:lnTo>
                          <a:lnTo>
                            <a:pt x="1262" y="1452"/>
                          </a:lnTo>
                          <a:lnTo>
                            <a:pt x="1300" y="1686"/>
                          </a:lnTo>
                          <a:lnTo>
                            <a:pt x="1280" y="1984"/>
                          </a:lnTo>
                          <a:lnTo>
                            <a:pt x="1225" y="2244"/>
                          </a:lnTo>
                          <a:lnTo>
                            <a:pt x="1169" y="2451"/>
                          </a:lnTo>
                          <a:lnTo>
                            <a:pt x="1095" y="2633"/>
                          </a:lnTo>
                          <a:lnTo>
                            <a:pt x="1002" y="2841"/>
                          </a:lnTo>
                          <a:lnTo>
                            <a:pt x="871" y="3060"/>
                          </a:lnTo>
                          <a:lnTo>
                            <a:pt x="724" y="3217"/>
                          </a:lnTo>
                          <a:lnTo>
                            <a:pt x="594" y="3346"/>
                          </a:lnTo>
                          <a:lnTo>
                            <a:pt x="427" y="3475"/>
                          </a:lnTo>
                          <a:lnTo>
                            <a:pt x="0" y="3475"/>
                          </a:lnTo>
                          <a:close/>
                        </a:path>
                      </a:pathLst>
                    </a:custGeom>
                    <a:solidFill>
                      <a:srgbClr val="006000"/>
                    </a:solidFill>
                    <a:ln w="11160">
                      <a:solidFill>
                        <a:srgbClr val="004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1153080" y="5617080"/>
                      <a:ext cx="172440" cy="56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06" h="2334">
                          <a:moveTo>
                            <a:pt x="632" y="0"/>
                          </a:moveTo>
                          <a:lnTo>
                            <a:pt x="706" y="311"/>
                          </a:lnTo>
                          <a:lnTo>
                            <a:pt x="687" y="661"/>
                          </a:lnTo>
                          <a:lnTo>
                            <a:pt x="614" y="1063"/>
                          </a:lnTo>
                          <a:lnTo>
                            <a:pt x="519" y="1479"/>
                          </a:lnTo>
                          <a:lnTo>
                            <a:pt x="372" y="1829"/>
                          </a:lnTo>
                          <a:lnTo>
                            <a:pt x="131" y="2166"/>
                          </a:lnTo>
                          <a:lnTo>
                            <a:pt x="0" y="2334"/>
                          </a:lnTo>
                          <a:lnTo>
                            <a:pt x="167" y="2023"/>
                          </a:lnTo>
                          <a:lnTo>
                            <a:pt x="334" y="1724"/>
                          </a:lnTo>
                          <a:lnTo>
                            <a:pt x="465" y="1361"/>
                          </a:lnTo>
                          <a:lnTo>
                            <a:pt x="558" y="1024"/>
                          </a:lnTo>
                          <a:lnTo>
                            <a:pt x="632" y="635"/>
                          </a:lnTo>
                          <a:lnTo>
                            <a:pt x="687" y="401"/>
                          </a:lnTo>
                          <a:lnTo>
                            <a:pt x="632" y="0"/>
                          </a:lnTo>
                          <a:close/>
                        </a:path>
                      </a:pathLst>
                    </a:custGeom>
                    <a:solidFill>
                      <a:srgbClr val="004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42" name=""/>
                <p:cNvGrpSpPr/>
                <p:nvPr/>
              </p:nvGrpSpPr>
              <p:grpSpPr>
                <a:xfrm>
                  <a:off x="794880" y="4779720"/>
                  <a:ext cx="375840" cy="371880"/>
                  <a:chOff x="794880" y="4779720"/>
                  <a:chExt cx="375840" cy="371880"/>
                </a:xfrm>
              </p:grpSpPr>
              <p:grpSp>
                <p:nvGrpSpPr>
                  <p:cNvPr id="143" name=""/>
                  <p:cNvGrpSpPr/>
                  <p:nvPr/>
                </p:nvGrpSpPr>
                <p:grpSpPr>
                  <a:xfrm>
                    <a:off x="877320" y="4779720"/>
                    <a:ext cx="159840" cy="157320"/>
                    <a:chOff x="877320" y="4779720"/>
                    <a:chExt cx="159840" cy="157320"/>
                  </a:xfrm>
                </p:grpSpPr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877320" y="4779720"/>
                      <a:ext cx="159840" cy="15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5" h="650">
                          <a:moveTo>
                            <a:pt x="655" y="313"/>
                          </a:moveTo>
                          <a:lnTo>
                            <a:pt x="605" y="235"/>
                          </a:lnTo>
                          <a:lnTo>
                            <a:pt x="536" y="172"/>
                          </a:lnTo>
                          <a:lnTo>
                            <a:pt x="397" y="94"/>
                          </a:lnTo>
                          <a:lnTo>
                            <a:pt x="268" y="47"/>
                          </a:lnTo>
                          <a:lnTo>
                            <a:pt x="129" y="0"/>
                          </a:lnTo>
                          <a:lnTo>
                            <a:pt x="109" y="86"/>
                          </a:lnTo>
                          <a:lnTo>
                            <a:pt x="89" y="172"/>
                          </a:lnTo>
                          <a:lnTo>
                            <a:pt x="50" y="242"/>
                          </a:lnTo>
                          <a:lnTo>
                            <a:pt x="0" y="360"/>
                          </a:lnTo>
                          <a:lnTo>
                            <a:pt x="20" y="509"/>
                          </a:lnTo>
                          <a:lnTo>
                            <a:pt x="447" y="650"/>
                          </a:lnTo>
                          <a:lnTo>
                            <a:pt x="655" y="313"/>
                          </a:lnTo>
                          <a:close/>
                        </a:path>
                      </a:pathLst>
                    </a:custGeom>
                    <a:solidFill>
                      <a:srgbClr val="c00000"/>
                    </a:solidFill>
                    <a:ln w="1116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918360" y="4791240"/>
                      <a:ext cx="10656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6" h="399">
                          <a:moveTo>
                            <a:pt x="312" y="129"/>
                          </a:moveTo>
                          <a:lnTo>
                            <a:pt x="223" y="82"/>
                          </a:lnTo>
                          <a:lnTo>
                            <a:pt x="154" y="47"/>
                          </a:lnTo>
                          <a:lnTo>
                            <a:pt x="69" y="19"/>
                          </a:lnTo>
                          <a:lnTo>
                            <a:pt x="0" y="0"/>
                          </a:lnTo>
                          <a:lnTo>
                            <a:pt x="64" y="90"/>
                          </a:lnTo>
                          <a:lnTo>
                            <a:pt x="104" y="172"/>
                          </a:lnTo>
                          <a:lnTo>
                            <a:pt x="134" y="239"/>
                          </a:lnTo>
                          <a:lnTo>
                            <a:pt x="158" y="317"/>
                          </a:lnTo>
                          <a:lnTo>
                            <a:pt x="208" y="399"/>
                          </a:lnTo>
                          <a:lnTo>
                            <a:pt x="436" y="203"/>
                          </a:lnTo>
                          <a:lnTo>
                            <a:pt x="312" y="129"/>
                          </a:lnTo>
                          <a:close/>
                        </a:path>
                      </a:pathLst>
                    </a:custGeom>
                    <a:solidFill>
                      <a:srgbClr val="ff4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6" name=""/>
                    <p:cNvSpPr/>
                    <p:nvPr/>
                  </p:nvSpPr>
                  <p:spPr>
                    <a:xfrm>
                      <a:off x="881640" y="4797360"/>
                      <a:ext cx="72000" cy="8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3" h="368">
                          <a:moveTo>
                            <a:pt x="139" y="0"/>
                          </a:moveTo>
                          <a:lnTo>
                            <a:pt x="203" y="106"/>
                          </a:lnTo>
                          <a:lnTo>
                            <a:pt x="243" y="188"/>
                          </a:lnTo>
                          <a:lnTo>
                            <a:pt x="258" y="255"/>
                          </a:lnTo>
                          <a:lnTo>
                            <a:pt x="293" y="368"/>
                          </a:lnTo>
                          <a:lnTo>
                            <a:pt x="35" y="349"/>
                          </a:lnTo>
                          <a:lnTo>
                            <a:pt x="0" y="219"/>
                          </a:lnTo>
                          <a:lnTo>
                            <a:pt x="74" y="172"/>
                          </a:lnTo>
                          <a:lnTo>
                            <a:pt x="114" y="106"/>
                          </a:lnTo>
                          <a:lnTo>
                            <a:pt x="129" y="71"/>
                          </a:lnTo>
                          <a:lnTo>
                            <a:pt x="139" y="0"/>
                          </a:lnTo>
                          <a:close/>
                        </a:path>
                      </a:pathLst>
                    </a:cu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2840" bIns="42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7" name=""/>
                  <p:cNvSpPr/>
                  <p:nvPr/>
                </p:nvSpPr>
                <p:spPr>
                  <a:xfrm>
                    <a:off x="911160" y="4798440"/>
                    <a:ext cx="25956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062" h="1442">
                        <a:moveTo>
                          <a:pt x="804" y="78"/>
                        </a:moveTo>
                        <a:lnTo>
                          <a:pt x="764" y="172"/>
                        </a:lnTo>
                        <a:lnTo>
                          <a:pt x="759" y="235"/>
                        </a:lnTo>
                        <a:lnTo>
                          <a:pt x="774" y="298"/>
                        </a:lnTo>
                        <a:lnTo>
                          <a:pt x="794" y="360"/>
                        </a:lnTo>
                        <a:lnTo>
                          <a:pt x="824" y="419"/>
                        </a:lnTo>
                        <a:lnTo>
                          <a:pt x="868" y="497"/>
                        </a:lnTo>
                        <a:lnTo>
                          <a:pt x="903" y="564"/>
                        </a:lnTo>
                        <a:lnTo>
                          <a:pt x="952" y="635"/>
                        </a:lnTo>
                        <a:lnTo>
                          <a:pt x="1002" y="744"/>
                        </a:lnTo>
                        <a:lnTo>
                          <a:pt x="1037" y="834"/>
                        </a:lnTo>
                        <a:lnTo>
                          <a:pt x="1057" y="913"/>
                        </a:lnTo>
                        <a:lnTo>
                          <a:pt x="1062" y="1007"/>
                        </a:lnTo>
                        <a:lnTo>
                          <a:pt x="1057" y="1073"/>
                        </a:lnTo>
                        <a:lnTo>
                          <a:pt x="1037" y="1156"/>
                        </a:lnTo>
                        <a:lnTo>
                          <a:pt x="997" y="1222"/>
                        </a:lnTo>
                        <a:lnTo>
                          <a:pt x="962" y="1277"/>
                        </a:lnTo>
                        <a:lnTo>
                          <a:pt x="873" y="1348"/>
                        </a:lnTo>
                        <a:lnTo>
                          <a:pt x="764" y="1395"/>
                        </a:lnTo>
                        <a:lnTo>
                          <a:pt x="585" y="1418"/>
                        </a:lnTo>
                        <a:lnTo>
                          <a:pt x="357" y="1442"/>
                        </a:lnTo>
                        <a:lnTo>
                          <a:pt x="208" y="1402"/>
                        </a:lnTo>
                        <a:lnTo>
                          <a:pt x="109" y="1332"/>
                        </a:lnTo>
                        <a:lnTo>
                          <a:pt x="50" y="1222"/>
                        </a:lnTo>
                        <a:lnTo>
                          <a:pt x="20" y="1097"/>
                        </a:lnTo>
                        <a:lnTo>
                          <a:pt x="0" y="987"/>
                        </a:lnTo>
                        <a:lnTo>
                          <a:pt x="0" y="870"/>
                        </a:lnTo>
                        <a:lnTo>
                          <a:pt x="10" y="776"/>
                        </a:lnTo>
                        <a:lnTo>
                          <a:pt x="20" y="666"/>
                        </a:lnTo>
                        <a:lnTo>
                          <a:pt x="40" y="564"/>
                        </a:lnTo>
                        <a:lnTo>
                          <a:pt x="69" y="439"/>
                        </a:lnTo>
                        <a:lnTo>
                          <a:pt x="129" y="345"/>
                        </a:lnTo>
                        <a:lnTo>
                          <a:pt x="198" y="243"/>
                        </a:lnTo>
                        <a:lnTo>
                          <a:pt x="288" y="164"/>
                        </a:lnTo>
                        <a:lnTo>
                          <a:pt x="377" y="117"/>
                        </a:lnTo>
                        <a:lnTo>
                          <a:pt x="486" y="63"/>
                        </a:lnTo>
                        <a:lnTo>
                          <a:pt x="600" y="35"/>
                        </a:lnTo>
                        <a:lnTo>
                          <a:pt x="704" y="16"/>
                        </a:lnTo>
                        <a:lnTo>
                          <a:pt x="843" y="0"/>
                        </a:lnTo>
                        <a:lnTo>
                          <a:pt x="804" y="78"/>
                        </a:lnTo>
                        <a:close/>
                      </a:path>
                    </a:pathLst>
                  </a:custGeom>
                  <a:solidFill>
                    <a:srgbClr val="e00000"/>
                  </a:solidFill>
                  <a:ln w="11160">
                    <a:solidFill>
                      <a:srgbClr val="8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794880" y="4798440"/>
                    <a:ext cx="257040" cy="35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51" h="1457">
                        <a:moveTo>
                          <a:pt x="694" y="447"/>
                        </a:moveTo>
                        <a:lnTo>
                          <a:pt x="605" y="329"/>
                        </a:lnTo>
                        <a:lnTo>
                          <a:pt x="526" y="251"/>
                        </a:lnTo>
                        <a:lnTo>
                          <a:pt x="426" y="180"/>
                        </a:lnTo>
                        <a:lnTo>
                          <a:pt x="317" y="117"/>
                        </a:lnTo>
                        <a:lnTo>
                          <a:pt x="228" y="86"/>
                        </a:lnTo>
                        <a:lnTo>
                          <a:pt x="153" y="59"/>
                        </a:lnTo>
                        <a:lnTo>
                          <a:pt x="89" y="35"/>
                        </a:lnTo>
                        <a:lnTo>
                          <a:pt x="0" y="0"/>
                        </a:lnTo>
                        <a:lnTo>
                          <a:pt x="59" y="110"/>
                        </a:lnTo>
                        <a:lnTo>
                          <a:pt x="99" y="196"/>
                        </a:lnTo>
                        <a:lnTo>
                          <a:pt x="99" y="290"/>
                        </a:lnTo>
                        <a:lnTo>
                          <a:pt x="99" y="384"/>
                        </a:lnTo>
                        <a:lnTo>
                          <a:pt x="89" y="470"/>
                        </a:lnTo>
                        <a:lnTo>
                          <a:pt x="69" y="572"/>
                        </a:lnTo>
                        <a:lnTo>
                          <a:pt x="39" y="666"/>
                        </a:lnTo>
                        <a:lnTo>
                          <a:pt x="20" y="760"/>
                        </a:lnTo>
                        <a:lnTo>
                          <a:pt x="0" y="846"/>
                        </a:lnTo>
                        <a:lnTo>
                          <a:pt x="0" y="932"/>
                        </a:lnTo>
                        <a:lnTo>
                          <a:pt x="10" y="1018"/>
                        </a:lnTo>
                        <a:lnTo>
                          <a:pt x="39" y="1112"/>
                        </a:lnTo>
                        <a:lnTo>
                          <a:pt x="79" y="1207"/>
                        </a:lnTo>
                        <a:lnTo>
                          <a:pt x="119" y="1277"/>
                        </a:lnTo>
                        <a:lnTo>
                          <a:pt x="218" y="1379"/>
                        </a:lnTo>
                        <a:lnTo>
                          <a:pt x="327" y="1418"/>
                        </a:lnTo>
                        <a:lnTo>
                          <a:pt x="466" y="1449"/>
                        </a:lnTo>
                        <a:lnTo>
                          <a:pt x="625" y="1457"/>
                        </a:lnTo>
                        <a:lnTo>
                          <a:pt x="724" y="1457"/>
                        </a:lnTo>
                        <a:lnTo>
                          <a:pt x="873" y="1438"/>
                        </a:lnTo>
                        <a:lnTo>
                          <a:pt x="947" y="1398"/>
                        </a:lnTo>
                        <a:lnTo>
                          <a:pt x="1012" y="1332"/>
                        </a:lnTo>
                        <a:lnTo>
                          <a:pt x="1042" y="1238"/>
                        </a:lnTo>
                        <a:lnTo>
                          <a:pt x="1051" y="1160"/>
                        </a:lnTo>
                        <a:lnTo>
                          <a:pt x="1051" y="1034"/>
                        </a:lnTo>
                        <a:lnTo>
                          <a:pt x="1012" y="924"/>
                        </a:lnTo>
                        <a:lnTo>
                          <a:pt x="932" y="791"/>
                        </a:lnTo>
                        <a:lnTo>
                          <a:pt x="853" y="666"/>
                        </a:lnTo>
                        <a:lnTo>
                          <a:pt x="784" y="556"/>
                        </a:lnTo>
                        <a:lnTo>
                          <a:pt x="694" y="447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11160">
                    <a:solidFill>
                      <a:srgbClr val="8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>
                    <a:off x="1092960" y="4924080"/>
                    <a:ext cx="60480" cy="204840"/>
                  </a:xfrm>
                  <a:custGeom>
                    <a:avLst/>
                    <a:gdLst/>
                    <a:ahLst/>
                    <a:rect l="l" t="t" r="r" b="b"/>
                    <a:pathLst>
                      <a:path w="248" h="846">
                        <a:moveTo>
                          <a:pt x="109" y="0"/>
                        </a:moveTo>
                        <a:lnTo>
                          <a:pt x="189" y="188"/>
                        </a:lnTo>
                        <a:lnTo>
                          <a:pt x="228" y="313"/>
                        </a:lnTo>
                        <a:lnTo>
                          <a:pt x="248" y="470"/>
                        </a:lnTo>
                        <a:lnTo>
                          <a:pt x="238" y="611"/>
                        </a:lnTo>
                        <a:lnTo>
                          <a:pt x="179" y="729"/>
                        </a:lnTo>
                        <a:lnTo>
                          <a:pt x="89" y="807"/>
                        </a:lnTo>
                        <a:lnTo>
                          <a:pt x="0" y="846"/>
                        </a:lnTo>
                        <a:lnTo>
                          <a:pt x="129" y="666"/>
                        </a:lnTo>
                        <a:lnTo>
                          <a:pt x="169" y="517"/>
                        </a:lnTo>
                        <a:lnTo>
                          <a:pt x="159" y="360"/>
                        </a:lnTo>
                        <a:lnTo>
                          <a:pt x="159" y="251"/>
                        </a:lnTo>
                        <a:lnTo>
                          <a:pt x="139" y="141"/>
                        </a:lnTo>
                        <a:lnTo>
                          <a:pt x="109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804600" y="4809960"/>
                    <a:ext cx="149040" cy="97560"/>
                  </a:xfrm>
                  <a:custGeom>
                    <a:avLst/>
                    <a:gdLst/>
                    <a:ahLst/>
                    <a:rect l="l" t="t" r="r" b="b"/>
                    <a:pathLst>
                      <a:path w="611" h="403">
                        <a:moveTo>
                          <a:pt x="65" y="27"/>
                        </a:moveTo>
                        <a:lnTo>
                          <a:pt x="129" y="47"/>
                        </a:lnTo>
                        <a:lnTo>
                          <a:pt x="204" y="74"/>
                        </a:lnTo>
                        <a:lnTo>
                          <a:pt x="273" y="110"/>
                        </a:lnTo>
                        <a:lnTo>
                          <a:pt x="328" y="141"/>
                        </a:lnTo>
                        <a:lnTo>
                          <a:pt x="397" y="188"/>
                        </a:lnTo>
                        <a:lnTo>
                          <a:pt x="462" y="235"/>
                        </a:lnTo>
                        <a:lnTo>
                          <a:pt x="541" y="313"/>
                        </a:lnTo>
                        <a:lnTo>
                          <a:pt x="611" y="403"/>
                        </a:lnTo>
                        <a:lnTo>
                          <a:pt x="506" y="356"/>
                        </a:lnTo>
                        <a:lnTo>
                          <a:pt x="422" y="317"/>
                        </a:lnTo>
                        <a:lnTo>
                          <a:pt x="348" y="290"/>
                        </a:lnTo>
                        <a:lnTo>
                          <a:pt x="268" y="266"/>
                        </a:lnTo>
                        <a:lnTo>
                          <a:pt x="204" y="251"/>
                        </a:lnTo>
                        <a:lnTo>
                          <a:pt x="149" y="231"/>
                        </a:lnTo>
                        <a:lnTo>
                          <a:pt x="110" y="196"/>
                        </a:lnTo>
                        <a:lnTo>
                          <a:pt x="80" y="137"/>
                        </a:lnTo>
                        <a:lnTo>
                          <a:pt x="60" y="90"/>
                        </a:lnTo>
                        <a:lnTo>
                          <a:pt x="0" y="0"/>
                        </a:lnTo>
                        <a:lnTo>
                          <a:pt x="65" y="27"/>
                        </a:lnTo>
                        <a:close/>
                      </a:path>
                    </a:pathLst>
                  </a:custGeom>
                  <a:solidFill>
                    <a:srgbClr val="c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986400" y="4808160"/>
                    <a:ext cx="114840" cy="5940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47">
                        <a:moveTo>
                          <a:pt x="471" y="0"/>
                        </a:moveTo>
                        <a:lnTo>
                          <a:pt x="382" y="12"/>
                        </a:lnTo>
                        <a:lnTo>
                          <a:pt x="277" y="39"/>
                        </a:lnTo>
                        <a:lnTo>
                          <a:pt x="138" y="98"/>
                        </a:lnTo>
                        <a:lnTo>
                          <a:pt x="84" y="145"/>
                        </a:lnTo>
                        <a:lnTo>
                          <a:pt x="29" y="208"/>
                        </a:lnTo>
                        <a:lnTo>
                          <a:pt x="0" y="247"/>
                        </a:lnTo>
                        <a:lnTo>
                          <a:pt x="133" y="216"/>
                        </a:lnTo>
                        <a:lnTo>
                          <a:pt x="297" y="208"/>
                        </a:lnTo>
                        <a:lnTo>
                          <a:pt x="367" y="192"/>
                        </a:lnTo>
                        <a:lnTo>
                          <a:pt x="411" y="145"/>
                        </a:lnTo>
                        <a:lnTo>
                          <a:pt x="456" y="78"/>
                        </a:lnTo>
                        <a:lnTo>
                          <a:pt x="471" y="0"/>
                        </a:lnTo>
                        <a:close/>
                      </a:path>
                    </a:pathLst>
                  </a:custGeom>
                  <a:solidFill>
                    <a:srgbClr val="c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1001160" y="4994280"/>
                    <a:ext cx="41040" cy="14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69" h="599">
                        <a:moveTo>
                          <a:pt x="25" y="0"/>
                        </a:moveTo>
                        <a:lnTo>
                          <a:pt x="114" y="114"/>
                        </a:lnTo>
                        <a:lnTo>
                          <a:pt x="149" y="188"/>
                        </a:lnTo>
                        <a:lnTo>
                          <a:pt x="169" y="270"/>
                        </a:lnTo>
                        <a:lnTo>
                          <a:pt x="169" y="341"/>
                        </a:lnTo>
                        <a:lnTo>
                          <a:pt x="159" y="407"/>
                        </a:lnTo>
                        <a:lnTo>
                          <a:pt x="144" y="474"/>
                        </a:lnTo>
                        <a:lnTo>
                          <a:pt x="114" y="509"/>
                        </a:lnTo>
                        <a:lnTo>
                          <a:pt x="74" y="560"/>
                        </a:lnTo>
                        <a:lnTo>
                          <a:pt x="0" y="599"/>
                        </a:lnTo>
                        <a:lnTo>
                          <a:pt x="50" y="505"/>
                        </a:lnTo>
                        <a:lnTo>
                          <a:pt x="70" y="450"/>
                        </a:lnTo>
                        <a:lnTo>
                          <a:pt x="84" y="392"/>
                        </a:lnTo>
                        <a:lnTo>
                          <a:pt x="89" y="337"/>
                        </a:lnTo>
                        <a:lnTo>
                          <a:pt x="84" y="278"/>
                        </a:lnTo>
                        <a:lnTo>
                          <a:pt x="84" y="219"/>
                        </a:lnTo>
                        <a:lnTo>
                          <a:pt x="65" y="137"/>
                        </a:lnTo>
                        <a:lnTo>
                          <a:pt x="25" y="0"/>
                        </a:lnTo>
                        <a:close/>
                      </a:path>
                    </a:pathLst>
                  </a:custGeom>
                  <a:solidFill>
                    <a:srgbClr val="ff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803160" y="4930560"/>
                    <a:ext cx="50760" cy="187920"/>
                  </a:xfrm>
                  <a:custGeom>
                    <a:avLst/>
                    <a:gdLst/>
                    <a:ahLst/>
                    <a:rect l="l" t="t" r="r" b="b"/>
                    <a:pathLst>
                      <a:path w="209" h="776">
                        <a:moveTo>
                          <a:pt x="95" y="0"/>
                        </a:moveTo>
                        <a:lnTo>
                          <a:pt x="30" y="153"/>
                        </a:lnTo>
                        <a:lnTo>
                          <a:pt x="5" y="259"/>
                        </a:lnTo>
                        <a:lnTo>
                          <a:pt x="0" y="373"/>
                        </a:lnTo>
                        <a:lnTo>
                          <a:pt x="15" y="498"/>
                        </a:lnTo>
                        <a:lnTo>
                          <a:pt x="65" y="619"/>
                        </a:lnTo>
                        <a:lnTo>
                          <a:pt x="134" y="729"/>
                        </a:lnTo>
                        <a:lnTo>
                          <a:pt x="209" y="776"/>
                        </a:lnTo>
                        <a:lnTo>
                          <a:pt x="129" y="639"/>
                        </a:lnTo>
                        <a:lnTo>
                          <a:pt x="90" y="431"/>
                        </a:lnTo>
                        <a:lnTo>
                          <a:pt x="90" y="263"/>
                        </a:lnTo>
                        <a:lnTo>
                          <a:pt x="90" y="145"/>
                        </a:lnTo>
                        <a:lnTo>
                          <a:pt x="95" y="0"/>
                        </a:lnTo>
                        <a:close/>
                      </a:path>
                    </a:pathLst>
                  </a:custGeom>
                  <a:solidFill>
                    <a:srgbClr val="ff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54" name=""/>
                  <p:cNvGrpSpPr/>
                  <p:nvPr/>
                </p:nvGrpSpPr>
                <p:grpSpPr>
                  <a:xfrm>
                    <a:off x="915840" y="4935960"/>
                    <a:ext cx="185040" cy="171000"/>
                    <a:chOff x="915840" y="4935960"/>
                    <a:chExt cx="185040" cy="171000"/>
                  </a:xfrm>
                </p:grpSpPr>
                <p:grpSp>
                  <p:nvGrpSpPr>
                    <p:cNvPr id="155" name=""/>
                    <p:cNvGrpSpPr/>
                    <p:nvPr/>
                  </p:nvGrpSpPr>
                  <p:grpSpPr>
                    <a:xfrm>
                      <a:off x="915840" y="4937760"/>
                      <a:ext cx="181440" cy="169200"/>
                      <a:chOff x="915840" y="4937760"/>
                      <a:chExt cx="181440" cy="169200"/>
                    </a:xfrm>
                  </p:grpSpPr>
                  <p:sp>
                    <p:nvSpPr>
                      <p:cNvPr id="156" name=""/>
                      <p:cNvSpPr/>
                      <p:nvPr/>
                    </p:nvSpPr>
                    <p:spPr>
                      <a:xfrm>
                        <a:off x="932760" y="5041440"/>
                        <a:ext cx="19080" cy="14760"/>
                      </a:xfrm>
                      <a:prstGeom prst="ellipse">
                        <a:avLst/>
                      </a:prstGeom>
                      <a:solidFill>
                        <a:srgbClr val="8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360" bIns="-36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7" name=""/>
                      <p:cNvSpPr/>
                      <p:nvPr/>
                    </p:nvSpPr>
                    <p:spPr>
                      <a:xfrm>
                        <a:off x="915840" y="4993920"/>
                        <a:ext cx="10440" cy="11160"/>
                      </a:xfrm>
                      <a:prstGeom prst="ellipse">
                        <a:avLst/>
                      </a:prstGeom>
                      <a:solidFill>
                        <a:srgbClr val="8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8" name=""/>
                      <p:cNvSpPr/>
                      <p:nvPr/>
                    </p:nvSpPr>
                    <p:spPr>
                      <a:xfrm>
                        <a:off x="1067400" y="4937760"/>
                        <a:ext cx="10440" cy="16200"/>
                      </a:xfrm>
                      <a:prstGeom prst="ellipse">
                        <a:avLst/>
                      </a:prstGeom>
                      <a:solidFill>
                        <a:srgbClr val="8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920" bIns="-34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9" name=""/>
                      <p:cNvSpPr/>
                      <p:nvPr/>
                    </p:nvSpPr>
                    <p:spPr>
                      <a:xfrm>
                        <a:off x="1081800" y="5038560"/>
                        <a:ext cx="15480" cy="17640"/>
                      </a:xfrm>
                      <a:prstGeom prst="ellipse">
                        <a:avLst/>
                      </a:prstGeom>
                      <a:solidFill>
                        <a:srgbClr val="8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0" name=""/>
                      <p:cNvSpPr/>
                      <p:nvPr/>
                    </p:nvSpPr>
                    <p:spPr>
                      <a:xfrm>
                        <a:off x="924480" y="5094720"/>
                        <a:ext cx="14040" cy="12240"/>
                      </a:xfrm>
                      <a:prstGeom prst="ellipse">
                        <a:avLst/>
                      </a:prstGeom>
                      <a:solidFill>
                        <a:srgbClr val="8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61" name=""/>
                    <p:cNvGrpSpPr/>
                    <p:nvPr/>
                  </p:nvGrpSpPr>
                  <p:grpSpPr>
                    <a:xfrm>
                      <a:off x="919080" y="4935960"/>
                      <a:ext cx="181800" cy="169560"/>
                      <a:chOff x="919080" y="4935960"/>
                      <a:chExt cx="181800" cy="169560"/>
                    </a:xfrm>
                  </p:grpSpPr>
                  <p:sp>
                    <p:nvSpPr>
                      <p:cNvPr id="162" name=""/>
                      <p:cNvSpPr/>
                      <p:nvPr/>
                    </p:nvSpPr>
                    <p:spPr>
                      <a:xfrm>
                        <a:off x="936000" y="5039640"/>
                        <a:ext cx="19440" cy="14760"/>
                      </a:xfrm>
                      <a:prstGeom prst="ellipse">
                        <a:avLst/>
                      </a:prstGeom>
                      <a:solidFill>
                        <a:srgbClr val="ff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360" bIns="-36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3" name=""/>
                      <p:cNvSpPr/>
                      <p:nvPr/>
                    </p:nvSpPr>
                    <p:spPr>
                      <a:xfrm>
                        <a:off x="919080" y="4992120"/>
                        <a:ext cx="11160" cy="11520"/>
                      </a:xfrm>
                      <a:prstGeom prst="ellipse">
                        <a:avLst/>
                      </a:prstGeom>
                      <a:solidFill>
                        <a:srgbClr val="ff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4" name=""/>
                      <p:cNvSpPr/>
                      <p:nvPr/>
                    </p:nvSpPr>
                    <p:spPr>
                      <a:xfrm>
                        <a:off x="1070640" y="4935960"/>
                        <a:ext cx="11160" cy="16200"/>
                      </a:xfrm>
                      <a:prstGeom prst="ellipse">
                        <a:avLst/>
                      </a:prstGeom>
                      <a:solidFill>
                        <a:srgbClr val="ff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920" bIns="-34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5" name=""/>
                      <p:cNvSpPr/>
                      <p:nvPr/>
                    </p:nvSpPr>
                    <p:spPr>
                      <a:xfrm>
                        <a:off x="1085400" y="5036760"/>
                        <a:ext cx="15480" cy="18000"/>
                      </a:xfrm>
                      <a:prstGeom prst="ellipse">
                        <a:avLst/>
                      </a:prstGeom>
                      <a:solidFill>
                        <a:srgbClr val="ff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840" bIns="-33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6" name=""/>
                      <p:cNvSpPr/>
                      <p:nvPr/>
                    </p:nvSpPr>
                    <p:spPr>
                      <a:xfrm>
                        <a:off x="928080" y="5092920"/>
                        <a:ext cx="13320" cy="12600"/>
                      </a:xfrm>
                      <a:prstGeom prst="ellipse">
                        <a:avLst/>
                      </a:prstGeom>
                      <a:solidFill>
                        <a:srgbClr val="ff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943200" y="5043240"/>
                      <a:ext cx="10080" cy="7920"/>
                    </a:xfrm>
                    <a:prstGeom prst="ellipse">
                      <a:avLst/>
                    </a:prstGeom>
                    <a:solidFill>
                      <a:srgbClr val="ff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040" bIns="-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923400" y="4995000"/>
                      <a:ext cx="4320" cy="6480"/>
                    </a:xfrm>
                    <a:prstGeom prst="ellipse">
                      <a:avLst/>
                    </a:prstGeom>
                    <a:solidFill>
                      <a:srgbClr val="ff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1073160" y="4939560"/>
                      <a:ext cx="6120" cy="10080"/>
                    </a:xfrm>
                    <a:prstGeom prst="ellipse">
                      <a:avLst/>
                    </a:prstGeom>
                    <a:solidFill>
                      <a:srgbClr val="ff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0" bIns="-39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1091160" y="5039640"/>
                      <a:ext cx="7560" cy="11880"/>
                    </a:xfrm>
                    <a:prstGeom prst="ellipse">
                      <a:avLst/>
                    </a:prstGeom>
                    <a:solidFill>
                      <a:srgbClr val="ff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933120" y="5095800"/>
                      <a:ext cx="6840" cy="6120"/>
                    </a:xfrm>
                    <a:prstGeom prst="ellipse">
                      <a:avLst/>
                    </a:prstGeom>
                    <a:solidFill>
                      <a:srgbClr val="ff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72" name=""/>
              <p:cNvGrpSpPr/>
              <p:nvPr/>
            </p:nvGrpSpPr>
            <p:grpSpPr>
              <a:xfrm>
                <a:off x="653760" y="5055120"/>
                <a:ext cx="1679040" cy="1155960"/>
                <a:chOff x="653760" y="5055120"/>
                <a:chExt cx="1679040" cy="1155960"/>
              </a:xfrm>
            </p:grpSpPr>
            <p:grpSp>
              <p:nvGrpSpPr>
                <p:cNvPr id="173" name=""/>
                <p:cNvGrpSpPr/>
                <p:nvPr/>
              </p:nvGrpSpPr>
              <p:grpSpPr>
                <a:xfrm>
                  <a:off x="653760" y="5270040"/>
                  <a:ext cx="1679040" cy="941040"/>
                  <a:chOff x="653760" y="5270040"/>
                  <a:chExt cx="1679040" cy="941040"/>
                </a:xfrm>
              </p:grpSpPr>
              <p:sp>
                <p:nvSpPr>
                  <p:cNvPr id="174" name=""/>
                  <p:cNvSpPr/>
                  <p:nvPr/>
                </p:nvSpPr>
                <p:spPr>
                  <a:xfrm>
                    <a:off x="1685880" y="5270040"/>
                    <a:ext cx="1713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701" h="523">
                        <a:moveTo>
                          <a:pt x="172" y="0"/>
                        </a:moveTo>
                        <a:lnTo>
                          <a:pt x="106" y="105"/>
                        </a:lnTo>
                        <a:lnTo>
                          <a:pt x="106" y="199"/>
                        </a:lnTo>
                        <a:lnTo>
                          <a:pt x="145" y="303"/>
                        </a:lnTo>
                        <a:lnTo>
                          <a:pt x="0" y="429"/>
                        </a:lnTo>
                        <a:lnTo>
                          <a:pt x="132" y="523"/>
                        </a:lnTo>
                        <a:lnTo>
                          <a:pt x="238" y="429"/>
                        </a:lnTo>
                        <a:lnTo>
                          <a:pt x="423" y="481"/>
                        </a:lnTo>
                        <a:lnTo>
                          <a:pt x="595" y="481"/>
                        </a:lnTo>
                        <a:lnTo>
                          <a:pt x="701" y="418"/>
                        </a:lnTo>
                        <a:lnTo>
                          <a:pt x="172" y="0"/>
                        </a:lnTo>
                        <a:close/>
                      </a:path>
                    </a:pathLst>
                  </a:custGeom>
                  <a:solidFill>
                    <a:srgbClr val="006000"/>
                  </a:solidFill>
                  <a:ln w="11160">
                    <a:solidFill>
                      <a:srgbClr val="004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5" name=""/>
                  <p:cNvGrpSpPr/>
                  <p:nvPr/>
                </p:nvGrpSpPr>
                <p:grpSpPr>
                  <a:xfrm>
                    <a:off x="653760" y="5288760"/>
                    <a:ext cx="1679040" cy="922320"/>
                    <a:chOff x="653760" y="5288760"/>
                    <a:chExt cx="1679040" cy="922320"/>
                  </a:xfrm>
                </p:grpSpPr>
                <p:grpSp>
                  <p:nvGrpSpPr>
                    <p:cNvPr id="176" name=""/>
                    <p:cNvGrpSpPr/>
                    <p:nvPr/>
                  </p:nvGrpSpPr>
                  <p:grpSpPr>
                    <a:xfrm>
                      <a:off x="1333440" y="5622480"/>
                      <a:ext cx="999360" cy="588600"/>
                      <a:chOff x="1333440" y="5622480"/>
                      <a:chExt cx="999360" cy="588600"/>
                    </a:xfrm>
                  </p:grpSpPr>
                  <p:sp>
                    <p:nvSpPr>
                      <p:cNvPr id="177" name=""/>
                      <p:cNvSpPr/>
                      <p:nvPr/>
                    </p:nvSpPr>
                    <p:spPr>
                      <a:xfrm>
                        <a:off x="1333440" y="5622480"/>
                        <a:ext cx="999360" cy="588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88" h="2429">
                            <a:moveTo>
                              <a:pt x="0" y="2429"/>
                            </a:moveTo>
                            <a:lnTo>
                              <a:pt x="59" y="1535"/>
                            </a:lnTo>
                            <a:lnTo>
                              <a:pt x="178" y="1144"/>
                            </a:lnTo>
                            <a:lnTo>
                              <a:pt x="357" y="909"/>
                            </a:lnTo>
                            <a:lnTo>
                              <a:pt x="575" y="689"/>
                            </a:lnTo>
                            <a:lnTo>
                              <a:pt x="853" y="501"/>
                            </a:lnTo>
                            <a:lnTo>
                              <a:pt x="1091" y="344"/>
                            </a:lnTo>
                            <a:lnTo>
                              <a:pt x="1369" y="235"/>
                            </a:lnTo>
                            <a:lnTo>
                              <a:pt x="1746" y="125"/>
                            </a:lnTo>
                            <a:lnTo>
                              <a:pt x="2083" y="31"/>
                            </a:lnTo>
                            <a:lnTo>
                              <a:pt x="2401" y="15"/>
                            </a:lnTo>
                            <a:lnTo>
                              <a:pt x="2738" y="0"/>
                            </a:lnTo>
                            <a:lnTo>
                              <a:pt x="3016" y="31"/>
                            </a:lnTo>
                            <a:lnTo>
                              <a:pt x="3354" y="94"/>
                            </a:lnTo>
                            <a:lnTo>
                              <a:pt x="3552" y="172"/>
                            </a:lnTo>
                            <a:lnTo>
                              <a:pt x="4088" y="548"/>
                            </a:lnTo>
                            <a:lnTo>
                              <a:pt x="3512" y="454"/>
                            </a:lnTo>
                            <a:lnTo>
                              <a:pt x="3234" y="564"/>
                            </a:lnTo>
                            <a:lnTo>
                              <a:pt x="2897" y="579"/>
                            </a:lnTo>
                            <a:lnTo>
                              <a:pt x="2619" y="611"/>
                            </a:lnTo>
                            <a:lnTo>
                              <a:pt x="2302" y="689"/>
                            </a:lnTo>
                            <a:lnTo>
                              <a:pt x="1945" y="705"/>
                            </a:lnTo>
                            <a:lnTo>
                              <a:pt x="1687" y="752"/>
                            </a:lnTo>
                            <a:lnTo>
                              <a:pt x="1329" y="815"/>
                            </a:lnTo>
                            <a:lnTo>
                              <a:pt x="1012" y="877"/>
                            </a:lnTo>
                            <a:lnTo>
                              <a:pt x="833" y="1018"/>
                            </a:lnTo>
                            <a:lnTo>
                              <a:pt x="595" y="1316"/>
                            </a:lnTo>
                            <a:lnTo>
                              <a:pt x="476" y="1629"/>
                            </a:lnTo>
                            <a:lnTo>
                              <a:pt x="417" y="1896"/>
                            </a:lnTo>
                            <a:lnTo>
                              <a:pt x="397" y="2429"/>
                            </a:lnTo>
                            <a:lnTo>
                              <a:pt x="0" y="2429"/>
                            </a:lnTo>
                            <a:close/>
                          </a:path>
                        </a:pathLst>
                      </a:custGeom>
                      <a:solidFill>
                        <a:srgbClr val="006000"/>
                      </a:solidFill>
                      <a:ln w="11160">
                        <a:solidFill>
                          <a:srgbClr val="004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8" name=""/>
                      <p:cNvSpPr/>
                      <p:nvPr/>
                    </p:nvSpPr>
                    <p:spPr>
                      <a:xfrm>
                        <a:off x="1382040" y="5683320"/>
                        <a:ext cx="737280" cy="432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017" h="1787">
                            <a:moveTo>
                              <a:pt x="0" y="1787"/>
                            </a:moveTo>
                            <a:lnTo>
                              <a:pt x="40" y="1317"/>
                            </a:lnTo>
                            <a:lnTo>
                              <a:pt x="258" y="831"/>
                            </a:lnTo>
                            <a:lnTo>
                              <a:pt x="715" y="502"/>
                            </a:lnTo>
                            <a:lnTo>
                              <a:pt x="1409" y="298"/>
                            </a:lnTo>
                            <a:lnTo>
                              <a:pt x="1965" y="204"/>
                            </a:lnTo>
                            <a:lnTo>
                              <a:pt x="2620" y="47"/>
                            </a:lnTo>
                            <a:lnTo>
                              <a:pt x="3017" y="47"/>
                            </a:lnTo>
                            <a:lnTo>
                              <a:pt x="2501" y="0"/>
                            </a:lnTo>
                            <a:lnTo>
                              <a:pt x="2064" y="63"/>
                            </a:lnTo>
                            <a:lnTo>
                              <a:pt x="1608" y="220"/>
                            </a:lnTo>
                            <a:lnTo>
                              <a:pt x="893" y="423"/>
                            </a:lnTo>
                            <a:lnTo>
                              <a:pt x="238" y="737"/>
                            </a:lnTo>
                            <a:lnTo>
                              <a:pt x="100" y="1003"/>
                            </a:lnTo>
                            <a:lnTo>
                              <a:pt x="0" y="1787"/>
                            </a:lnTo>
                            <a:close/>
                          </a:path>
                        </a:pathLst>
                      </a:custGeom>
                      <a:solidFill>
                        <a:srgbClr val="004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1330920" y="5368680"/>
                      <a:ext cx="392400" cy="84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08" h="3474">
                          <a:moveTo>
                            <a:pt x="1494" y="0"/>
                          </a:moveTo>
                          <a:lnTo>
                            <a:pt x="1335" y="114"/>
                          </a:lnTo>
                          <a:lnTo>
                            <a:pt x="1186" y="231"/>
                          </a:lnTo>
                          <a:lnTo>
                            <a:pt x="978" y="406"/>
                          </a:lnTo>
                          <a:lnTo>
                            <a:pt x="829" y="568"/>
                          </a:lnTo>
                          <a:lnTo>
                            <a:pt x="695" y="729"/>
                          </a:lnTo>
                          <a:lnTo>
                            <a:pt x="581" y="889"/>
                          </a:lnTo>
                          <a:lnTo>
                            <a:pt x="491" y="1042"/>
                          </a:lnTo>
                          <a:lnTo>
                            <a:pt x="422" y="1211"/>
                          </a:lnTo>
                          <a:lnTo>
                            <a:pt x="369" y="1399"/>
                          </a:lnTo>
                          <a:lnTo>
                            <a:pt x="328" y="1598"/>
                          </a:lnTo>
                          <a:lnTo>
                            <a:pt x="276" y="1811"/>
                          </a:lnTo>
                          <a:lnTo>
                            <a:pt x="214" y="2088"/>
                          </a:lnTo>
                          <a:lnTo>
                            <a:pt x="144" y="2300"/>
                          </a:lnTo>
                          <a:lnTo>
                            <a:pt x="75" y="2557"/>
                          </a:lnTo>
                          <a:lnTo>
                            <a:pt x="45" y="2745"/>
                          </a:lnTo>
                          <a:lnTo>
                            <a:pt x="20" y="2906"/>
                          </a:lnTo>
                          <a:lnTo>
                            <a:pt x="0" y="3113"/>
                          </a:lnTo>
                          <a:lnTo>
                            <a:pt x="0" y="3297"/>
                          </a:lnTo>
                          <a:lnTo>
                            <a:pt x="0" y="3474"/>
                          </a:lnTo>
                          <a:lnTo>
                            <a:pt x="157" y="3472"/>
                          </a:lnTo>
                          <a:lnTo>
                            <a:pt x="159" y="3207"/>
                          </a:lnTo>
                          <a:lnTo>
                            <a:pt x="174" y="2996"/>
                          </a:lnTo>
                          <a:lnTo>
                            <a:pt x="197" y="2846"/>
                          </a:lnTo>
                          <a:lnTo>
                            <a:pt x="219" y="2674"/>
                          </a:lnTo>
                          <a:lnTo>
                            <a:pt x="248" y="2515"/>
                          </a:lnTo>
                          <a:lnTo>
                            <a:pt x="293" y="2370"/>
                          </a:lnTo>
                          <a:lnTo>
                            <a:pt x="343" y="2221"/>
                          </a:lnTo>
                          <a:lnTo>
                            <a:pt x="387" y="2065"/>
                          </a:lnTo>
                          <a:lnTo>
                            <a:pt x="437" y="1869"/>
                          </a:lnTo>
                          <a:lnTo>
                            <a:pt x="481" y="1649"/>
                          </a:lnTo>
                          <a:lnTo>
                            <a:pt x="515" y="1430"/>
                          </a:lnTo>
                          <a:lnTo>
                            <a:pt x="601" y="1152"/>
                          </a:lnTo>
                          <a:lnTo>
                            <a:pt x="680" y="983"/>
                          </a:lnTo>
                          <a:lnTo>
                            <a:pt x="789" y="831"/>
                          </a:lnTo>
                          <a:lnTo>
                            <a:pt x="928" y="654"/>
                          </a:lnTo>
                          <a:lnTo>
                            <a:pt x="1110" y="458"/>
                          </a:lnTo>
                          <a:lnTo>
                            <a:pt x="1255" y="325"/>
                          </a:lnTo>
                          <a:lnTo>
                            <a:pt x="1464" y="176"/>
                          </a:lnTo>
                          <a:lnTo>
                            <a:pt x="1608" y="74"/>
                          </a:lnTo>
                          <a:lnTo>
                            <a:pt x="1494" y="0"/>
                          </a:lnTo>
                          <a:close/>
                        </a:path>
                      </a:pathLst>
                    </a:custGeom>
                    <a:solidFill>
                      <a:srgbClr val="006000"/>
                    </a:solidFill>
                    <a:ln w="11160">
                      <a:solidFill>
                        <a:srgbClr val="004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80" name=""/>
                    <p:cNvGrpSpPr/>
                    <p:nvPr/>
                  </p:nvGrpSpPr>
                  <p:grpSpPr>
                    <a:xfrm>
                      <a:off x="653760" y="5288760"/>
                      <a:ext cx="712440" cy="920880"/>
                      <a:chOff x="653760" y="5288760"/>
                      <a:chExt cx="712440" cy="920880"/>
                    </a:xfrm>
                  </p:grpSpPr>
                  <p:sp>
                    <p:nvSpPr>
                      <p:cNvPr id="181" name=""/>
                      <p:cNvSpPr/>
                      <p:nvPr/>
                    </p:nvSpPr>
                    <p:spPr>
                      <a:xfrm>
                        <a:off x="653760" y="5288760"/>
                        <a:ext cx="712440" cy="920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16" h="3799">
                            <a:moveTo>
                              <a:pt x="2916" y="3799"/>
                            </a:moveTo>
                            <a:lnTo>
                              <a:pt x="2823" y="3048"/>
                            </a:lnTo>
                            <a:lnTo>
                              <a:pt x="2731" y="2736"/>
                            </a:lnTo>
                            <a:lnTo>
                              <a:pt x="2674" y="2386"/>
                            </a:lnTo>
                            <a:lnTo>
                              <a:pt x="2582" y="2010"/>
                            </a:lnTo>
                            <a:lnTo>
                              <a:pt x="2451" y="1673"/>
                            </a:lnTo>
                            <a:lnTo>
                              <a:pt x="2340" y="1401"/>
                            </a:lnTo>
                            <a:lnTo>
                              <a:pt x="2173" y="1128"/>
                            </a:lnTo>
                            <a:lnTo>
                              <a:pt x="1950" y="857"/>
                            </a:lnTo>
                            <a:lnTo>
                              <a:pt x="1747" y="649"/>
                            </a:lnTo>
                            <a:lnTo>
                              <a:pt x="1560" y="481"/>
                            </a:lnTo>
                            <a:lnTo>
                              <a:pt x="1356" y="350"/>
                            </a:lnTo>
                            <a:lnTo>
                              <a:pt x="984" y="195"/>
                            </a:lnTo>
                            <a:lnTo>
                              <a:pt x="558" y="78"/>
                            </a:lnTo>
                            <a:lnTo>
                              <a:pt x="0" y="0"/>
                            </a:lnTo>
                            <a:lnTo>
                              <a:pt x="280" y="168"/>
                            </a:lnTo>
                            <a:lnTo>
                              <a:pt x="465" y="299"/>
                            </a:lnTo>
                            <a:lnTo>
                              <a:pt x="670" y="481"/>
                            </a:lnTo>
                            <a:lnTo>
                              <a:pt x="817" y="610"/>
                            </a:lnTo>
                            <a:lnTo>
                              <a:pt x="1022" y="765"/>
                            </a:lnTo>
                            <a:lnTo>
                              <a:pt x="1208" y="921"/>
                            </a:lnTo>
                            <a:lnTo>
                              <a:pt x="1467" y="1141"/>
                            </a:lnTo>
                            <a:lnTo>
                              <a:pt x="1672" y="1310"/>
                            </a:lnTo>
                            <a:lnTo>
                              <a:pt x="1839" y="1504"/>
                            </a:lnTo>
                            <a:lnTo>
                              <a:pt x="2006" y="1725"/>
                            </a:lnTo>
                            <a:lnTo>
                              <a:pt x="2117" y="1920"/>
                            </a:lnTo>
                            <a:lnTo>
                              <a:pt x="2284" y="2178"/>
                            </a:lnTo>
                            <a:lnTo>
                              <a:pt x="2433" y="2477"/>
                            </a:lnTo>
                            <a:lnTo>
                              <a:pt x="2564" y="2801"/>
                            </a:lnTo>
                            <a:lnTo>
                              <a:pt x="2656" y="3151"/>
                            </a:lnTo>
                            <a:lnTo>
                              <a:pt x="2731" y="3501"/>
                            </a:lnTo>
                            <a:lnTo>
                              <a:pt x="2711" y="3799"/>
                            </a:lnTo>
                            <a:lnTo>
                              <a:pt x="2916" y="3799"/>
                            </a:lnTo>
                            <a:close/>
                          </a:path>
                        </a:pathLst>
                      </a:custGeom>
                      <a:solidFill>
                        <a:srgbClr val="006000"/>
                      </a:solidFill>
                      <a:ln w="11160">
                        <a:solidFill>
                          <a:srgbClr val="004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2" name=""/>
                      <p:cNvSpPr/>
                      <p:nvPr/>
                    </p:nvSpPr>
                    <p:spPr>
                      <a:xfrm>
                        <a:off x="844200" y="5357880"/>
                        <a:ext cx="449280" cy="562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37" h="2320">
                            <a:moveTo>
                              <a:pt x="0" y="0"/>
                            </a:moveTo>
                            <a:lnTo>
                              <a:pt x="259" y="142"/>
                            </a:lnTo>
                            <a:lnTo>
                              <a:pt x="612" y="415"/>
                            </a:lnTo>
                            <a:lnTo>
                              <a:pt x="873" y="648"/>
                            </a:lnTo>
                            <a:lnTo>
                              <a:pt x="1151" y="947"/>
                            </a:lnTo>
                            <a:lnTo>
                              <a:pt x="1374" y="1284"/>
                            </a:lnTo>
                            <a:lnTo>
                              <a:pt x="1577" y="1594"/>
                            </a:lnTo>
                            <a:lnTo>
                              <a:pt x="1708" y="1957"/>
                            </a:lnTo>
                            <a:lnTo>
                              <a:pt x="1837" y="2320"/>
                            </a:lnTo>
                            <a:lnTo>
                              <a:pt x="1708" y="1789"/>
                            </a:lnTo>
                            <a:lnTo>
                              <a:pt x="1503" y="1335"/>
                            </a:lnTo>
                            <a:lnTo>
                              <a:pt x="1262" y="960"/>
                            </a:lnTo>
                            <a:lnTo>
                              <a:pt x="984" y="674"/>
                            </a:lnTo>
                            <a:lnTo>
                              <a:pt x="724" y="427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4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1693440" y="5055120"/>
                  <a:ext cx="518760" cy="325440"/>
                  <a:chOff x="1693440" y="5055120"/>
                  <a:chExt cx="518760" cy="325440"/>
                </a:xfrm>
              </p:grpSpPr>
              <p:grpSp>
                <p:nvGrpSpPr>
                  <p:cNvPr id="184" name=""/>
                  <p:cNvGrpSpPr/>
                  <p:nvPr/>
                </p:nvGrpSpPr>
                <p:grpSpPr>
                  <a:xfrm>
                    <a:off x="1909440" y="5103360"/>
                    <a:ext cx="266760" cy="150480"/>
                    <a:chOff x="1909440" y="5103360"/>
                    <a:chExt cx="266760" cy="150480"/>
                  </a:xfrm>
                </p:grpSpPr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1909440" y="5103360"/>
                      <a:ext cx="26676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1" h="623">
                          <a:moveTo>
                            <a:pt x="213" y="43"/>
                          </a:moveTo>
                          <a:lnTo>
                            <a:pt x="407" y="31"/>
                          </a:lnTo>
                          <a:lnTo>
                            <a:pt x="560" y="0"/>
                          </a:lnTo>
                          <a:lnTo>
                            <a:pt x="689" y="4"/>
                          </a:lnTo>
                          <a:lnTo>
                            <a:pt x="793" y="20"/>
                          </a:lnTo>
                          <a:lnTo>
                            <a:pt x="863" y="43"/>
                          </a:lnTo>
                          <a:lnTo>
                            <a:pt x="927" y="78"/>
                          </a:lnTo>
                          <a:lnTo>
                            <a:pt x="1012" y="122"/>
                          </a:lnTo>
                          <a:lnTo>
                            <a:pt x="1091" y="145"/>
                          </a:lnTo>
                          <a:lnTo>
                            <a:pt x="1022" y="169"/>
                          </a:lnTo>
                          <a:lnTo>
                            <a:pt x="962" y="216"/>
                          </a:lnTo>
                          <a:lnTo>
                            <a:pt x="913" y="325"/>
                          </a:lnTo>
                          <a:lnTo>
                            <a:pt x="793" y="419"/>
                          </a:lnTo>
                          <a:lnTo>
                            <a:pt x="20" y="623"/>
                          </a:lnTo>
                          <a:lnTo>
                            <a:pt x="0" y="278"/>
                          </a:lnTo>
                          <a:lnTo>
                            <a:pt x="213" y="43"/>
                          </a:lnTo>
                          <a:close/>
                        </a:path>
                      </a:pathLst>
                    </a:custGeom>
                    <a:solidFill>
                      <a:srgbClr val="c00000"/>
                    </a:solidFill>
                    <a:ln w="1116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1928880" y="5114160"/>
                      <a:ext cx="218160" cy="74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93" h="310">
                          <a:moveTo>
                            <a:pt x="347" y="16"/>
                          </a:moveTo>
                          <a:lnTo>
                            <a:pt x="496" y="0"/>
                          </a:lnTo>
                          <a:lnTo>
                            <a:pt x="590" y="0"/>
                          </a:lnTo>
                          <a:lnTo>
                            <a:pt x="660" y="4"/>
                          </a:lnTo>
                          <a:lnTo>
                            <a:pt x="754" y="24"/>
                          </a:lnTo>
                          <a:lnTo>
                            <a:pt x="819" y="59"/>
                          </a:lnTo>
                          <a:lnTo>
                            <a:pt x="893" y="82"/>
                          </a:lnTo>
                          <a:lnTo>
                            <a:pt x="744" y="98"/>
                          </a:lnTo>
                          <a:lnTo>
                            <a:pt x="640" y="126"/>
                          </a:lnTo>
                          <a:lnTo>
                            <a:pt x="531" y="157"/>
                          </a:lnTo>
                          <a:lnTo>
                            <a:pt x="402" y="204"/>
                          </a:lnTo>
                          <a:lnTo>
                            <a:pt x="233" y="310"/>
                          </a:lnTo>
                          <a:lnTo>
                            <a:pt x="0" y="149"/>
                          </a:lnTo>
                          <a:lnTo>
                            <a:pt x="347" y="16"/>
                          </a:lnTo>
                          <a:close/>
                        </a:path>
                      </a:pathLst>
                    </a:custGeom>
                    <a:solidFill>
                      <a:srgbClr val="ff4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080" bIns="28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1984680" y="5140080"/>
                      <a:ext cx="17316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10" h="255">
                          <a:moveTo>
                            <a:pt x="159" y="145"/>
                          </a:moveTo>
                          <a:lnTo>
                            <a:pt x="298" y="78"/>
                          </a:lnTo>
                          <a:lnTo>
                            <a:pt x="392" y="47"/>
                          </a:lnTo>
                          <a:lnTo>
                            <a:pt x="496" y="23"/>
                          </a:lnTo>
                          <a:lnTo>
                            <a:pt x="586" y="4"/>
                          </a:lnTo>
                          <a:lnTo>
                            <a:pt x="670" y="0"/>
                          </a:lnTo>
                          <a:lnTo>
                            <a:pt x="710" y="0"/>
                          </a:lnTo>
                          <a:lnTo>
                            <a:pt x="645" y="27"/>
                          </a:lnTo>
                          <a:lnTo>
                            <a:pt x="610" y="74"/>
                          </a:lnTo>
                          <a:lnTo>
                            <a:pt x="591" y="117"/>
                          </a:lnTo>
                          <a:lnTo>
                            <a:pt x="556" y="227"/>
                          </a:lnTo>
                          <a:lnTo>
                            <a:pt x="0" y="255"/>
                          </a:lnTo>
                          <a:lnTo>
                            <a:pt x="159" y="145"/>
                          </a:lnTo>
                          <a:close/>
                        </a:path>
                      </a:pathLst>
                    </a:cu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88" name=""/>
                  <p:cNvSpPr/>
                  <p:nvPr/>
                </p:nvSpPr>
                <p:spPr>
                  <a:xfrm>
                    <a:off x="1739520" y="5172480"/>
                    <a:ext cx="472680" cy="208080"/>
                  </a:xfrm>
                  <a:custGeom>
                    <a:avLst/>
                    <a:gdLst/>
                    <a:ahLst/>
                    <a:rect l="l" t="t" r="r" b="b"/>
                    <a:pathLst>
                      <a:path w="1935" h="862">
                        <a:moveTo>
                          <a:pt x="0" y="627"/>
                        </a:moveTo>
                        <a:lnTo>
                          <a:pt x="119" y="729"/>
                        </a:lnTo>
                        <a:lnTo>
                          <a:pt x="248" y="791"/>
                        </a:lnTo>
                        <a:lnTo>
                          <a:pt x="377" y="823"/>
                        </a:lnTo>
                        <a:lnTo>
                          <a:pt x="501" y="850"/>
                        </a:lnTo>
                        <a:lnTo>
                          <a:pt x="625" y="862"/>
                        </a:lnTo>
                        <a:lnTo>
                          <a:pt x="744" y="862"/>
                        </a:lnTo>
                        <a:lnTo>
                          <a:pt x="878" y="850"/>
                        </a:lnTo>
                        <a:lnTo>
                          <a:pt x="992" y="835"/>
                        </a:lnTo>
                        <a:lnTo>
                          <a:pt x="1092" y="799"/>
                        </a:lnTo>
                        <a:lnTo>
                          <a:pt x="1171" y="764"/>
                        </a:lnTo>
                        <a:lnTo>
                          <a:pt x="1235" y="725"/>
                        </a:lnTo>
                        <a:lnTo>
                          <a:pt x="1300" y="674"/>
                        </a:lnTo>
                        <a:lnTo>
                          <a:pt x="1379" y="603"/>
                        </a:lnTo>
                        <a:lnTo>
                          <a:pt x="1439" y="533"/>
                        </a:lnTo>
                        <a:lnTo>
                          <a:pt x="1469" y="439"/>
                        </a:lnTo>
                        <a:lnTo>
                          <a:pt x="1528" y="345"/>
                        </a:lnTo>
                        <a:lnTo>
                          <a:pt x="1578" y="290"/>
                        </a:lnTo>
                        <a:lnTo>
                          <a:pt x="1622" y="239"/>
                        </a:lnTo>
                        <a:lnTo>
                          <a:pt x="1687" y="204"/>
                        </a:lnTo>
                        <a:lnTo>
                          <a:pt x="1737" y="180"/>
                        </a:lnTo>
                        <a:lnTo>
                          <a:pt x="1836" y="157"/>
                        </a:lnTo>
                        <a:lnTo>
                          <a:pt x="1935" y="110"/>
                        </a:lnTo>
                        <a:lnTo>
                          <a:pt x="1776" y="71"/>
                        </a:lnTo>
                        <a:lnTo>
                          <a:pt x="1598" y="39"/>
                        </a:lnTo>
                        <a:lnTo>
                          <a:pt x="1449" y="16"/>
                        </a:lnTo>
                        <a:lnTo>
                          <a:pt x="1270" y="8"/>
                        </a:lnTo>
                        <a:lnTo>
                          <a:pt x="1072" y="0"/>
                        </a:lnTo>
                        <a:lnTo>
                          <a:pt x="863" y="24"/>
                        </a:lnTo>
                        <a:lnTo>
                          <a:pt x="695" y="63"/>
                        </a:lnTo>
                        <a:lnTo>
                          <a:pt x="526" y="125"/>
                        </a:lnTo>
                        <a:lnTo>
                          <a:pt x="417" y="196"/>
                        </a:lnTo>
                        <a:lnTo>
                          <a:pt x="268" y="298"/>
                        </a:lnTo>
                        <a:lnTo>
                          <a:pt x="149" y="415"/>
                        </a:lnTo>
                        <a:lnTo>
                          <a:pt x="60" y="549"/>
                        </a:lnTo>
                        <a:lnTo>
                          <a:pt x="0" y="627"/>
                        </a:lnTo>
                        <a:close/>
                      </a:path>
                    </a:pathLst>
                  </a:custGeom>
                  <a:solidFill>
                    <a:srgbClr val="e00000"/>
                  </a:solidFill>
                  <a:ln w="11160">
                    <a:solidFill>
                      <a:srgbClr val="8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2032920" y="5181840"/>
                    <a:ext cx="1562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w="640" h="161">
                        <a:moveTo>
                          <a:pt x="0" y="0"/>
                        </a:moveTo>
                        <a:lnTo>
                          <a:pt x="183" y="4"/>
                        </a:lnTo>
                        <a:lnTo>
                          <a:pt x="357" y="28"/>
                        </a:lnTo>
                        <a:lnTo>
                          <a:pt x="436" y="43"/>
                        </a:lnTo>
                        <a:lnTo>
                          <a:pt x="526" y="63"/>
                        </a:lnTo>
                        <a:lnTo>
                          <a:pt x="605" y="79"/>
                        </a:lnTo>
                        <a:lnTo>
                          <a:pt x="640" y="79"/>
                        </a:lnTo>
                        <a:lnTo>
                          <a:pt x="521" y="118"/>
                        </a:lnTo>
                        <a:lnTo>
                          <a:pt x="446" y="149"/>
                        </a:lnTo>
                        <a:lnTo>
                          <a:pt x="317" y="161"/>
                        </a:lnTo>
                        <a:lnTo>
                          <a:pt x="173" y="137"/>
                        </a:lnTo>
                        <a:lnTo>
                          <a:pt x="34" y="7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1775880" y="5298840"/>
                    <a:ext cx="297000" cy="74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15" h="310">
                        <a:moveTo>
                          <a:pt x="104" y="204"/>
                        </a:moveTo>
                        <a:lnTo>
                          <a:pt x="208" y="223"/>
                        </a:lnTo>
                        <a:lnTo>
                          <a:pt x="313" y="235"/>
                        </a:lnTo>
                        <a:lnTo>
                          <a:pt x="506" y="247"/>
                        </a:lnTo>
                        <a:lnTo>
                          <a:pt x="699" y="231"/>
                        </a:lnTo>
                        <a:lnTo>
                          <a:pt x="848" y="200"/>
                        </a:lnTo>
                        <a:lnTo>
                          <a:pt x="992" y="153"/>
                        </a:lnTo>
                        <a:lnTo>
                          <a:pt x="1131" y="75"/>
                        </a:lnTo>
                        <a:lnTo>
                          <a:pt x="1215" y="0"/>
                        </a:lnTo>
                        <a:lnTo>
                          <a:pt x="1166" y="102"/>
                        </a:lnTo>
                        <a:lnTo>
                          <a:pt x="1096" y="157"/>
                        </a:lnTo>
                        <a:lnTo>
                          <a:pt x="987" y="216"/>
                        </a:lnTo>
                        <a:lnTo>
                          <a:pt x="888" y="263"/>
                        </a:lnTo>
                        <a:lnTo>
                          <a:pt x="779" y="290"/>
                        </a:lnTo>
                        <a:lnTo>
                          <a:pt x="630" y="306"/>
                        </a:lnTo>
                        <a:lnTo>
                          <a:pt x="466" y="310"/>
                        </a:lnTo>
                        <a:lnTo>
                          <a:pt x="317" y="302"/>
                        </a:lnTo>
                        <a:lnTo>
                          <a:pt x="174" y="274"/>
                        </a:lnTo>
                        <a:lnTo>
                          <a:pt x="84" y="247"/>
                        </a:lnTo>
                        <a:lnTo>
                          <a:pt x="0" y="200"/>
                        </a:lnTo>
                        <a:lnTo>
                          <a:pt x="104" y="204"/>
                        </a:lnTo>
                        <a:close/>
                      </a:path>
                    </a:pathLst>
                  </a:custGeom>
                  <a:solidFill>
                    <a:srgbClr val="c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080" bIns="28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1" name=""/>
                  <p:cNvGrpSpPr/>
                  <p:nvPr/>
                </p:nvGrpSpPr>
                <p:grpSpPr>
                  <a:xfrm>
                    <a:off x="1693440" y="5055120"/>
                    <a:ext cx="339480" cy="288000"/>
                    <a:chOff x="1693440" y="5055120"/>
                    <a:chExt cx="339480" cy="288000"/>
                  </a:xfrm>
                </p:grpSpPr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1693440" y="5055120"/>
                      <a:ext cx="339480" cy="288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89" h="1191">
                          <a:moveTo>
                            <a:pt x="109" y="1082"/>
                          </a:moveTo>
                          <a:lnTo>
                            <a:pt x="39" y="964"/>
                          </a:lnTo>
                          <a:lnTo>
                            <a:pt x="10" y="878"/>
                          </a:lnTo>
                          <a:lnTo>
                            <a:pt x="0" y="753"/>
                          </a:lnTo>
                          <a:lnTo>
                            <a:pt x="10" y="666"/>
                          </a:lnTo>
                          <a:lnTo>
                            <a:pt x="59" y="572"/>
                          </a:lnTo>
                          <a:lnTo>
                            <a:pt x="158" y="478"/>
                          </a:lnTo>
                          <a:lnTo>
                            <a:pt x="238" y="416"/>
                          </a:lnTo>
                          <a:lnTo>
                            <a:pt x="337" y="361"/>
                          </a:lnTo>
                          <a:lnTo>
                            <a:pt x="476" y="306"/>
                          </a:lnTo>
                          <a:lnTo>
                            <a:pt x="585" y="282"/>
                          </a:lnTo>
                          <a:lnTo>
                            <a:pt x="724" y="251"/>
                          </a:lnTo>
                          <a:lnTo>
                            <a:pt x="873" y="235"/>
                          </a:lnTo>
                          <a:lnTo>
                            <a:pt x="972" y="212"/>
                          </a:lnTo>
                          <a:lnTo>
                            <a:pt x="1141" y="173"/>
                          </a:lnTo>
                          <a:lnTo>
                            <a:pt x="1260" y="94"/>
                          </a:lnTo>
                          <a:lnTo>
                            <a:pt x="1389" y="0"/>
                          </a:lnTo>
                          <a:lnTo>
                            <a:pt x="1379" y="110"/>
                          </a:lnTo>
                          <a:lnTo>
                            <a:pt x="1329" y="259"/>
                          </a:lnTo>
                          <a:lnTo>
                            <a:pt x="1280" y="369"/>
                          </a:lnTo>
                          <a:lnTo>
                            <a:pt x="1220" y="502"/>
                          </a:lnTo>
                          <a:lnTo>
                            <a:pt x="1180" y="604"/>
                          </a:lnTo>
                          <a:lnTo>
                            <a:pt x="1121" y="706"/>
                          </a:lnTo>
                          <a:lnTo>
                            <a:pt x="1071" y="792"/>
                          </a:lnTo>
                          <a:lnTo>
                            <a:pt x="982" y="925"/>
                          </a:lnTo>
                          <a:lnTo>
                            <a:pt x="903" y="988"/>
                          </a:lnTo>
                          <a:lnTo>
                            <a:pt x="783" y="1082"/>
                          </a:lnTo>
                          <a:lnTo>
                            <a:pt x="585" y="1168"/>
                          </a:lnTo>
                          <a:lnTo>
                            <a:pt x="456" y="1183"/>
                          </a:lnTo>
                          <a:lnTo>
                            <a:pt x="287" y="1191"/>
                          </a:lnTo>
                          <a:lnTo>
                            <a:pt x="109" y="1082"/>
                          </a:lnTo>
                          <a:close/>
                        </a:path>
                      </a:pathLst>
                    </a:custGeom>
                    <a:solidFill>
                      <a:srgbClr val="ff0000"/>
                    </a:solidFill>
                    <a:ln w="1116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3" name=""/>
                    <p:cNvSpPr/>
                    <p:nvPr/>
                  </p:nvSpPr>
                  <p:spPr>
                    <a:xfrm>
                      <a:off x="1700640" y="5134320"/>
                      <a:ext cx="132480" cy="10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1" h="447">
                          <a:moveTo>
                            <a:pt x="0" y="447"/>
                          </a:moveTo>
                          <a:lnTo>
                            <a:pt x="10" y="345"/>
                          </a:lnTo>
                          <a:lnTo>
                            <a:pt x="55" y="259"/>
                          </a:lnTo>
                          <a:lnTo>
                            <a:pt x="139" y="177"/>
                          </a:lnTo>
                          <a:lnTo>
                            <a:pt x="248" y="110"/>
                          </a:lnTo>
                          <a:lnTo>
                            <a:pt x="338" y="63"/>
                          </a:lnTo>
                          <a:lnTo>
                            <a:pt x="457" y="20"/>
                          </a:lnTo>
                          <a:lnTo>
                            <a:pt x="541" y="0"/>
                          </a:lnTo>
                          <a:lnTo>
                            <a:pt x="412" y="98"/>
                          </a:lnTo>
                          <a:lnTo>
                            <a:pt x="338" y="204"/>
                          </a:lnTo>
                          <a:lnTo>
                            <a:pt x="258" y="310"/>
                          </a:lnTo>
                          <a:lnTo>
                            <a:pt x="189" y="369"/>
                          </a:lnTo>
                          <a:lnTo>
                            <a:pt x="100" y="424"/>
                          </a:lnTo>
                          <a:lnTo>
                            <a:pt x="0" y="447"/>
                          </a:lnTo>
                          <a:close/>
                        </a:path>
                      </a:pathLst>
                    </a:custGeom>
                    <a:solidFill>
                      <a:srgbClr val="ff4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1900440" y="5072040"/>
                      <a:ext cx="120240" cy="5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1" h="227">
                          <a:moveTo>
                            <a:pt x="491" y="0"/>
                          </a:moveTo>
                          <a:lnTo>
                            <a:pt x="377" y="94"/>
                          </a:lnTo>
                          <a:lnTo>
                            <a:pt x="243" y="153"/>
                          </a:lnTo>
                          <a:lnTo>
                            <a:pt x="129" y="176"/>
                          </a:lnTo>
                          <a:lnTo>
                            <a:pt x="0" y="192"/>
                          </a:lnTo>
                          <a:lnTo>
                            <a:pt x="84" y="215"/>
                          </a:lnTo>
                          <a:lnTo>
                            <a:pt x="193" y="227"/>
                          </a:lnTo>
                          <a:lnTo>
                            <a:pt x="322" y="223"/>
                          </a:lnTo>
                          <a:lnTo>
                            <a:pt x="387" y="204"/>
                          </a:lnTo>
                          <a:lnTo>
                            <a:pt x="446" y="149"/>
                          </a:lnTo>
                          <a:lnTo>
                            <a:pt x="471" y="86"/>
                          </a:lnTo>
                          <a:lnTo>
                            <a:pt x="491" y="0"/>
                          </a:lnTo>
                          <a:close/>
                        </a:path>
                      </a:pathLst>
                    </a:custGeom>
                    <a:solidFill>
                      <a:srgbClr val="ff4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280" bIns="8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1801440" y="5256000"/>
                    <a:ext cx="22320" cy="16920"/>
                    <a:chOff x="1801440" y="5256000"/>
                    <a:chExt cx="22320" cy="169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1805040" y="5257800"/>
                      <a:ext cx="18720" cy="15120"/>
                    </a:xfrm>
                    <a:prstGeom prst="ellipse">
                      <a:avLst/>
                    </a:prstGeom>
                    <a:solidFill>
                      <a:srgbClr val="8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0" bIns="-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1801440" y="5256000"/>
                      <a:ext cx="19440" cy="15120"/>
                    </a:xfrm>
                    <a:prstGeom prst="ellipse">
                      <a:avLst/>
                    </a:prstGeom>
                    <a:solidFill>
                      <a:srgbClr val="ff4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0" bIns="-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1803600" y="5259600"/>
                      <a:ext cx="10080" cy="8280"/>
                    </a:xfrm>
                    <a:prstGeom prst="ellipse">
                      <a:avLst/>
                    </a:prstGeom>
                    <a:solidFill>
                      <a:srgbClr val="ff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9" name=""/>
                  <p:cNvGrpSpPr/>
                  <p:nvPr/>
                </p:nvGrpSpPr>
                <p:grpSpPr>
                  <a:xfrm>
                    <a:off x="2109240" y="5150880"/>
                    <a:ext cx="14400" cy="12960"/>
                    <a:chOff x="2109240" y="5150880"/>
                    <a:chExt cx="14400" cy="12960"/>
                  </a:xfrm>
                </p:grpSpPr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2113200" y="5152320"/>
                      <a:ext cx="10440" cy="11520"/>
                    </a:xfrm>
                    <a:prstGeom prst="ellipse">
                      <a:avLst/>
                    </a:prstGeom>
                    <a:solidFill>
                      <a:srgbClr val="8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2109240" y="5150880"/>
                      <a:ext cx="10440" cy="11160"/>
                    </a:xfrm>
                    <a:prstGeom prst="ellipse">
                      <a:avLst/>
                    </a:prstGeom>
                    <a:solidFill>
                      <a:srgbClr val="ff4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2" name=""/>
                    <p:cNvSpPr/>
                    <p:nvPr/>
                  </p:nvSpPr>
                  <p:spPr>
                    <a:xfrm>
                      <a:off x="2111400" y="5153040"/>
                      <a:ext cx="3960" cy="6480"/>
                    </a:xfrm>
                    <a:prstGeom prst="ellipse">
                      <a:avLst/>
                    </a:prstGeom>
                    <a:solidFill>
                      <a:srgbClr val="ff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3" name=""/>
                  <p:cNvGrpSpPr/>
                  <p:nvPr/>
                </p:nvGrpSpPr>
                <p:grpSpPr>
                  <a:xfrm>
                    <a:off x="2048760" y="5271840"/>
                    <a:ext cx="14400" cy="17640"/>
                    <a:chOff x="2048760" y="5271840"/>
                    <a:chExt cx="14400" cy="17640"/>
                  </a:xfrm>
                </p:grpSpPr>
                <p:sp>
                  <p:nvSpPr>
                    <p:cNvPr id="204" name=""/>
                    <p:cNvSpPr/>
                    <p:nvPr/>
                  </p:nvSpPr>
                  <p:spPr>
                    <a:xfrm>
                      <a:off x="2052720" y="5273640"/>
                      <a:ext cx="10440" cy="15840"/>
                    </a:xfrm>
                    <a:prstGeom prst="ellipse">
                      <a:avLst/>
                    </a:prstGeom>
                    <a:solidFill>
                      <a:srgbClr val="8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5" name=""/>
                    <p:cNvSpPr/>
                    <p:nvPr/>
                  </p:nvSpPr>
                  <p:spPr>
                    <a:xfrm>
                      <a:off x="2048760" y="5271840"/>
                      <a:ext cx="10440" cy="16200"/>
                    </a:xfrm>
                    <a:prstGeom prst="ellipse">
                      <a:avLst/>
                    </a:prstGeom>
                    <a:solidFill>
                      <a:srgbClr val="ff4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920" bIns="-34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>
                      <a:off x="2050920" y="5275440"/>
                      <a:ext cx="5760" cy="9720"/>
                    </a:xfrm>
                    <a:prstGeom prst="ellipse">
                      <a:avLst/>
                    </a:prstGeom>
                    <a:solidFill>
                      <a:srgbClr val="ff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1965240" y="5137200"/>
                    <a:ext cx="19440" cy="19800"/>
                    <a:chOff x="1965240" y="5137200"/>
                    <a:chExt cx="19440" cy="1980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>
                      <a:off x="1968480" y="5139000"/>
                      <a:ext cx="16200" cy="18000"/>
                    </a:xfrm>
                    <a:prstGeom prst="ellipse">
                      <a:avLst/>
                    </a:prstGeom>
                    <a:solidFill>
                      <a:srgbClr val="8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1965240" y="5137200"/>
                      <a:ext cx="15480" cy="18000"/>
                    </a:xfrm>
                    <a:prstGeom prst="ellipse">
                      <a:avLst/>
                    </a:prstGeom>
                    <a:solidFill>
                      <a:srgbClr val="ff4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1968480" y="5141160"/>
                      <a:ext cx="6840" cy="11880"/>
                    </a:xfrm>
                    <a:prstGeom prst="ellipse">
                      <a:avLst/>
                    </a:prstGeom>
                    <a:solidFill>
                      <a:srgbClr val="ff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1" name=""/>
                  <p:cNvGrpSpPr/>
                  <p:nvPr/>
                </p:nvGrpSpPr>
                <p:grpSpPr>
                  <a:xfrm>
                    <a:off x="1814400" y="5309280"/>
                    <a:ext cx="17640" cy="14400"/>
                    <a:chOff x="1814400" y="5309280"/>
                    <a:chExt cx="17640" cy="14400"/>
                  </a:xfrm>
                </p:grpSpPr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1818000" y="5311080"/>
                      <a:ext cx="14040" cy="12600"/>
                    </a:xfrm>
                    <a:prstGeom prst="ellipse">
                      <a:avLst/>
                    </a:prstGeom>
                    <a:solidFill>
                      <a:srgbClr val="8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1814400" y="5309280"/>
                      <a:ext cx="14040" cy="12600"/>
                    </a:xfrm>
                    <a:prstGeom prst="ellipse">
                      <a:avLst/>
                    </a:prstGeom>
                    <a:solidFill>
                      <a:srgbClr val="ff4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1816560" y="5312160"/>
                      <a:ext cx="6840" cy="6120"/>
                    </a:xfrm>
                    <a:prstGeom prst="ellipse">
                      <a:avLst/>
                    </a:prstGeom>
                    <a:solidFill>
                      <a:srgbClr val="ff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215" name=""/>
            <p:cNvGrpSpPr/>
            <p:nvPr/>
          </p:nvGrpSpPr>
          <p:grpSpPr>
            <a:xfrm>
              <a:off x="1311120" y="4572000"/>
              <a:ext cx="1279800" cy="1637280"/>
              <a:chOff x="1311120" y="4572000"/>
              <a:chExt cx="1279800" cy="1637280"/>
            </a:xfrm>
          </p:grpSpPr>
          <p:grpSp>
            <p:nvGrpSpPr>
              <p:cNvPr id="216" name=""/>
              <p:cNvGrpSpPr/>
              <p:nvPr/>
            </p:nvGrpSpPr>
            <p:grpSpPr>
              <a:xfrm>
                <a:off x="1311120" y="4924440"/>
                <a:ext cx="1279800" cy="1284840"/>
                <a:chOff x="1311120" y="4924440"/>
                <a:chExt cx="1279800" cy="1284840"/>
              </a:xfrm>
            </p:grpSpPr>
            <p:grpSp>
              <p:nvGrpSpPr>
                <p:cNvPr id="217" name=""/>
                <p:cNvGrpSpPr/>
                <p:nvPr/>
              </p:nvGrpSpPr>
              <p:grpSpPr>
                <a:xfrm>
                  <a:off x="2037600" y="5144760"/>
                  <a:ext cx="553320" cy="1059120"/>
                  <a:chOff x="2037600" y="5144760"/>
                  <a:chExt cx="553320" cy="1059120"/>
                </a:xfrm>
              </p:grpSpPr>
              <p:sp>
                <p:nvSpPr>
                  <p:cNvPr id="218" name=""/>
                  <p:cNvSpPr/>
                  <p:nvPr/>
                </p:nvSpPr>
                <p:spPr>
                  <a:xfrm flipH="1">
                    <a:off x="2037240" y="5144760"/>
                    <a:ext cx="553320" cy="1059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2" h="4372">
                        <a:moveTo>
                          <a:pt x="1806" y="4372"/>
                        </a:moveTo>
                        <a:lnTo>
                          <a:pt x="1469" y="4168"/>
                        </a:lnTo>
                        <a:lnTo>
                          <a:pt x="1211" y="3980"/>
                        </a:lnTo>
                        <a:lnTo>
                          <a:pt x="973" y="3729"/>
                        </a:lnTo>
                        <a:lnTo>
                          <a:pt x="774" y="3510"/>
                        </a:lnTo>
                        <a:lnTo>
                          <a:pt x="576" y="3259"/>
                        </a:lnTo>
                        <a:lnTo>
                          <a:pt x="437" y="2993"/>
                        </a:lnTo>
                        <a:lnTo>
                          <a:pt x="338" y="2664"/>
                        </a:lnTo>
                        <a:lnTo>
                          <a:pt x="238" y="2303"/>
                        </a:lnTo>
                        <a:lnTo>
                          <a:pt x="199" y="2052"/>
                        </a:lnTo>
                        <a:lnTo>
                          <a:pt x="179" y="1739"/>
                        </a:lnTo>
                        <a:lnTo>
                          <a:pt x="179" y="1410"/>
                        </a:lnTo>
                        <a:lnTo>
                          <a:pt x="179" y="1159"/>
                        </a:lnTo>
                        <a:lnTo>
                          <a:pt x="199" y="862"/>
                        </a:lnTo>
                        <a:lnTo>
                          <a:pt x="199" y="595"/>
                        </a:lnTo>
                        <a:lnTo>
                          <a:pt x="119" y="329"/>
                        </a:lnTo>
                        <a:lnTo>
                          <a:pt x="0" y="0"/>
                        </a:lnTo>
                        <a:lnTo>
                          <a:pt x="338" y="313"/>
                        </a:lnTo>
                        <a:lnTo>
                          <a:pt x="476" y="564"/>
                        </a:lnTo>
                        <a:lnTo>
                          <a:pt x="596" y="767"/>
                        </a:lnTo>
                        <a:lnTo>
                          <a:pt x="715" y="1081"/>
                        </a:lnTo>
                        <a:lnTo>
                          <a:pt x="794" y="1473"/>
                        </a:lnTo>
                        <a:lnTo>
                          <a:pt x="834" y="1786"/>
                        </a:lnTo>
                        <a:lnTo>
                          <a:pt x="834" y="2052"/>
                        </a:lnTo>
                        <a:lnTo>
                          <a:pt x="893" y="2397"/>
                        </a:lnTo>
                        <a:lnTo>
                          <a:pt x="953" y="2695"/>
                        </a:lnTo>
                        <a:lnTo>
                          <a:pt x="1092" y="2946"/>
                        </a:lnTo>
                        <a:lnTo>
                          <a:pt x="1250" y="3228"/>
                        </a:lnTo>
                        <a:lnTo>
                          <a:pt x="1469" y="3510"/>
                        </a:lnTo>
                        <a:lnTo>
                          <a:pt x="1707" y="3808"/>
                        </a:lnTo>
                        <a:lnTo>
                          <a:pt x="1965" y="4105"/>
                        </a:lnTo>
                        <a:lnTo>
                          <a:pt x="2302" y="4372"/>
                        </a:lnTo>
                        <a:lnTo>
                          <a:pt x="1806" y="4372"/>
                        </a:lnTo>
                        <a:close/>
                      </a:path>
                    </a:pathLst>
                  </a:custGeom>
                  <a:solidFill>
                    <a:srgbClr val="006000"/>
                  </a:solidFill>
                  <a:ln w="11160">
                    <a:solidFill>
                      <a:srgbClr val="004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 flipH="1">
                    <a:off x="2237760" y="5323320"/>
                    <a:ext cx="262440" cy="777960"/>
                  </a:xfrm>
                  <a:custGeom>
                    <a:avLst/>
                    <a:gdLst/>
                    <a:ahLst/>
                    <a:rect l="l" t="t" r="r" b="b"/>
                    <a:pathLst>
                      <a:path w="1092" h="3213">
                        <a:moveTo>
                          <a:pt x="0" y="0"/>
                        </a:moveTo>
                        <a:lnTo>
                          <a:pt x="40" y="267"/>
                        </a:lnTo>
                        <a:lnTo>
                          <a:pt x="60" y="502"/>
                        </a:lnTo>
                        <a:lnTo>
                          <a:pt x="60" y="784"/>
                        </a:lnTo>
                        <a:lnTo>
                          <a:pt x="60" y="1003"/>
                        </a:lnTo>
                        <a:lnTo>
                          <a:pt x="139" y="1379"/>
                        </a:lnTo>
                        <a:lnTo>
                          <a:pt x="238" y="1740"/>
                        </a:lnTo>
                        <a:lnTo>
                          <a:pt x="338" y="2053"/>
                        </a:lnTo>
                        <a:lnTo>
                          <a:pt x="457" y="2382"/>
                        </a:lnTo>
                        <a:lnTo>
                          <a:pt x="715" y="2821"/>
                        </a:lnTo>
                        <a:lnTo>
                          <a:pt x="1092" y="3213"/>
                        </a:lnTo>
                        <a:lnTo>
                          <a:pt x="794" y="2758"/>
                        </a:lnTo>
                        <a:lnTo>
                          <a:pt x="556" y="2429"/>
                        </a:lnTo>
                        <a:lnTo>
                          <a:pt x="357" y="1928"/>
                        </a:lnTo>
                        <a:lnTo>
                          <a:pt x="278" y="1599"/>
                        </a:lnTo>
                        <a:lnTo>
                          <a:pt x="159" y="1254"/>
                        </a:lnTo>
                        <a:lnTo>
                          <a:pt x="119" y="893"/>
                        </a:lnTo>
                        <a:lnTo>
                          <a:pt x="99" y="61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0" name=""/>
                <p:cNvSpPr/>
                <p:nvPr/>
              </p:nvSpPr>
              <p:spPr>
                <a:xfrm flipH="1">
                  <a:off x="2026800" y="5006160"/>
                  <a:ext cx="134280" cy="1195560"/>
                </a:xfrm>
                <a:custGeom>
                  <a:avLst/>
                  <a:gdLst/>
                  <a:ahLst/>
                  <a:rect l="l" t="t" r="r" b="b"/>
                  <a:pathLst>
                    <a:path w="561" h="4936">
                      <a:moveTo>
                        <a:pt x="283" y="0"/>
                      </a:moveTo>
                      <a:lnTo>
                        <a:pt x="238" y="119"/>
                      </a:lnTo>
                      <a:lnTo>
                        <a:pt x="189" y="287"/>
                      </a:lnTo>
                      <a:lnTo>
                        <a:pt x="144" y="455"/>
                      </a:lnTo>
                      <a:lnTo>
                        <a:pt x="109" y="628"/>
                      </a:lnTo>
                      <a:lnTo>
                        <a:pt x="85" y="824"/>
                      </a:lnTo>
                      <a:lnTo>
                        <a:pt x="65" y="1034"/>
                      </a:lnTo>
                      <a:lnTo>
                        <a:pt x="40" y="1298"/>
                      </a:lnTo>
                      <a:lnTo>
                        <a:pt x="25" y="1520"/>
                      </a:lnTo>
                      <a:lnTo>
                        <a:pt x="5" y="1927"/>
                      </a:lnTo>
                      <a:lnTo>
                        <a:pt x="0" y="2093"/>
                      </a:lnTo>
                      <a:lnTo>
                        <a:pt x="5" y="2272"/>
                      </a:lnTo>
                      <a:lnTo>
                        <a:pt x="5" y="2453"/>
                      </a:lnTo>
                      <a:lnTo>
                        <a:pt x="10" y="2661"/>
                      </a:lnTo>
                      <a:lnTo>
                        <a:pt x="35" y="2978"/>
                      </a:lnTo>
                      <a:lnTo>
                        <a:pt x="55" y="3178"/>
                      </a:lnTo>
                      <a:lnTo>
                        <a:pt x="65" y="3337"/>
                      </a:lnTo>
                      <a:lnTo>
                        <a:pt x="99" y="3593"/>
                      </a:lnTo>
                      <a:lnTo>
                        <a:pt x="129" y="3797"/>
                      </a:lnTo>
                      <a:lnTo>
                        <a:pt x="174" y="4032"/>
                      </a:lnTo>
                      <a:lnTo>
                        <a:pt x="223" y="4262"/>
                      </a:lnTo>
                      <a:lnTo>
                        <a:pt x="263" y="4444"/>
                      </a:lnTo>
                      <a:lnTo>
                        <a:pt x="293" y="4608"/>
                      </a:lnTo>
                      <a:lnTo>
                        <a:pt x="323" y="4753"/>
                      </a:lnTo>
                      <a:lnTo>
                        <a:pt x="362" y="4936"/>
                      </a:lnTo>
                      <a:lnTo>
                        <a:pt x="561" y="4936"/>
                      </a:lnTo>
                      <a:lnTo>
                        <a:pt x="531" y="4835"/>
                      </a:lnTo>
                      <a:lnTo>
                        <a:pt x="491" y="4671"/>
                      </a:lnTo>
                      <a:lnTo>
                        <a:pt x="462" y="4526"/>
                      </a:lnTo>
                      <a:lnTo>
                        <a:pt x="422" y="4356"/>
                      </a:lnTo>
                      <a:lnTo>
                        <a:pt x="387" y="4169"/>
                      </a:lnTo>
                      <a:lnTo>
                        <a:pt x="343" y="3949"/>
                      </a:lnTo>
                      <a:lnTo>
                        <a:pt x="308" y="3758"/>
                      </a:lnTo>
                      <a:lnTo>
                        <a:pt x="288" y="3593"/>
                      </a:lnTo>
                      <a:lnTo>
                        <a:pt x="248" y="3311"/>
                      </a:lnTo>
                      <a:lnTo>
                        <a:pt x="223" y="3119"/>
                      </a:lnTo>
                      <a:lnTo>
                        <a:pt x="204" y="2883"/>
                      </a:lnTo>
                      <a:lnTo>
                        <a:pt x="184" y="2732"/>
                      </a:lnTo>
                      <a:lnTo>
                        <a:pt x="174" y="2504"/>
                      </a:lnTo>
                      <a:lnTo>
                        <a:pt x="174" y="2234"/>
                      </a:lnTo>
                      <a:lnTo>
                        <a:pt x="174" y="2046"/>
                      </a:lnTo>
                      <a:lnTo>
                        <a:pt x="184" y="1833"/>
                      </a:lnTo>
                      <a:lnTo>
                        <a:pt x="204" y="1441"/>
                      </a:lnTo>
                      <a:lnTo>
                        <a:pt x="223" y="1145"/>
                      </a:lnTo>
                      <a:lnTo>
                        <a:pt x="243" y="893"/>
                      </a:lnTo>
                      <a:lnTo>
                        <a:pt x="253" y="738"/>
                      </a:lnTo>
                      <a:lnTo>
                        <a:pt x="288" y="569"/>
                      </a:lnTo>
                      <a:lnTo>
                        <a:pt x="328" y="389"/>
                      </a:lnTo>
                      <a:lnTo>
                        <a:pt x="377" y="209"/>
                      </a:lnTo>
                      <a:lnTo>
                        <a:pt x="442" y="15"/>
                      </a:lnTo>
                      <a:lnTo>
                        <a:pt x="283" y="0"/>
                      </a:lnTo>
                      <a:close/>
                    </a:path>
                  </a:pathLst>
                </a:custGeom>
                <a:solidFill>
                  <a:srgbClr val="006000"/>
                </a:solidFill>
                <a:ln w="11160">
                  <a:solidFill>
                    <a:srgbClr val="004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flipH="1">
                  <a:off x="1967760" y="4924440"/>
                  <a:ext cx="167760" cy="94320"/>
                </a:xfrm>
                <a:custGeom>
                  <a:avLst/>
                  <a:gdLst/>
                  <a:ahLst/>
                  <a:rect l="l" t="t" r="r" b="b"/>
                  <a:pathLst>
                    <a:path w="698" h="391">
                      <a:moveTo>
                        <a:pt x="0" y="0"/>
                      </a:moveTo>
                      <a:lnTo>
                        <a:pt x="14" y="63"/>
                      </a:lnTo>
                      <a:lnTo>
                        <a:pt x="67" y="122"/>
                      </a:lnTo>
                      <a:lnTo>
                        <a:pt x="159" y="151"/>
                      </a:lnTo>
                      <a:lnTo>
                        <a:pt x="200" y="162"/>
                      </a:lnTo>
                      <a:lnTo>
                        <a:pt x="191" y="215"/>
                      </a:lnTo>
                      <a:lnTo>
                        <a:pt x="169" y="296"/>
                      </a:lnTo>
                      <a:lnTo>
                        <a:pt x="154" y="360"/>
                      </a:lnTo>
                      <a:lnTo>
                        <a:pt x="209" y="377"/>
                      </a:lnTo>
                      <a:lnTo>
                        <a:pt x="306" y="387"/>
                      </a:lnTo>
                      <a:lnTo>
                        <a:pt x="333" y="391"/>
                      </a:lnTo>
                      <a:lnTo>
                        <a:pt x="364" y="292"/>
                      </a:lnTo>
                      <a:lnTo>
                        <a:pt x="387" y="211"/>
                      </a:lnTo>
                      <a:lnTo>
                        <a:pt x="406" y="195"/>
                      </a:lnTo>
                      <a:lnTo>
                        <a:pt x="516" y="192"/>
                      </a:lnTo>
                      <a:lnTo>
                        <a:pt x="606" y="170"/>
                      </a:lnTo>
                      <a:lnTo>
                        <a:pt x="672" y="126"/>
                      </a:lnTo>
                      <a:lnTo>
                        <a:pt x="690" y="88"/>
                      </a:lnTo>
                      <a:lnTo>
                        <a:pt x="698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6000"/>
                </a:solidFill>
                <a:ln w="11160">
                  <a:solidFill>
                    <a:srgbClr val="004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2" name=""/>
                <p:cNvGrpSpPr/>
                <p:nvPr/>
              </p:nvGrpSpPr>
              <p:grpSpPr>
                <a:xfrm>
                  <a:off x="1311120" y="5096880"/>
                  <a:ext cx="749160" cy="1112400"/>
                  <a:chOff x="1311120" y="5096880"/>
                  <a:chExt cx="749160" cy="1112400"/>
                </a:xfrm>
              </p:grpSpPr>
              <p:sp>
                <p:nvSpPr>
                  <p:cNvPr id="223" name=""/>
                  <p:cNvSpPr/>
                  <p:nvPr/>
                </p:nvSpPr>
                <p:spPr>
                  <a:xfrm flipH="1">
                    <a:off x="1310760" y="5096880"/>
                    <a:ext cx="749160" cy="1112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5" h="4592">
                        <a:moveTo>
                          <a:pt x="0" y="4592"/>
                        </a:moveTo>
                        <a:lnTo>
                          <a:pt x="99" y="3683"/>
                        </a:lnTo>
                        <a:lnTo>
                          <a:pt x="198" y="3307"/>
                        </a:lnTo>
                        <a:lnTo>
                          <a:pt x="258" y="2883"/>
                        </a:lnTo>
                        <a:lnTo>
                          <a:pt x="357" y="2429"/>
                        </a:lnTo>
                        <a:lnTo>
                          <a:pt x="496" y="2022"/>
                        </a:lnTo>
                        <a:lnTo>
                          <a:pt x="615" y="1693"/>
                        </a:lnTo>
                        <a:lnTo>
                          <a:pt x="793" y="1363"/>
                        </a:lnTo>
                        <a:lnTo>
                          <a:pt x="1031" y="1034"/>
                        </a:lnTo>
                        <a:lnTo>
                          <a:pt x="1250" y="784"/>
                        </a:lnTo>
                        <a:lnTo>
                          <a:pt x="1448" y="580"/>
                        </a:lnTo>
                        <a:lnTo>
                          <a:pt x="1666" y="423"/>
                        </a:lnTo>
                        <a:lnTo>
                          <a:pt x="2063" y="235"/>
                        </a:lnTo>
                        <a:lnTo>
                          <a:pt x="2520" y="94"/>
                        </a:lnTo>
                        <a:lnTo>
                          <a:pt x="3115" y="0"/>
                        </a:lnTo>
                        <a:lnTo>
                          <a:pt x="2817" y="204"/>
                        </a:lnTo>
                        <a:lnTo>
                          <a:pt x="2619" y="361"/>
                        </a:lnTo>
                        <a:lnTo>
                          <a:pt x="2401" y="580"/>
                        </a:lnTo>
                        <a:lnTo>
                          <a:pt x="2242" y="737"/>
                        </a:lnTo>
                        <a:lnTo>
                          <a:pt x="2024" y="925"/>
                        </a:lnTo>
                        <a:lnTo>
                          <a:pt x="1825" y="1113"/>
                        </a:lnTo>
                        <a:lnTo>
                          <a:pt x="1547" y="1379"/>
                        </a:lnTo>
                        <a:lnTo>
                          <a:pt x="1329" y="1583"/>
                        </a:lnTo>
                        <a:lnTo>
                          <a:pt x="1151" y="1818"/>
                        </a:lnTo>
                        <a:lnTo>
                          <a:pt x="972" y="2084"/>
                        </a:lnTo>
                        <a:lnTo>
                          <a:pt x="853" y="2319"/>
                        </a:lnTo>
                        <a:lnTo>
                          <a:pt x="674" y="2633"/>
                        </a:lnTo>
                        <a:lnTo>
                          <a:pt x="516" y="2993"/>
                        </a:lnTo>
                        <a:lnTo>
                          <a:pt x="377" y="3385"/>
                        </a:lnTo>
                        <a:lnTo>
                          <a:pt x="277" y="3808"/>
                        </a:lnTo>
                        <a:lnTo>
                          <a:pt x="198" y="4231"/>
                        </a:lnTo>
                        <a:lnTo>
                          <a:pt x="218" y="4592"/>
                        </a:lnTo>
                        <a:lnTo>
                          <a:pt x="0" y="4592"/>
                        </a:lnTo>
                        <a:close/>
                      </a:path>
                    </a:pathLst>
                  </a:custGeom>
                  <a:solidFill>
                    <a:srgbClr val="006000"/>
                  </a:solidFill>
                  <a:ln w="11160">
                    <a:solidFill>
                      <a:srgbClr val="004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 flipH="1">
                    <a:off x="1511640" y="5180040"/>
                    <a:ext cx="472320" cy="679680"/>
                  </a:xfrm>
                  <a:custGeom>
                    <a:avLst/>
                    <a:gdLst/>
                    <a:ahLst/>
                    <a:rect l="l" t="t" r="r" b="b"/>
                    <a:pathLst>
                      <a:path w="1965" h="2805">
                        <a:moveTo>
                          <a:pt x="1965" y="0"/>
                        </a:moveTo>
                        <a:lnTo>
                          <a:pt x="1687" y="172"/>
                        </a:lnTo>
                        <a:lnTo>
                          <a:pt x="1310" y="501"/>
                        </a:lnTo>
                        <a:lnTo>
                          <a:pt x="1032" y="783"/>
                        </a:lnTo>
                        <a:lnTo>
                          <a:pt x="734" y="1144"/>
                        </a:lnTo>
                        <a:lnTo>
                          <a:pt x="496" y="1551"/>
                        </a:lnTo>
                        <a:lnTo>
                          <a:pt x="278" y="1927"/>
                        </a:lnTo>
                        <a:lnTo>
                          <a:pt x="139" y="2366"/>
                        </a:lnTo>
                        <a:lnTo>
                          <a:pt x="0" y="2805"/>
                        </a:lnTo>
                        <a:lnTo>
                          <a:pt x="139" y="2162"/>
                        </a:lnTo>
                        <a:lnTo>
                          <a:pt x="357" y="1614"/>
                        </a:lnTo>
                        <a:lnTo>
                          <a:pt x="615" y="1160"/>
                        </a:lnTo>
                        <a:lnTo>
                          <a:pt x="913" y="815"/>
                        </a:lnTo>
                        <a:lnTo>
                          <a:pt x="1191" y="517"/>
                        </a:lnTo>
                        <a:lnTo>
                          <a:pt x="1965" y="0"/>
                        </a:lnTo>
                        <a:close/>
                      </a:path>
                    </a:pathLst>
                  </a:custGeom>
                  <a:solidFill>
                    <a:srgbClr val="0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5" name=""/>
                <p:cNvGrpSpPr/>
                <p:nvPr/>
              </p:nvGrpSpPr>
              <p:grpSpPr>
                <a:xfrm>
                  <a:off x="2047320" y="5190120"/>
                  <a:ext cx="334080" cy="1017360"/>
                  <a:chOff x="2047320" y="5190120"/>
                  <a:chExt cx="334080" cy="1017360"/>
                </a:xfrm>
              </p:grpSpPr>
              <p:sp>
                <p:nvSpPr>
                  <p:cNvPr id="226" name=""/>
                  <p:cNvSpPr/>
                  <p:nvPr/>
                </p:nvSpPr>
                <p:spPr>
                  <a:xfrm flipH="1">
                    <a:off x="2047320" y="5190120"/>
                    <a:ext cx="334080" cy="10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9" h="4199">
                        <a:moveTo>
                          <a:pt x="1389" y="4199"/>
                        </a:moveTo>
                        <a:lnTo>
                          <a:pt x="1290" y="3949"/>
                        </a:lnTo>
                        <a:lnTo>
                          <a:pt x="1132" y="3698"/>
                        </a:lnTo>
                        <a:lnTo>
                          <a:pt x="993" y="3416"/>
                        </a:lnTo>
                        <a:lnTo>
                          <a:pt x="874" y="3118"/>
                        </a:lnTo>
                        <a:lnTo>
                          <a:pt x="794" y="2820"/>
                        </a:lnTo>
                        <a:lnTo>
                          <a:pt x="735" y="2538"/>
                        </a:lnTo>
                        <a:lnTo>
                          <a:pt x="715" y="2303"/>
                        </a:lnTo>
                        <a:lnTo>
                          <a:pt x="635" y="1943"/>
                        </a:lnTo>
                        <a:lnTo>
                          <a:pt x="596" y="1551"/>
                        </a:lnTo>
                        <a:lnTo>
                          <a:pt x="596" y="1191"/>
                        </a:lnTo>
                        <a:lnTo>
                          <a:pt x="596" y="830"/>
                        </a:lnTo>
                        <a:lnTo>
                          <a:pt x="616" y="517"/>
                        </a:lnTo>
                        <a:lnTo>
                          <a:pt x="675" y="0"/>
                        </a:lnTo>
                        <a:lnTo>
                          <a:pt x="516" y="313"/>
                        </a:lnTo>
                        <a:lnTo>
                          <a:pt x="377" y="642"/>
                        </a:lnTo>
                        <a:lnTo>
                          <a:pt x="239" y="940"/>
                        </a:lnTo>
                        <a:lnTo>
                          <a:pt x="119" y="1269"/>
                        </a:lnTo>
                        <a:lnTo>
                          <a:pt x="80" y="1535"/>
                        </a:lnTo>
                        <a:lnTo>
                          <a:pt x="40" y="1755"/>
                        </a:lnTo>
                        <a:lnTo>
                          <a:pt x="0" y="2037"/>
                        </a:lnTo>
                        <a:lnTo>
                          <a:pt x="20" y="2397"/>
                        </a:lnTo>
                        <a:lnTo>
                          <a:pt x="80" y="2711"/>
                        </a:lnTo>
                        <a:lnTo>
                          <a:pt x="139" y="2961"/>
                        </a:lnTo>
                        <a:lnTo>
                          <a:pt x="219" y="3181"/>
                        </a:lnTo>
                        <a:lnTo>
                          <a:pt x="318" y="3431"/>
                        </a:lnTo>
                        <a:lnTo>
                          <a:pt x="457" y="3698"/>
                        </a:lnTo>
                        <a:lnTo>
                          <a:pt x="616" y="3886"/>
                        </a:lnTo>
                        <a:lnTo>
                          <a:pt x="754" y="4043"/>
                        </a:lnTo>
                        <a:lnTo>
                          <a:pt x="933" y="4199"/>
                        </a:lnTo>
                        <a:lnTo>
                          <a:pt x="1389" y="4199"/>
                        </a:lnTo>
                        <a:close/>
                      </a:path>
                    </a:pathLst>
                  </a:custGeom>
                  <a:solidFill>
                    <a:srgbClr val="006000"/>
                  </a:solidFill>
                  <a:ln w="11160">
                    <a:solidFill>
                      <a:srgbClr val="004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 flipH="1">
                    <a:off x="2138040" y="5490000"/>
                    <a:ext cx="181440" cy="68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54" h="2820">
                        <a:moveTo>
                          <a:pt x="80" y="0"/>
                        </a:moveTo>
                        <a:lnTo>
                          <a:pt x="0" y="376"/>
                        </a:lnTo>
                        <a:lnTo>
                          <a:pt x="20" y="799"/>
                        </a:lnTo>
                        <a:lnTo>
                          <a:pt x="100" y="1285"/>
                        </a:lnTo>
                        <a:lnTo>
                          <a:pt x="199" y="1786"/>
                        </a:lnTo>
                        <a:lnTo>
                          <a:pt x="358" y="2209"/>
                        </a:lnTo>
                        <a:lnTo>
                          <a:pt x="616" y="2617"/>
                        </a:lnTo>
                        <a:lnTo>
                          <a:pt x="754" y="2820"/>
                        </a:lnTo>
                        <a:lnTo>
                          <a:pt x="576" y="2444"/>
                        </a:lnTo>
                        <a:lnTo>
                          <a:pt x="397" y="2084"/>
                        </a:lnTo>
                        <a:lnTo>
                          <a:pt x="258" y="1645"/>
                        </a:lnTo>
                        <a:lnTo>
                          <a:pt x="159" y="1238"/>
                        </a:lnTo>
                        <a:lnTo>
                          <a:pt x="80" y="767"/>
                        </a:lnTo>
                        <a:lnTo>
                          <a:pt x="20" y="485"/>
                        </a:lnTo>
                        <a:lnTo>
                          <a:pt x="80" y="0"/>
                        </a:lnTo>
                        <a:close/>
                      </a:path>
                    </a:pathLst>
                  </a:custGeom>
                  <a:solidFill>
                    <a:srgbClr val="0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8" name=""/>
              <p:cNvGrpSpPr/>
              <p:nvPr/>
            </p:nvGrpSpPr>
            <p:grpSpPr>
              <a:xfrm>
                <a:off x="1842480" y="4572000"/>
                <a:ext cx="369000" cy="371880"/>
                <a:chOff x="1842480" y="4572000"/>
                <a:chExt cx="369000" cy="371880"/>
              </a:xfrm>
            </p:grpSpPr>
            <p:grpSp>
              <p:nvGrpSpPr>
                <p:cNvPr id="229" name=""/>
                <p:cNvGrpSpPr/>
                <p:nvPr/>
              </p:nvGrpSpPr>
              <p:grpSpPr>
                <a:xfrm>
                  <a:off x="1923120" y="4572000"/>
                  <a:ext cx="157320" cy="157320"/>
                  <a:chOff x="1923120" y="4572000"/>
                  <a:chExt cx="157320" cy="157320"/>
                </a:xfrm>
              </p:grpSpPr>
              <p:sp>
                <p:nvSpPr>
                  <p:cNvPr id="230" name=""/>
                  <p:cNvSpPr/>
                  <p:nvPr/>
                </p:nvSpPr>
                <p:spPr>
                  <a:xfrm flipH="1">
                    <a:off x="1922760" y="4572000"/>
                    <a:ext cx="157320" cy="157320"/>
                  </a:xfrm>
                  <a:custGeom>
                    <a:avLst/>
                    <a:gdLst/>
                    <a:ahLst/>
                    <a:rect l="l" t="t" r="r" b="b"/>
                    <a:pathLst>
                      <a:path w="654" h="651">
                        <a:moveTo>
                          <a:pt x="0" y="314"/>
                        </a:moveTo>
                        <a:lnTo>
                          <a:pt x="49" y="236"/>
                        </a:lnTo>
                        <a:lnTo>
                          <a:pt x="119" y="173"/>
                        </a:lnTo>
                        <a:lnTo>
                          <a:pt x="258" y="94"/>
                        </a:lnTo>
                        <a:lnTo>
                          <a:pt x="387" y="47"/>
                        </a:lnTo>
                        <a:lnTo>
                          <a:pt x="525" y="0"/>
                        </a:lnTo>
                        <a:lnTo>
                          <a:pt x="545" y="87"/>
                        </a:lnTo>
                        <a:lnTo>
                          <a:pt x="565" y="173"/>
                        </a:lnTo>
                        <a:lnTo>
                          <a:pt x="605" y="243"/>
                        </a:lnTo>
                        <a:lnTo>
                          <a:pt x="654" y="361"/>
                        </a:lnTo>
                        <a:lnTo>
                          <a:pt x="635" y="510"/>
                        </a:lnTo>
                        <a:lnTo>
                          <a:pt x="208" y="651"/>
                        </a:lnTo>
                        <a:lnTo>
                          <a:pt x="0" y="314"/>
                        </a:lnTo>
                        <a:close/>
                      </a:path>
                    </a:pathLst>
                  </a:custGeom>
                  <a:solidFill>
                    <a:srgbClr val="c00000"/>
                  </a:solidFill>
                  <a:ln w="11160">
                    <a:solidFill>
                      <a:srgbClr val="8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 flipH="1">
                    <a:off x="1964160" y="4583520"/>
                    <a:ext cx="1044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7" h="400">
                        <a:moveTo>
                          <a:pt x="124" y="130"/>
                        </a:moveTo>
                        <a:lnTo>
                          <a:pt x="214" y="83"/>
                        </a:lnTo>
                        <a:lnTo>
                          <a:pt x="283" y="47"/>
                        </a:lnTo>
                        <a:lnTo>
                          <a:pt x="367" y="20"/>
                        </a:lnTo>
                        <a:lnTo>
                          <a:pt x="437" y="0"/>
                        </a:lnTo>
                        <a:lnTo>
                          <a:pt x="372" y="91"/>
                        </a:lnTo>
                        <a:lnTo>
                          <a:pt x="333" y="173"/>
                        </a:lnTo>
                        <a:lnTo>
                          <a:pt x="303" y="239"/>
                        </a:lnTo>
                        <a:lnTo>
                          <a:pt x="278" y="318"/>
                        </a:lnTo>
                        <a:lnTo>
                          <a:pt x="228" y="400"/>
                        </a:lnTo>
                        <a:lnTo>
                          <a:pt x="0" y="204"/>
                        </a:lnTo>
                        <a:lnTo>
                          <a:pt x="124" y="130"/>
                        </a:lnTo>
                        <a:close/>
                      </a:path>
                    </a:pathLst>
                  </a:custGeom>
                  <a:solidFill>
                    <a:srgbClr val="ff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 flipH="1">
                    <a:off x="1927800" y="4589640"/>
                    <a:ext cx="7056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93" h="368">
                        <a:moveTo>
                          <a:pt x="154" y="0"/>
                        </a:moveTo>
                        <a:lnTo>
                          <a:pt x="89" y="106"/>
                        </a:lnTo>
                        <a:lnTo>
                          <a:pt x="49" y="188"/>
                        </a:lnTo>
                        <a:lnTo>
                          <a:pt x="35" y="255"/>
                        </a:lnTo>
                        <a:lnTo>
                          <a:pt x="0" y="368"/>
                        </a:lnTo>
                        <a:lnTo>
                          <a:pt x="258" y="349"/>
                        </a:lnTo>
                        <a:lnTo>
                          <a:pt x="293" y="219"/>
                        </a:lnTo>
                        <a:lnTo>
                          <a:pt x="218" y="172"/>
                        </a:lnTo>
                        <a:lnTo>
                          <a:pt x="178" y="106"/>
                        </a:lnTo>
                        <a:lnTo>
                          <a:pt x="164" y="70"/>
                        </a:lnTo>
                        <a:lnTo>
                          <a:pt x="154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840" bIns="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3" name=""/>
                <p:cNvSpPr/>
                <p:nvPr/>
              </p:nvSpPr>
              <p:spPr>
                <a:xfrm flipH="1">
                  <a:off x="1956600" y="4590720"/>
                  <a:ext cx="254880" cy="349200"/>
                </a:xfrm>
                <a:custGeom>
                  <a:avLst/>
                  <a:gdLst/>
                  <a:ahLst/>
                  <a:rect l="l" t="t" r="r" b="b"/>
                  <a:pathLst>
                    <a:path w="1062" h="1441">
                      <a:moveTo>
                        <a:pt x="258" y="78"/>
                      </a:moveTo>
                      <a:lnTo>
                        <a:pt x="298" y="172"/>
                      </a:lnTo>
                      <a:lnTo>
                        <a:pt x="302" y="235"/>
                      </a:lnTo>
                      <a:lnTo>
                        <a:pt x="288" y="298"/>
                      </a:lnTo>
                      <a:lnTo>
                        <a:pt x="268" y="360"/>
                      </a:lnTo>
                      <a:lnTo>
                        <a:pt x="238" y="419"/>
                      </a:lnTo>
                      <a:lnTo>
                        <a:pt x="193" y="497"/>
                      </a:lnTo>
                      <a:lnTo>
                        <a:pt x="159" y="564"/>
                      </a:lnTo>
                      <a:lnTo>
                        <a:pt x="109" y="634"/>
                      </a:lnTo>
                      <a:lnTo>
                        <a:pt x="59" y="744"/>
                      </a:lnTo>
                      <a:lnTo>
                        <a:pt x="25" y="834"/>
                      </a:lnTo>
                      <a:lnTo>
                        <a:pt x="5" y="913"/>
                      </a:lnTo>
                      <a:lnTo>
                        <a:pt x="0" y="1007"/>
                      </a:lnTo>
                      <a:lnTo>
                        <a:pt x="5" y="1073"/>
                      </a:lnTo>
                      <a:lnTo>
                        <a:pt x="25" y="1155"/>
                      </a:lnTo>
                      <a:lnTo>
                        <a:pt x="64" y="1222"/>
                      </a:lnTo>
                      <a:lnTo>
                        <a:pt x="99" y="1277"/>
                      </a:lnTo>
                      <a:lnTo>
                        <a:pt x="188" y="1347"/>
                      </a:lnTo>
                      <a:lnTo>
                        <a:pt x="298" y="1394"/>
                      </a:lnTo>
                      <a:lnTo>
                        <a:pt x="476" y="1418"/>
                      </a:lnTo>
                      <a:lnTo>
                        <a:pt x="704" y="1441"/>
                      </a:lnTo>
                      <a:lnTo>
                        <a:pt x="853" y="1402"/>
                      </a:lnTo>
                      <a:lnTo>
                        <a:pt x="952" y="1332"/>
                      </a:lnTo>
                      <a:lnTo>
                        <a:pt x="1012" y="1222"/>
                      </a:lnTo>
                      <a:lnTo>
                        <a:pt x="1042" y="1097"/>
                      </a:lnTo>
                      <a:lnTo>
                        <a:pt x="1062" y="987"/>
                      </a:lnTo>
                      <a:lnTo>
                        <a:pt x="1062" y="869"/>
                      </a:lnTo>
                      <a:lnTo>
                        <a:pt x="1052" y="775"/>
                      </a:lnTo>
                      <a:lnTo>
                        <a:pt x="1042" y="666"/>
                      </a:lnTo>
                      <a:lnTo>
                        <a:pt x="1022" y="564"/>
                      </a:lnTo>
                      <a:lnTo>
                        <a:pt x="992" y="439"/>
                      </a:lnTo>
                      <a:lnTo>
                        <a:pt x="933" y="345"/>
                      </a:lnTo>
                      <a:lnTo>
                        <a:pt x="863" y="243"/>
                      </a:lnTo>
                      <a:lnTo>
                        <a:pt x="774" y="164"/>
                      </a:lnTo>
                      <a:lnTo>
                        <a:pt x="684" y="117"/>
                      </a:lnTo>
                      <a:lnTo>
                        <a:pt x="575" y="62"/>
                      </a:lnTo>
                      <a:lnTo>
                        <a:pt x="461" y="35"/>
                      </a:lnTo>
                      <a:lnTo>
                        <a:pt x="357" y="15"/>
                      </a:lnTo>
                      <a:lnTo>
                        <a:pt x="218" y="0"/>
                      </a:lnTo>
                      <a:lnTo>
                        <a:pt x="258" y="78"/>
                      </a:lnTo>
                      <a:close/>
                    </a:path>
                  </a:pathLst>
                </a:custGeom>
                <a:solidFill>
                  <a:srgbClr val="e00000"/>
                </a:solidFill>
                <a:ln w="111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 flipH="1">
                  <a:off x="1842480" y="4590720"/>
                  <a:ext cx="252000" cy="353160"/>
                </a:xfrm>
                <a:custGeom>
                  <a:avLst/>
                  <a:gdLst/>
                  <a:ahLst/>
                  <a:rect l="l" t="t" r="r" b="b"/>
                  <a:pathLst>
                    <a:path w="1052" h="1457">
                      <a:moveTo>
                        <a:pt x="357" y="446"/>
                      </a:moveTo>
                      <a:lnTo>
                        <a:pt x="447" y="329"/>
                      </a:lnTo>
                      <a:lnTo>
                        <a:pt x="526" y="251"/>
                      </a:lnTo>
                      <a:lnTo>
                        <a:pt x="625" y="180"/>
                      </a:lnTo>
                      <a:lnTo>
                        <a:pt x="734" y="117"/>
                      </a:lnTo>
                      <a:lnTo>
                        <a:pt x="824" y="86"/>
                      </a:lnTo>
                      <a:lnTo>
                        <a:pt x="898" y="59"/>
                      </a:lnTo>
                      <a:lnTo>
                        <a:pt x="962" y="35"/>
                      </a:lnTo>
                      <a:lnTo>
                        <a:pt x="1052" y="0"/>
                      </a:lnTo>
                      <a:lnTo>
                        <a:pt x="992" y="109"/>
                      </a:lnTo>
                      <a:lnTo>
                        <a:pt x="953" y="196"/>
                      </a:lnTo>
                      <a:lnTo>
                        <a:pt x="953" y="290"/>
                      </a:lnTo>
                      <a:lnTo>
                        <a:pt x="953" y="384"/>
                      </a:lnTo>
                      <a:lnTo>
                        <a:pt x="962" y="470"/>
                      </a:lnTo>
                      <a:lnTo>
                        <a:pt x="982" y="572"/>
                      </a:lnTo>
                      <a:lnTo>
                        <a:pt x="1012" y="666"/>
                      </a:lnTo>
                      <a:lnTo>
                        <a:pt x="1032" y="760"/>
                      </a:lnTo>
                      <a:lnTo>
                        <a:pt x="1052" y="846"/>
                      </a:lnTo>
                      <a:lnTo>
                        <a:pt x="1052" y="932"/>
                      </a:lnTo>
                      <a:lnTo>
                        <a:pt x="1042" y="1018"/>
                      </a:lnTo>
                      <a:lnTo>
                        <a:pt x="1012" y="1112"/>
                      </a:lnTo>
                      <a:lnTo>
                        <a:pt x="972" y="1206"/>
                      </a:lnTo>
                      <a:lnTo>
                        <a:pt x="933" y="1277"/>
                      </a:lnTo>
                      <a:lnTo>
                        <a:pt x="834" y="1379"/>
                      </a:lnTo>
                      <a:lnTo>
                        <a:pt x="724" y="1418"/>
                      </a:lnTo>
                      <a:lnTo>
                        <a:pt x="585" y="1449"/>
                      </a:lnTo>
                      <a:lnTo>
                        <a:pt x="427" y="1457"/>
                      </a:lnTo>
                      <a:lnTo>
                        <a:pt x="327" y="1457"/>
                      </a:lnTo>
                      <a:lnTo>
                        <a:pt x="179" y="1438"/>
                      </a:lnTo>
                      <a:lnTo>
                        <a:pt x="104" y="1398"/>
                      </a:lnTo>
                      <a:lnTo>
                        <a:pt x="40" y="1332"/>
                      </a:lnTo>
                      <a:lnTo>
                        <a:pt x="10" y="1238"/>
                      </a:lnTo>
                      <a:lnTo>
                        <a:pt x="0" y="1159"/>
                      </a:lnTo>
                      <a:lnTo>
                        <a:pt x="0" y="1034"/>
                      </a:lnTo>
                      <a:lnTo>
                        <a:pt x="40" y="924"/>
                      </a:lnTo>
                      <a:lnTo>
                        <a:pt x="119" y="791"/>
                      </a:lnTo>
                      <a:lnTo>
                        <a:pt x="198" y="666"/>
                      </a:lnTo>
                      <a:lnTo>
                        <a:pt x="268" y="556"/>
                      </a:lnTo>
                      <a:lnTo>
                        <a:pt x="357" y="446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111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 flipH="1">
                  <a:off x="2135160" y="4716360"/>
                  <a:ext cx="59400" cy="204840"/>
                </a:xfrm>
                <a:custGeom>
                  <a:avLst/>
                  <a:gdLst/>
                  <a:ahLst/>
                  <a:rect l="l" t="t" r="r" b="b"/>
                  <a:pathLst>
                    <a:path w="248" h="846">
                      <a:moveTo>
                        <a:pt x="139" y="0"/>
                      </a:moveTo>
                      <a:lnTo>
                        <a:pt x="60" y="188"/>
                      </a:lnTo>
                      <a:lnTo>
                        <a:pt x="20" y="313"/>
                      </a:lnTo>
                      <a:lnTo>
                        <a:pt x="0" y="470"/>
                      </a:lnTo>
                      <a:lnTo>
                        <a:pt x="10" y="611"/>
                      </a:lnTo>
                      <a:lnTo>
                        <a:pt x="70" y="729"/>
                      </a:lnTo>
                      <a:lnTo>
                        <a:pt x="159" y="807"/>
                      </a:lnTo>
                      <a:lnTo>
                        <a:pt x="248" y="846"/>
                      </a:lnTo>
                      <a:lnTo>
                        <a:pt x="119" y="666"/>
                      </a:lnTo>
                      <a:lnTo>
                        <a:pt x="80" y="517"/>
                      </a:lnTo>
                      <a:lnTo>
                        <a:pt x="90" y="360"/>
                      </a:lnTo>
                      <a:lnTo>
                        <a:pt x="90" y="251"/>
                      </a:lnTo>
                      <a:lnTo>
                        <a:pt x="109" y="141"/>
                      </a:lnTo>
                      <a:lnTo>
                        <a:pt x="139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>
                  <a:off x="1851480" y="4602240"/>
                  <a:ext cx="146880" cy="97560"/>
                </a:xfrm>
                <a:custGeom>
                  <a:avLst/>
                  <a:gdLst/>
                  <a:ahLst/>
                  <a:rect l="l" t="t" r="r" b="b"/>
                  <a:pathLst>
                    <a:path w="610" h="403">
                      <a:moveTo>
                        <a:pt x="546" y="27"/>
                      </a:moveTo>
                      <a:lnTo>
                        <a:pt x="481" y="47"/>
                      </a:lnTo>
                      <a:lnTo>
                        <a:pt x="407" y="74"/>
                      </a:lnTo>
                      <a:lnTo>
                        <a:pt x="337" y="110"/>
                      </a:lnTo>
                      <a:lnTo>
                        <a:pt x="283" y="141"/>
                      </a:lnTo>
                      <a:lnTo>
                        <a:pt x="213" y="188"/>
                      </a:lnTo>
                      <a:lnTo>
                        <a:pt x="149" y="235"/>
                      </a:lnTo>
                      <a:lnTo>
                        <a:pt x="69" y="313"/>
                      </a:lnTo>
                      <a:lnTo>
                        <a:pt x="0" y="403"/>
                      </a:lnTo>
                      <a:lnTo>
                        <a:pt x="104" y="356"/>
                      </a:lnTo>
                      <a:lnTo>
                        <a:pt x="188" y="317"/>
                      </a:lnTo>
                      <a:lnTo>
                        <a:pt x="263" y="290"/>
                      </a:lnTo>
                      <a:lnTo>
                        <a:pt x="342" y="266"/>
                      </a:lnTo>
                      <a:lnTo>
                        <a:pt x="407" y="251"/>
                      </a:lnTo>
                      <a:lnTo>
                        <a:pt x="461" y="231"/>
                      </a:lnTo>
                      <a:lnTo>
                        <a:pt x="501" y="196"/>
                      </a:lnTo>
                      <a:lnTo>
                        <a:pt x="531" y="137"/>
                      </a:lnTo>
                      <a:lnTo>
                        <a:pt x="551" y="90"/>
                      </a:lnTo>
                      <a:lnTo>
                        <a:pt x="610" y="0"/>
                      </a:lnTo>
                      <a:lnTo>
                        <a:pt x="546" y="27"/>
                      </a:ln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>
                  <a:off x="2030400" y="4600440"/>
                  <a:ext cx="112680" cy="59400"/>
                </a:xfrm>
                <a:custGeom>
                  <a:avLst/>
                  <a:gdLst/>
                  <a:ahLst/>
                  <a:rect l="l" t="t" r="r" b="b"/>
                  <a:pathLst>
                    <a:path w="471" h="247">
                      <a:moveTo>
                        <a:pt x="0" y="0"/>
                      </a:moveTo>
                      <a:lnTo>
                        <a:pt x="89" y="12"/>
                      </a:lnTo>
                      <a:lnTo>
                        <a:pt x="193" y="39"/>
                      </a:lnTo>
                      <a:lnTo>
                        <a:pt x="332" y="98"/>
                      </a:lnTo>
                      <a:lnTo>
                        <a:pt x="387" y="145"/>
                      </a:lnTo>
                      <a:lnTo>
                        <a:pt x="441" y="208"/>
                      </a:lnTo>
                      <a:lnTo>
                        <a:pt x="471" y="247"/>
                      </a:lnTo>
                      <a:lnTo>
                        <a:pt x="337" y="215"/>
                      </a:lnTo>
                      <a:lnTo>
                        <a:pt x="173" y="208"/>
                      </a:lnTo>
                      <a:lnTo>
                        <a:pt x="104" y="192"/>
                      </a:lnTo>
                      <a:lnTo>
                        <a:pt x="59" y="145"/>
                      </a:lnTo>
                      <a:lnTo>
                        <a:pt x="15" y="7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flipH="1">
                  <a:off x="2044440" y="4786560"/>
                  <a:ext cx="40680" cy="145080"/>
                </a:xfrm>
                <a:custGeom>
                  <a:avLst/>
                  <a:gdLst/>
                  <a:ahLst/>
                  <a:rect l="l" t="t" r="r" b="b"/>
                  <a:pathLst>
                    <a:path w="168" h="599">
                      <a:moveTo>
                        <a:pt x="144" y="0"/>
                      </a:moveTo>
                      <a:lnTo>
                        <a:pt x="54" y="113"/>
                      </a:lnTo>
                      <a:lnTo>
                        <a:pt x="20" y="188"/>
                      </a:lnTo>
                      <a:lnTo>
                        <a:pt x="0" y="270"/>
                      </a:lnTo>
                      <a:lnTo>
                        <a:pt x="0" y="341"/>
                      </a:lnTo>
                      <a:lnTo>
                        <a:pt x="10" y="407"/>
                      </a:lnTo>
                      <a:lnTo>
                        <a:pt x="25" y="474"/>
                      </a:lnTo>
                      <a:lnTo>
                        <a:pt x="54" y="509"/>
                      </a:lnTo>
                      <a:lnTo>
                        <a:pt x="94" y="560"/>
                      </a:lnTo>
                      <a:lnTo>
                        <a:pt x="168" y="599"/>
                      </a:lnTo>
                      <a:lnTo>
                        <a:pt x="119" y="505"/>
                      </a:lnTo>
                      <a:lnTo>
                        <a:pt x="99" y="450"/>
                      </a:lnTo>
                      <a:lnTo>
                        <a:pt x="84" y="392"/>
                      </a:lnTo>
                      <a:lnTo>
                        <a:pt x="79" y="337"/>
                      </a:lnTo>
                      <a:lnTo>
                        <a:pt x="84" y="278"/>
                      </a:lnTo>
                      <a:lnTo>
                        <a:pt x="84" y="219"/>
                      </a:lnTo>
                      <a:lnTo>
                        <a:pt x="104" y="137"/>
                      </a:lnTo>
                      <a:lnTo>
                        <a:pt x="144" y="0"/>
                      </a:lnTo>
                      <a:close/>
                    </a:path>
                  </a:pathLst>
                </a:custGeom>
                <a:solidFill>
                  <a:srgbClr val="ff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flipH="1">
                  <a:off x="1850400" y="4723200"/>
                  <a:ext cx="49680" cy="187920"/>
                </a:xfrm>
                <a:custGeom>
                  <a:avLst/>
                  <a:gdLst/>
                  <a:ahLst/>
                  <a:rect l="l" t="t" r="r" b="b"/>
                  <a:pathLst>
                    <a:path w="208" h="776">
                      <a:moveTo>
                        <a:pt x="114" y="0"/>
                      </a:moveTo>
                      <a:lnTo>
                        <a:pt x="178" y="153"/>
                      </a:lnTo>
                      <a:lnTo>
                        <a:pt x="203" y="259"/>
                      </a:lnTo>
                      <a:lnTo>
                        <a:pt x="208" y="373"/>
                      </a:lnTo>
                      <a:lnTo>
                        <a:pt x="193" y="498"/>
                      </a:lnTo>
                      <a:lnTo>
                        <a:pt x="144" y="619"/>
                      </a:lnTo>
                      <a:lnTo>
                        <a:pt x="74" y="729"/>
                      </a:lnTo>
                      <a:lnTo>
                        <a:pt x="0" y="776"/>
                      </a:lnTo>
                      <a:lnTo>
                        <a:pt x="79" y="639"/>
                      </a:lnTo>
                      <a:lnTo>
                        <a:pt x="119" y="431"/>
                      </a:lnTo>
                      <a:lnTo>
                        <a:pt x="119" y="263"/>
                      </a:lnTo>
                      <a:lnTo>
                        <a:pt x="119" y="145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solidFill>
                  <a:srgbClr val="ff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0" name=""/>
                <p:cNvGrpSpPr/>
                <p:nvPr/>
              </p:nvGrpSpPr>
              <p:grpSpPr>
                <a:xfrm>
                  <a:off x="1961640" y="4728240"/>
                  <a:ext cx="181800" cy="171360"/>
                  <a:chOff x="1961640" y="4728240"/>
                  <a:chExt cx="181800" cy="17136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961640" y="4730040"/>
                    <a:ext cx="178560" cy="169560"/>
                    <a:chOff x="1961640" y="4730040"/>
                    <a:chExt cx="178560" cy="1695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 flipH="1">
                      <a:off x="1977840" y="4833720"/>
                      <a:ext cx="19080" cy="14760"/>
                    </a:xfrm>
                    <a:prstGeom prst="ellipse">
                      <a:avLst/>
                    </a:prstGeom>
                    <a:solidFill>
                      <a:srgbClr val="8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360" bIns="-36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>
                      <a:off x="1961280" y="4786200"/>
                      <a:ext cx="10440" cy="11160"/>
                    </a:xfrm>
                    <a:prstGeom prst="ellipse">
                      <a:avLst/>
                    </a:prstGeom>
                    <a:solidFill>
                      <a:srgbClr val="8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 flipH="1">
                      <a:off x="2110320" y="4730040"/>
                      <a:ext cx="10440" cy="16200"/>
                    </a:xfrm>
                    <a:prstGeom prst="ellipse">
                      <a:avLst/>
                    </a:prstGeom>
                    <a:solidFill>
                      <a:srgbClr val="8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920" bIns="-34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>
                      <a:off x="2124360" y="4830840"/>
                      <a:ext cx="15480" cy="17640"/>
                    </a:xfrm>
                    <a:prstGeom prst="ellipse">
                      <a:avLst/>
                    </a:prstGeom>
                    <a:solidFill>
                      <a:srgbClr val="8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 flipH="1">
                      <a:off x="1970280" y="4887000"/>
                      <a:ext cx="13680" cy="12600"/>
                    </a:xfrm>
                    <a:prstGeom prst="ellipse">
                      <a:avLst/>
                    </a:prstGeom>
                    <a:solidFill>
                      <a:srgbClr val="8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7" name=""/>
                  <p:cNvGrpSpPr/>
                  <p:nvPr/>
                </p:nvGrpSpPr>
                <p:grpSpPr>
                  <a:xfrm>
                    <a:off x="1964880" y="4728240"/>
                    <a:ext cx="178560" cy="169200"/>
                    <a:chOff x="1964880" y="4728240"/>
                    <a:chExt cx="178560" cy="169200"/>
                  </a:xfrm>
                </p:grpSpPr>
                <p:sp>
                  <p:nvSpPr>
                    <p:cNvPr id="248" name=""/>
                    <p:cNvSpPr/>
                    <p:nvPr/>
                  </p:nvSpPr>
                  <p:spPr>
                    <a:xfrm flipH="1">
                      <a:off x="1981440" y="4831920"/>
                      <a:ext cx="19080" cy="14760"/>
                    </a:xfrm>
                    <a:prstGeom prst="ellipse">
                      <a:avLst/>
                    </a:prstGeom>
                    <a:solidFill>
                      <a:srgbClr val="ff4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360" bIns="-36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9" name=""/>
                    <p:cNvSpPr/>
                    <p:nvPr/>
                  </p:nvSpPr>
                  <p:spPr>
                    <a:xfrm flipH="1">
                      <a:off x="1964520" y="4784400"/>
                      <a:ext cx="10440" cy="10800"/>
                    </a:xfrm>
                    <a:prstGeom prst="ellipse">
                      <a:avLst/>
                    </a:prstGeom>
                    <a:solidFill>
                      <a:srgbClr val="ff4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>
                      <a:off x="2113560" y="4728240"/>
                      <a:ext cx="10440" cy="16200"/>
                    </a:xfrm>
                    <a:prstGeom prst="ellipse">
                      <a:avLst/>
                    </a:prstGeom>
                    <a:solidFill>
                      <a:srgbClr val="ff4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920" bIns="-34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 flipH="1">
                      <a:off x="2128320" y="4829040"/>
                      <a:ext cx="15120" cy="17640"/>
                    </a:xfrm>
                    <a:prstGeom prst="ellipse">
                      <a:avLst/>
                    </a:prstGeom>
                    <a:solidFill>
                      <a:srgbClr val="ff4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>
                      <a:off x="1973520" y="4885200"/>
                      <a:ext cx="13680" cy="12240"/>
                    </a:xfrm>
                    <a:prstGeom prst="ellipse">
                      <a:avLst/>
                    </a:prstGeom>
                    <a:solidFill>
                      <a:srgbClr val="ff4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 flipH="1">
                    <a:off x="1988280" y="4835520"/>
                    <a:ext cx="9720" cy="7920"/>
                  </a:xfrm>
                  <a:prstGeom prst="ellipse">
                    <a:avLst/>
                  </a:prstGeom>
                  <a:solidFill>
                    <a:srgbClr val="ff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 flipH="1">
                    <a:off x="1969560" y="4787280"/>
                    <a:ext cx="3600" cy="6480"/>
                  </a:xfrm>
                  <a:prstGeom prst="ellipse">
                    <a:avLst/>
                  </a:prstGeom>
                  <a:solidFill>
                    <a:srgbClr val="ff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 flipH="1">
                    <a:off x="2116080" y="4731840"/>
                    <a:ext cx="6120" cy="9720"/>
                  </a:xfrm>
                  <a:prstGeom prst="ellipse">
                    <a:avLst/>
                  </a:prstGeom>
                  <a:solidFill>
                    <a:srgbClr val="ff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 flipH="1">
                    <a:off x="2133720" y="4831920"/>
                    <a:ext cx="7560" cy="11880"/>
                  </a:xfrm>
                  <a:prstGeom prst="ellipse">
                    <a:avLst/>
                  </a:prstGeom>
                  <a:solidFill>
                    <a:srgbClr val="ff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 flipH="1">
                    <a:off x="1978560" y="4887720"/>
                    <a:ext cx="6120" cy="6480"/>
                  </a:xfrm>
                  <a:prstGeom prst="ellipse">
                    <a:avLst/>
                  </a:prstGeom>
                  <a:solidFill>
                    <a:srgbClr val="ff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46479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fbff"/>
                </a:solidFill>
                <a:latin typeface="Monotype Corsiva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yy</cp:lastModifiedBy>
  <dcterms:modified xsi:type="dcterms:W3CDTF">2002-07-16T18:14:11Z</dcterms:modified>
  <cp:revision>31</cp:revision>
  <dc:subject/>
  <dc:title>PowerPoint Presentation</dc:title>
</cp:coreProperties>
</file>