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B82-5181-4800-9E4E-5ABA1AF3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F9E-74AE-4B39-9D56-C7BCC688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425-0C31-4AE1-B0B0-1C293AA1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D75-97AE-4DBD-B641-E2986699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D90-AED6-4629-9A71-0AE4F710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76C-D2B9-4968-829E-8573AC7D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EE1-22F5-4484-BA90-71E93958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696-9117-4B1D-921C-382E2683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6D3-BC0C-4372-85F0-5811D18D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B4B-1B2A-4589-9289-B4BA05A4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3A9-1941-4A1D-BBC9-BACD5671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B6A-FC8C-4EE3-A9E2-C67F68B5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6B93-F906-4675-BFAC-769A72708A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31532;&#19977;&#35762;&#25919;&#31574;&#20998;&#26512;&#30340;&#29702;&#35770;&#27169;&#2241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13372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第七节   渐进模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676520"/>
            <a:ext cx="7925040" cy="487656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决策者的资源（时间、信息、金钱）有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决策者能力有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目标与手段的相对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过去决策的正当性与当前决策的不可预测性（保守主义倾向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沉淀成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政治上的可行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所以，公共政策乃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过去政策的调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渐进模型的基本假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公共政策乃过去政策的调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6002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4920" y="1295280"/>
            <a:ext cx="8076600" cy="5565240"/>
            <a:chOff x="304920" y="1295280"/>
            <a:chExt cx="8076600" cy="5565240"/>
          </a:xfrm>
        </p:grpSpPr>
        <p:grpSp>
          <p:nvGrpSpPr>
            <p:cNvPr id="47" name=""/>
            <p:cNvGrpSpPr/>
            <p:nvPr/>
          </p:nvGrpSpPr>
          <p:grpSpPr>
            <a:xfrm>
              <a:off x="1828800" y="2133720"/>
              <a:ext cx="6552720" cy="4726800"/>
              <a:chOff x="1828800" y="2133720"/>
              <a:chExt cx="6552720" cy="47268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1981080" y="2133720"/>
                <a:ext cx="6095160" cy="4191120"/>
                <a:chOff x="1981080" y="2133720"/>
                <a:chExt cx="6095160" cy="41911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1981080" y="4800600"/>
                  <a:ext cx="609120" cy="1524240"/>
                </a:xfrm>
                <a:prstGeom prst="rect">
                  <a:avLst/>
                </a:prstGeom>
                <a:solidFill>
                  <a:srgbClr val="00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971080" y="4800600"/>
                  <a:ext cx="609480" cy="1524240"/>
                </a:xfrm>
                <a:prstGeom prst="rect">
                  <a:avLst/>
                </a:prstGeom>
                <a:solidFill>
                  <a:srgbClr val="00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4114080" y="4267440"/>
                  <a:ext cx="609480" cy="2057400"/>
                </a:xfrm>
                <a:prstGeom prst="rect">
                  <a:avLst/>
                </a:prstGeom>
                <a:solidFill>
                  <a:srgbClr val="00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5104800" y="3733920"/>
                  <a:ext cx="609120" cy="2590920"/>
                </a:xfrm>
                <a:prstGeom prst="rect">
                  <a:avLst/>
                </a:prstGeom>
                <a:solidFill>
                  <a:srgbClr val="00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247800" y="3200400"/>
                  <a:ext cx="609120" cy="3124440"/>
                </a:xfrm>
                <a:prstGeom prst="rect">
                  <a:avLst/>
                </a:prstGeom>
                <a:solidFill>
                  <a:srgbClr val="00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467120" y="2667240"/>
                  <a:ext cx="609120" cy="3657600"/>
                </a:xfrm>
                <a:prstGeom prst="rect">
                  <a:avLst/>
                </a:prstGeom>
                <a:solidFill>
                  <a:srgbClr val="00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971080" y="4267440"/>
                  <a:ext cx="609480" cy="5331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114080" y="3733920"/>
                  <a:ext cx="609480" cy="53352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5104800" y="3200400"/>
                  <a:ext cx="609120" cy="53352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247800" y="2667240"/>
                  <a:ext cx="609120" cy="5331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7467120" y="2133720"/>
                  <a:ext cx="609120" cy="53352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1828800" y="640080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199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895480" y="6400800"/>
                <a:ext cx="99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199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114440" y="640080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199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28840" y="640080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199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248160" y="640080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2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391160" y="640080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200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304920" y="1295280"/>
              <a:ext cx="3504960" cy="2286000"/>
              <a:chOff x="304920" y="1295280"/>
              <a:chExt cx="3504960" cy="228600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1447920" y="1600200"/>
                <a:ext cx="2057400" cy="1587600"/>
                <a:chOff x="1447920" y="1600200"/>
                <a:chExt cx="2057400" cy="15876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600200" y="1600200"/>
                  <a:ext cx="533520" cy="533520"/>
                </a:xfrm>
                <a:prstGeom prst="rect">
                  <a:avLst/>
                </a:prstGeom>
                <a:solidFill>
                  <a:srgbClr val="00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819520" y="1600200"/>
                  <a:ext cx="533160" cy="53352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447920" y="2362320"/>
                  <a:ext cx="8380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过去政策承诺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666880" y="2362320"/>
                  <a:ext cx="83844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政策增加部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304920" y="1295280"/>
                <a:ext cx="3504960" cy="228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图例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渐进途径的分析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342900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过去的政策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过去的政策合适吗？（合适，继续；不合适，则 －－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调整部分政策（现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533520"/>
            <a:ext cx="1143000" cy="31240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典型范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838080"/>
            <a:ext cx="4724280" cy="5486400"/>
          </a:xfrm>
          <a:prstGeom prst="rect">
            <a:avLst/>
          </a:prstGeom>
          <a:solidFill>
            <a:srgbClr val="d1f0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2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财政预算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教育规模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企业管制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利润分成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再分配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533520"/>
            <a:ext cx="579132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渐进途径的缺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2362320"/>
            <a:ext cx="5638680" cy="3352680"/>
          </a:xfrm>
          <a:prstGeom prst="rect">
            <a:avLst/>
          </a:prstGeom>
          <a:solidFill>
            <a:srgbClr val="d1f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缺乏全面规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无法进行重大改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无法应付环境的剧烈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结构性问题的积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/>
          </p:cNvPr>
          <p:cNvSpPr/>
          <p:nvPr/>
        </p:nvSpPr>
        <p:spPr>
          <a:xfrm>
            <a:off x="2895480" y="5943600"/>
            <a:ext cx="1676520" cy="304920"/>
          </a:xfrm>
          <a:custGeom>
            <a:avLst/>
            <a:gdLst>
              <a:gd name="textAreaLeft" fmla="*/ 19440 w 1676520"/>
              <a:gd name="textAreaRight" fmla="*/ 1657080 w 1676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47" y="1400"/>
                </a:lnTo>
                <a:lnTo>
                  <a:pt x="1400" y="140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47" y="20200"/>
                </a:lnTo>
                <a:lnTo>
                  <a:pt x="117247" y="140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47" y="2020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647" h="21600">
                <a:moveTo>
                  <a:pt x="55825" y="10800"/>
                </a:moveTo>
                <a:lnTo>
                  <a:pt x="66330" y="3794"/>
                </a:lnTo>
                <a:lnTo>
                  <a:pt x="66330" y="17806"/>
                </a:lnTo>
                <a:close/>
              </a:path>
              <a:path fill="darken" w="118647" h="21600">
                <a:moveTo>
                  <a:pt x="52317" y="3794"/>
                </a:moveTo>
                <a:lnTo>
                  <a:pt x="53980" y="3794"/>
                </a:lnTo>
                <a:lnTo>
                  <a:pt x="53980" y="17806"/>
                </a:lnTo>
                <a:lnTo>
                  <a:pt x="52317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13T18:04:22Z</dcterms:modified>
  <cp:revision>11</cp:revision>
  <dc:subject/>
  <dc:title>PowerPoint Presentation</dc:title>
</cp:coreProperties>
</file>