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3C7-AB22-400B-9B95-52C49949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41F-C465-46B6-A545-94EDB22F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EFC-F181-4CE1-AD4C-E052CC2F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C46-8A84-4726-A5FF-CB7681BE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496-38E8-421D-B7BC-70440B2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6DB-EA29-49C1-9297-2EA6128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EC6-4AE8-42E1-A659-9CCA8249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434-02BD-40E1-AF41-3A99EB27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C2E-1199-42FE-8EBE-6D8D4B0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95B-3D72-4A39-9C7E-D23B2A5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6AF-FC8D-413C-A059-CFF378A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5B1-53B4-434F-86C4-C36844E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5DB9-F1BD-49C4-AB55-FB4E82C21471}" type="slidenum">
              <a:rPr b="0" lang="zh-CN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&#19977;&#35762;&#25919;&#31574;&#20998;&#26512;&#30340;&#29702;&#35770;&#27169;&#2241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2514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第一节   </a:t>
            </a:r>
            <a:br>
              <a:rPr sz="6600"/>
            </a:b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政策分析理论模型概说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71500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什么是模型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47920"/>
            <a:ext cx="8458200" cy="4800600"/>
          </a:xfrm>
          <a:prstGeom prst="roundRect">
            <a:avLst>
              <a:gd name="adj" fmla="val 16667"/>
            </a:avLst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模型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是现实世界某些方面的简单化呈现。它可以是：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－－一个实体的呈现（如飞机模型）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－－一种图示（如流程图）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－－一种公式（如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</a:rPr>
              <a:t>S=v·t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</a:rPr>
              <a:t>－－</a:t>
            </a: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一段文字表述的概念（如“桌子是由一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个面板 及其下面的四条木棍支撑而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成的一种家具”）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04920"/>
            <a:ext cx="7772400" cy="9144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什么是政策分析模型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8458200" cy="4800600"/>
          </a:xfrm>
          <a:prstGeom prst="roundRect">
            <a:avLst>
              <a:gd name="adj" fmla="val 16667"/>
            </a:avLst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政策分析模型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是公共政策的一种的简单化呈现。通常以概念的方式出现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概念模型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）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政策分析模型有何作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91120"/>
          </a:xfrm>
          <a:prstGeom prst="rect">
            <a:avLst/>
          </a:prstGeom>
          <a:solidFill>
            <a:srgbClr val="ffccff"/>
          </a:solidFill>
          <a:ln w="1908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>
              <a:spcBef>
                <a:spcPts val="8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简化我们对公共政策的思维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指出政策议题的重要方面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通过将注意力在政治生活的重要特征，  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有助于我们进行有效的沟通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提出公共政策中不重要的因素，加深我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们的了解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8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3366"/>
                </a:solidFill>
                <a:latin typeface="Times New Roman"/>
              </a:rPr>
              <a:t>解释公共政策的要素，预测其影响</a:t>
            </a:r>
            <a:endParaRPr b="0" lang="en-US" sz="33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777240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主要的政策分析模型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133720"/>
            <a:ext cx="7543800" cy="3809880"/>
          </a:xfrm>
          <a:prstGeom prst="roundRect">
            <a:avLst>
              <a:gd name="adj" fmla="val 16667"/>
            </a:avLst>
          </a:prstGeom>
          <a:solidFill>
            <a:srgbClr val="d1f0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制度模型    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过程模型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团体模型    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精英模型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理性模型        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6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渐进模型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7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博弈理论模型   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8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公共选择模型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9.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系统模型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1" name="">
            <a:hlinkClick r:id="rId1"/>
          </p:cNvPr>
          <p:cNvSpPr/>
          <p:nvPr/>
        </p:nvSpPr>
        <p:spPr>
          <a:xfrm>
            <a:off x="2895480" y="5943600"/>
            <a:ext cx="1676520" cy="304920"/>
          </a:xfrm>
          <a:custGeom>
            <a:avLst/>
            <a:gdLst>
              <a:gd name="textAreaLeft" fmla="*/ 19440 w 1676520"/>
              <a:gd name="textAreaRight" fmla="*/ 1657080 w 1676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47" y="1400"/>
                </a:lnTo>
                <a:lnTo>
                  <a:pt x="1400" y="140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47" y="20200"/>
                </a:lnTo>
                <a:lnTo>
                  <a:pt x="117247" y="140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47" y="2020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647" h="21600">
                <a:moveTo>
                  <a:pt x="55825" y="10800"/>
                </a:moveTo>
                <a:lnTo>
                  <a:pt x="66330" y="3794"/>
                </a:lnTo>
                <a:lnTo>
                  <a:pt x="66330" y="17806"/>
                </a:lnTo>
                <a:close/>
              </a:path>
              <a:path fill="darken" w="118647" h="21600">
                <a:moveTo>
                  <a:pt x="52317" y="3794"/>
                </a:moveTo>
                <a:lnTo>
                  <a:pt x="53980" y="3794"/>
                </a:lnTo>
                <a:lnTo>
                  <a:pt x="53980" y="17806"/>
                </a:lnTo>
                <a:lnTo>
                  <a:pt x="52317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3T18:04:07Z</dcterms:modified>
  <cp:revision>15</cp:revision>
  <dc:subject/>
  <dc:title>PowerPoint Presentation</dc:title>
</cp:coreProperties>
</file>