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E27-DBF9-41B6-B93D-D698355F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044-6EBF-48E3-84AE-7E42D17B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4763-4401-410E-A8BD-BEF774FD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F15-BD83-4EFA-B2D6-1F46580F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5AC-6285-4073-B840-8C9D8CE9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6A9-F4AD-465A-AF9C-4580815A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60C-104E-4E67-9A78-F5EEF539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DFD-15E6-405F-86EF-9A81724B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E68-CB22-4D1B-95AD-17BCB420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64E-7D9C-4B38-877A-9435B8BE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1BB-DBB1-4D62-B287-FD3813BB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06B-3B26-4AE1-B34C-39674571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94D4-B262-40A9-BFB4-18B1219D9A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29702;&#35770;&#27169;&#2241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43000"/>
            <a:ext cx="7772400" cy="2133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第四节   团体模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523880"/>
            <a:ext cx="7848360" cy="502920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团体（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erest  Group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即拥有共同的政治利益或政治态度、以正式或非正式的方式结合起来的群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团体是政治活动的主要主体。个人的政治诉求主要通过团体来实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政治实际上就是各个团体为影响公共政策而进行的竞争。公共政策是各个利益团体竞争所达成的一种均衡结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政治学者必须将公共政策研究限定在政治过程，而避免分析政策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6172200" cy="9144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团体模型的基本假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533520"/>
            <a:ext cx="4648320" cy="9144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团体模型示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90720" y="2209680"/>
            <a:ext cx="6858000" cy="4041000"/>
            <a:chOff x="990720" y="2209680"/>
            <a:chExt cx="6858000" cy="4041000"/>
          </a:xfrm>
        </p:grpSpPr>
        <p:grpSp>
          <p:nvGrpSpPr>
            <p:cNvPr id="46" name=""/>
            <p:cNvGrpSpPr/>
            <p:nvPr/>
          </p:nvGrpSpPr>
          <p:grpSpPr>
            <a:xfrm>
              <a:off x="990720" y="2209680"/>
              <a:ext cx="6858000" cy="4041000"/>
              <a:chOff x="990720" y="2209680"/>
              <a:chExt cx="6858000" cy="4041000"/>
            </a:xfrm>
          </p:grpSpPr>
          <p:sp>
            <p:nvSpPr>
              <p:cNvPr id="47" name=""/>
              <p:cNvSpPr/>
              <p:nvPr/>
            </p:nvSpPr>
            <p:spPr>
              <a:xfrm>
                <a:off x="1371960" y="3047760"/>
                <a:ext cx="1752480" cy="169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562720" y="3047760"/>
                <a:ext cx="1752840" cy="1697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990720" y="4724280"/>
                <a:ext cx="685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886560" y="4744800"/>
                <a:ext cx="838080" cy="9702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258160" y="4744800"/>
                <a:ext cx="838080" cy="97020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752840" y="3855960"/>
                <a:ext cx="914400" cy="88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90720" y="4876560"/>
                <a:ext cx="1447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可选择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政策立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715360" y="220968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团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的影响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24240" y="2225520"/>
                <a:ext cx="1523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团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的影响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34120" y="579096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均 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800960" y="52578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39800" y="43434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1260720" y="4416480"/>
                <a:ext cx="49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807640" y="43434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02920" y="43434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15920" y="43434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4419720" y="388620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公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政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496040" cy="9144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团体分析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着眼点：团体的影响力（成员数量、财富、组织强度、领导、接近决策者的渠道、内部凝聚力）以及团体实施影响力的方式（包括博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研究资料：主要是有关利益团体的影响力及其行为策略的描述、故事、新闻报道、特写、历史书籍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228600"/>
            <a:ext cx="762120" cy="3809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典型范例（一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219320"/>
            <a:ext cx="7391520" cy="510516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公共场所禁止吸烟”政策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美国的废除“个人购买和拥有枪支”政策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手机单向收费政策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固定电话初装费政策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乘机者必须购买机场建设费政策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… … …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380880"/>
            <a:ext cx="762120" cy="41148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典型范例（二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838080"/>
            <a:ext cx="7238880" cy="571500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禁止吃野生动物”政策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就可以各个利益团体的竞争来探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－－旅游团体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－－环境保护主义团体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－－消费者团体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（团体指标：成员数量、财富、组织强度、领导、接近决策者的渠道、内部凝聚力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80880"/>
            <a:ext cx="4343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团体分析的缺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905120"/>
            <a:ext cx="7924680" cy="411480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利益团体是西方社会中出现的重要现象。在中国，正式的合法利益团体较少，形成不了类似市场的竞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利益团体只是政策的一项重要变量，其本身又是多种政治因素综合作用的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利益团体不能解释政策的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457200"/>
            <a:ext cx="487692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作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133720"/>
            <a:ext cx="7620120" cy="350496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根据团体模型，分析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PA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教育的前景，并由此探讨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PA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教育资历在你的职业生涯中可能具有的地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/>
          </p:cNvPr>
          <p:cNvSpPr/>
          <p:nvPr/>
        </p:nvSpPr>
        <p:spPr>
          <a:xfrm>
            <a:off x="2895480" y="5943600"/>
            <a:ext cx="1676520" cy="304920"/>
          </a:xfrm>
          <a:custGeom>
            <a:avLst/>
            <a:gdLst>
              <a:gd name="textAreaLeft" fmla="*/ 19440 w 1676520"/>
              <a:gd name="textAreaRight" fmla="*/ 1657080 w 1676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47" y="1400"/>
                </a:lnTo>
                <a:lnTo>
                  <a:pt x="1400" y="140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47" y="20200"/>
                </a:lnTo>
                <a:lnTo>
                  <a:pt x="117247" y="140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47" y="2020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647" h="21600">
                <a:moveTo>
                  <a:pt x="55825" y="10800"/>
                </a:moveTo>
                <a:lnTo>
                  <a:pt x="66330" y="3794"/>
                </a:lnTo>
                <a:lnTo>
                  <a:pt x="66330" y="17806"/>
                </a:lnTo>
                <a:close/>
              </a:path>
              <a:path fill="darken" w="118647" h="21600">
                <a:moveTo>
                  <a:pt x="52317" y="3794"/>
                </a:moveTo>
                <a:lnTo>
                  <a:pt x="53980" y="3794"/>
                </a:lnTo>
                <a:lnTo>
                  <a:pt x="53980" y="17806"/>
                </a:lnTo>
                <a:lnTo>
                  <a:pt x="52317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13T18:04:19Z</dcterms:modified>
  <cp:revision>29</cp:revision>
  <dc:subject/>
  <dc:title>PowerPoint Presentation</dc:title>
</cp:coreProperties>
</file>