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CC7-65B0-4784-A49B-3ABCDD30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121-B6EF-4F47-AB52-3598C1D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A4C-1EB6-4471-8214-22E636DC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DBF-536D-455D-93D7-ACD3E730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9BC-8A33-4E7C-83C4-CA5F062A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773-2FEF-49C2-935A-177BE21F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8A5-DF6C-43C5-A508-F0931151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BAD-EF7B-400B-9CEA-3BB833AF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7A0-AD90-46E3-B4C7-3596AD81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862-26C6-4236-B6FC-A24C0322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FAC-D50F-455D-A109-C22C3F7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6EA-C8B0-4F53-BED1-1824675A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DEEC-7228-4EB3-B003-6A54C5CF07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29702;&#35770;&#27169;&#22411;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第九节   公共选择模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1905120"/>
            <a:ext cx="7772400" cy="40384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公共政策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是自利个人的集体决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公共政策行动者的自利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公共政策的合法性在于公共物品（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Good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和外部性（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ternalit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的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政府失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公共选择模型的基本假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公共选择途径的分析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着眼点：公共政策的合理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公共政策有必要吗？（是否公共物品或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部性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市场是否会更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如何避免政府的低效？（市场机制是否运用到极至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380880"/>
            <a:ext cx="762120" cy="30481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典型范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04920"/>
            <a:ext cx="7467840" cy="61722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工厂废气排放管制政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废气排放的性质（是否公共物品或外部性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市场能解决问题吗？（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ase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定理及其条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政府干预适当吗？（管制供给与群众健康对干净空气的需求是否相一致？是否存在管制过度或管制不足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管制是解决了问题还是恶化了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管制措施得当吗？（是否能运用市场机制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－－提出管制的标准和举措（排放量标准及其实现方式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3200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案例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2971440"/>
            <a:ext cx="8001000" cy="20574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交通警察实施的交通管理是否妨碍了交通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2895480" y="594360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647" h="21600">
                <a:moveTo>
                  <a:pt x="55825" y="10800"/>
                </a:moveTo>
                <a:lnTo>
                  <a:pt x="66330" y="3794"/>
                </a:lnTo>
                <a:lnTo>
                  <a:pt x="66330" y="17806"/>
                </a:lnTo>
                <a:close/>
              </a:path>
              <a:path fill="darken" w="118647" h="21600">
                <a:moveTo>
                  <a:pt x="52317" y="3794"/>
                </a:moveTo>
                <a:lnTo>
                  <a:pt x="53980" y="3794"/>
                </a:lnTo>
                <a:lnTo>
                  <a:pt x="53980" y="17806"/>
                </a:lnTo>
                <a:lnTo>
                  <a:pt x="52317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3T18:03:46Z</dcterms:modified>
  <cp:revision>18</cp:revision>
  <dc:subject/>
  <dc:title>PowerPoint Presentation</dc:title>
</cp:coreProperties>
</file>