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F82-4D6D-405E-A259-0BECABAA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B11-727C-4A4D-A07C-C050E940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69A-4560-4F39-8EE8-471903D9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A12-6FFB-4271-9C8B-C2FDB5E9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809-2638-4169-8946-217514C4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0A8-C24D-4E78-BD3E-39015A17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255-154D-4EDB-A533-D6C9CDD5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805-A115-4460-93A7-81AE525C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B02-1F7E-4774-8E1D-8FD089B4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790-1C7E-4FEF-B009-FD6564B2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72C-E7AD-4A93-9E50-419A1DE7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32D-1C08-4854-94C4-00DF45D2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12A4-C172-4BEF-B97D-19FBA73FF8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29702;&#35770;&#27169;&#22411;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第八节    博弈模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676520"/>
            <a:ext cx="7925040" cy="449568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公共政策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竞争情景下的理性选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    ●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两个或更多参与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     ●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参与者之间相互依赖、相互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     ●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理性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博弈模型的基本假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博弈论的基本模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2031840"/>
          <a:ext cx="7620120" cy="4391280"/>
        </p:xfrm>
        <a:graphic>
          <a:graphicData uri="http://schemas.openxmlformats.org/drawingml/2006/table">
            <a:tbl>
              <a:tblPr/>
              <a:tblGrid>
                <a:gridCol w="730080"/>
                <a:gridCol w="2187720"/>
                <a:gridCol w="2797200"/>
                <a:gridCol w="190512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参与者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选择项</a:t>
                      </a: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选择项</a:t>
                      </a: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1485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参与者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选择项</a:t>
                      </a: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结果</a:t>
                      </a: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结果</a:t>
                      </a: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50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选择项</a:t>
                      </a: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结果</a:t>
                      </a: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结果</a:t>
                      </a: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55308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博弈分析方法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     范例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：懦夫博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1828800"/>
          <a:ext cx="8382240" cy="4759200"/>
        </p:xfrm>
        <a:graphic>
          <a:graphicData uri="http://schemas.openxmlformats.org/drawingml/2006/table">
            <a:tbl>
              <a:tblPr/>
              <a:tblGrid>
                <a:gridCol w="803520"/>
                <a:gridCol w="706320"/>
                <a:gridCol w="3519360"/>
                <a:gridCol w="3353040"/>
              </a:tblGrid>
              <a:tr h="666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驾车者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让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直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1482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驾车者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让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保命丢脸，保命丢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保命丢脸，保命保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直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保命保脸，保命丢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丧命（脸呢？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博弈分析方法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范例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：囚犯困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1828800"/>
          <a:ext cx="8458200" cy="4572000"/>
        </p:xfrm>
        <a:graphic>
          <a:graphicData uri="http://schemas.openxmlformats.org/drawingml/2006/table">
            <a:tbl>
              <a:tblPr/>
              <a:tblGrid>
                <a:gridCol w="762120"/>
                <a:gridCol w="1219320"/>
                <a:gridCol w="3047760"/>
                <a:gridCol w="3429000"/>
              </a:tblGrid>
              <a:tr h="82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囚犯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招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不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1486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囚犯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招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不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 flipV="1">
            <a:off x="7086600" y="4572000"/>
            <a:ext cx="0" cy="5335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00600" y="5638680"/>
            <a:ext cx="9907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8494400">
            <a:off x="4781520" y="4286160"/>
            <a:ext cx="1218960" cy="1028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609588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博弈分析方法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范例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：共用地灾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828800"/>
          <a:ext cx="8458200" cy="4572000"/>
        </p:xfrm>
        <a:graphic>
          <a:graphicData uri="http://schemas.openxmlformats.org/drawingml/2006/table">
            <a:tbl>
              <a:tblPr/>
              <a:tblGrid>
                <a:gridCol w="838440"/>
                <a:gridCol w="1143000"/>
                <a:gridCol w="3047760"/>
                <a:gridCol w="3429000"/>
              </a:tblGrid>
              <a:tr h="82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牧民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增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1486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牧民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增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4952880" y="4114800"/>
            <a:ext cx="137160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572000"/>
            <a:ext cx="0" cy="6858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79000">
            <a:off x="4952520" y="457200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47712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博弈分析的长处与限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057400"/>
            <a:ext cx="3200400" cy="411480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4114800"/>
              <a:gd name="textAreaBottom" fmla="*/ 3958560 h 4114800"/>
            </a:gdLst>
            <a:ahLst/>
            <a:rect l="textAreaLeft" t="textAreaTop" r="textAreaRight" b="textAreaBottom"/>
            <a:pathLst>
              <a:path w="21600" h="27771">
                <a:moveTo>
                  <a:pt x="3600" y="0"/>
                </a:moveTo>
                <a:arcTo wR="3600" hR="3600" stAng="16200000" swAng="-5400000"/>
                <a:lnTo>
                  <a:pt x="0" y="24171"/>
                </a:lnTo>
                <a:arcTo wR="3600" hR="3600" stAng="10800000" swAng="-5400000"/>
                <a:lnTo>
                  <a:pt x="18000" y="2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长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逻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057400"/>
            <a:ext cx="3200400" cy="411480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4114800"/>
              <a:gd name="textAreaBottom" fmla="*/ 3958560 h 4114800"/>
            </a:gdLst>
            <a:ahLst/>
            <a:rect l="textAreaLeft" t="textAreaTop" r="textAreaRight" b="textAreaBottom"/>
            <a:pathLst>
              <a:path w="21600" h="27771">
                <a:moveTo>
                  <a:pt x="3600" y="0"/>
                </a:moveTo>
                <a:arcTo wR="3600" hR="3600" stAng="16200000" swAng="-5400000"/>
                <a:lnTo>
                  <a:pt x="0" y="24171"/>
                </a:lnTo>
                <a:arcTo wR="3600" hR="3600" stAng="10800000" swAng="-5400000"/>
                <a:lnTo>
                  <a:pt x="18000" y="2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限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环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假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48006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思考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381880" cy="380988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如何解决共用地灾难的问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为何相邻两间的店铺喜欢卖同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的商品？（为何不同的政党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兜售同样的政策方案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2895480" y="6172200"/>
            <a:ext cx="1676520" cy="304920"/>
          </a:xfrm>
          <a:custGeom>
            <a:avLst/>
            <a:gdLst>
              <a:gd name="textAreaLeft" fmla="*/ 19440 w 1676520"/>
              <a:gd name="textAreaRight" fmla="*/ 1657080 w 1676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47" y="1400"/>
                </a:lnTo>
                <a:lnTo>
                  <a:pt x="1400" y="140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47" y="20200"/>
                </a:lnTo>
                <a:lnTo>
                  <a:pt x="117247" y="140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47" y="2020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647" h="21600">
                <a:moveTo>
                  <a:pt x="55825" y="10800"/>
                </a:moveTo>
                <a:lnTo>
                  <a:pt x="66330" y="3794"/>
                </a:lnTo>
                <a:lnTo>
                  <a:pt x="66330" y="17806"/>
                </a:lnTo>
                <a:close/>
              </a:path>
              <a:path fill="darken" w="118647" h="21600">
                <a:moveTo>
                  <a:pt x="52317" y="3794"/>
                </a:moveTo>
                <a:lnTo>
                  <a:pt x="53980" y="3794"/>
                </a:lnTo>
                <a:lnTo>
                  <a:pt x="53980" y="17806"/>
                </a:lnTo>
                <a:lnTo>
                  <a:pt x="52317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13T18:04:31Z</dcterms:modified>
  <cp:revision>41</cp:revision>
  <dc:subject/>
  <dc:title>PowerPoint Presentation</dc:title>
</cp:coreProperties>
</file>