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38C9-A168-4DEA-A810-B9908FD8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1D9-7E20-4FF2-BCE9-7E72A970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B20-0B1D-4DFD-86AC-2A336AF1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D5B-07C5-41BD-90A2-1E90C169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4BB-74A9-4138-95E6-FCDD22A2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2EE-F4BC-4442-A20D-533CFA18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0FD-8040-4B07-AF31-88290829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7AD-0BE7-4EEB-8AB9-80A5654E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95A-817F-4F93-831B-28B060E3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0BB-FF2D-4DC4-A539-3D820D99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8583-B792-4618-9B01-867B48E6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F56-EB54-417C-8CB3-AB628F46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0B2B-2548-44FB-8300-29F0C4E75E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99280"/>
            <a:ext cx="9144000" cy="558720"/>
            <a:chOff x="0" y="6299280"/>
            <a:chExt cx="9144000" cy="558720"/>
          </a:xfrm>
        </p:grpSpPr>
        <p:grpSp>
          <p:nvGrpSpPr>
            <p:cNvPr id="6" name=""/>
            <p:cNvGrpSpPr/>
            <p:nvPr/>
          </p:nvGrpSpPr>
          <p:grpSpPr>
            <a:xfrm>
              <a:off x="0" y="6299280"/>
              <a:ext cx="9144000" cy="558720"/>
              <a:chOff x="0" y="6299280"/>
              <a:chExt cx="9144000" cy="558720"/>
            </a:xfrm>
          </p:grpSpPr>
          <p:sp>
            <p:nvSpPr>
              <p:cNvPr id="7" name=""/>
              <p:cNvSpPr/>
              <p:nvPr/>
            </p:nvSpPr>
            <p:spPr>
              <a:xfrm>
                <a:off x="7975800" y="6299280"/>
                <a:ext cx="1168200" cy="558720"/>
              </a:xfrm>
              <a:prstGeom prst="rect">
                <a:avLst/>
              </a:prstGeom>
              <a:solidFill>
                <a:srgbClr val="009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299280"/>
                <a:ext cx="8001000" cy="558720"/>
              </a:xfrm>
              <a:prstGeom prst="rect">
                <a:avLst/>
              </a:prstGeom>
              <a:solidFill>
                <a:srgbClr val="004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2057400" y="64008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公共政策分析讲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25560"/>
            <a:ext cx="9131040" cy="6756120"/>
            <a:chOff x="76320" y="25560"/>
            <a:chExt cx="9131040" cy="6756120"/>
          </a:xfrm>
        </p:grpSpPr>
        <p:sp>
          <p:nvSpPr>
            <p:cNvPr id="11" name=""/>
            <p:cNvSpPr/>
            <p:nvPr/>
          </p:nvSpPr>
          <p:spPr>
            <a:xfrm>
              <a:off x="152280" y="203040"/>
              <a:ext cx="8991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6320" y="25560"/>
              <a:ext cx="9131040" cy="722160"/>
              <a:chOff x="76320" y="25560"/>
              <a:chExt cx="9131040" cy="722160"/>
            </a:xfrm>
          </p:grpSpPr>
          <p:sp>
            <p:nvSpPr>
              <p:cNvPr id="13" name=""/>
              <p:cNvSpPr/>
              <p:nvPr/>
            </p:nvSpPr>
            <p:spPr>
              <a:xfrm>
                <a:off x="76320" y="165240"/>
                <a:ext cx="9131040" cy="144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39680" y="25560"/>
                <a:ext cx="1440" cy="72216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" name="image002" descr=""/>
            <p:cNvPicPr/>
            <p:nvPr/>
          </p:nvPicPr>
          <p:blipFill>
            <a:blip r:embed="rId2"/>
            <a:srcRect l="5537" t="4632" r="82671" b="39611"/>
            <a:stretch/>
          </p:blipFill>
          <p:spPr>
            <a:xfrm>
              <a:off x="6324480" y="6400800"/>
              <a:ext cx="24386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31532;&#19977;&#35762;&#25919;&#31574;&#20998;&#26512;&#30340;&#29702;&#35770;&#27169;&#22411;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382240" cy="18288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第十节    系统理论模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295280"/>
            <a:ext cx="7925040" cy="464832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2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公共政策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是政治系统的输出，是政治系统将资源加工后的产出，其目的是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）满足社会需求；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）进而维护自己的生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公共政策的实质是政治系统进行的权威性价值分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848720" cy="7617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系统理论模型的基本假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系统理论模型示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2590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46400" y="1905120"/>
            <a:ext cx="8468640" cy="4038480"/>
            <a:chOff x="446400" y="1905120"/>
            <a:chExt cx="8468640" cy="4038480"/>
          </a:xfrm>
        </p:grpSpPr>
        <p:sp>
          <p:nvSpPr>
            <p:cNvPr id="58" name=""/>
            <p:cNvSpPr/>
            <p:nvPr/>
          </p:nvSpPr>
          <p:spPr>
            <a:xfrm>
              <a:off x="609480" y="1905120"/>
              <a:ext cx="8305560" cy="40384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环境                                                                                          环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环境                                                                                            环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446400" y="2438640"/>
              <a:ext cx="8011800" cy="2819160"/>
              <a:chOff x="446400" y="2438640"/>
              <a:chExt cx="8011800" cy="2819160"/>
            </a:xfrm>
          </p:grpSpPr>
          <p:sp>
            <p:nvSpPr>
              <p:cNvPr id="60" name=""/>
              <p:cNvSpPr/>
              <p:nvPr/>
            </p:nvSpPr>
            <p:spPr>
              <a:xfrm>
                <a:off x="446400" y="2438640"/>
                <a:ext cx="1277640" cy="2133360"/>
              </a:xfrm>
              <a:prstGeom prst="rect">
                <a:avLst/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Times New Roman"/>
                  </a:rPr>
                  <a:t>输       入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05120" y="2971800"/>
                <a:ext cx="1676520" cy="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28800" y="4114800"/>
                <a:ext cx="1676520" cy="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10040" y="2438640"/>
                <a:ext cx="106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3366"/>
                    </a:solidFill>
                    <a:latin typeface="Times New Roman"/>
                  </a:rPr>
                  <a:t>要求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133720" y="358164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3366"/>
                    </a:solidFill>
                    <a:latin typeface="Times New Roman"/>
                  </a:rPr>
                  <a:t>支持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581640" y="2514600"/>
                <a:ext cx="2209680" cy="2133720"/>
              </a:xfrm>
              <a:prstGeom prst="rect">
                <a:avLst/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400" spc="-1" strike="noStrike">
                    <a:solidFill>
                      <a:srgbClr val="ffffff"/>
                    </a:solidFill>
                    <a:latin typeface="Times New Roman"/>
                  </a:rPr>
                  <a:t>政治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400" spc="-1" strike="noStrike">
                    <a:solidFill>
                      <a:srgbClr val="ffffff"/>
                    </a:solidFill>
                    <a:latin typeface="Times New Roman"/>
                  </a:rPr>
                  <a:t>系统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67640" y="3733920"/>
                <a:ext cx="1828800" cy="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334120" y="3002040"/>
                <a:ext cx="243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3366"/>
                    </a:solidFill>
                    <a:latin typeface="Times New Roman"/>
                  </a:rPr>
                  <a:t>决策与行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180560" y="2438640"/>
                <a:ext cx="1277640" cy="2133360"/>
              </a:xfrm>
              <a:prstGeom prst="rect">
                <a:avLst/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Times New Roman"/>
                  </a:rPr>
                  <a:t>输       出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532800" y="4648320"/>
                <a:ext cx="7543800" cy="609480"/>
              </a:xfrm>
              <a:custGeom>
                <a:avLst/>
                <a:gdLst>
                  <a:gd name="textAreaLeft" fmla="*/ 1640160 w 7543800"/>
                  <a:gd name="textAreaRight" fmla="*/ 4966200 w 7543800"/>
                  <a:gd name="textAreaTop" fmla="*/ 81360 h 609480"/>
                  <a:gd name="textAreaBottom" fmla="*/ 52812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9394" hR="21600" stAng="10800000" swAng="-5400000"/>
                    <a:lnTo>
                      <a:pt x="9522" y="21600"/>
                    </a:lnTo>
                    <a:arcTo wR="9394" hR="21600" stAng="5400000" swAng="-3065573"/>
                    <a:lnTo>
                      <a:pt x="21070" y="7154"/>
                    </a:lnTo>
                    <a:lnTo>
                      <a:pt x="18852" y="0"/>
                    </a:lnTo>
                    <a:lnTo>
                      <a:pt x="15574" y="7154"/>
                    </a:lnTo>
                    <a:lnTo>
                      <a:pt x="18258" y="7154"/>
                    </a:lnTo>
                    <a:arcTo wR="9394" hR="21600" stAng="2334427" swAng="3055387"/>
                    <a:lnTo>
                      <a:pt x="9458" y="21599"/>
                    </a:lnTo>
                    <a:arcTo wR="9394" hR="21600" stAng="5410186" swAng="5389814"/>
                    <a:close/>
                  </a:path>
                  <a:path fill="darkenLess" w="21600" h="21600">
                    <a:moveTo>
                      <a:pt x="0" y="0"/>
                    </a:moveTo>
                    <a:arcTo wR="9394" hR="21600" stAng="10800000" swAng="-5400000"/>
                    <a:lnTo>
                      <a:pt x="9522" y="21600"/>
                    </a:lnTo>
                    <a:arcTo wR="9394" hR="21600" stAng="5400000" swAng="10186"/>
                    <a:lnTo>
                      <a:pt x="9458" y="21599"/>
                    </a:lnTo>
                    <a:arcTo wR="9394" hR="21600" stAng="5410186" swAng="5389814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029200" cy="9903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系统分析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523880"/>
            <a:ext cx="8153640" cy="457200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2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什么是环境输入的最根本因素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政治系统是否整合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产出与需求相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应的政策产出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政策产出与需求相适应吗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环境支持是否满足政策产出的需要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2743200" cy="9144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范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523880"/>
            <a:ext cx="8076960" cy="472464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我国政府效率低下吗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输入方面的分析：需求（我们要求的效率标准？）；支持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财政时间、信息等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政治系统特性（政党，国家权力分工，媒介影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输出方面（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3733920" cy="99072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作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调查一个乡（镇）的财政资源状况，分析其在教育、治安、道路、绿化、水利、医疗等方面的支出，评价其施政水平，并评价财政资源状况与该乡（镇）制定的发展战略之间的关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/>
          </p:cNvPr>
          <p:cNvSpPr/>
          <p:nvPr/>
        </p:nvSpPr>
        <p:spPr>
          <a:xfrm>
            <a:off x="2895480" y="5943600"/>
            <a:ext cx="1676520" cy="304920"/>
          </a:xfrm>
          <a:custGeom>
            <a:avLst/>
            <a:gdLst>
              <a:gd name="textAreaLeft" fmla="*/ 19440 w 1676520"/>
              <a:gd name="textAreaRight" fmla="*/ 1657080 w 1676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8647" h="21600">
                <a:moveTo>
                  <a:pt x="0" y="0"/>
                </a:moveTo>
                <a:lnTo>
                  <a:pt x="118647" y="0"/>
                </a:lnTo>
                <a:lnTo>
                  <a:pt x="118647" y="21600"/>
                </a:lnTo>
                <a:lnTo>
                  <a:pt x="0" y="21600"/>
                </a:lnTo>
                <a:close/>
              </a:path>
              <a:path fill="lightenLess" w="118647" h="21600">
                <a:moveTo>
                  <a:pt x="0" y="0"/>
                </a:moveTo>
                <a:lnTo>
                  <a:pt x="118647" y="0"/>
                </a:lnTo>
                <a:lnTo>
                  <a:pt x="117247" y="1400"/>
                </a:lnTo>
                <a:lnTo>
                  <a:pt x="1400" y="1400"/>
                </a:lnTo>
                <a:close/>
              </a:path>
              <a:path fill="darken" w="118647" h="21600">
                <a:moveTo>
                  <a:pt x="118647" y="0"/>
                </a:moveTo>
                <a:lnTo>
                  <a:pt x="118647" y="21600"/>
                </a:lnTo>
                <a:lnTo>
                  <a:pt x="117247" y="20200"/>
                </a:lnTo>
                <a:lnTo>
                  <a:pt x="117247" y="1400"/>
                </a:lnTo>
                <a:close/>
              </a:path>
              <a:path fill="darkenLess" w="118647" h="21600">
                <a:moveTo>
                  <a:pt x="118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47" y="20200"/>
                </a:lnTo>
                <a:close/>
              </a:path>
              <a:path fill="lighten" w="118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647" h="21600">
                <a:moveTo>
                  <a:pt x="55825" y="10800"/>
                </a:moveTo>
                <a:lnTo>
                  <a:pt x="66330" y="3794"/>
                </a:lnTo>
                <a:lnTo>
                  <a:pt x="66330" y="17806"/>
                </a:lnTo>
                <a:close/>
              </a:path>
              <a:path fill="darken" w="118647" h="21600">
                <a:moveTo>
                  <a:pt x="52317" y="3794"/>
                </a:moveTo>
                <a:lnTo>
                  <a:pt x="53980" y="3794"/>
                </a:lnTo>
                <a:lnTo>
                  <a:pt x="53980" y="17806"/>
                </a:lnTo>
                <a:lnTo>
                  <a:pt x="52317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3-07-13T18:04:41Z</dcterms:modified>
  <cp:revision>23</cp:revision>
  <dc:subject/>
  <dc:title>PowerPoint Presentation</dc:title>
</cp:coreProperties>
</file>