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27F-2EC4-4C0D-9215-36DAC888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076-6FDF-439B-B810-066D121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F1D-F55D-4CC5-9430-ECC54821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AEE-34F3-4FF7-8750-021A5142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E3A-1A42-42A4-BCB2-6A481B96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435-75BA-41F0-BFB1-1814CC75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A0C-30A9-4051-BDB9-9DF52EA6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728-3A74-4899-82CB-CA6E91C8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46B-6543-4878-A01C-76DD22F3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90C-80ED-451B-AED8-BC342D7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666-1B2B-4A73-AF05-CD1FD131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4F5-C2CC-44E5-A628-5ECDFA9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7DF9-675A-49D4-A11B-F4BFDE1908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第六节   理性模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295280"/>
            <a:ext cx="7925040" cy="518184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公共政策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能达到“最大化社会效益”的行动方案。其中，“最大化”包括：一，如果成本超过效益，就不采用该政策；二，选择效益与成本差值最大的政策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决策者：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）了解所有的社会偏好及其权重；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）了解所有政策选项；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）了解每一项政策的所有后果；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）计算每个选择的成本／效益比；选择最有效率的政策选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做到上述方面，需要：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）全面信息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）预测能力；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）决策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6172200" cy="761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理性模型的基本假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理性分析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304920"/>
            <a:ext cx="8991720" cy="6397560"/>
            <a:chOff x="0" y="304920"/>
            <a:chExt cx="8991720" cy="6397560"/>
          </a:xfrm>
        </p:grpSpPr>
        <p:sp>
          <p:nvSpPr>
            <p:cNvPr id="57" name=""/>
            <p:cNvSpPr/>
            <p:nvPr/>
          </p:nvSpPr>
          <p:spPr>
            <a:xfrm>
              <a:off x="1447920" y="304920"/>
              <a:ext cx="0" cy="6172200"/>
            </a:xfrm>
            <a:prstGeom prst="line">
              <a:avLst/>
            </a:prstGeom>
            <a:ln w="1015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533520"/>
              <a:ext cx="1219320" cy="43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66"/>
                  </a:solidFill>
                  <a:latin typeface="Times New Roman"/>
                </a:rPr>
                <a:t>输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全部所需资源进入纯粹理性过程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全部所需资料进入理性过程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47920" y="1523880"/>
              <a:ext cx="38088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47920" y="3276720"/>
              <a:ext cx="38088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47800" y="304920"/>
              <a:ext cx="546120" cy="22827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建立一套完整的操作目标，并赋予权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47920" y="5334120"/>
              <a:ext cx="38088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1840" y="2743200"/>
              <a:ext cx="546120" cy="155268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准备一套完整的被选方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4600" y="4419720"/>
              <a:ext cx="546120" cy="22827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建立一套其他价值与资源的完整清单，并赋予权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76720" y="1600200"/>
              <a:ext cx="380880" cy="167652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76720" y="3276720"/>
              <a:ext cx="53316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505320" y="3352680"/>
              <a:ext cx="152280" cy="236232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49560" y="304920"/>
              <a:ext cx="546120" cy="609588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对每一方案的成本／效益进行完整预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95680" y="3276720"/>
              <a:ext cx="53352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68880" y="343080"/>
              <a:ext cx="546120" cy="61340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5.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对每一方案进行净期望值计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22440" y="304920"/>
              <a:ext cx="911880" cy="617220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6.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比较各净期望值，选取期望值最高的方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0280" y="1981080"/>
              <a:ext cx="76212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34320" y="4343400"/>
              <a:ext cx="68580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40760" y="685800"/>
              <a:ext cx="1650960" cy="411480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输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       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纯理性政策（政策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91320" y="3276720"/>
              <a:ext cx="60948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04920"/>
            <a:ext cx="6172200" cy="761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理性模型的缺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295280"/>
            <a:ext cx="7925040" cy="487692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利益的多元性与不可供量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决策者的个人利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沉淀成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信息成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算计能力和预测能力的有限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环境的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决策体制（分工与责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/>
          </p:cNvPr>
          <p:cNvSpPr/>
          <p:nvPr/>
        </p:nvSpPr>
        <p:spPr>
          <a:xfrm>
            <a:off x="2895480" y="655308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10:48Z</dcterms:modified>
  <cp:revision>12</cp:revision>
  <dc:subject/>
  <dc:title>PowerPoint Presentation</dc:title>
</cp:coreProperties>
</file>