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865-8C95-4D9D-8C57-5DFB8D25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DAB-53E8-478B-A101-7104ADAF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C97-FA41-4FE0-B8A1-8127EAA1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C0E-ABC6-462E-9EF7-77A284B1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65D-C68D-4615-BC50-747E096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43B-1FC6-4709-BA4B-A6C7F632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97B-FCE4-4121-958F-8ED2509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7D0-F297-4426-B3A2-3D82513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0C9-23D0-4C18-AAE8-560D2CB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54F-78FF-47E3-A671-82A6BE4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2CE-BC99-4696-852E-3E8143FB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E48-4DD6-43AA-8F75-1E75ED4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4DA-99FC-4C91-A0C5-A44E5C3F3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二节      制度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工作队下乡后，便开始了与“超生刺头们”的博弈斗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－－表现在超生状况调查过程中。村民们互相包庇隐瞒。在村民们看来，生孩子是自家的事情，只生女孩的夫妇想再生男孩是值得同情并可以谅解的，检举揭发超生问题是不光彩的行径。在调查过程中，也遇到了很大的困难，原因一是中青年夫妇大量外出打工，二是超生人口未按有关规定进行登记。对此，工作队员的对策是在基层干部的配合下，深入群众，发动群众，做思想工作，动员、利用一切机会明察暗访、号召检举揭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534520" cy="608004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900" spc="-1" strike="noStrike">
                <a:solidFill>
                  <a:srgbClr val="003366"/>
                </a:solidFill>
                <a:latin typeface="Times New Roman"/>
              </a:rPr>
              <a:t>在育龄期妇女是否超生怀孕（超孕）检查过程中。在这个方面，最大的困难是育龄妇女外出打工数量很大。工作队的对策是严令打工者家庭拍电报，限期回村接受检查，否则“后果自负”。对此，大多数妇女赶回接受检查。但是，出外打工的人回家代价很大，因为很明显，这些外出打工妇女很可能会失去好不容易谋得的临时性工作，也可能因违约而受到雇佣单位的处罚，即使不受雇佣单位的处罚至少也会遭受误工损失。因而有很多家庭就“想办法”，最常用的就是请人代替应付检查，因为工作队员很难确认被检查妇女是否是该家庭的妇女。在某些地方甚至出现了一些专门做“替身”的妇女。结果就使超孕检查。的存在着一定的漏洞。因为赶回来的绝大多数是没有怀孕的，而没有赶回来找替身的那些人里肯定有超孕的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85840"/>
            <a:ext cx="8229600" cy="581004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3366"/>
                </a:solidFill>
                <a:latin typeface="Times New Roman"/>
              </a:rPr>
              <a:t>为了彻底杜绝超生问题，采取了高额罚款的办法，引用一位县领导干部的话就是“就要罚得超生户倾家荡产”，如果交不出钱，就抄家并变卖家产、杀猪赶牛。这种做法使得部分超生夫妇不得不远走他乡谋生。而极少部分则通过拉关系、送礼等来争取从轻处理。对于超孕者则采取强制堕胎和结扎的办法。大部分超孕者都做了这样的处理，但也有极少部分超孕妇女为了多生孩子而东躲西藏。在强制过程中甚至出现了暴力抵抗的问题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900" spc="-1" strike="noStrike">
                <a:solidFill>
                  <a:srgbClr val="003366"/>
                </a:solidFill>
                <a:latin typeface="Times New Roman"/>
              </a:rPr>
              <a:t>经过一年多的努力，该县基本上有效地控制住了人口增长率。但毫无疑问，这个成果只是暂时性的，同时也存在相当多的隐患。在为受到了省政府的表扬而高兴的同时，县领导也十分犯愁：该如何保住这来之不易的成果？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3200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案例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35812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计划生育政策在农村难以落实的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性障碍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该县的做法算不算成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676520"/>
            <a:ext cx="7925040" cy="44956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共政策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是由立法机关、政府机关（中央和地方、综合和职能）、司法机关、政党组织等政治机构以权威的方式加以制定和执行的行动方案。简言之，公共政策是权威的政治机构的产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公共政策的核心影响因素是这些机构之间的权力结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可以通过政治机构之间的权力结构来描述、解释和预测公共政策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理性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制度途径的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着眼点：权威机关的职责、权限及其相互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研究资料主要是宪法、组织法以及其他有关政治机构权力以及权力关系的法律、制度和习惯性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80880"/>
            <a:ext cx="762120" cy="4114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57200"/>
            <a:ext cx="7543800" cy="57150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农民负担问题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的探讨，可以从各级政府以及村民自治组织之间的财政权关系着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中央和地方的财政权：中央有权决定税种和税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政府和村民自治组织的财政权：政府有权收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中央和地方税之间的划分：中央税的税源广、税基大、税种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地方政府之间税权的划分：上一级政府税源广、税基大、税种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：中央吃了肥肉，上级地方政府吃了瘦肉，基层政府啃骨头，村级财务被抽血，基层和村级职能从“费”上下功夫，农民负担只减不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80880"/>
            <a:ext cx="762120" cy="4191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304920"/>
            <a:ext cx="7543800" cy="58672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北京防治“非典”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的探讨，可以中央机关、部队机关和北京地方机关之间的权限着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－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4·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政府和军队卫生管理权限的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中央机关和北京市卫生管理权限的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中央各系统卫生管理权限的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北京各系统卫生管理权限的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结果：“非典”肆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－－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4·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属地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信息：医院－疾病防治中心－－党政负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－－上一级疾病防治中心－－上一级党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负责人－－卫生部－－国务院、党中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力、物质跨部门、跨地区、跨军民调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66"/>
                </a:solidFill>
                <a:uFillTx/>
                <a:latin typeface="Times New Roman"/>
              </a:rPr>
              <a:t>结果：有效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579132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制度途径的缺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7400"/>
            <a:ext cx="7543800" cy="33526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政策是活的，制度是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制度只决定了政策的活动空间，不能限定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政策的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制度变革与政策改变并不完全对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762120" cy="2743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案例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304920"/>
            <a:ext cx="8153280" cy="579096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1993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年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月，某省召开一次全省计生工作会议，在对全省计划状况进行以县为单位检查基础上，排列出计生政策执行好坏名次。某县列在倒数第二位。为此，该县县委书记、县长受到了严厉批评。县委书记和县长开会回来后，迅速把工作重点转移到计划生育工作上。具体措施是：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首先，建立计划生育工作领导小组，一把手亲自出任组长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其次，调动各部门、各单位的人财物进行</a:t>
            </a:r>
            <a:r>
              <a:rPr b="0" lang="zh-CN" sz="2600" spc="-1" strike="noStrike">
                <a:solidFill>
                  <a:srgbClr val="003366"/>
                </a:solidFill>
                <a:latin typeface="宋体"/>
              </a:rPr>
              <a:t>“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综合治理</a:t>
            </a:r>
            <a:r>
              <a:rPr b="0" lang="zh-CN" sz="2600" spc="-1" strike="noStrike">
                <a:solidFill>
                  <a:srgbClr val="003366"/>
                </a:solidFill>
                <a:latin typeface="宋体"/>
              </a:rPr>
              <a:t>”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第三，通过会议动员、广播宣传、标语等宣传工具大造声势，形成舆论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第四，在全县范围内实施准生证的控制：全县凡婚后尚未有孩子的夫妇，想要孩子，必须领准生证后方可生育，否则以超生论处。为补救前段时期的失控，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1994</a:t>
            </a: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年全县不许新生人口出生，不发一张准生证。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610480" cy="59436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在计划生育工作方面，农村是主要薄弱环节。为了解决这一难题，县委和县政府决定组织工作队下乡蹲点驻队检查督促。工作队主要任务有两个方面，一是处罚超生户，二是防止超生现象再次发生。由于驻队生活不便、条件简陋，县城干部多不愿干。这时，为了鼓励工作队员的积极性，县委和县政府决定从县财政拨出专款，凡下乡驻队者可以拿到下乡补助，数额相当于平均工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994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年春节前夕，组织动员派驻工作完成，全县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个乡镇村村皆有工作队员进驻，每村至少驻工作队员一名。工作队下乡后，发现计划生育工作的问题非常严重：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924680" cy="52578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－－农户中一对夫妇生两胎的现象非常普遍，以至于人们认为政策就允许生两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－－基层计划生育政策执行机构执行不力，对超生夫妇几乎未作任何处罚。基层主要领导者包括乡长、书记、村长，在一切以经济工作为中心、一切向钱看的驱使下，无暇顾及或没有兴趣顾及吃力挨骂不讨好的计划生育工作，专职计划生育机构与人员也很难独立开展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37Z</dcterms:modified>
  <cp:revision>36</cp:revision>
  <dc:subject/>
  <dc:title>PowerPoint Presentation</dc:title>
</cp:coreProperties>
</file>