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06E-B344-4D90-8D3D-76EF18AE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FAB-4519-4CF9-8483-D7BF8C3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F83-5242-417B-AABD-324B6954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27E-95D7-42D6-8F26-FED32D05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100-9003-4D26-BDF7-25711EC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4DE-C11D-402B-A135-F0B1A980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CE4-656E-4D99-9B28-F1AD000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927-6576-4A54-9F71-2FC32988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900-B28D-4EA8-8675-1CE79A6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1B5-4975-4C1D-AE80-F0F6468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269-BEE2-4366-9D3E-9601051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CBD-8CA6-4625-BABE-8464A7A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F8D6-7EF2-4B98-976F-28DE52850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五节     精英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90720"/>
            <a:ext cx="8305560" cy="56386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可以划分为拥有权力的少数人，以及不拥有权力的多数人。仅有一些人享有分配社会价值的权力，群众则不能影响公共政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少数管理者并不代表多数被管理者。精英大多从社会经济地位较高的上层阶级中选拔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精英往精英地位的流动必须缓慢而持续，以维持社会稳定并避免革命发生。唯有已经接受精英基本共识的人，才被纳入统治团体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精英之间为了社会体系的基本价值，为了保护社会体系，而分享彼此共识。（如在美国，精英共识包括：私有财产权的神圣性、有限政府与个人自由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政策名义上是反映“人民”的需要，实际反映的是精英（</a:t>
            </a:r>
            <a:r>
              <a:rPr b="0" lang="en-US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elite</a:t>
            </a:r>
            <a:r>
              <a:rPr b="0" lang="en-US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</a:t>
            </a: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价值和偏好。（米歇尔斯：“寡头政治铁律”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积极的精英很少受到冷淡的群众的影响。精英影响群众多，群众影响精英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5638680" cy="76212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精英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80880" y="1295280"/>
            <a:ext cx="8305920" cy="4648320"/>
            <a:chOff x="380880" y="1295280"/>
            <a:chExt cx="8305920" cy="4648320"/>
          </a:xfrm>
        </p:grpSpPr>
        <p:sp>
          <p:nvSpPr>
            <p:cNvPr id="45" name=""/>
            <p:cNvSpPr/>
            <p:nvPr/>
          </p:nvSpPr>
          <p:spPr>
            <a:xfrm>
              <a:off x="4495680" y="2209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3200" y="1295280"/>
              <a:ext cx="3581280" cy="838440"/>
            </a:xfrm>
            <a:prstGeom prst="triangle">
              <a:avLst>
                <a:gd name="adj" fmla="val 50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精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2514600"/>
              <a:ext cx="320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政策方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9568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752480" y="3352320"/>
              <a:ext cx="5639040" cy="533520"/>
            </a:xfrm>
            <a:custGeom>
              <a:avLst/>
              <a:gdLst>
                <a:gd name="textAreaLeft" fmla="*/ 947880 w 5639040"/>
                <a:gd name="textAreaRight" fmla="*/ 4691160 w 5639040"/>
                <a:gd name="textAreaTop" fmla="*/ 89640 h 533520"/>
                <a:gd name="textAreaBottom" fmla="*/ 44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13" y="21600"/>
                  </a:lnTo>
                  <a:lnTo>
                    <a:pt x="3387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官员与行政人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5105160"/>
              <a:ext cx="8305920" cy="838080"/>
            </a:xfrm>
            <a:custGeom>
              <a:avLst/>
              <a:gdLst>
                <a:gd name="textAreaLeft" fmla="*/ 1396440 w 8305920"/>
                <a:gd name="textAreaRight" fmla="*/ 6909480 w 8305920"/>
                <a:gd name="textAreaTop" fmla="*/ 140760 h 838080"/>
                <a:gd name="textAreaBottom" fmla="*/ 69732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13" y="21600"/>
                  </a:lnTo>
                  <a:lnTo>
                    <a:pt x="3387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一般群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5480" y="4343400"/>
              <a:ext cx="320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政策执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80880" y="228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04920"/>
            <a:ext cx="4648320" cy="76176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精英模型示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952880" cy="83808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精英模型的观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政策并不反映人民的需求，而反映精英的利益与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真个改革系精英重新定义其所持价值的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由于精英维护现存体制的兴趣，因而，公共政策的变迁大都是渐进的，不是革命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精英的价值也许包含着“尊重群众”，但是这只是精英的贵族式义务感的一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群众对精英的影响乃是间接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只有在精英共识范围内的方案才有可能获得认真的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4267440" cy="106668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精英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着眼点：精英构成以及精英价值和偏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研究资料主要是宪法、组织法以及其他有关政治机构权力以及权力关系的法律、制度和习惯性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228600"/>
            <a:ext cx="762120" cy="380988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28600"/>
            <a:ext cx="7619760" cy="63244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生态整治政策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的探讨，可以从精英的价值与农牧民之间的冲突着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精英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环保主义在精英价值体系中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精英的宣传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具体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农牧民方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对过好生活的渴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农牧民的行动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－－具体应对行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：退耕还林政策的道义性，法制性，以及“虚与委蛇”的局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152280"/>
            <a:ext cx="761760" cy="4038840"/>
          </a:xfrm>
          <a:prstGeom prst="rect">
            <a:avLst/>
          </a:prstGeom>
          <a:solidFill>
            <a:srgbClr val="6600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295280"/>
            <a:ext cx="7467480" cy="5105520"/>
          </a:xfrm>
          <a:prstGeom prst="rect">
            <a:avLst/>
          </a:prstGeom>
          <a:solidFill>
            <a:srgbClr val="0033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金鸡奖的评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评委、市场与记者之间的冲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结果：奖项得不到大家认同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失去了影响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80880"/>
            <a:ext cx="4648320" cy="8384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精英分析的缺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981080"/>
            <a:ext cx="7010280" cy="381024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政策是活的，制度是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制度只决定了政策的活动空间，不能限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政策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制度变革与政策改变并不完全对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10:56Z</dcterms:modified>
  <cp:revision>37</cp:revision>
  <dc:subject/>
  <dc:title>PowerPoint Presentation</dc:title>
</cp:coreProperties>
</file>