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291-A198-4514-BEDF-B14499ED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069-CE1D-40BB-87E2-F0453E67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E20D-D210-41DC-82EC-496E1867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82FF-A1BF-45FC-8755-AEFBB517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FDB4-AEA7-4CB6-8F3E-FFF8ED72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4919-93A0-4BA1-BA0D-554564F6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DD5-077F-4938-8640-8FA6F16F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79D-FC81-4240-A236-246B3217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F93-D4D0-4BAA-9BA8-7657877A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E43-8357-4053-8883-77B26EF0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F51-358C-47E9-B174-EFFB1D0D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87C-035E-47C6-B545-1A380ADF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772B-1E4D-4AB7-8F2A-754D08AFAE9F}" type="slidenum"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99280"/>
            <a:ext cx="9144000" cy="558720"/>
            <a:chOff x="0" y="6299280"/>
            <a:chExt cx="9144000" cy="558720"/>
          </a:xfrm>
        </p:grpSpPr>
        <p:grpSp>
          <p:nvGrpSpPr>
            <p:cNvPr id="6" name=""/>
            <p:cNvGrpSpPr/>
            <p:nvPr/>
          </p:nvGrpSpPr>
          <p:grpSpPr>
            <a:xfrm>
              <a:off x="0" y="6299280"/>
              <a:ext cx="9144000" cy="558720"/>
              <a:chOff x="0" y="6299280"/>
              <a:chExt cx="9144000" cy="558720"/>
            </a:xfrm>
          </p:grpSpPr>
          <p:sp>
            <p:nvSpPr>
              <p:cNvPr id="7" name=""/>
              <p:cNvSpPr/>
              <p:nvPr/>
            </p:nvSpPr>
            <p:spPr>
              <a:xfrm>
                <a:off x="7975800" y="6299280"/>
                <a:ext cx="1168200" cy="558720"/>
              </a:xfrm>
              <a:prstGeom prst="rect">
                <a:avLst/>
              </a:prstGeom>
              <a:solidFill>
                <a:srgbClr val="009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299280"/>
                <a:ext cx="8001000" cy="558720"/>
              </a:xfrm>
              <a:prstGeom prst="rect">
                <a:avLst/>
              </a:prstGeom>
              <a:solidFill>
                <a:srgbClr val="004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2057400" y="64008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公共政策分析讲义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25560"/>
            <a:ext cx="9131040" cy="6756120"/>
            <a:chOff x="76320" y="25560"/>
            <a:chExt cx="9131040" cy="6756120"/>
          </a:xfrm>
        </p:grpSpPr>
        <p:sp>
          <p:nvSpPr>
            <p:cNvPr id="11" name=""/>
            <p:cNvSpPr/>
            <p:nvPr/>
          </p:nvSpPr>
          <p:spPr>
            <a:xfrm>
              <a:off x="152280" y="203040"/>
              <a:ext cx="8991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6320" y="25560"/>
              <a:ext cx="9131040" cy="722160"/>
              <a:chOff x="76320" y="25560"/>
              <a:chExt cx="9131040" cy="722160"/>
            </a:xfrm>
          </p:grpSpPr>
          <p:sp>
            <p:nvSpPr>
              <p:cNvPr id="13" name=""/>
              <p:cNvSpPr/>
              <p:nvPr/>
            </p:nvSpPr>
            <p:spPr>
              <a:xfrm>
                <a:off x="76320" y="165240"/>
                <a:ext cx="9131040" cy="144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39680" y="25560"/>
                <a:ext cx="1440" cy="72216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pic>
          <p:nvPicPr>
            <p:cNvPr id="15" name="image002" descr=""/>
            <p:cNvPicPr/>
            <p:nvPr/>
          </p:nvPicPr>
          <p:blipFill>
            <a:blip r:embed="rId2"/>
            <a:srcRect l="5537" t="4632" r="82671" b="39611"/>
            <a:stretch/>
          </p:blipFill>
          <p:spPr>
            <a:xfrm>
              <a:off x="6324480" y="6400800"/>
              <a:ext cx="24386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31532;&#19977;&#35762;&#25919;&#31574;&#20998;&#26512;&#30340;&#29702;&#35770;&#27169;&#22411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143000"/>
            <a:ext cx="7772400" cy="213372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第三节   过程模型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676520"/>
            <a:ext cx="7925040" cy="4495680"/>
          </a:xfrm>
          <a:prstGeom prst="rect">
            <a:avLst/>
          </a:prstGeom>
          <a:solidFill>
            <a:srgbClr val="d1f0ff"/>
          </a:solidFill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公共政策的核心影响因素是政府的活动模式，即政策过程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政治学者必须将公共政策研究限定在政治过程，而避免分析政策的内容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政策过程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系一系列的政治活动，即问题的提出、议题的设定、政策的形成、政策的合法化、政策执行与政策评估等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过程模型的基本假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49604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过程分析方法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solidFill>
            <a:srgbClr val="d1f0ff"/>
          </a:solidFill>
          <a:ln w="19080">
            <a:solidFill>
              <a:srgbClr val="ccecff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着眼点：政府机关的活动模式，包括决策</a:t>
            </a:r>
            <a:r>
              <a:rPr b="0" i="1" lang="zh-CN" sz="3200" spc="-1" strike="noStrike">
                <a:solidFill>
                  <a:srgbClr val="ff0000"/>
                </a:solidFill>
                <a:latin typeface="Times New Roman"/>
              </a:rPr>
              <a:t>如何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做成，</a:t>
            </a:r>
            <a:r>
              <a:rPr b="0" i="1" lang="zh-CN" sz="3200" spc="-1" strike="noStrike">
                <a:solidFill>
                  <a:srgbClr val="ff0000"/>
                </a:solidFill>
                <a:latin typeface="Times New Roman"/>
              </a:rPr>
              <a:t>应该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如何做成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研究资料：主要是有关政府如何作出决策的描述、故事、传记、回忆录、历史书籍等等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380880"/>
            <a:ext cx="762120" cy="41148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典型范例（一）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304920"/>
            <a:ext cx="7543800" cy="5867280"/>
          </a:xfrm>
          <a:prstGeom prst="rect">
            <a:avLst/>
          </a:prstGeom>
          <a:solidFill>
            <a:srgbClr val="d1f0ff"/>
          </a:solidFill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27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700" spc="-1" strike="noStrike">
                <a:solidFill>
                  <a:srgbClr val="ff0000"/>
                </a:solidFill>
                <a:latin typeface="Times New Roman"/>
              </a:rPr>
              <a:t>除麻雀”政策，</a:t>
            </a: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就可以从政府（尤其是主要决策者）活动的过程着手：</a:t>
            </a:r>
            <a:endParaRPr b="0" lang="en-US" sz="2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－－</a:t>
            </a:r>
            <a:r>
              <a:rPr b="0" lang="zh-CN" sz="2700" spc="-1" strike="noStrike" u="sng">
                <a:solidFill>
                  <a:srgbClr val="ff0000"/>
                </a:solidFill>
                <a:uFillTx/>
                <a:latin typeface="Times New Roman"/>
              </a:rPr>
              <a:t>问题提出</a:t>
            </a: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：毛主席下乡调研，农民反映麻雀吃庄稼；</a:t>
            </a:r>
            <a:endParaRPr b="0" lang="en-US" sz="2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－－</a:t>
            </a:r>
            <a:r>
              <a:rPr b="0" lang="zh-CN" sz="2700" spc="-1" strike="noStrike" u="sng">
                <a:solidFill>
                  <a:srgbClr val="ff0000"/>
                </a:solidFill>
                <a:uFillTx/>
                <a:latin typeface="Times New Roman"/>
              </a:rPr>
              <a:t>决策议程</a:t>
            </a: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：国家开展爱国卫生运动，决定消灭一批对人类“有害”的害虫；在毛主席的直接提议下，麻雀位列“四害”之中；</a:t>
            </a:r>
            <a:endParaRPr b="0" lang="en-US" sz="2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－－</a:t>
            </a:r>
            <a:r>
              <a:rPr b="0" lang="zh-CN" sz="2700" spc="-1" strike="noStrike" u="sng">
                <a:solidFill>
                  <a:srgbClr val="ff0000"/>
                </a:solidFill>
                <a:uFillTx/>
                <a:latin typeface="Times New Roman"/>
              </a:rPr>
              <a:t>政策的合法化</a:t>
            </a: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：毛主席提出号召，党中央和国务院发出《关于……</a:t>
            </a: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的通知》，各地分别就执行消除“四害”政策发出各种文件</a:t>
            </a:r>
            <a:endParaRPr b="0" lang="en-US" sz="2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－－</a:t>
            </a:r>
            <a:r>
              <a:rPr b="0" lang="zh-CN" sz="2700" spc="-1" strike="noStrike" u="sng">
                <a:solidFill>
                  <a:srgbClr val="ff0000"/>
                </a:solidFill>
                <a:uFillTx/>
                <a:latin typeface="Times New Roman"/>
              </a:rPr>
              <a:t>政策执行</a:t>
            </a: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：全党、全军、各级政府、各系统、各单位、全民动员，采用“大运动”的方式来执行；</a:t>
            </a:r>
            <a:endParaRPr b="0" lang="en-US" sz="2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Times New Roman"/>
              </a:rPr>
              <a:t>－－</a:t>
            </a:r>
            <a:r>
              <a:rPr b="0" lang="zh-CN" sz="2700" spc="-1" strike="noStrike" u="sng">
                <a:solidFill>
                  <a:srgbClr val="ff0000"/>
                </a:solidFill>
                <a:uFillTx/>
                <a:latin typeface="Times New Roman"/>
              </a:rPr>
              <a:t>政策评估</a:t>
            </a: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：麻雀是“害虫”的认识是错误的，消灭麻雀带来粮食减产，建议将麻雀从“四害”中除名，恢复麻雀的名誉</a:t>
            </a:r>
            <a:endParaRPr b="0" lang="en-US" sz="27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304920"/>
            <a:ext cx="7391520" cy="5867280"/>
          </a:xfrm>
          <a:prstGeom prst="rect">
            <a:avLst/>
          </a:prstGeom>
          <a:solidFill>
            <a:srgbClr val="d1f0ff"/>
          </a:solidFill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27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700" spc="-1" strike="noStrike">
                <a:solidFill>
                  <a:srgbClr val="ff0000"/>
                </a:solidFill>
                <a:latin typeface="Times New Roman"/>
              </a:rPr>
              <a:t>不除麻雀”政策，</a:t>
            </a: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也可以从政府（尤其是主要决策者）活动的过程着手：</a:t>
            </a:r>
            <a:endParaRPr b="0" lang="en-US" sz="2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－－</a:t>
            </a:r>
            <a:r>
              <a:rPr b="0" lang="zh-CN" sz="2700" spc="-1" strike="noStrike" u="sng">
                <a:solidFill>
                  <a:srgbClr val="ff0000"/>
                </a:solidFill>
                <a:uFillTx/>
                <a:latin typeface="Times New Roman"/>
              </a:rPr>
              <a:t>问题提出</a:t>
            </a: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：农民发现粮食减产；科学院的专家们经过研究，证明麻雀是益鸟。以竺可桢为首，向主席建议恢复麻雀的名誉；</a:t>
            </a:r>
            <a:endParaRPr b="0" lang="en-US" sz="2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－－</a:t>
            </a:r>
            <a:r>
              <a:rPr b="0" lang="zh-CN" sz="2700" spc="-1" strike="noStrike" u="sng">
                <a:solidFill>
                  <a:srgbClr val="ff0000"/>
                </a:solidFill>
                <a:uFillTx/>
                <a:latin typeface="Times New Roman"/>
              </a:rPr>
              <a:t>决策议程</a:t>
            </a: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：主席接受建议，在一次会议中提出了新的“四害”名单（老鼠、跳蚤、蚊子、苍蝇）；</a:t>
            </a:r>
            <a:endParaRPr b="0" lang="en-US" sz="2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－－</a:t>
            </a:r>
            <a:r>
              <a:rPr b="0" lang="zh-CN" sz="2700" spc="-1" strike="noStrike" u="sng">
                <a:solidFill>
                  <a:srgbClr val="ff0000"/>
                </a:solidFill>
                <a:uFillTx/>
                <a:latin typeface="Times New Roman"/>
              </a:rPr>
              <a:t>政策的合法化</a:t>
            </a: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：党组织和各级政府接受主席的提法，在新发出的文件中，将麻雀从“四害”中除名；</a:t>
            </a:r>
            <a:endParaRPr b="0" lang="en-US" sz="2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－－</a:t>
            </a:r>
            <a:r>
              <a:rPr b="0" lang="zh-CN" sz="2700" spc="-1" strike="noStrike" u="sng">
                <a:solidFill>
                  <a:srgbClr val="ff0000"/>
                </a:solidFill>
                <a:uFillTx/>
                <a:latin typeface="Times New Roman"/>
              </a:rPr>
              <a:t>政策执行</a:t>
            </a: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：全党、全军、各级政府、各系统、各单位、全民动员，继续用“大运动”的方式来执行除“四害”，但是麻雀已经不在其中了</a:t>
            </a:r>
            <a:endParaRPr b="0" lang="en-US" sz="2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Times New Roman"/>
              </a:rPr>
              <a:t>－－</a:t>
            </a:r>
            <a:r>
              <a:rPr b="0" lang="zh-CN" sz="2700" spc="-1" strike="noStrike" u="sng">
                <a:solidFill>
                  <a:srgbClr val="ff0000"/>
                </a:solidFill>
                <a:uFillTx/>
                <a:latin typeface="Times New Roman"/>
              </a:rPr>
              <a:t>政策评估</a:t>
            </a:r>
            <a:r>
              <a:rPr b="0" lang="zh-CN" sz="2700" spc="-1" strike="noStrike">
                <a:solidFill>
                  <a:srgbClr val="003366"/>
                </a:solidFill>
                <a:latin typeface="Times New Roman"/>
              </a:rPr>
              <a:t>：政府报告粮食增收</a:t>
            </a:r>
            <a:endParaRPr b="0" lang="en-US" sz="2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380880"/>
            <a:ext cx="762120" cy="41148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典型范例（二）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80880"/>
            <a:ext cx="579132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过程分析的缺陷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057400"/>
            <a:ext cx="8534520" cy="4114800"/>
          </a:xfrm>
          <a:prstGeom prst="rect">
            <a:avLst/>
          </a:prstGeom>
          <a:solidFill>
            <a:srgbClr val="d1f0ff"/>
          </a:solidFill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2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政策程序是固定的，政策内涵是千变万化的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政策程序只决定了政策的制定环节，不能反映政策的内容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程序改革与政策改变并不完全对应，不能完全希望能够通过政策程序改革来实现“政策的科学化”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457200"/>
            <a:ext cx="487692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作业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362320"/>
            <a:ext cx="7848720" cy="3504960"/>
          </a:xfrm>
          <a:prstGeom prst="rect">
            <a:avLst/>
          </a:prstGeom>
          <a:solidFill>
            <a:srgbClr val="d1f0ff"/>
          </a:solidFill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根据政策过程模型，分析你所熟悉的某政策的全过程，并从过程中解释政策结果为何会这样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">
            <a:hlinkClick r:id="rId1"/>
          </p:cNvPr>
          <p:cNvSpPr/>
          <p:nvPr/>
        </p:nvSpPr>
        <p:spPr>
          <a:xfrm>
            <a:off x="2895480" y="5943600"/>
            <a:ext cx="1676520" cy="304920"/>
          </a:xfrm>
          <a:custGeom>
            <a:avLst/>
            <a:gdLst>
              <a:gd name="textAreaLeft" fmla="*/ 19440 w 1676520"/>
              <a:gd name="textAreaRight" fmla="*/ 1657080 w 1676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8647" h="21600">
                <a:moveTo>
                  <a:pt x="0" y="0"/>
                </a:moveTo>
                <a:lnTo>
                  <a:pt x="118647" y="0"/>
                </a:lnTo>
                <a:lnTo>
                  <a:pt x="118647" y="21600"/>
                </a:lnTo>
                <a:lnTo>
                  <a:pt x="0" y="21600"/>
                </a:lnTo>
                <a:close/>
              </a:path>
              <a:path fill="lightenLess" w="118647" h="21600">
                <a:moveTo>
                  <a:pt x="0" y="0"/>
                </a:moveTo>
                <a:lnTo>
                  <a:pt x="118647" y="0"/>
                </a:lnTo>
                <a:lnTo>
                  <a:pt x="117247" y="1400"/>
                </a:lnTo>
                <a:lnTo>
                  <a:pt x="1400" y="1400"/>
                </a:lnTo>
                <a:close/>
              </a:path>
              <a:path fill="darken" w="118647" h="21600">
                <a:moveTo>
                  <a:pt x="118647" y="0"/>
                </a:moveTo>
                <a:lnTo>
                  <a:pt x="118647" y="21600"/>
                </a:lnTo>
                <a:lnTo>
                  <a:pt x="117247" y="20200"/>
                </a:lnTo>
                <a:lnTo>
                  <a:pt x="117247" y="1400"/>
                </a:lnTo>
                <a:close/>
              </a:path>
              <a:path fill="darkenLess" w="118647" h="21600">
                <a:moveTo>
                  <a:pt x="118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47" y="20200"/>
                </a:lnTo>
                <a:close/>
              </a:path>
              <a:path fill="lighten" w="118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647" h="21600">
                <a:moveTo>
                  <a:pt x="55825" y="10800"/>
                </a:moveTo>
                <a:lnTo>
                  <a:pt x="66330" y="3794"/>
                </a:lnTo>
                <a:lnTo>
                  <a:pt x="66330" y="17806"/>
                </a:lnTo>
                <a:close/>
              </a:path>
              <a:path fill="darken" w="118647" h="21600">
                <a:moveTo>
                  <a:pt x="52317" y="3794"/>
                </a:moveTo>
                <a:lnTo>
                  <a:pt x="53980" y="3794"/>
                </a:lnTo>
                <a:lnTo>
                  <a:pt x="53980" y="17806"/>
                </a:lnTo>
                <a:lnTo>
                  <a:pt x="52317" y="17806"/>
                </a:lnTo>
                <a:close/>
              </a:path>
            </a:pathLst>
          </a:custGeom>
          <a:solidFill>
            <a:srgbClr val="006699"/>
          </a:solidFill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3-07-13T18:04:16Z</dcterms:modified>
  <cp:revision>35</cp:revision>
  <dc:subject/>
  <dc:title>PowerPoint Presentation</dc:title>
</cp:coreProperties>
</file>