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C8063-6C92-4A79-8AD8-DA992E6C1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3F029-52BB-432C-887F-5B888A4B4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9B039-8B51-47CF-B7E3-ED413949D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D60D1-DFAD-4D76-A23A-51B2E56AD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5F90B-514D-411C-B679-2C5289DDB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83597-48D7-48CE-9F0B-E1FCB9396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18D16-1627-4F5F-AA27-B26BC4A73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6D94D-6C91-4FF7-8792-3735BE4C1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AF878-31F8-4DE3-A43B-D66C43233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3C58A-B6BC-4496-9E1C-B1CB3E981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A0247-3DE8-439D-B756-5064306D3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30EE5-B094-41BE-B501-ACCF0B58D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4F8D3-F357-4F81-A5D7-B72DAB89E27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6299280"/>
            <a:ext cx="9144000" cy="558720"/>
            <a:chOff x="0" y="6299280"/>
            <a:chExt cx="9144000" cy="558720"/>
          </a:xfrm>
        </p:grpSpPr>
        <p:grpSp>
          <p:nvGrpSpPr>
            <p:cNvPr id="6" name=""/>
            <p:cNvGrpSpPr/>
            <p:nvPr/>
          </p:nvGrpSpPr>
          <p:grpSpPr>
            <a:xfrm>
              <a:off x="0" y="6299280"/>
              <a:ext cx="9144000" cy="558720"/>
              <a:chOff x="0" y="6299280"/>
              <a:chExt cx="9144000" cy="558720"/>
            </a:xfrm>
          </p:grpSpPr>
          <p:sp>
            <p:nvSpPr>
              <p:cNvPr id="7" name=""/>
              <p:cNvSpPr/>
              <p:nvPr/>
            </p:nvSpPr>
            <p:spPr>
              <a:xfrm>
                <a:off x="7975800" y="6299280"/>
                <a:ext cx="1168200" cy="558720"/>
              </a:xfrm>
              <a:prstGeom prst="rect">
                <a:avLst/>
              </a:prstGeom>
              <a:solidFill>
                <a:srgbClr val="009b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6299280"/>
                <a:ext cx="8001000" cy="558720"/>
              </a:xfrm>
              <a:prstGeom prst="rect">
                <a:avLst/>
              </a:prstGeom>
              <a:solidFill>
                <a:srgbClr val="0041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2057400" y="6400800"/>
              <a:ext cx="4038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>
                  <a:solidFill>
                    <a:srgbClr val="ffff00"/>
                  </a:solidFill>
                  <a:latin typeface="Times New Roman"/>
                  <a:ea typeface="华文中宋"/>
                </a:rPr>
                <a:t>公共政策分析讲义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" name=""/>
          <p:cNvGrpSpPr/>
          <p:nvPr/>
        </p:nvGrpSpPr>
        <p:grpSpPr>
          <a:xfrm>
            <a:off x="76320" y="25560"/>
            <a:ext cx="9131040" cy="6756120"/>
            <a:chOff x="76320" y="25560"/>
            <a:chExt cx="9131040" cy="6756120"/>
          </a:xfrm>
        </p:grpSpPr>
        <p:sp>
          <p:nvSpPr>
            <p:cNvPr id="11" name=""/>
            <p:cNvSpPr/>
            <p:nvPr/>
          </p:nvSpPr>
          <p:spPr>
            <a:xfrm>
              <a:off x="152280" y="203040"/>
              <a:ext cx="8991720" cy="63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" name=""/>
            <p:cNvGrpSpPr/>
            <p:nvPr/>
          </p:nvGrpSpPr>
          <p:grpSpPr>
            <a:xfrm>
              <a:off x="76320" y="25560"/>
              <a:ext cx="9131040" cy="722160"/>
              <a:chOff x="76320" y="25560"/>
              <a:chExt cx="9131040" cy="722160"/>
            </a:xfrm>
          </p:grpSpPr>
          <p:sp>
            <p:nvSpPr>
              <p:cNvPr id="13" name=""/>
              <p:cNvSpPr/>
              <p:nvPr/>
            </p:nvSpPr>
            <p:spPr>
              <a:xfrm>
                <a:off x="76320" y="165240"/>
                <a:ext cx="9131040" cy="1440"/>
              </a:xfrm>
              <a:prstGeom prst="line">
                <a:avLst/>
              </a:prstGeom>
              <a:ln w="12600">
                <a:solidFill>
                  <a:srgbClr val="009b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139680" y="25560"/>
                <a:ext cx="1440" cy="722160"/>
              </a:xfrm>
              <a:prstGeom prst="line">
                <a:avLst/>
              </a:prstGeom>
              <a:ln w="12600">
                <a:solidFill>
                  <a:srgbClr val="009b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15" name="image002" descr=""/>
            <p:cNvPicPr/>
            <p:nvPr/>
          </p:nvPicPr>
          <p:blipFill>
            <a:blip r:embed="rId2"/>
            <a:srcRect l="5537" t="4632" r="82671" b="39611"/>
            <a:stretch/>
          </p:blipFill>
          <p:spPr>
            <a:xfrm>
              <a:off x="6324480" y="6400800"/>
              <a:ext cx="2438640" cy="38088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file:///&#25105;&#22283;&#24188;&#20818;&#25945;&#25176;&#25919;&#31574;&#20998;&#27969;&#30740;&#31350;.htm" TargetMode="External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520" y="685800"/>
            <a:ext cx="8153640" cy="1447920"/>
          </a:xfrm>
          <a:prstGeom prst="rect">
            <a:avLst/>
          </a:prstGeom>
          <a:solidFill>
            <a:srgbClr val="003366"/>
          </a:solidFill>
          <a:ln w="1908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十讲  总结与提高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61760" y="2590560"/>
            <a:ext cx="7924680" cy="2819160"/>
          </a:xfrm>
          <a:prstGeom prst="rect">
            <a:avLst/>
          </a:prstGeom>
          <a:solidFill>
            <a:srgbClr val="e6f4ff"/>
          </a:solidFill>
          <a:ln w="19080">
            <a:solidFill>
              <a:srgbClr val="808080"/>
            </a:solidFill>
            <a:miter/>
          </a:ln>
        </p:spPr>
        <p:txBody>
          <a:bodyPr anchor="ctr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66"/>
                </a:solidFill>
                <a:latin typeface="华文新魏"/>
                <a:ea typeface="华文新魏"/>
              </a:rPr>
              <a:t>主要内容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336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66"/>
                </a:solidFill>
                <a:latin typeface="华文新魏"/>
                <a:ea typeface="华文新魏"/>
              </a:rPr>
              <a:t>如何应用本课程的介绍的模式与方法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336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66"/>
                </a:solidFill>
                <a:latin typeface="华文新魏"/>
                <a:ea typeface="华文新魏"/>
              </a:rPr>
              <a:t>如何进一步搜寻网络政策分析的资源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336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66"/>
                </a:solidFill>
                <a:latin typeface="华文新魏"/>
                <a:ea typeface="华文新魏"/>
              </a:rPr>
              <a:t>如何撰写政策分析报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705720" cy="838440"/>
          </a:xfrm>
          <a:prstGeom prst="rect">
            <a:avLst/>
          </a:prstGeom>
          <a:solidFill>
            <a:srgbClr val="003366"/>
          </a:solidFill>
          <a:ln w="1908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ff"/>
                </a:solidFill>
                <a:latin typeface="华文新魏"/>
                <a:ea typeface="华文新魏"/>
              </a:rPr>
              <a:t>3</a:t>
            </a:r>
            <a:r>
              <a:rPr b="1" lang="zh-CN" sz="6600" spc="-1" strike="noStrike">
                <a:solidFill>
                  <a:srgbClr val="ffffff"/>
                </a:solidFill>
                <a:latin typeface="华文新魏"/>
                <a:ea typeface="华文新魏"/>
              </a:rPr>
              <a:t>、怎样表达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e6f4ff"/>
          </a:solidFill>
          <a:ln w="19080">
            <a:solidFill>
              <a:srgbClr val="808080"/>
            </a:solidFill>
            <a:miter/>
          </a:ln>
        </p:spPr>
        <p:txBody>
          <a:bodyPr anchor="ctr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3366"/>
                </a:solidFill>
                <a:latin typeface="华文新魏"/>
                <a:ea typeface="华文新魏"/>
              </a:rPr>
              <a:t>见本章第三部分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7772400" cy="1143000"/>
          </a:xfrm>
          <a:prstGeom prst="rect">
            <a:avLst/>
          </a:prstGeom>
          <a:solidFill>
            <a:srgbClr val="003366"/>
          </a:solidFill>
          <a:ln w="1908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华文新魏"/>
                <a:ea typeface="华文新魏"/>
              </a:rPr>
              <a:t>二、政策分析的网络资源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80880" y="1752480"/>
            <a:ext cx="8458200" cy="4640400"/>
          </a:xfrm>
          <a:prstGeom prst="rect">
            <a:avLst/>
          </a:prstGeom>
          <a:solidFill>
            <a:srgbClr val="e6f4ff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336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66"/>
                </a:solidFill>
                <a:latin typeface="华文新魏"/>
                <a:ea typeface="华文新魏"/>
              </a:rPr>
              <a:t>中文网络资源：比较少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336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66"/>
                </a:solidFill>
                <a:latin typeface="华文新魏"/>
                <a:ea typeface="华文新魏"/>
              </a:rPr>
              <a:t>英文网络资源：很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336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66"/>
                </a:solidFill>
                <a:latin typeface="华文新魏"/>
                <a:ea typeface="华文新魏"/>
              </a:rPr>
              <a:t>各种相关的网络资源：学术的和实践的网络资源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336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66"/>
                </a:solidFill>
                <a:latin typeface="华文新魏"/>
                <a:ea typeface="华文新魏"/>
              </a:rPr>
              <a:t>网络搜索 </a:t>
            </a:r>
            <a:r>
              <a:rPr b="0" lang="zh-CN" sz="3600" spc="-1" strike="noStrike">
                <a:solidFill>
                  <a:srgbClr val="003366"/>
                </a:solidFill>
                <a:latin typeface="华文新魏"/>
                <a:ea typeface="华文新魏"/>
              </a:rPr>
              <a:t>www.google.com;cn.yahoo.com; www.sohu.com; www.sina.com; www.yahoo.co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3366"/>
          </a:solidFill>
          <a:ln w="1908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公共政策分析网站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e6f4ff"/>
          </a:solidFill>
          <a:ln w="19080">
            <a:solidFill>
              <a:srgbClr val="808080"/>
            </a:solidFill>
            <a:miter/>
          </a:ln>
        </p:spPr>
        <p:txBody>
          <a:bodyPr anchor="ctr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336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66"/>
                </a:solidFill>
                <a:latin typeface="华文新魏"/>
                <a:ea typeface="华文新魏"/>
              </a:rPr>
              <a:t>http://www.publicpolicyanalysis.org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880" y="2590560"/>
            <a:ext cx="7772400" cy="1143000"/>
          </a:xfrm>
          <a:prstGeom prst="rect">
            <a:avLst/>
          </a:prstGeom>
          <a:solidFill>
            <a:srgbClr val="003366"/>
          </a:solidFill>
          <a:ln w="1908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其他网站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8153640" cy="1066680"/>
          </a:xfrm>
          <a:prstGeom prst="rect">
            <a:avLst/>
          </a:prstGeom>
          <a:solidFill>
            <a:srgbClr val="003366"/>
          </a:solidFill>
          <a:ln w="1908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华文新魏"/>
                <a:ea typeface="华文新魏"/>
              </a:rPr>
              <a:t>http://www.wiapp.or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752120"/>
            <a:ext cx="8610480" cy="495324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3366"/>
          </a:solidFill>
          <a:ln w="1908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华文新魏"/>
                <a:ea typeface="华文新魏"/>
              </a:rPr>
              <a:t>http://www.cato.or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610480" cy="495288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solidFill>
            <a:srgbClr val="003366"/>
          </a:solidFill>
          <a:ln w="1908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华文新魏"/>
                <a:ea typeface="华文新魏"/>
              </a:rPr>
              <a:t>http://www.indiana.edu/~worksho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534160" cy="502920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3366"/>
          </a:solidFill>
          <a:ln w="1908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华文新魏"/>
                <a:ea typeface="华文新魏"/>
              </a:rPr>
              <a:t>http://www.cipec.or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534160" cy="495288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839080" cy="1143000"/>
          </a:xfrm>
          <a:prstGeom prst="rect">
            <a:avLst/>
          </a:prstGeom>
          <a:solidFill>
            <a:srgbClr val="003366"/>
          </a:solidFill>
          <a:ln w="1908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华文新魏"/>
                <a:ea typeface="华文新魏"/>
              </a:rPr>
              <a:t>http://www.washingtonpolicy.or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10480" cy="510552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3366"/>
          </a:solidFill>
          <a:ln w="1908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华文新魏"/>
                <a:ea typeface="华文新魏"/>
              </a:rPr>
              <a:t>http://www.icspress.or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600" y="1752120"/>
            <a:ext cx="8686800" cy="487692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1143000"/>
          </a:xfrm>
          <a:prstGeom prst="rect">
            <a:avLst/>
          </a:prstGeom>
          <a:solidFill>
            <a:srgbClr val="003366"/>
          </a:solidFill>
          <a:ln w="1908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ff"/>
                </a:solidFill>
                <a:latin typeface="华文新魏"/>
                <a:ea typeface="华文新魏"/>
              </a:rPr>
              <a:t>一、模式与方法的运用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e6f4ff"/>
          </a:solidFill>
          <a:ln w="19080">
            <a:solidFill>
              <a:srgbClr val="808080"/>
            </a:solidFill>
            <a:miter/>
          </a:ln>
        </p:spPr>
        <p:txBody>
          <a:bodyPr anchor="ctr">
            <a:normAutofit/>
          </a:bodyPr>
          <a:p>
            <a:pPr marL="343080" indent="0">
              <a:lnSpc>
                <a:spcPct val="10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500" spc="-1" strike="noStrike">
                <a:solidFill>
                  <a:srgbClr val="003366"/>
                </a:solidFill>
                <a:latin typeface="华文新魏"/>
                <a:ea typeface="华文新魏"/>
              </a:rPr>
              <a:t>1</a:t>
            </a:r>
            <a:r>
              <a:rPr b="0" lang="zh-CN" sz="5500" spc="-1" strike="noStrike">
                <a:solidFill>
                  <a:srgbClr val="003366"/>
                </a:solidFill>
                <a:latin typeface="华文新魏"/>
                <a:ea typeface="华文新魏"/>
              </a:rPr>
              <a:t>、怎样形成观点？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500" spc="-1" strike="noStrike">
                <a:solidFill>
                  <a:srgbClr val="003366"/>
                </a:solidFill>
                <a:latin typeface="华文新魏"/>
                <a:ea typeface="华文新魏"/>
              </a:rPr>
              <a:t>2</a:t>
            </a:r>
            <a:r>
              <a:rPr b="0" lang="zh-CN" sz="5500" spc="-1" strike="noStrike">
                <a:solidFill>
                  <a:srgbClr val="003366"/>
                </a:solidFill>
                <a:latin typeface="华文新魏"/>
                <a:ea typeface="华文新魏"/>
              </a:rPr>
              <a:t>、从哪个点上着手？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500" spc="-1" strike="noStrike">
                <a:solidFill>
                  <a:srgbClr val="003366"/>
                </a:solidFill>
                <a:latin typeface="华文新魏"/>
                <a:ea typeface="华文新魏"/>
              </a:rPr>
              <a:t>3</a:t>
            </a:r>
            <a:r>
              <a:rPr b="0" lang="zh-CN" sz="5500" spc="-1" strike="noStrike">
                <a:solidFill>
                  <a:srgbClr val="003366"/>
                </a:solidFill>
                <a:latin typeface="华文新魏"/>
                <a:ea typeface="华文新魏"/>
              </a:rPr>
              <a:t>、怎样表达？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solidFill>
            <a:srgbClr val="003366"/>
          </a:solidFill>
          <a:ln w="1908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华文新魏"/>
                <a:ea typeface="华文新魏"/>
              </a:rPr>
              <a:t>http://www.brownstone.org/Institu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518184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3366"/>
          </a:solidFill>
          <a:ln w="1908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华文新魏"/>
                <a:ea typeface="华文新魏"/>
              </a:rPr>
              <a:t>http://www.appcpenn.or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518148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3366"/>
          </a:solidFill>
          <a:ln w="1908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华文新魏"/>
                <a:ea typeface="华文新魏"/>
              </a:rPr>
              <a:t>http://www.adti.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0" y="1676160"/>
            <a:ext cx="9144000" cy="518148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560" y="456840"/>
            <a:ext cx="8458200" cy="1143000"/>
          </a:xfrm>
          <a:prstGeom prst="rect">
            <a:avLst/>
          </a:prstGeom>
          <a:solidFill>
            <a:srgbClr val="003366"/>
          </a:solidFill>
          <a:ln w="1908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华文新魏"/>
                <a:ea typeface="华文新魏"/>
              </a:rPr>
              <a:t>http://depts.washington.edu/amp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610480" cy="472464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6096240" cy="685800"/>
          </a:xfrm>
          <a:prstGeom prst="rect">
            <a:avLst/>
          </a:prstGeom>
          <a:solidFill>
            <a:srgbClr val="003366"/>
          </a:solidFill>
          <a:ln w="1908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其他网址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848720" cy="4800600"/>
          </a:xfrm>
          <a:prstGeom prst="rect">
            <a:avLst/>
          </a:prstGeom>
          <a:solidFill>
            <a:srgbClr val="e6f4ff"/>
          </a:solidFill>
          <a:ln w="19080">
            <a:solidFill>
              <a:srgbClr val="808080"/>
            </a:solidFill>
            <a:miter/>
          </a:ln>
        </p:spPr>
        <p:txBody>
          <a:bodyPr anchor="ctr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336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66"/>
                </a:solidFill>
                <a:latin typeface="华文新魏"/>
                <a:ea typeface="华文新魏"/>
              </a:rPr>
              <a:t>http://www.npf.org.tw/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336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66"/>
                </a:solidFill>
                <a:latin typeface="华文新魏"/>
                <a:ea typeface="华文新魏"/>
              </a:rPr>
              <a:t>http://www.oecd.or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336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66"/>
                </a:solidFill>
                <a:latin typeface="华文新魏"/>
                <a:ea typeface="华文新魏"/>
              </a:rPr>
              <a:t>http://www.world bank.or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336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66"/>
                </a:solidFill>
                <a:latin typeface="华文新魏"/>
                <a:ea typeface="华文新魏"/>
              </a:rPr>
              <a:t>http//www.transparency.or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336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66"/>
                </a:solidFill>
                <a:latin typeface="华文新魏"/>
                <a:ea typeface="华文新魏"/>
              </a:rPr>
              <a:t>http://www.adb.or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336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66"/>
                </a:solidFill>
                <a:latin typeface="华文新魏"/>
                <a:ea typeface="华文新魏"/>
              </a:rPr>
              <a:t>http://www.naspa.org/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336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66"/>
                </a:solidFill>
                <a:latin typeface="华文新魏"/>
                <a:ea typeface="华文新魏"/>
              </a:rPr>
              <a:t>http://www.aspa.or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336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66"/>
                </a:solidFill>
                <a:latin typeface="华文新魏"/>
                <a:ea typeface="华文新魏"/>
              </a:rPr>
              <a:t>http://www.ksg.harvard.edu/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1143000"/>
          </a:xfrm>
          <a:prstGeom prst="rect">
            <a:avLst/>
          </a:prstGeom>
          <a:solidFill>
            <a:srgbClr val="003366"/>
          </a:solidFill>
          <a:ln w="1908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ff"/>
                </a:solidFill>
                <a:latin typeface="华文新魏"/>
                <a:ea typeface="华文新魏"/>
              </a:rPr>
              <a:t>三、分析报告的撰写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80880" y="1981080"/>
            <a:ext cx="8153640" cy="4267440"/>
          </a:xfrm>
          <a:prstGeom prst="roundRect">
            <a:avLst>
              <a:gd name="adj" fmla="val 16667"/>
            </a:avLst>
          </a:prstGeom>
          <a:solidFill>
            <a:srgbClr val="e6f4ff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华文新魏"/>
                <a:ea typeface="华文新魏"/>
              </a:rPr>
              <a:t>1</a:t>
            </a:r>
            <a:r>
              <a:rPr b="0" lang="zh-CN" sz="4400" spc="-1" strike="noStrike">
                <a:solidFill>
                  <a:srgbClr val="ff0000"/>
                </a:solidFill>
                <a:latin typeface="华文新魏"/>
                <a:ea typeface="华文新魏"/>
              </a:rPr>
              <a:t>、重温报告的格式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3366"/>
                </a:solidFill>
                <a:latin typeface="华文新魏"/>
                <a:ea typeface="华文新魏"/>
              </a:rPr>
              <a:t>    </a:t>
            </a:r>
            <a:r>
              <a:rPr b="0" lang="zh-CN" sz="3800" spc="-1" strike="noStrike">
                <a:solidFill>
                  <a:srgbClr val="003366"/>
                </a:solidFill>
                <a:latin typeface="华文新魏"/>
                <a:ea typeface="华文新魏"/>
              </a:rPr>
              <a:t>（</a:t>
            </a:r>
            <a:r>
              <a:rPr b="0" lang="zh-CN" sz="3800" spc="-1" strike="noStrike">
                <a:solidFill>
                  <a:srgbClr val="003366"/>
                </a:solidFill>
                <a:latin typeface="华文新魏"/>
                <a:ea typeface="华文新魏"/>
              </a:rPr>
              <a:t>1</a:t>
            </a:r>
            <a:r>
              <a:rPr b="0" lang="zh-CN" sz="3800" spc="-1" strike="noStrike">
                <a:solidFill>
                  <a:srgbClr val="003366"/>
                </a:solidFill>
                <a:latin typeface="华文新魏"/>
                <a:ea typeface="华文新魏"/>
              </a:rPr>
              <a:t>）摘要；（</a:t>
            </a:r>
            <a:r>
              <a:rPr b="0" lang="zh-CN" sz="3800" spc="-1" strike="noStrike">
                <a:solidFill>
                  <a:srgbClr val="003366"/>
                </a:solidFill>
                <a:latin typeface="华文新魏"/>
                <a:ea typeface="华文新魏"/>
              </a:rPr>
              <a:t>2</a:t>
            </a:r>
            <a:r>
              <a:rPr b="0" lang="zh-CN" sz="3800" spc="-1" strike="noStrike">
                <a:solidFill>
                  <a:srgbClr val="003366"/>
                </a:solidFill>
                <a:latin typeface="华文新魏"/>
                <a:ea typeface="华文新魏"/>
              </a:rPr>
              <a:t>）问题界定（</a:t>
            </a:r>
            <a:r>
              <a:rPr b="0" lang="zh-CN" sz="3800" spc="-1" strike="noStrike">
                <a:solidFill>
                  <a:srgbClr val="003366"/>
                </a:solidFill>
                <a:latin typeface="华文新魏"/>
                <a:ea typeface="华文新魏"/>
              </a:rPr>
              <a:t>3</a:t>
            </a:r>
            <a:r>
              <a:rPr b="0" lang="zh-CN" sz="3800" spc="-1" strike="noStrike">
                <a:solidFill>
                  <a:srgbClr val="003366"/>
                </a:solidFill>
                <a:latin typeface="华文新魏"/>
                <a:ea typeface="华文新魏"/>
              </a:rPr>
              <a:t>）评估标准；（</a:t>
            </a:r>
            <a:r>
              <a:rPr b="0" lang="zh-CN" sz="3800" spc="-1" strike="noStrike">
                <a:solidFill>
                  <a:srgbClr val="003366"/>
                </a:solidFill>
                <a:latin typeface="华文新魏"/>
                <a:ea typeface="华文新魏"/>
              </a:rPr>
              <a:t>4</a:t>
            </a:r>
            <a:r>
              <a:rPr b="0" lang="zh-CN" sz="3800" spc="-1" strike="noStrike">
                <a:solidFill>
                  <a:srgbClr val="003366"/>
                </a:solidFill>
                <a:latin typeface="华文新魏"/>
                <a:ea typeface="华文新魏"/>
              </a:rPr>
              <a:t>）各种被选方案；（</a:t>
            </a:r>
            <a:r>
              <a:rPr b="0" lang="zh-CN" sz="3800" spc="-1" strike="noStrike">
                <a:solidFill>
                  <a:srgbClr val="003366"/>
                </a:solidFill>
                <a:latin typeface="华文新魏"/>
                <a:ea typeface="华文新魏"/>
              </a:rPr>
              <a:t>5</a:t>
            </a:r>
            <a:r>
              <a:rPr b="0" lang="zh-CN" sz="3800" spc="-1" strike="noStrike">
                <a:solidFill>
                  <a:srgbClr val="003366"/>
                </a:solidFill>
                <a:latin typeface="华文新魏"/>
                <a:ea typeface="华文新魏"/>
              </a:rPr>
              <a:t>）分析与比较；（</a:t>
            </a:r>
            <a:r>
              <a:rPr b="0" lang="zh-CN" sz="3800" spc="-1" strike="noStrike">
                <a:solidFill>
                  <a:srgbClr val="003366"/>
                </a:solidFill>
                <a:latin typeface="华文新魏"/>
                <a:ea typeface="华文新魏"/>
              </a:rPr>
              <a:t>6</a:t>
            </a:r>
            <a:r>
              <a:rPr b="0" lang="zh-CN" sz="3800" spc="-1" strike="noStrike">
                <a:solidFill>
                  <a:srgbClr val="003366"/>
                </a:solidFill>
                <a:latin typeface="华文新魏"/>
                <a:ea typeface="华文新魏"/>
              </a:rPr>
              <a:t>）结论；（</a:t>
            </a:r>
            <a:r>
              <a:rPr b="0" lang="zh-CN" sz="3800" spc="-1" strike="noStrike">
                <a:solidFill>
                  <a:srgbClr val="003366"/>
                </a:solidFill>
                <a:latin typeface="华文新魏"/>
                <a:ea typeface="华文新魏"/>
              </a:rPr>
              <a:t>7</a:t>
            </a:r>
            <a:r>
              <a:rPr b="0" lang="zh-CN" sz="3800" spc="-1" strike="noStrike">
                <a:solidFill>
                  <a:srgbClr val="003366"/>
                </a:solidFill>
                <a:latin typeface="华文新魏"/>
                <a:ea typeface="华文新魏"/>
              </a:rPr>
              <a:t>）下一步行动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685800" y="609480"/>
            <a:ext cx="7848720" cy="5486400"/>
          </a:xfrm>
          <a:prstGeom prst="rect">
            <a:avLst/>
          </a:prstGeom>
          <a:solidFill>
            <a:srgbClr val="e6f4ff"/>
          </a:solidFill>
          <a:ln w="19080">
            <a:solidFill>
              <a:srgbClr val="808080"/>
            </a:solidFill>
            <a:miter/>
          </a:ln>
        </p:spPr>
        <p:txBody>
          <a:bodyPr anchor="ctr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3366"/>
                </a:solidFill>
                <a:latin typeface="华文新魏"/>
                <a:ea typeface="华文新魏"/>
              </a:rPr>
              <a:t>摘要：分析报告的导读，让读者了解分析报告有什么内容。不超过一页，一小段代表一部分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3366"/>
                </a:solidFill>
                <a:latin typeface="华文新魏"/>
                <a:ea typeface="华文新魏"/>
              </a:rPr>
              <a:t>问题界定：使用统计资料，图表、轶事或其他方法来描述和解释问题，表明读者或委托人应该如何理解这个问题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3352680" cy="1371600"/>
          </a:xfrm>
          <a:prstGeom prst="rect">
            <a:avLst/>
          </a:prstGeom>
          <a:solidFill>
            <a:srgbClr val="003366"/>
          </a:solidFill>
          <a:ln w="1908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ff"/>
                </a:solidFill>
                <a:latin typeface="华文新魏"/>
                <a:ea typeface="华文新魏"/>
              </a:rPr>
              <a:t>评估标准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160" y="2209320"/>
            <a:ext cx="3352680" cy="4038840"/>
          </a:xfrm>
          <a:prstGeom prst="rect">
            <a:avLst/>
          </a:prstGeom>
          <a:solidFill>
            <a:srgbClr val="e6f4ff"/>
          </a:solidFill>
          <a:ln w="19080">
            <a:solidFill>
              <a:srgbClr val="808080"/>
            </a:solidFill>
            <a:miter/>
          </a:ln>
        </p:spPr>
        <p:txBody>
          <a:bodyPr anchor="ctr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3366"/>
                </a:solidFill>
                <a:latin typeface="华文新魏"/>
                <a:ea typeface="华文新魏"/>
              </a:rPr>
              <a:t>  </a:t>
            </a:r>
            <a:r>
              <a:rPr b="0" lang="zh-CN" sz="3800" spc="-1" strike="noStrike">
                <a:solidFill>
                  <a:srgbClr val="003366"/>
                </a:solidFill>
                <a:latin typeface="华文新魏"/>
                <a:ea typeface="华文新魏"/>
              </a:rPr>
              <a:t>明确什么是好的，列出解释你所使用的标准，同时要注意政治上的限制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95680" y="457200"/>
            <a:ext cx="3733920" cy="1371600"/>
          </a:xfrm>
          <a:prstGeom prst="rect">
            <a:avLst/>
          </a:prstGeom>
          <a:solidFill>
            <a:srgbClr val="003366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ff"/>
                </a:solidFill>
                <a:latin typeface="宋体"/>
              </a:rPr>
              <a:t>各种选择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648320" y="2286000"/>
            <a:ext cx="3733560" cy="4038480"/>
          </a:xfrm>
          <a:prstGeom prst="rect">
            <a:avLst/>
          </a:prstGeom>
          <a:solidFill>
            <a:srgbClr val="ffccff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3366"/>
                </a:solidFill>
                <a:latin typeface="华文新魏"/>
                <a:ea typeface="华文新魏"/>
              </a:rPr>
              <a:t>描述可供选择的内容，对相思的选择进行分组，并讨论普通的类型以及变化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457200" y="304920"/>
            <a:ext cx="7467480" cy="1218960"/>
          </a:xfrm>
          <a:prstGeom prst="rect">
            <a:avLst/>
          </a:prstGeom>
          <a:solidFill>
            <a:srgbClr val="003366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ff"/>
                </a:solidFill>
                <a:latin typeface="宋体"/>
              </a:rPr>
              <a:t>分析比较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0880" y="1600200"/>
            <a:ext cx="8763120" cy="4724280"/>
          </a:xfrm>
          <a:prstGeom prst="rect">
            <a:avLst/>
          </a:prstGeom>
          <a:solidFill>
            <a:srgbClr val="e6f4ff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3366"/>
                </a:solidFill>
                <a:latin typeface="华文新魏"/>
                <a:ea typeface="华文新魏"/>
              </a:rPr>
              <a:t>解释如何使用已经描述的评估标准去评估那些可供选择的内容。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3366"/>
                </a:solidFill>
                <a:latin typeface="华文新魏"/>
                <a:ea typeface="华文新魏"/>
              </a:rPr>
              <a:t>使用基本的统计数字、决策分析、数学公式、规划方法以及其他技术进行分析和比较，用参数测定备选内容对变化的敏感性。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3366"/>
                </a:solidFill>
                <a:latin typeface="华文新魏"/>
                <a:ea typeface="华文新魏"/>
              </a:rPr>
              <a:t>总结和比较可供选择的内容。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3366"/>
                </a:solidFill>
                <a:latin typeface="华文新魏"/>
                <a:ea typeface="华文新魏"/>
              </a:rPr>
              <a:t>在对各种选择进行简要的、合理的解释之后，排除那些不合适的选择，向属其他被留下来的选择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066680" y="457200"/>
            <a:ext cx="3048120" cy="1143000"/>
          </a:xfrm>
          <a:prstGeom prst="rect">
            <a:avLst/>
          </a:prstGeom>
          <a:solidFill>
            <a:srgbClr val="003366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ff"/>
                </a:solidFill>
                <a:latin typeface="宋体"/>
              </a:rPr>
              <a:t>结论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066680" y="2133720"/>
            <a:ext cx="7010640" cy="3809880"/>
          </a:xfrm>
          <a:prstGeom prst="rect">
            <a:avLst/>
          </a:prstGeom>
          <a:solidFill>
            <a:srgbClr val="e6f4ff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3366"/>
                </a:solidFill>
                <a:latin typeface="华文新魏"/>
                <a:ea typeface="华文新魏"/>
              </a:rPr>
              <a:t>提出结论和建议，说明不确定性，以及采用结论后可能产生的结果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3366"/>
                </a:solidFill>
                <a:latin typeface="华文新魏"/>
                <a:ea typeface="华文新魏"/>
              </a:rPr>
              <a:t>接受建议之后，应采取什么步骤？应该包括管理和评估的方案。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300" spc="-1" strike="noStrike">
                <a:solidFill>
                  <a:srgbClr val="003366"/>
                </a:solidFill>
                <a:latin typeface="华文新魏"/>
                <a:ea typeface="华文新魏"/>
              </a:rPr>
              <a:t>1</a:t>
            </a:r>
            <a:r>
              <a:rPr b="0" lang="zh-CN" sz="7300" spc="-1" strike="noStrike">
                <a:solidFill>
                  <a:srgbClr val="003366"/>
                </a:solidFill>
                <a:latin typeface="华文新魏"/>
                <a:ea typeface="华文新魏"/>
              </a:rPr>
              <a:t>、观点的来源</a:t>
            </a:r>
            <a:endParaRPr b="0" lang="en-US" sz="7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e6f4ff"/>
          </a:solidFill>
          <a:ln w="19080">
            <a:solidFill>
              <a:srgbClr val="808080"/>
            </a:solidFill>
            <a:miter/>
          </a:ln>
        </p:spPr>
        <p:txBody>
          <a:bodyPr anchor="ctr">
            <a:normAutofit/>
          </a:bodyPr>
          <a:p>
            <a:pPr marL="343080" indent="-343080">
              <a:lnSpc>
                <a:spcPct val="100000"/>
              </a:lnSpc>
              <a:spcBef>
                <a:spcPts val="1375"/>
              </a:spcBef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500" spc="-1" strike="noStrike">
                <a:solidFill>
                  <a:srgbClr val="003366"/>
                </a:solidFill>
                <a:latin typeface="华文新魏"/>
                <a:ea typeface="华文新魏"/>
              </a:rPr>
              <a:t>专业知识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75"/>
              </a:spcBef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500" spc="-1" strike="noStrike">
                <a:solidFill>
                  <a:srgbClr val="003366"/>
                </a:solidFill>
                <a:latin typeface="华文新魏"/>
                <a:ea typeface="华文新魏"/>
              </a:rPr>
              <a:t>实践经验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75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500" spc="-1" strike="noStrike">
                <a:solidFill>
                  <a:srgbClr val="ff0000"/>
                </a:solidFill>
                <a:latin typeface="华文新魏"/>
                <a:ea typeface="华文新魏"/>
              </a:rPr>
              <a:t>政策分析理论模型</a:t>
            </a:r>
            <a:r>
              <a:rPr b="0" lang="zh-CN" sz="5500" spc="-1" strike="noStrike">
                <a:solidFill>
                  <a:srgbClr val="003366"/>
                </a:solidFill>
                <a:latin typeface="华文新魏"/>
                <a:ea typeface="华文新魏"/>
              </a:rPr>
              <a:t> 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01000" cy="1143000"/>
          </a:xfrm>
          <a:prstGeom prst="rect">
            <a:avLst/>
          </a:prstGeom>
          <a:solidFill>
            <a:srgbClr val="003366"/>
          </a:solidFill>
          <a:ln w="1908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宋体"/>
              </a:rPr>
              <a:t>2</a:t>
            </a:r>
            <a:r>
              <a:rPr b="1" lang="zh-CN" sz="4400" spc="-1" strike="noStrike">
                <a:solidFill>
                  <a:srgbClr val="ffffff"/>
                </a:solidFill>
                <a:latin typeface="宋体"/>
              </a:rPr>
              <a:t>、政策分析报告的主要类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e6f4ff"/>
          </a:solidFill>
          <a:ln w="19080">
            <a:solidFill>
              <a:srgbClr val="808080"/>
            </a:solidFill>
            <a:miter/>
          </a:ln>
        </p:spPr>
        <p:txBody>
          <a:bodyPr anchor="ctr">
            <a:normAutofit/>
          </a:bodyPr>
          <a:p>
            <a:pPr marL="343080" indent="-343080">
              <a:lnSpc>
                <a:spcPct val="100000"/>
              </a:lnSpc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华文新魏"/>
                <a:ea typeface="华文新魏"/>
              </a:rPr>
              <a:t>政策评论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华文新魏"/>
                <a:ea typeface="华文新魏"/>
              </a:rPr>
              <a:t>调查报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华文新魏"/>
                <a:ea typeface="华文新魏"/>
              </a:rPr>
              <a:t>政策评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华文新魏"/>
                <a:ea typeface="华文新魏"/>
              </a:rPr>
              <a:t>政策建议（狭义的“政策分析报告”）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3366"/>
          </a:solidFill>
          <a:ln w="1908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1" lang="zh-CN" sz="4400" spc="-1" strike="noStrike">
                <a:solidFill>
                  <a:srgbClr val="ffffff"/>
                </a:solidFill>
                <a:latin typeface="宋体"/>
              </a:rPr>
              <a:t>1</a:t>
            </a:r>
            <a:r>
              <a:rPr b="1" lang="zh-CN" sz="4400" spc="-1" strike="noStrike">
                <a:solidFill>
                  <a:srgbClr val="ffffff"/>
                </a:solidFill>
                <a:latin typeface="宋体"/>
              </a:rPr>
              <a:t>）政策评论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e6f4ff"/>
          </a:solidFill>
          <a:ln w="19080">
            <a:solidFill>
              <a:srgbClr val="808080"/>
            </a:solidFill>
            <a:miter/>
          </a:ln>
        </p:spPr>
        <p:txBody>
          <a:bodyPr anchor="ctr">
            <a:normAutofit/>
          </a:bodyPr>
          <a:p>
            <a:pPr marL="343080" indent="-343080">
              <a:lnSpc>
                <a:spcPct val="90000"/>
              </a:lnSpc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66"/>
                </a:solidFill>
                <a:latin typeface="华文新魏"/>
                <a:ea typeface="华文新魏"/>
              </a:rPr>
              <a:t>从某个角度、运用某个观点对政策进行评价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66"/>
                </a:solidFill>
                <a:latin typeface="华文新魏"/>
                <a:ea typeface="华文新魏"/>
              </a:rPr>
              <a:t>要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66"/>
                </a:solidFill>
                <a:latin typeface="华文新魏"/>
                <a:ea typeface="华文新魏"/>
              </a:rPr>
              <a:t>  </a:t>
            </a:r>
            <a:r>
              <a:rPr b="0" lang="zh-CN" sz="3600" spc="-1" strike="noStrike">
                <a:solidFill>
                  <a:srgbClr val="003366"/>
                </a:solidFill>
                <a:latin typeface="华文新魏"/>
                <a:ea typeface="华文新魏"/>
              </a:rPr>
              <a:t>（</a:t>
            </a:r>
            <a:r>
              <a:rPr b="0" lang="zh-CN" sz="3600" spc="-1" strike="noStrike">
                <a:solidFill>
                  <a:srgbClr val="003366"/>
                </a:solidFill>
                <a:latin typeface="华文新魏"/>
                <a:ea typeface="华文新魏"/>
              </a:rPr>
              <a:t>1</a:t>
            </a:r>
            <a:r>
              <a:rPr b="0" lang="zh-CN" sz="3600" spc="-1" strike="noStrike">
                <a:solidFill>
                  <a:srgbClr val="003366"/>
                </a:solidFill>
                <a:latin typeface="华文新魏"/>
                <a:ea typeface="华文新魏"/>
              </a:rPr>
              <a:t>）一事一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66"/>
                </a:solidFill>
                <a:latin typeface="华文新魏"/>
                <a:ea typeface="华文新魏"/>
              </a:rPr>
              <a:t>  </a:t>
            </a:r>
            <a:r>
              <a:rPr b="0" lang="zh-CN" sz="3600" spc="-1" strike="noStrike">
                <a:solidFill>
                  <a:srgbClr val="003366"/>
                </a:solidFill>
                <a:latin typeface="华文新魏"/>
                <a:ea typeface="华文新魏"/>
              </a:rPr>
              <a:t>（</a:t>
            </a:r>
            <a:r>
              <a:rPr b="0" lang="zh-CN" sz="3600" spc="-1" strike="noStrike">
                <a:solidFill>
                  <a:srgbClr val="003366"/>
                </a:solidFill>
                <a:latin typeface="华文新魏"/>
                <a:ea typeface="华文新魏"/>
              </a:rPr>
              <a:t>2</a:t>
            </a:r>
            <a:r>
              <a:rPr b="0" lang="zh-CN" sz="3600" spc="-1" strike="noStrike">
                <a:solidFill>
                  <a:srgbClr val="003366"/>
                </a:solidFill>
                <a:latin typeface="华文新魏"/>
                <a:ea typeface="华文新魏"/>
              </a:rPr>
              <a:t>）有理有据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66"/>
                </a:solidFill>
                <a:latin typeface="华文新魏"/>
                <a:ea typeface="华文新魏"/>
              </a:rPr>
              <a:t>  </a:t>
            </a:r>
            <a:r>
              <a:rPr b="0" lang="zh-CN" sz="3600" spc="-1" strike="noStrike">
                <a:solidFill>
                  <a:srgbClr val="003366"/>
                </a:solidFill>
                <a:latin typeface="华文新魏"/>
                <a:ea typeface="华文新魏"/>
              </a:rPr>
              <a:t>（</a:t>
            </a:r>
            <a:r>
              <a:rPr b="0" lang="zh-CN" sz="3600" spc="-1" strike="noStrike">
                <a:solidFill>
                  <a:srgbClr val="003366"/>
                </a:solidFill>
                <a:latin typeface="华文新魏"/>
                <a:ea typeface="华文新魏"/>
              </a:rPr>
              <a:t>3</a:t>
            </a:r>
            <a:r>
              <a:rPr b="0" lang="zh-CN" sz="3600" spc="-1" strike="noStrike">
                <a:solidFill>
                  <a:srgbClr val="003366"/>
                </a:solidFill>
                <a:latin typeface="华文新魏"/>
                <a:ea typeface="华文新魏"/>
              </a:rPr>
              <a:t>）语言通俗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66"/>
                </a:solidFill>
                <a:latin typeface="华文新魏"/>
                <a:ea typeface="华文新魏"/>
              </a:rPr>
              <a:t>  </a:t>
            </a:r>
            <a:r>
              <a:rPr b="0" lang="zh-CN" sz="3600" spc="-1" strike="noStrike">
                <a:solidFill>
                  <a:srgbClr val="003366"/>
                </a:solidFill>
                <a:latin typeface="华文新魏"/>
                <a:ea typeface="华文新魏"/>
              </a:rPr>
              <a:t>（</a:t>
            </a:r>
            <a:r>
              <a:rPr b="0" lang="zh-CN" sz="3600" spc="-1" strike="noStrike">
                <a:solidFill>
                  <a:srgbClr val="003366"/>
                </a:solidFill>
                <a:latin typeface="华文新魏"/>
                <a:ea typeface="华文新魏"/>
              </a:rPr>
              <a:t>4</a:t>
            </a:r>
            <a:r>
              <a:rPr b="0" lang="zh-CN" sz="3600" spc="-1" strike="noStrike">
                <a:solidFill>
                  <a:srgbClr val="003366"/>
                </a:solidFill>
                <a:latin typeface="华文新魏"/>
                <a:ea typeface="华文新魏"/>
              </a:rPr>
              <a:t>）观点明确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66"/>
                </a:solidFill>
                <a:latin typeface="华文新魏"/>
                <a:ea typeface="华文新魏"/>
              </a:rPr>
              <a:t>  </a:t>
            </a:r>
            <a:r>
              <a:rPr b="0" lang="zh-CN" sz="3600" spc="-1" strike="noStrike">
                <a:solidFill>
                  <a:srgbClr val="003366"/>
                </a:solidFill>
                <a:latin typeface="华文新魏"/>
                <a:ea typeface="华文新魏"/>
              </a:rPr>
              <a:t>（</a:t>
            </a:r>
            <a:r>
              <a:rPr b="0" lang="zh-CN" sz="3600" spc="-1" strike="noStrike">
                <a:solidFill>
                  <a:srgbClr val="003366"/>
                </a:solidFill>
                <a:latin typeface="华文新魏"/>
                <a:ea typeface="华文新魏"/>
              </a:rPr>
              <a:t>5</a:t>
            </a:r>
            <a:r>
              <a:rPr b="0" lang="zh-CN" sz="3600" spc="-1" strike="noStrike">
                <a:solidFill>
                  <a:srgbClr val="003366"/>
                </a:solidFill>
                <a:latin typeface="华文新魏"/>
                <a:ea typeface="华文新魏"/>
              </a:rPr>
              <a:t>）篇幅短小，最好不要做建议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458200" cy="1143000"/>
          </a:xfrm>
          <a:prstGeom prst="rect">
            <a:avLst/>
          </a:prstGeom>
          <a:solidFill>
            <a:srgbClr val="003366"/>
          </a:solidFill>
          <a:ln w="1908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宋体"/>
              </a:rPr>
              <a:t>范例：改革之路，为何越走越难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e6f4ff"/>
          </a:solidFill>
          <a:ln w="19080">
            <a:solidFill>
              <a:srgbClr val="808080"/>
            </a:solidFill>
            <a:miter/>
          </a:ln>
        </p:spPr>
        <p:txBody>
          <a:bodyPr anchor="ctr">
            <a:normAutofit/>
          </a:bodyPr>
          <a:p>
            <a:pPr marL="343080" indent="-343080">
              <a:lnSpc>
                <a:spcPct val="90000"/>
              </a:lnSpc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66"/>
                </a:solidFill>
                <a:latin typeface="华文新魏"/>
                <a:ea typeface="华文新魏"/>
              </a:rPr>
              <a:t>改革的实质是利益格局的重新调整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66"/>
                </a:solidFill>
                <a:latin typeface="华文新魏"/>
                <a:ea typeface="华文新魏"/>
              </a:rPr>
              <a:t>中国的改革之旅：帕累托最优－正和博弈（帕雷托改良）－零和博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66"/>
                </a:solidFill>
                <a:latin typeface="华文新魏"/>
                <a:ea typeface="华文新魏"/>
              </a:rPr>
              <a:t>所以，必须有部分人为改革承担成本，利益的刚性约束使得改革遇到的阻力愈来愈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66"/>
                </a:solidFill>
                <a:latin typeface="华文新魏"/>
                <a:ea typeface="华文新魏"/>
              </a:rPr>
              <a:t>结论：痛下决心，注意公正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3366"/>
          </a:solidFill>
          <a:ln w="1908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宋体"/>
              </a:rPr>
              <a:t>2</a:t>
            </a:r>
            <a:r>
              <a:rPr b="1" lang="zh-CN" sz="4400" spc="-1" strike="noStrike">
                <a:solidFill>
                  <a:srgbClr val="ffffff"/>
                </a:solidFill>
                <a:latin typeface="宋体"/>
              </a:rPr>
              <a:t>、调查报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e6f4ff"/>
          </a:solidFill>
          <a:ln w="19080">
            <a:solidFill>
              <a:srgbClr val="808080"/>
            </a:solidFill>
            <a:miter/>
          </a:ln>
        </p:spPr>
        <p:txBody>
          <a:bodyPr anchor="ctr">
            <a:normAutofit/>
          </a:bodyPr>
          <a:p>
            <a:pPr marL="343080" indent="-343080">
              <a:lnSpc>
                <a:spcPct val="90000"/>
              </a:lnSpc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66"/>
                </a:solidFill>
                <a:latin typeface="华文新魏"/>
                <a:ea typeface="华文新魏"/>
              </a:rPr>
              <a:t>侧重点是对问题进行界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66"/>
                </a:solidFill>
                <a:latin typeface="华文新魏"/>
                <a:ea typeface="华文新魏"/>
              </a:rPr>
              <a:t>要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66"/>
                </a:solidFill>
                <a:latin typeface="华文新魏"/>
                <a:ea typeface="华文新魏"/>
              </a:rPr>
              <a:t>（</a:t>
            </a:r>
            <a:r>
              <a:rPr b="0" lang="zh-CN" sz="3600" spc="-1" strike="noStrike">
                <a:solidFill>
                  <a:srgbClr val="003366"/>
                </a:solidFill>
                <a:latin typeface="华文新魏"/>
                <a:ea typeface="华文新魏"/>
              </a:rPr>
              <a:t>1</a:t>
            </a:r>
            <a:r>
              <a:rPr b="0" lang="zh-CN" sz="3600" spc="-1" strike="noStrike">
                <a:solidFill>
                  <a:srgbClr val="003366"/>
                </a:solidFill>
                <a:latin typeface="华文新魏"/>
                <a:ea typeface="华文新魏"/>
              </a:rPr>
              <a:t>）明确调查目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66"/>
                </a:solidFill>
                <a:latin typeface="华文新魏"/>
                <a:ea typeface="华文新魏"/>
              </a:rPr>
              <a:t>（</a:t>
            </a:r>
            <a:r>
              <a:rPr b="0" lang="zh-CN" sz="3600" spc="-1" strike="noStrike">
                <a:solidFill>
                  <a:srgbClr val="003366"/>
                </a:solidFill>
                <a:latin typeface="华文新魏"/>
                <a:ea typeface="华文新魏"/>
              </a:rPr>
              <a:t>2</a:t>
            </a:r>
            <a:r>
              <a:rPr b="0" lang="zh-CN" sz="3600" spc="-1" strike="noStrike">
                <a:solidFill>
                  <a:srgbClr val="003366"/>
                </a:solidFill>
                <a:latin typeface="华文新魏"/>
                <a:ea typeface="华文新魏"/>
              </a:rPr>
              <a:t>）调查方法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66"/>
                </a:solidFill>
                <a:latin typeface="华文新魏"/>
                <a:ea typeface="华文新魏"/>
              </a:rPr>
              <a:t>（</a:t>
            </a:r>
            <a:r>
              <a:rPr b="0" lang="zh-CN" sz="3600" spc="-1" strike="noStrike">
                <a:solidFill>
                  <a:srgbClr val="003366"/>
                </a:solidFill>
                <a:latin typeface="华文新魏"/>
                <a:ea typeface="华文新魏"/>
              </a:rPr>
              <a:t>3</a:t>
            </a:r>
            <a:r>
              <a:rPr b="0" lang="zh-CN" sz="3600" spc="-1" strike="noStrike">
                <a:solidFill>
                  <a:srgbClr val="003366"/>
                </a:solidFill>
                <a:latin typeface="华文新魏"/>
                <a:ea typeface="华文新魏"/>
              </a:rPr>
              <a:t>）调查结果（历史、事实、数据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66"/>
                </a:solidFill>
                <a:latin typeface="华文新魏"/>
                <a:ea typeface="华文新魏"/>
              </a:rPr>
              <a:t>（</a:t>
            </a:r>
            <a:r>
              <a:rPr b="0" lang="zh-CN" sz="3600" spc="-1" strike="noStrike">
                <a:solidFill>
                  <a:srgbClr val="003366"/>
                </a:solidFill>
                <a:latin typeface="华文新魏"/>
                <a:ea typeface="华文新魏"/>
              </a:rPr>
              <a:t>4</a:t>
            </a:r>
            <a:r>
              <a:rPr b="0" lang="zh-CN" sz="3600" spc="-1" strike="noStrike">
                <a:solidFill>
                  <a:srgbClr val="003366"/>
                </a:solidFill>
                <a:latin typeface="华文新魏"/>
                <a:ea typeface="华文新魏"/>
              </a:rPr>
              <a:t>）结果的涵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66"/>
                </a:solidFill>
                <a:latin typeface="华文新魏"/>
                <a:ea typeface="华文新魏"/>
              </a:rPr>
              <a:t>（</a:t>
            </a:r>
            <a:r>
              <a:rPr b="0" lang="zh-CN" sz="3600" spc="-1" strike="noStrike">
                <a:solidFill>
                  <a:srgbClr val="003366"/>
                </a:solidFill>
                <a:latin typeface="华文新魏"/>
                <a:ea typeface="华文新魏"/>
              </a:rPr>
              <a:t>5</a:t>
            </a:r>
            <a:r>
              <a:rPr b="0" lang="zh-CN" sz="3600" spc="-1" strike="noStrike">
                <a:solidFill>
                  <a:srgbClr val="003366"/>
                </a:solidFill>
                <a:latin typeface="华文新魏"/>
                <a:ea typeface="华文新魏"/>
              </a:rPr>
              <a:t>）进一步行动的建议：继续调查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696080" cy="838080"/>
          </a:xfrm>
          <a:prstGeom prst="rect">
            <a:avLst/>
          </a:prstGeom>
          <a:solidFill>
            <a:srgbClr val="003366"/>
          </a:solidFill>
          <a:ln w="1908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宋体"/>
              </a:rPr>
              <a:t>3</a:t>
            </a:r>
            <a:r>
              <a:rPr b="1" lang="zh-CN" sz="4400" spc="-1" strike="noStrike">
                <a:solidFill>
                  <a:srgbClr val="ffffff"/>
                </a:solidFill>
                <a:latin typeface="宋体"/>
              </a:rPr>
              <a:t>、政策评估报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848720" cy="4800600"/>
          </a:xfrm>
          <a:prstGeom prst="rect">
            <a:avLst/>
          </a:prstGeom>
          <a:solidFill>
            <a:srgbClr val="e6f4ff"/>
          </a:solidFill>
          <a:ln w="19080">
            <a:solidFill>
              <a:srgbClr val="808080"/>
            </a:solidFill>
            <a:miter/>
          </a:ln>
        </p:spPr>
        <p:txBody>
          <a:bodyPr anchor="ctr">
            <a:normAutofit/>
          </a:bodyPr>
          <a:p>
            <a:pPr marL="343080" indent="-343080">
              <a:lnSpc>
                <a:spcPct val="90000"/>
              </a:lnSpc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66"/>
                </a:solidFill>
                <a:latin typeface="华文新魏"/>
                <a:ea typeface="华文新魏"/>
              </a:rPr>
              <a:t>侧重点：政策方案是否达到预期目的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66"/>
                </a:solidFill>
                <a:latin typeface="华文新魏"/>
                <a:ea typeface="华文新魏"/>
              </a:rPr>
              <a:t>要点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66"/>
                </a:solidFill>
                <a:latin typeface="华文新魏"/>
                <a:ea typeface="华文新魏"/>
              </a:rPr>
              <a:t>（</a:t>
            </a:r>
            <a:r>
              <a:rPr b="0" lang="zh-CN" sz="3600" spc="-1" strike="noStrike">
                <a:solidFill>
                  <a:srgbClr val="003366"/>
                </a:solidFill>
                <a:latin typeface="华文新魏"/>
                <a:ea typeface="华文新魏"/>
              </a:rPr>
              <a:t>1</a:t>
            </a:r>
            <a:r>
              <a:rPr b="0" lang="zh-CN" sz="3600" spc="-1" strike="noStrike">
                <a:solidFill>
                  <a:srgbClr val="003366"/>
                </a:solidFill>
                <a:latin typeface="华文新魏"/>
                <a:ea typeface="华文新魏"/>
              </a:rPr>
              <a:t>）明确评估标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66"/>
                </a:solidFill>
                <a:latin typeface="华文新魏"/>
                <a:ea typeface="华文新魏"/>
              </a:rPr>
              <a:t>（</a:t>
            </a:r>
            <a:r>
              <a:rPr b="0" lang="zh-CN" sz="3600" spc="-1" strike="noStrike">
                <a:solidFill>
                  <a:srgbClr val="003366"/>
                </a:solidFill>
                <a:latin typeface="华文新魏"/>
                <a:ea typeface="华文新魏"/>
              </a:rPr>
              <a:t>2</a:t>
            </a:r>
            <a:r>
              <a:rPr b="0" lang="zh-CN" sz="3600" spc="-1" strike="noStrike">
                <a:solidFill>
                  <a:srgbClr val="003366"/>
                </a:solidFill>
                <a:latin typeface="华文新魏"/>
                <a:ea typeface="华文新魏"/>
              </a:rPr>
              <a:t>）明确政策方案预期目标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66"/>
                </a:solidFill>
                <a:latin typeface="华文新魏"/>
                <a:ea typeface="华文新魏"/>
              </a:rPr>
              <a:t>（</a:t>
            </a:r>
            <a:r>
              <a:rPr b="0" lang="zh-CN" sz="3600" spc="-1" strike="noStrike">
                <a:solidFill>
                  <a:srgbClr val="003366"/>
                </a:solidFill>
                <a:latin typeface="华文新魏"/>
                <a:ea typeface="华文新魏"/>
              </a:rPr>
              <a:t>3</a:t>
            </a:r>
            <a:r>
              <a:rPr b="0" lang="zh-CN" sz="3600" spc="-1" strike="noStrike">
                <a:solidFill>
                  <a:srgbClr val="003366"/>
                </a:solidFill>
                <a:latin typeface="华文新魏"/>
                <a:ea typeface="华文新魏"/>
              </a:rPr>
              <a:t>）明确政策实施实际结果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66"/>
                </a:solidFill>
                <a:latin typeface="华文新魏"/>
                <a:ea typeface="华文新魏"/>
              </a:rPr>
              <a:t>（</a:t>
            </a:r>
            <a:r>
              <a:rPr b="0" lang="zh-CN" sz="3600" spc="-1" strike="noStrike">
                <a:solidFill>
                  <a:srgbClr val="003366"/>
                </a:solidFill>
                <a:latin typeface="华文新魏"/>
                <a:ea typeface="华文新魏"/>
              </a:rPr>
              <a:t>4</a:t>
            </a:r>
            <a:r>
              <a:rPr b="0" lang="zh-CN" sz="3600" spc="-1" strike="noStrike">
                <a:solidFill>
                  <a:srgbClr val="003366"/>
                </a:solidFill>
                <a:latin typeface="华文新魏"/>
                <a:ea typeface="华文新魏"/>
              </a:rPr>
              <a:t>）“方案－执行－结果”链条分析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66"/>
                </a:solidFill>
                <a:latin typeface="华文新魏"/>
                <a:ea typeface="华文新魏"/>
              </a:rPr>
              <a:t>（</a:t>
            </a:r>
            <a:r>
              <a:rPr b="0" lang="zh-CN" sz="3600" spc="-1" strike="noStrike">
                <a:solidFill>
                  <a:srgbClr val="003366"/>
                </a:solidFill>
                <a:latin typeface="华文新魏"/>
                <a:ea typeface="华文新魏"/>
              </a:rPr>
              <a:t>5</a:t>
            </a:r>
            <a:r>
              <a:rPr b="0" lang="zh-CN" sz="3600" spc="-1" strike="noStrike">
                <a:solidFill>
                  <a:srgbClr val="003366"/>
                </a:solidFill>
                <a:latin typeface="华文新魏"/>
                <a:ea typeface="华文新魏"/>
              </a:rPr>
              <a:t>）结论：方案是否存在问题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66"/>
                </a:solidFill>
                <a:latin typeface="华文新魏"/>
                <a:ea typeface="华文新魏"/>
              </a:rPr>
              <a:t>（</a:t>
            </a:r>
            <a:r>
              <a:rPr b="0" lang="zh-CN" sz="3600" spc="-1" strike="noStrike">
                <a:solidFill>
                  <a:srgbClr val="003366"/>
                </a:solidFill>
                <a:latin typeface="华文新魏"/>
                <a:ea typeface="华文新魏"/>
              </a:rPr>
              <a:t>6</a:t>
            </a:r>
            <a:r>
              <a:rPr b="0" lang="zh-CN" sz="3600" spc="-1" strike="noStrike">
                <a:solidFill>
                  <a:srgbClr val="003366"/>
                </a:solidFill>
                <a:latin typeface="华文新魏"/>
                <a:ea typeface="华文新魏"/>
              </a:rPr>
              <a:t>）建议：继续执行？修改或废除方案？改进执行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3366"/>
          </a:solidFill>
          <a:ln w="1908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宋体"/>
              </a:rPr>
              <a:t>政策建议报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e6f4ff"/>
          </a:solidFill>
          <a:ln w="19080">
            <a:solidFill>
              <a:srgbClr val="808080"/>
            </a:solidFill>
            <a:miter/>
          </a:ln>
        </p:spPr>
        <p:txBody>
          <a:bodyPr anchor="ctr">
            <a:normAutofit/>
          </a:bodyPr>
          <a:p>
            <a:pPr marL="343080" indent="-343080">
              <a:lnSpc>
                <a:spcPct val="90000"/>
              </a:lnSpc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66"/>
                </a:solidFill>
                <a:latin typeface="华文新魏"/>
                <a:ea typeface="华文新魏"/>
              </a:rPr>
              <a:t>侧重点：为顾客提供未来行动方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66"/>
                </a:solidFill>
                <a:latin typeface="华文新魏"/>
                <a:ea typeface="华文新魏"/>
              </a:rPr>
              <a:t>要点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66"/>
                </a:solidFill>
                <a:latin typeface="华文新魏"/>
                <a:ea typeface="华文新魏"/>
              </a:rPr>
              <a:t>（</a:t>
            </a:r>
            <a:r>
              <a:rPr b="0" lang="zh-CN" sz="3600" spc="-1" strike="noStrike">
                <a:solidFill>
                  <a:srgbClr val="003366"/>
                </a:solidFill>
                <a:latin typeface="华文新魏"/>
                <a:ea typeface="华文新魏"/>
              </a:rPr>
              <a:t>1</a:t>
            </a:r>
            <a:r>
              <a:rPr b="0" lang="zh-CN" sz="3600" spc="-1" strike="noStrike">
                <a:solidFill>
                  <a:srgbClr val="003366"/>
                </a:solidFill>
                <a:latin typeface="华文新魏"/>
                <a:ea typeface="华文新魏"/>
              </a:rPr>
              <a:t>）系统、全面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66"/>
                </a:solidFill>
                <a:latin typeface="华文新魏"/>
                <a:ea typeface="华文新魏"/>
              </a:rPr>
              <a:t>（</a:t>
            </a:r>
            <a:r>
              <a:rPr b="0" lang="zh-CN" sz="3600" spc="-1" strike="noStrike">
                <a:solidFill>
                  <a:srgbClr val="003366"/>
                </a:solidFill>
                <a:latin typeface="华文新魏"/>
                <a:ea typeface="华文新魏"/>
              </a:rPr>
              <a:t>2</a:t>
            </a:r>
            <a:r>
              <a:rPr b="0" lang="zh-CN" sz="3600" spc="-1" strike="noStrike">
                <a:solidFill>
                  <a:srgbClr val="003366"/>
                </a:solidFill>
                <a:latin typeface="华文新魏"/>
                <a:ea typeface="华文新魏"/>
              </a:rPr>
              <a:t>）术语要准确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66"/>
                </a:solidFill>
                <a:latin typeface="华文新魏"/>
                <a:ea typeface="华文新魏"/>
              </a:rPr>
              <a:t>（</a:t>
            </a:r>
            <a:r>
              <a:rPr b="0" lang="zh-CN" sz="3600" spc="-1" strike="noStrike">
                <a:solidFill>
                  <a:srgbClr val="003366"/>
                </a:solidFill>
                <a:latin typeface="华文新魏"/>
                <a:ea typeface="华文新魏"/>
              </a:rPr>
              <a:t>3</a:t>
            </a:r>
            <a:r>
              <a:rPr b="0" lang="zh-CN" sz="3600" spc="-1" strike="noStrike">
                <a:solidFill>
                  <a:srgbClr val="003366"/>
                </a:solidFill>
                <a:latin typeface="华文新魏"/>
                <a:ea typeface="华文新魏"/>
              </a:rPr>
              <a:t>）要严格按照六个步骤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ccccff"/>
                </a:solidFill>
                <a:uFillTx/>
                <a:latin typeface="华文新魏"/>
                <a:ea typeface="华文新魏"/>
                <a:hlinkClick r:id="rId1"/>
              </a:rPr>
              <a:t>范例</a:t>
            </a:r>
            <a:r>
              <a:rPr b="0" lang="zh-CN" sz="3600" spc="-1" strike="noStrike">
                <a:solidFill>
                  <a:srgbClr val="003366"/>
                </a:solidFill>
                <a:latin typeface="华文新魏"/>
                <a:ea typeface="华文新魏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3366"/>
          </a:solidFill>
          <a:ln w="1908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宋体"/>
              </a:rPr>
              <a:t>考试的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e6f4ff"/>
          </a:solidFill>
          <a:ln w="19080">
            <a:solidFill>
              <a:srgbClr val="808080"/>
            </a:solidFill>
            <a:miter/>
          </a:ln>
        </p:spPr>
        <p:txBody>
          <a:bodyPr anchor="ctr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66"/>
                </a:solidFill>
                <a:latin typeface="华文新魏"/>
                <a:ea typeface="华文新魏"/>
              </a:rPr>
              <a:t>计分：平时（</a:t>
            </a:r>
            <a:r>
              <a:rPr b="0" lang="zh-CN" sz="3600" spc="-1" strike="noStrike">
                <a:solidFill>
                  <a:srgbClr val="003366"/>
                </a:solidFill>
                <a:latin typeface="华文新魏"/>
                <a:ea typeface="华文新魏"/>
              </a:rPr>
              <a:t>30</a:t>
            </a:r>
            <a:r>
              <a:rPr b="0" lang="zh-CN" sz="3600" spc="-1" strike="noStrike">
                <a:solidFill>
                  <a:srgbClr val="003366"/>
                </a:solidFill>
                <a:latin typeface="华文新魏"/>
                <a:ea typeface="华文新魏"/>
              </a:rPr>
              <a:t>％）＋期末（</a:t>
            </a:r>
            <a:r>
              <a:rPr b="0" lang="zh-CN" sz="3600" spc="-1" strike="noStrike">
                <a:solidFill>
                  <a:srgbClr val="003366"/>
                </a:solidFill>
                <a:latin typeface="华文新魏"/>
                <a:ea typeface="华文新魏"/>
              </a:rPr>
              <a:t>70</a:t>
            </a:r>
            <a:r>
              <a:rPr b="0" lang="zh-CN" sz="3600" spc="-1" strike="noStrike">
                <a:solidFill>
                  <a:srgbClr val="003366"/>
                </a:solidFill>
                <a:latin typeface="华文新魏"/>
                <a:ea typeface="华文新魏"/>
              </a:rPr>
              <a:t>％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66"/>
                </a:solidFill>
                <a:latin typeface="华文新魏"/>
                <a:ea typeface="华文新魏"/>
              </a:rPr>
              <a:t>期末考试时间：新学期开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66"/>
                </a:solidFill>
                <a:latin typeface="华文新魏"/>
                <a:ea typeface="华文新魏"/>
              </a:rPr>
              <a:t>期末考试形式：笔试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solidFill>
            <a:srgbClr val="003366"/>
          </a:solidFill>
          <a:ln w="1908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宋体"/>
              </a:rPr>
              <a:t>复习参考题目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80520" y="1676160"/>
            <a:ext cx="8458200" cy="4724280"/>
          </a:xfrm>
          <a:prstGeom prst="rect">
            <a:avLst/>
          </a:prstGeom>
          <a:solidFill>
            <a:srgbClr val="e6f4ff"/>
          </a:solidFill>
          <a:ln w="19080">
            <a:solidFill>
              <a:srgbClr val="808080"/>
            </a:solidFill>
            <a:miter/>
          </a:ln>
        </p:spPr>
        <p:txBody>
          <a:bodyPr anchor="ctr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3366"/>
                </a:solidFill>
                <a:latin typeface="华文新魏"/>
                <a:ea typeface="华文新魏"/>
              </a:rPr>
              <a:t>1</a:t>
            </a:r>
            <a:r>
              <a:rPr b="0" lang="zh-CN" sz="3000" spc="-1" strike="noStrike">
                <a:solidFill>
                  <a:srgbClr val="003366"/>
                </a:solidFill>
                <a:latin typeface="华文新魏"/>
                <a:ea typeface="华文新魏"/>
              </a:rPr>
              <a:t>、结合实际，谈谈评估政策方案的公平标准主要有哪些？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3366"/>
                </a:solidFill>
                <a:latin typeface="华文新魏"/>
                <a:ea typeface="华文新魏"/>
              </a:rPr>
              <a:t>2</a:t>
            </a:r>
            <a:r>
              <a:rPr b="0" lang="zh-CN" sz="3000" spc="-1" strike="noStrike">
                <a:solidFill>
                  <a:srgbClr val="003366"/>
                </a:solidFill>
                <a:latin typeface="华文新魏"/>
                <a:ea typeface="华文新魏"/>
              </a:rPr>
              <a:t>、运用本课程的有关知识，对“非典”问题的性质进行分析，并在此基础上说明：是否要采取政策行为？采取何种的政策行为？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3366"/>
                </a:solidFill>
                <a:latin typeface="华文新魏"/>
                <a:ea typeface="华文新魏"/>
              </a:rPr>
              <a:t>运用本课程提供的方法，针对“人民大学东门前的街道交通阻塞”之问题，列出十种以上的备选方案。（每个方案</a:t>
            </a:r>
            <a:r>
              <a:rPr b="0" lang="zh-CN" sz="3000" spc="-1" strike="noStrike">
                <a:solidFill>
                  <a:srgbClr val="003366"/>
                </a:solidFill>
                <a:latin typeface="华文新魏"/>
                <a:ea typeface="华文新魏"/>
              </a:rPr>
              <a:t>50</a:t>
            </a:r>
            <a:r>
              <a:rPr b="0" lang="zh-CN" sz="3000" spc="-1" strike="noStrike">
                <a:solidFill>
                  <a:srgbClr val="003366"/>
                </a:solidFill>
                <a:latin typeface="华文新魏"/>
                <a:ea typeface="华文新魏"/>
              </a:rPr>
              <a:t>字以上）。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3366"/>
                </a:solidFill>
                <a:latin typeface="华文新魏"/>
                <a:ea typeface="华文新魏"/>
              </a:rPr>
              <a:t>3</a:t>
            </a:r>
            <a:r>
              <a:rPr b="0" lang="zh-CN" sz="3000" spc="-1" strike="noStrike">
                <a:solidFill>
                  <a:srgbClr val="003366"/>
                </a:solidFill>
                <a:latin typeface="华文新魏"/>
                <a:ea typeface="华文新魏"/>
              </a:rPr>
              <a:t>、从网络上查找北大人事制度改革方案，运用本课程的知识写一篇</a:t>
            </a:r>
            <a:r>
              <a:rPr b="0" lang="zh-CN" sz="3000" spc="-1" strike="noStrike">
                <a:solidFill>
                  <a:srgbClr val="003366"/>
                </a:solidFill>
                <a:latin typeface="华文新魏"/>
                <a:ea typeface="华文新魏"/>
              </a:rPr>
              <a:t>1000</a:t>
            </a:r>
            <a:r>
              <a:rPr b="0" lang="zh-CN" sz="3000" spc="-1" strike="noStrike">
                <a:solidFill>
                  <a:srgbClr val="003366"/>
                </a:solidFill>
                <a:latin typeface="华文新魏"/>
                <a:ea typeface="华文新魏"/>
              </a:rPr>
              <a:t>字左右的政策评论。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"/>
          <p:cNvGrpSpPr/>
          <p:nvPr/>
        </p:nvGrpSpPr>
        <p:grpSpPr>
          <a:xfrm>
            <a:off x="0" y="4572000"/>
            <a:ext cx="2590920" cy="1639440"/>
            <a:chOff x="0" y="4572000"/>
            <a:chExt cx="2590920" cy="1639440"/>
          </a:xfrm>
        </p:grpSpPr>
        <p:grpSp>
          <p:nvGrpSpPr>
            <p:cNvPr id="127" name=""/>
            <p:cNvGrpSpPr/>
            <p:nvPr/>
          </p:nvGrpSpPr>
          <p:grpSpPr>
            <a:xfrm>
              <a:off x="0" y="4574160"/>
              <a:ext cx="2332800" cy="1637280"/>
              <a:chOff x="0" y="4574160"/>
              <a:chExt cx="2332800" cy="1637280"/>
            </a:xfrm>
          </p:grpSpPr>
          <p:grpSp>
            <p:nvGrpSpPr>
              <p:cNvPr id="128" name=""/>
              <p:cNvGrpSpPr/>
              <p:nvPr/>
            </p:nvGrpSpPr>
            <p:grpSpPr>
              <a:xfrm>
                <a:off x="0" y="4574160"/>
                <a:ext cx="1301400" cy="1637280"/>
                <a:chOff x="0" y="4574160"/>
                <a:chExt cx="1301400" cy="1637280"/>
              </a:xfrm>
            </p:grpSpPr>
            <p:grpSp>
              <p:nvGrpSpPr>
                <p:cNvPr id="129" name=""/>
                <p:cNvGrpSpPr/>
                <p:nvPr/>
              </p:nvGrpSpPr>
              <p:grpSpPr>
                <a:xfrm>
                  <a:off x="0" y="4926600"/>
                  <a:ext cx="1301400" cy="1284840"/>
                  <a:chOff x="0" y="4926600"/>
                  <a:chExt cx="1301400" cy="1284840"/>
                </a:xfrm>
              </p:grpSpPr>
              <p:grpSp>
                <p:nvGrpSpPr>
                  <p:cNvPr id="130" name=""/>
                  <p:cNvGrpSpPr/>
                  <p:nvPr/>
                </p:nvGrpSpPr>
                <p:grpSpPr>
                  <a:xfrm>
                    <a:off x="0" y="5146920"/>
                    <a:ext cx="562680" cy="1059120"/>
                    <a:chOff x="0" y="5146920"/>
                    <a:chExt cx="562680" cy="1059120"/>
                  </a:xfrm>
                </p:grpSpPr>
                <p:sp>
                  <p:nvSpPr>
                    <p:cNvPr id="131" name=""/>
                    <p:cNvSpPr/>
                    <p:nvPr/>
                  </p:nvSpPr>
                  <p:spPr>
                    <a:xfrm>
                      <a:off x="0" y="5146920"/>
                      <a:ext cx="562680" cy="1059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302" h="4372">
                          <a:moveTo>
                            <a:pt x="1806" y="4372"/>
                          </a:moveTo>
                          <a:lnTo>
                            <a:pt x="1469" y="4168"/>
                          </a:lnTo>
                          <a:lnTo>
                            <a:pt x="1211" y="3980"/>
                          </a:lnTo>
                          <a:lnTo>
                            <a:pt x="973" y="3729"/>
                          </a:lnTo>
                          <a:lnTo>
                            <a:pt x="774" y="3510"/>
                          </a:lnTo>
                          <a:lnTo>
                            <a:pt x="576" y="3259"/>
                          </a:lnTo>
                          <a:lnTo>
                            <a:pt x="437" y="2993"/>
                          </a:lnTo>
                          <a:lnTo>
                            <a:pt x="338" y="2664"/>
                          </a:lnTo>
                          <a:lnTo>
                            <a:pt x="238" y="2303"/>
                          </a:lnTo>
                          <a:lnTo>
                            <a:pt x="199" y="2052"/>
                          </a:lnTo>
                          <a:lnTo>
                            <a:pt x="179" y="1739"/>
                          </a:lnTo>
                          <a:lnTo>
                            <a:pt x="179" y="1410"/>
                          </a:lnTo>
                          <a:lnTo>
                            <a:pt x="179" y="1159"/>
                          </a:lnTo>
                          <a:lnTo>
                            <a:pt x="199" y="862"/>
                          </a:lnTo>
                          <a:lnTo>
                            <a:pt x="199" y="595"/>
                          </a:lnTo>
                          <a:lnTo>
                            <a:pt x="119" y="329"/>
                          </a:lnTo>
                          <a:lnTo>
                            <a:pt x="0" y="0"/>
                          </a:lnTo>
                          <a:lnTo>
                            <a:pt x="338" y="313"/>
                          </a:lnTo>
                          <a:lnTo>
                            <a:pt x="476" y="564"/>
                          </a:lnTo>
                          <a:lnTo>
                            <a:pt x="596" y="767"/>
                          </a:lnTo>
                          <a:lnTo>
                            <a:pt x="715" y="1081"/>
                          </a:lnTo>
                          <a:lnTo>
                            <a:pt x="794" y="1473"/>
                          </a:lnTo>
                          <a:lnTo>
                            <a:pt x="834" y="1786"/>
                          </a:lnTo>
                          <a:lnTo>
                            <a:pt x="834" y="2052"/>
                          </a:lnTo>
                          <a:lnTo>
                            <a:pt x="893" y="2397"/>
                          </a:lnTo>
                          <a:lnTo>
                            <a:pt x="953" y="2695"/>
                          </a:lnTo>
                          <a:lnTo>
                            <a:pt x="1092" y="2946"/>
                          </a:lnTo>
                          <a:lnTo>
                            <a:pt x="1250" y="3228"/>
                          </a:lnTo>
                          <a:lnTo>
                            <a:pt x="1469" y="3510"/>
                          </a:lnTo>
                          <a:lnTo>
                            <a:pt x="1707" y="3808"/>
                          </a:lnTo>
                          <a:lnTo>
                            <a:pt x="1965" y="4105"/>
                          </a:lnTo>
                          <a:lnTo>
                            <a:pt x="2302" y="4372"/>
                          </a:lnTo>
                          <a:lnTo>
                            <a:pt x="1806" y="4372"/>
                          </a:lnTo>
                          <a:close/>
                        </a:path>
                      </a:pathLst>
                    </a:custGeom>
                    <a:solidFill>
                      <a:srgbClr val="006000"/>
                    </a:solidFill>
                    <a:ln w="11160">
                      <a:solidFill>
                        <a:srgbClr val="004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2" name=""/>
                    <p:cNvSpPr/>
                    <p:nvPr/>
                  </p:nvSpPr>
                  <p:spPr>
                    <a:xfrm>
                      <a:off x="91800" y="5325480"/>
                      <a:ext cx="266760" cy="777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92" h="3213">
                          <a:moveTo>
                            <a:pt x="0" y="0"/>
                          </a:moveTo>
                          <a:lnTo>
                            <a:pt x="40" y="267"/>
                          </a:lnTo>
                          <a:lnTo>
                            <a:pt x="60" y="502"/>
                          </a:lnTo>
                          <a:lnTo>
                            <a:pt x="60" y="784"/>
                          </a:lnTo>
                          <a:lnTo>
                            <a:pt x="60" y="1003"/>
                          </a:lnTo>
                          <a:lnTo>
                            <a:pt x="139" y="1379"/>
                          </a:lnTo>
                          <a:lnTo>
                            <a:pt x="238" y="1740"/>
                          </a:lnTo>
                          <a:lnTo>
                            <a:pt x="338" y="2053"/>
                          </a:lnTo>
                          <a:lnTo>
                            <a:pt x="457" y="2382"/>
                          </a:lnTo>
                          <a:lnTo>
                            <a:pt x="715" y="2821"/>
                          </a:lnTo>
                          <a:lnTo>
                            <a:pt x="1092" y="3213"/>
                          </a:lnTo>
                          <a:lnTo>
                            <a:pt x="794" y="2758"/>
                          </a:lnTo>
                          <a:lnTo>
                            <a:pt x="556" y="2429"/>
                          </a:lnTo>
                          <a:lnTo>
                            <a:pt x="357" y="1928"/>
                          </a:lnTo>
                          <a:lnTo>
                            <a:pt x="278" y="1599"/>
                          </a:lnTo>
                          <a:lnTo>
                            <a:pt x="159" y="1254"/>
                          </a:lnTo>
                          <a:lnTo>
                            <a:pt x="119" y="893"/>
                          </a:lnTo>
                          <a:lnTo>
                            <a:pt x="99" y="611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004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33" name=""/>
                  <p:cNvSpPr/>
                  <p:nvPr/>
                </p:nvSpPr>
                <p:spPr>
                  <a:xfrm>
                    <a:off x="436320" y="5008320"/>
                    <a:ext cx="136800" cy="1195560"/>
                  </a:xfrm>
                  <a:custGeom>
                    <a:avLst/>
                    <a:gdLst/>
                    <a:ahLst/>
                    <a:rect l="l" t="t" r="r" b="b"/>
                    <a:pathLst>
                      <a:path w="561" h="4936">
                        <a:moveTo>
                          <a:pt x="283" y="0"/>
                        </a:moveTo>
                        <a:lnTo>
                          <a:pt x="238" y="119"/>
                        </a:lnTo>
                        <a:lnTo>
                          <a:pt x="189" y="287"/>
                        </a:lnTo>
                        <a:lnTo>
                          <a:pt x="144" y="455"/>
                        </a:lnTo>
                        <a:lnTo>
                          <a:pt x="109" y="628"/>
                        </a:lnTo>
                        <a:lnTo>
                          <a:pt x="85" y="824"/>
                        </a:lnTo>
                        <a:lnTo>
                          <a:pt x="65" y="1034"/>
                        </a:lnTo>
                        <a:lnTo>
                          <a:pt x="40" y="1298"/>
                        </a:lnTo>
                        <a:lnTo>
                          <a:pt x="25" y="1520"/>
                        </a:lnTo>
                        <a:lnTo>
                          <a:pt x="5" y="1927"/>
                        </a:lnTo>
                        <a:lnTo>
                          <a:pt x="0" y="2093"/>
                        </a:lnTo>
                        <a:lnTo>
                          <a:pt x="5" y="2272"/>
                        </a:lnTo>
                        <a:lnTo>
                          <a:pt x="5" y="2453"/>
                        </a:lnTo>
                        <a:lnTo>
                          <a:pt x="10" y="2661"/>
                        </a:lnTo>
                        <a:lnTo>
                          <a:pt x="35" y="2978"/>
                        </a:lnTo>
                        <a:lnTo>
                          <a:pt x="55" y="3178"/>
                        </a:lnTo>
                        <a:lnTo>
                          <a:pt x="65" y="3337"/>
                        </a:lnTo>
                        <a:lnTo>
                          <a:pt x="99" y="3593"/>
                        </a:lnTo>
                        <a:lnTo>
                          <a:pt x="129" y="3797"/>
                        </a:lnTo>
                        <a:lnTo>
                          <a:pt x="174" y="4032"/>
                        </a:lnTo>
                        <a:lnTo>
                          <a:pt x="223" y="4262"/>
                        </a:lnTo>
                        <a:lnTo>
                          <a:pt x="263" y="4444"/>
                        </a:lnTo>
                        <a:lnTo>
                          <a:pt x="293" y="4608"/>
                        </a:lnTo>
                        <a:lnTo>
                          <a:pt x="323" y="4753"/>
                        </a:lnTo>
                        <a:lnTo>
                          <a:pt x="362" y="4936"/>
                        </a:lnTo>
                        <a:lnTo>
                          <a:pt x="561" y="4936"/>
                        </a:lnTo>
                        <a:lnTo>
                          <a:pt x="531" y="4835"/>
                        </a:lnTo>
                        <a:lnTo>
                          <a:pt x="491" y="4671"/>
                        </a:lnTo>
                        <a:lnTo>
                          <a:pt x="462" y="4526"/>
                        </a:lnTo>
                        <a:lnTo>
                          <a:pt x="422" y="4356"/>
                        </a:lnTo>
                        <a:lnTo>
                          <a:pt x="387" y="4169"/>
                        </a:lnTo>
                        <a:lnTo>
                          <a:pt x="343" y="3949"/>
                        </a:lnTo>
                        <a:lnTo>
                          <a:pt x="308" y="3758"/>
                        </a:lnTo>
                        <a:lnTo>
                          <a:pt x="288" y="3593"/>
                        </a:lnTo>
                        <a:lnTo>
                          <a:pt x="248" y="3311"/>
                        </a:lnTo>
                        <a:lnTo>
                          <a:pt x="223" y="3119"/>
                        </a:lnTo>
                        <a:lnTo>
                          <a:pt x="204" y="2883"/>
                        </a:lnTo>
                        <a:lnTo>
                          <a:pt x="184" y="2732"/>
                        </a:lnTo>
                        <a:lnTo>
                          <a:pt x="174" y="2504"/>
                        </a:lnTo>
                        <a:lnTo>
                          <a:pt x="174" y="2234"/>
                        </a:lnTo>
                        <a:lnTo>
                          <a:pt x="174" y="2046"/>
                        </a:lnTo>
                        <a:lnTo>
                          <a:pt x="184" y="1833"/>
                        </a:lnTo>
                        <a:lnTo>
                          <a:pt x="204" y="1441"/>
                        </a:lnTo>
                        <a:lnTo>
                          <a:pt x="223" y="1145"/>
                        </a:lnTo>
                        <a:lnTo>
                          <a:pt x="243" y="893"/>
                        </a:lnTo>
                        <a:lnTo>
                          <a:pt x="253" y="738"/>
                        </a:lnTo>
                        <a:lnTo>
                          <a:pt x="288" y="569"/>
                        </a:lnTo>
                        <a:lnTo>
                          <a:pt x="328" y="389"/>
                        </a:lnTo>
                        <a:lnTo>
                          <a:pt x="377" y="209"/>
                        </a:lnTo>
                        <a:lnTo>
                          <a:pt x="442" y="15"/>
                        </a:lnTo>
                        <a:lnTo>
                          <a:pt x="283" y="0"/>
                        </a:lnTo>
                        <a:close/>
                      </a:path>
                    </a:pathLst>
                  </a:custGeom>
                  <a:solidFill>
                    <a:srgbClr val="006000"/>
                  </a:solidFill>
                  <a:ln w="11160">
                    <a:solidFill>
                      <a:srgbClr val="004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4" name=""/>
                  <p:cNvSpPr/>
                  <p:nvPr/>
                </p:nvSpPr>
                <p:spPr>
                  <a:xfrm>
                    <a:off x="462960" y="4926600"/>
                    <a:ext cx="1706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698" h="391">
                        <a:moveTo>
                          <a:pt x="0" y="0"/>
                        </a:moveTo>
                        <a:lnTo>
                          <a:pt x="14" y="63"/>
                        </a:lnTo>
                        <a:lnTo>
                          <a:pt x="67" y="122"/>
                        </a:lnTo>
                        <a:lnTo>
                          <a:pt x="159" y="151"/>
                        </a:lnTo>
                        <a:lnTo>
                          <a:pt x="200" y="162"/>
                        </a:lnTo>
                        <a:lnTo>
                          <a:pt x="191" y="215"/>
                        </a:lnTo>
                        <a:lnTo>
                          <a:pt x="169" y="296"/>
                        </a:lnTo>
                        <a:lnTo>
                          <a:pt x="154" y="360"/>
                        </a:lnTo>
                        <a:lnTo>
                          <a:pt x="209" y="377"/>
                        </a:lnTo>
                        <a:lnTo>
                          <a:pt x="306" y="387"/>
                        </a:lnTo>
                        <a:lnTo>
                          <a:pt x="333" y="391"/>
                        </a:lnTo>
                        <a:lnTo>
                          <a:pt x="364" y="292"/>
                        </a:lnTo>
                        <a:lnTo>
                          <a:pt x="387" y="211"/>
                        </a:lnTo>
                        <a:lnTo>
                          <a:pt x="406" y="195"/>
                        </a:lnTo>
                        <a:lnTo>
                          <a:pt x="516" y="192"/>
                        </a:lnTo>
                        <a:lnTo>
                          <a:pt x="606" y="170"/>
                        </a:lnTo>
                        <a:lnTo>
                          <a:pt x="672" y="126"/>
                        </a:lnTo>
                        <a:lnTo>
                          <a:pt x="690" y="88"/>
                        </a:lnTo>
                        <a:lnTo>
                          <a:pt x="698" y="3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6000"/>
                  </a:solidFill>
                  <a:ln w="11160">
                    <a:solidFill>
                      <a:srgbClr val="004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35" name=""/>
                  <p:cNvGrpSpPr/>
                  <p:nvPr/>
                </p:nvGrpSpPr>
                <p:grpSpPr>
                  <a:xfrm>
                    <a:off x="539640" y="5099040"/>
                    <a:ext cx="761760" cy="1112400"/>
                    <a:chOff x="539640" y="5099040"/>
                    <a:chExt cx="761760" cy="1112400"/>
                  </a:xfrm>
                </p:grpSpPr>
                <p:sp>
                  <p:nvSpPr>
                    <p:cNvPr id="136" name=""/>
                    <p:cNvSpPr/>
                    <p:nvPr/>
                  </p:nvSpPr>
                  <p:spPr>
                    <a:xfrm>
                      <a:off x="539640" y="5099040"/>
                      <a:ext cx="761760" cy="1112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15" h="4592">
                          <a:moveTo>
                            <a:pt x="0" y="4592"/>
                          </a:moveTo>
                          <a:lnTo>
                            <a:pt x="99" y="3683"/>
                          </a:lnTo>
                          <a:lnTo>
                            <a:pt x="198" y="3307"/>
                          </a:lnTo>
                          <a:lnTo>
                            <a:pt x="258" y="2883"/>
                          </a:lnTo>
                          <a:lnTo>
                            <a:pt x="357" y="2429"/>
                          </a:lnTo>
                          <a:lnTo>
                            <a:pt x="496" y="2022"/>
                          </a:lnTo>
                          <a:lnTo>
                            <a:pt x="615" y="1693"/>
                          </a:lnTo>
                          <a:lnTo>
                            <a:pt x="793" y="1363"/>
                          </a:lnTo>
                          <a:lnTo>
                            <a:pt x="1031" y="1034"/>
                          </a:lnTo>
                          <a:lnTo>
                            <a:pt x="1250" y="784"/>
                          </a:lnTo>
                          <a:lnTo>
                            <a:pt x="1448" y="580"/>
                          </a:lnTo>
                          <a:lnTo>
                            <a:pt x="1666" y="423"/>
                          </a:lnTo>
                          <a:lnTo>
                            <a:pt x="2063" y="235"/>
                          </a:lnTo>
                          <a:lnTo>
                            <a:pt x="2520" y="94"/>
                          </a:lnTo>
                          <a:lnTo>
                            <a:pt x="3115" y="0"/>
                          </a:lnTo>
                          <a:lnTo>
                            <a:pt x="2817" y="204"/>
                          </a:lnTo>
                          <a:lnTo>
                            <a:pt x="2619" y="361"/>
                          </a:lnTo>
                          <a:lnTo>
                            <a:pt x="2401" y="580"/>
                          </a:lnTo>
                          <a:lnTo>
                            <a:pt x="2242" y="737"/>
                          </a:lnTo>
                          <a:lnTo>
                            <a:pt x="2024" y="925"/>
                          </a:lnTo>
                          <a:lnTo>
                            <a:pt x="1825" y="1113"/>
                          </a:lnTo>
                          <a:lnTo>
                            <a:pt x="1547" y="1379"/>
                          </a:lnTo>
                          <a:lnTo>
                            <a:pt x="1329" y="1583"/>
                          </a:lnTo>
                          <a:lnTo>
                            <a:pt x="1151" y="1818"/>
                          </a:lnTo>
                          <a:lnTo>
                            <a:pt x="972" y="2084"/>
                          </a:lnTo>
                          <a:lnTo>
                            <a:pt x="853" y="2319"/>
                          </a:lnTo>
                          <a:lnTo>
                            <a:pt x="674" y="2633"/>
                          </a:lnTo>
                          <a:lnTo>
                            <a:pt x="516" y="2993"/>
                          </a:lnTo>
                          <a:lnTo>
                            <a:pt x="377" y="3385"/>
                          </a:lnTo>
                          <a:lnTo>
                            <a:pt x="277" y="3808"/>
                          </a:lnTo>
                          <a:lnTo>
                            <a:pt x="198" y="4231"/>
                          </a:lnTo>
                          <a:lnTo>
                            <a:pt x="218" y="4592"/>
                          </a:lnTo>
                          <a:lnTo>
                            <a:pt x="0" y="4592"/>
                          </a:lnTo>
                          <a:close/>
                        </a:path>
                      </a:pathLst>
                    </a:custGeom>
                    <a:solidFill>
                      <a:srgbClr val="006000"/>
                    </a:solidFill>
                    <a:ln w="11160">
                      <a:solidFill>
                        <a:srgbClr val="004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7" name=""/>
                    <p:cNvSpPr/>
                    <p:nvPr/>
                  </p:nvSpPr>
                  <p:spPr>
                    <a:xfrm>
                      <a:off x="617040" y="5182200"/>
                      <a:ext cx="480240" cy="679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965" h="2805">
                          <a:moveTo>
                            <a:pt x="1965" y="0"/>
                          </a:moveTo>
                          <a:lnTo>
                            <a:pt x="1687" y="172"/>
                          </a:lnTo>
                          <a:lnTo>
                            <a:pt x="1310" y="501"/>
                          </a:lnTo>
                          <a:lnTo>
                            <a:pt x="1032" y="783"/>
                          </a:lnTo>
                          <a:lnTo>
                            <a:pt x="734" y="1144"/>
                          </a:lnTo>
                          <a:lnTo>
                            <a:pt x="496" y="1551"/>
                          </a:lnTo>
                          <a:lnTo>
                            <a:pt x="278" y="1927"/>
                          </a:lnTo>
                          <a:lnTo>
                            <a:pt x="139" y="2366"/>
                          </a:lnTo>
                          <a:lnTo>
                            <a:pt x="0" y="2805"/>
                          </a:lnTo>
                          <a:lnTo>
                            <a:pt x="139" y="2162"/>
                          </a:lnTo>
                          <a:lnTo>
                            <a:pt x="357" y="1614"/>
                          </a:lnTo>
                          <a:lnTo>
                            <a:pt x="615" y="1160"/>
                          </a:lnTo>
                          <a:lnTo>
                            <a:pt x="913" y="815"/>
                          </a:lnTo>
                          <a:lnTo>
                            <a:pt x="1191" y="517"/>
                          </a:lnTo>
                          <a:lnTo>
                            <a:pt x="1965" y="0"/>
                          </a:lnTo>
                          <a:close/>
                        </a:path>
                      </a:pathLst>
                    </a:custGeom>
                    <a:solidFill>
                      <a:srgbClr val="004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38" name=""/>
                  <p:cNvGrpSpPr/>
                  <p:nvPr/>
                </p:nvGrpSpPr>
                <p:grpSpPr>
                  <a:xfrm>
                    <a:off x="213120" y="5192280"/>
                    <a:ext cx="339480" cy="1017360"/>
                    <a:chOff x="213120" y="5192280"/>
                    <a:chExt cx="339480" cy="1017360"/>
                  </a:xfrm>
                </p:grpSpPr>
                <p:sp>
                  <p:nvSpPr>
                    <p:cNvPr id="139" name=""/>
                    <p:cNvSpPr/>
                    <p:nvPr/>
                  </p:nvSpPr>
                  <p:spPr>
                    <a:xfrm>
                      <a:off x="213120" y="5192280"/>
                      <a:ext cx="339480" cy="1017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89" h="4199">
                          <a:moveTo>
                            <a:pt x="1389" y="4199"/>
                          </a:moveTo>
                          <a:lnTo>
                            <a:pt x="1290" y="3949"/>
                          </a:lnTo>
                          <a:lnTo>
                            <a:pt x="1132" y="3698"/>
                          </a:lnTo>
                          <a:lnTo>
                            <a:pt x="993" y="3416"/>
                          </a:lnTo>
                          <a:lnTo>
                            <a:pt x="874" y="3118"/>
                          </a:lnTo>
                          <a:lnTo>
                            <a:pt x="794" y="2820"/>
                          </a:lnTo>
                          <a:lnTo>
                            <a:pt x="735" y="2538"/>
                          </a:lnTo>
                          <a:lnTo>
                            <a:pt x="715" y="2303"/>
                          </a:lnTo>
                          <a:lnTo>
                            <a:pt x="635" y="1943"/>
                          </a:lnTo>
                          <a:lnTo>
                            <a:pt x="596" y="1551"/>
                          </a:lnTo>
                          <a:lnTo>
                            <a:pt x="596" y="1191"/>
                          </a:lnTo>
                          <a:lnTo>
                            <a:pt x="596" y="830"/>
                          </a:lnTo>
                          <a:lnTo>
                            <a:pt x="616" y="517"/>
                          </a:lnTo>
                          <a:lnTo>
                            <a:pt x="675" y="0"/>
                          </a:lnTo>
                          <a:lnTo>
                            <a:pt x="516" y="313"/>
                          </a:lnTo>
                          <a:lnTo>
                            <a:pt x="377" y="642"/>
                          </a:lnTo>
                          <a:lnTo>
                            <a:pt x="239" y="940"/>
                          </a:lnTo>
                          <a:lnTo>
                            <a:pt x="119" y="1269"/>
                          </a:lnTo>
                          <a:lnTo>
                            <a:pt x="80" y="1535"/>
                          </a:lnTo>
                          <a:lnTo>
                            <a:pt x="40" y="1755"/>
                          </a:lnTo>
                          <a:lnTo>
                            <a:pt x="0" y="2037"/>
                          </a:lnTo>
                          <a:lnTo>
                            <a:pt x="20" y="2397"/>
                          </a:lnTo>
                          <a:lnTo>
                            <a:pt x="80" y="2711"/>
                          </a:lnTo>
                          <a:lnTo>
                            <a:pt x="139" y="2961"/>
                          </a:lnTo>
                          <a:lnTo>
                            <a:pt x="219" y="3181"/>
                          </a:lnTo>
                          <a:lnTo>
                            <a:pt x="318" y="3431"/>
                          </a:lnTo>
                          <a:lnTo>
                            <a:pt x="457" y="3698"/>
                          </a:lnTo>
                          <a:lnTo>
                            <a:pt x="616" y="3886"/>
                          </a:lnTo>
                          <a:lnTo>
                            <a:pt x="754" y="4043"/>
                          </a:lnTo>
                          <a:lnTo>
                            <a:pt x="933" y="4199"/>
                          </a:lnTo>
                          <a:lnTo>
                            <a:pt x="1389" y="4199"/>
                          </a:lnTo>
                          <a:close/>
                        </a:path>
                      </a:pathLst>
                    </a:custGeom>
                    <a:solidFill>
                      <a:srgbClr val="006000"/>
                    </a:solidFill>
                    <a:ln w="11160">
                      <a:solidFill>
                        <a:srgbClr val="004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0" name=""/>
                    <p:cNvSpPr/>
                    <p:nvPr/>
                  </p:nvSpPr>
                  <p:spPr>
                    <a:xfrm>
                      <a:off x="275760" y="5492160"/>
                      <a:ext cx="184320" cy="683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54" h="2820">
                          <a:moveTo>
                            <a:pt x="80" y="0"/>
                          </a:moveTo>
                          <a:lnTo>
                            <a:pt x="0" y="376"/>
                          </a:lnTo>
                          <a:lnTo>
                            <a:pt x="20" y="799"/>
                          </a:lnTo>
                          <a:lnTo>
                            <a:pt x="100" y="1285"/>
                          </a:lnTo>
                          <a:lnTo>
                            <a:pt x="199" y="1786"/>
                          </a:lnTo>
                          <a:lnTo>
                            <a:pt x="358" y="2209"/>
                          </a:lnTo>
                          <a:lnTo>
                            <a:pt x="616" y="2617"/>
                          </a:lnTo>
                          <a:lnTo>
                            <a:pt x="754" y="2820"/>
                          </a:lnTo>
                          <a:lnTo>
                            <a:pt x="576" y="2444"/>
                          </a:lnTo>
                          <a:lnTo>
                            <a:pt x="397" y="2084"/>
                          </a:lnTo>
                          <a:lnTo>
                            <a:pt x="258" y="1645"/>
                          </a:lnTo>
                          <a:lnTo>
                            <a:pt x="159" y="1238"/>
                          </a:lnTo>
                          <a:lnTo>
                            <a:pt x="80" y="767"/>
                          </a:lnTo>
                          <a:lnTo>
                            <a:pt x="20" y="485"/>
                          </a:lnTo>
                          <a:lnTo>
                            <a:pt x="80" y="0"/>
                          </a:lnTo>
                          <a:close/>
                        </a:path>
                      </a:pathLst>
                    </a:custGeom>
                    <a:solidFill>
                      <a:srgbClr val="004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41" name=""/>
                <p:cNvGrpSpPr/>
                <p:nvPr/>
              </p:nvGrpSpPr>
              <p:grpSpPr>
                <a:xfrm>
                  <a:off x="385200" y="4574160"/>
                  <a:ext cx="375840" cy="371880"/>
                  <a:chOff x="385200" y="4574160"/>
                  <a:chExt cx="375840" cy="371880"/>
                </a:xfrm>
              </p:grpSpPr>
              <p:grpSp>
                <p:nvGrpSpPr>
                  <p:cNvPr id="142" name=""/>
                  <p:cNvGrpSpPr/>
                  <p:nvPr/>
                </p:nvGrpSpPr>
                <p:grpSpPr>
                  <a:xfrm>
                    <a:off x="518400" y="4574160"/>
                    <a:ext cx="160200" cy="157320"/>
                    <a:chOff x="518400" y="4574160"/>
                    <a:chExt cx="160200" cy="157320"/>
                  </a:xfrm>
                </p:grpSpPr>
                <p:sp>
                  <p:nvSpPr>
                    <p:cNvPr id="143" name=""/>
                    <p:cNvSpPr/>
                    <p:nvPr/>
                  </p:nvSpPr>
                  <p:spPr>
                    <a:xfrm>
                      <a:off x="518400" y="4574160"/>
                      <a:ext cx="160200" cy="157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54" h="651">
                          <a:moveTo>
                            <a:pt x="0" y="314"/>
                          </a:moveTo>
                          <a:lnTo>
                            <a:pt x="49" y="236"/>
                          </a:lnTo>
                          <a:lnTo>
                            <a:pt x="119" y="173"/>
                          </a:lnTo>
                          <a:lnTo>
                            <a:pt x="258" y="94"/>
                          </a:lnTo>
                          <a:lnTo>
                            <a:pt x="387" y="47"/>
                          </a:lnTo>
                          <a:lnTo>
                            <a:pt x="525" y="0"/>
                          </a:lnTo>
                          <a:lnTo>
                            <a:pt x="545" y="87"/>
                          </a:lnTo>
                          <a:lnTo>
                            <a:pt x="565" y="173"/>
                          </a:lnTo>
                          <a:lnTo>
                            <a:pt x="605" y="243"/>
                          </a:lnTo>
                          <a:lnTo>
                            <a:pt x="654" y="361"/>
                          </a:lnTo>
                          <a:lnTo>
                            <a:pt x="635" y="510"/>
                          </a:lnTo>
                          <a:lnTo>
                            <a:pt x="208" y="651"/>
                          </a:lnTo>
                          <a:lnTo>
                            <a:pt x="0" y="314"/>
                          </a:lnTo>
                          <a:close/>
                        </a:path>
                      </a:pathLst>
                    </a:custGeom>
                    <a:solidFill>
                      <a:srgbClr val="c00000"/>
                    </a:solidFill>
                    <a:ln w="1116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4" name=""/>
                    <p:cNvSpPr/>
                    <p:nvPr/>
                  </p:nvSpPr>
                  <p:spPr>
                    <a:xfrm>
                      <a:off x="530280" y="4585680"/>
                      <a:ext cx="106560" cy="96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37" h="400">
                          <a:moveTo>
                            <a:pt x="124" y="130"/>
                          </a:moveTo>
                          <a:lnTo>
                            <a:pt x="214" y="83"/>
                          </a:lnTo>
                          <a:lnTo>
                            <a:pt x="283" y="47"/>
                          </a:lnTo>
                          <a:lnTo>
                            <a:pt x="367" y="20"/>
                          </a:lnTo>
                          <a:lnTo>
                            <a:pt x="437" y="0"/>
                          </a:lnTo>
                          <a:lnTo>
                            <a:pt x="372" y="91"/>
                          </a:lnTo>
                          <a:lnTo>
                            <a:pt x="333" y="173"/>
                          </a:lnTo>
                          <a:lnTo>
                            <a:pt x="303" y="239"/>
                          </a:lnTo>
                          <a:lnTo>
                            <a:pt x="278" y="318"/>
                          </a:lnTo>
                          <a:lnTo>
                            <a:pt x="228" y="400"/>
                          </a:lnTo>
                          <a:lnTo>
                            <a:pt x="0" y="204"/>
                          </a:lnTo>
                          <a:lnTo>
                            <a:pt x="124" y="130"/>
                          </a:lnTo>
                          <a:close/>
                        </a:path>
                      </a:pathLst>
                    </a:custGeom>
                    <a:solidFill>
                      <a:srgbClr val="ff404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5" name=""/>
                    <p:cNvSpPr/>
                    <p:nvPr/>
                  </p:nvSpPr>
                  <p:spPr>
                    <a:xfrm>
                      <a:off x="601920" y="4591800"/>
                      <a:ext cx="71640" cy="89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3" h="368">
                          <a:moveTo>
                            <a:pt x="154" y="0"/>
                          </a:moveTo>
                          <a:lnTo>
                            <a:pt x="89" y="106"/>
                          </a:lnTo>
                          <a:lnTo>
                            <a:pt x="49" y="188"/>
                          </a:lnTo>
                          <a:lnTo>
                            <a:pt x="35" y="255"/>
                          </a:lnTo>
                          <a:lnTo>
                            <a:pt x="0" y="368"/>
                          </a:lnTo>
                          <a:lnTo>
                            <a:pt x="258" y="349"/>
                          </a:lnTo>
                          <a:lnTo>
                            <a:pt x="293" y="219"/>
                          </a:lnTo>
                          <a:lnTo>
                            <a:pt x="218" y="172"/>
                          </a:lnTo>
                          <a:lnTo>
                            <a:pt x="178" y="106"/>
                          </a:lnTo>
                          <a:lnTo>
                            <a:pt x="164" y="70"/>
                          </a:lnTo>
                          <a:lnTo>
                            <a:pt x="154" y="0"/>
                          </a:lnTo>
                          <a:close/>
                        </a:path>
                      </a:pathLst>
                    </a:custGeom>
                    <a:solidFill>
                      <a:srgbClr val="ff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2840" bIns="42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46" name=""/>
                  <p:cNvSpPr/>
                  <p:nvPr/>
                </p:nvSpPr>
                <p:spPr>
                  <a:xfrm>
                    <a:off x="385200" y="4592880"/>
                    <a:ext cx="259560" cy="349200"/>
                  </a:xfrm>
                  <a:custGeom>
                    <a:avLst/>
                    <a:gdLst/>
                    <a:ahLst/>
                    <a:rect l="l" t="t" r="r" b="b"/>
                    <a:pathLst>
                      <a:path w="1062" h="1441">
                        <a:moveTo>
                          <a:pt x="258" y="78"/>
                        </a:moveTo>
                        <a:lnTo>
                          <a:pt x="298" y="172"/>
                        </a:lnTo>
                        <a:lnTo>
                          <a:pt x="302" y="235"/>
                        </a:lnTo>
                        <a:lnTo>
                          <a:pt x="288" y="298"/>
                        </a:lnTo>
                        <a:lnTo>
                          <a:pt x="268" y="360"/>
                        </a:lnTo>
                        <a:lnTo>
                          <a:pt x="238" y="419"/>
                        </a:lnTo>
                        <a:lnTo>
                          <a:pt x="193" y="497"/>
                        </a:lnTo>
                        <a:lnTo>
                          <a:pt x="159" y="564"/>
                        </a:lnTo>
                        <a:lnTo>
                          <a:pt x="109" y="634"/>
                        </a:lnTo>
                        <a:lnTo>
                          <a:pt x="59" y="744"/>
                        </a:lnTo>
                        <a:lnTo>
                          <a:pt x="25" y="834"/>
                        </a:lnTo>
                        <a:lnTo>
                          <a:pt x="5" y="913"/>
                        </a:lnTo>
                        <a:lnTo>
                          <a:pt x="0" y="1007"/>
                        </a:lnTo>
                        <a:lnTo>
                          <a:pt x="5" y="1073"/>
                        </a:lnTo>
                        <a:lnTo>
                          <a:pt x="25" y="1155"/>
                        </a:lnTo>
                        <a:lnTo>
                          <a:pt x="64" y="1222"/>
                        </a:lnTo>
                        <a:lnTo>
                          <a:pt x="99" y="1277"/>
                        </a:lnTo>
                        <a:lnTo>
                          <a:pt x="188" y="1347"/>
                        </a:lnTo>
                        <a:lnTo>
                          <a:pt x="298" y="1394"/>
                        </a:lnTo>
                        <a:lnTo>
                          <a:pt x="476" y="1418"/>
                        </a:lnTo>
                        <a:lnTo>
                          <a:pt x="704" y="1441"/>
                        </a:lnTo>
                        <a:lnTo>
                          <a:pt x="853" y="1402"/>
                        </a:lnTo>
                        <a:lnTo>
                          <a:pt x="952" y="1332"/>
                        </a:lnTo>
                        <a:lnTo>
                          <a:pt x="1012" y="1222"/>
                        </a:lnTo>
                        <a:lnTo>
                          <a:pt x="1042" y="1097"/>
                        </a:lnTo>
                        <a:lnTo>
                          <a:pt x="1062" y="987"/>
                        </a:lnTo>
                        <a:lnTo>
                          <a:pt x="1062" y="869"/>
                        </a:lnTo>
                        <a:lnTo>
                          <a:pt x="1052" y="775"/>
                        </a:lnTo>
                        <a:lnTo>
                          <a:pt x="1042" y="666"/>
                        </a:lnTo>
                        <a:lnTo>
                          <a:pt x="1022" y="564"/>
                        </a:lnTo>
                        <a:lnTo>
                          <a:pt x="992" y="439"/>
                        </a:lnTo>
                        <a:lnTo>
                          <a:pt x="933" y="345"/>
                        </a:lnTo>
                        <a:lnTo>
                          <a:pt x="863" y="243"/>
                        </a:lnTo>
                        <a:lnTo>
                          <a:pt x="774" y="164"/>
                        </a:lnTo>
                        <a:lnTo>
                          <a:pt x="684" y="117"/>
                        </a:lnTo>
                        <a:lnTo>
                          <a:pt x="575" y="62"/>
                        </a:lnTo>
                        <a:lnTo>
                          <a:pt x="461" y="35"/>
                        </a:lnTo>
                        <a:lnTo>
                          <a:pt x="357" y="15"/>
                        </a:lnTo>
                        <a:lnTo>
                          <a:pt x="218" y="0"/>
                        </a:lnTo>
                        <a:lnTo>
                          <a:pt x="258" y="78"/>
                        </a:lnTo>
                        <a:close/>
                      </a:path>
                    </a:pathLst>
                  </a:custGeom>
                  <a:solidFill>
                    <a:srgbClr val="e00000"/>
                  </a:solidFill>
                  <a:ln w="11160">
                    <a:solidFill>
                      <a:srgbClr val="8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" name=""/>
                  <p:cNvSpPr/>
                  <p:nvPr/>
                </p:nvSpPr>
                <p:spPr>
                  <a:xfrm>
                    <a:off x="504360" y="4592880"/>
                    <a:ext cx="256680" cy="35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052" h="1457">
                        <a:moveTo>
                          <a:pt x="357" y="446"/>
                        </a:moveTo>
                        <a:lnTo>
                          <a:pt x="447" y="329"/>
                        </a:lnTo>
                        <a:lnTo>
                          <a:pt x="526" y="251"/>
                        </a:lnTo>
                        <a:lnTo>
                          <a:pt x="625" y="180"/>
                        </a:lnTo>
                        <a:lnTo>
                          <a:pt x="734" y="117"/>
                        </a:lnTo>
                        <a:lnTo>
                          <a:pt x="824" y="86"/>
                        </a:lnTo>
                        <a:lnTo>
                          <a:pt x="898" y="59"/>
                        </a:lnTo>
                        <a:lnTo>
                          <a:pt x="962" y="35"/>
                        </a:lnTo>
                        <a:lnTo>
                          <a:pt x="1052" y="0"/>
                        </a:lnTo>
                        <a:lnTo>
                          <a:pt x="992" y="109"/>
                        </a:lnTo>
                        <a:lnTo>
                          <a:pt x="953" y="196"/>
                        </a:lnTo>
                        <a:lnTo>
                          <a:pt x="953" y="290"/>
                        </a:lnTo>
                        <a:lnTo>
                          <a:pt x="953" y="384"/>
                        </a:lnTo>
                        <a:lnTo>
                          <a:pt x="962" y="470"/>
                        </a:lnTo>
                        <a:lnTo>
                          <a:pt x="982" y="572"/>
                        </a:lnTo>
                        <a:lnTo>
                          <a:pt x="1012" y="666"/>
                        </a:lnTo>
                        <a:lnTo>
                          <a:pt x="1032" y="760"/>
                        </a:lnTo>
                        <a:lnTo>
                          <a:pt x="1052" y="846"/>
                        </a:lnTo>
                        <a:lnTo>
                          <a:pt x="1052" y="932"/>
                        </a:lnTo>
                        <a:lnTo>
                          <a:pt x="1042" y="1018"/>
                        </a:lnTo>
                        <a:lnTo>
                          <a:pt x="1012" y="1112"/>
                        </a:lnTo>
                        <a:lnTo>
                          <a:pt x="972" y="1206"/>
                        </a:lnTo>
                        <a:lnTo>
                          <a:pt x="933" y="1277"/>
                        </a:lnTo>
                        <a:lnTo>
                          <a:pt x="834" y="1379"/>
                        </a:lnTo>
                        <a:lnTo>
                          <a:pt x="724" y="1418"/>
                        </a:lnTo>
                        <a:lnTo>
                          <a:pt x="585" y="1449"/>
                        </a:lnTo>
                        <a:lnTo>
                          <a:pt x="427" y="1457"/>
                        </a:lnTo>
                        <a:lnTo>
                          <a:pt x="327" y="1457"/>
                        </a:lnTo>
                        <a:lnTo>
                          <a:pt x="179" y="1438"/>
                        </a:lnTo>
                        <a:lnTo>
                          <a:pt x="104" y="1398"/>
                        </a:lnTo>
                        <a:lnTo>
                          <a:pt x="40" y="1332"/>
                        </a:lnTo>
                        <a:lnTo>
                          <a:pt x="10" y="1238"/>
                        </a:lnTo>
                        <a:lnTo>
                          <a:pt x="0" y="1159"/>
                        </a:lnTo>
                        <a:lnTo>
                          <a:pt x="0" y="1034"/>
                        </a:lnTo>
                        <a:lnTo>
                          <a:pt x="40" y="924"/>
                        </a:lnTo>
                        <a:lnTo>
                          <a:pt x="119" y="791"/>
                        </a:lnTo>
                        <a:lnTo>
                          <a:pt x="198" y="666"/>
                        </a:lnTo>
                        <a:lnTo>
                          <a:pt x="268" y="556"/>
                        </a:lnTo>
                        <a:lnTo>
                          <a:pt x="357" y="446"/>
                        </a:lnTo>
                        <a:close/>
                      </a:path>
                    </a:pathLst>
                  </a:custGeom>
                  <a:solidFill>
                    <a:srgbClr val="ff0000"/>
                  </a:solidFill>
                  <a:ln w="11160">
                    <a:solidFill>
                      <a:srgbClr val="8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8" name=""/>
                  <p:cNvSpPr/>
                  <p:nvPr/>
                </p:nvSpPr>
                <p:spPr>
                  <a:xfrm>
                    <a:off x="402120" y="4718520"/>
                    <a:ext cx="60480" cy="204840"/>
                  </a:xfrm>
                  <a:custGeom>
                    <a:avLst/>
                    <a:gdLst/>
                    <a:ahLst/>
                    <a:rect l="l" t="t" r="r" b="b"/>
                    <a:pathLst>
                      <a:path w="248" h="846">
                        <a:moveTo>
                          <a:pt x="139" y="0"/>
                        </a:moveTo>
                        <a:lnTo>
                          <a:pt x="60" y="188"/>
                        </a:lnTo>
                        <a:lnTo>
                          <a:pt x="20" y="313"/>
                        </a:lnTo>
                        <a:lnTo>
                          <a:pt x="0" y="470"/>
                        </a:lnTo>
                        <a:lnTo>
                          <a:pt x="10" y="611"/>
                        </a:lnTo>
                        <a:lnTo>
                          <a:pt x="70" y="729"/>
                        </a:lnTo>
                        <a:lnTo>
                          <a:pt x="159" y="807"/>
                        </a:lnTo>
                        <a:lnTo>
                          <a:pt x="248" y="846"/>
                        </a:lnTo>
                        <a:lnTo>
                          <a:pt x="119" y="666"/>
                        </a:lnTo>
                        <a:lnTo>
                          <a:pt x="80" y="517"/>
                        </a:lnTo>
                        <a:lnTo>
                          <a:pt x="90" y="360"/>
                        </a:lnTo>
                        <a:lnTo>
                          <a:pt x="90" y="251"/>
                        </a:lnTo>
                        <a:lnTo>
                          <a:pt x="109" y="141"/>
                        </a:lnTo>
                        <a:lnTo>
                          <a:pt x="139" y="0"/>
                        </a:lnTo>
                        <a:close/>
                      </a:path>
                    </a:pathLst>
                  </a:cu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9" name=""/>
                  <p:cNvSpPr/>
                  <p:nvPr/>
                </p:nvSpPr>
                <p:spPr>
                  <a:xfrm>
                    <a:off x="602280" y="4604400"/>
                    <a:ext cx="149400" cy="97560"/>
                  </a:xfrm>
                  <a:custGeom>
                    <a:avLst/>
                    <a:gdLst/>
                    <a:ahLst/>
                    <a:rect l="l" t="t" r="r" b="b"/>
                    <a:pathLst>
                      <a:path w="610" h="403">
                        <a:moveTo>
                          <a:pt x="546" y="27"/>
                        </a:moveTo>
                        <a:lnTo>
                          <a:pt x="481" y="47"/>
                        </a:lnTo>
                        <a:lnTo>
                          <a:pt x="407" y="74"/>
                        </a:lnTo>
                        <a:lnTo>
                          <a:pt x="337" y="110"/>
                        </a:lnTo>
                        <a:lnTo>
                          <a:pt x="283" y="141"/>
                        </a:lnTo>
                        <a:lnTo>
                          <a:pt x="213" y="188"/>
                        </a:lnTo>
                        <a:lnTo>
                          <a:pt x="149" y="235"/>
                        </a:lnTo>
                        <a:lnTo>
                          <a:pt x="69" y="313"/>
                        </a:lnTo>
                        <a:lnTo>
                          <a:pt x="0" y="403"/>
                        </a:lnTo>
                        <a:lnTo>
                          <a:pt x="104" y="356"/>
                        </a:lnTo>
                        <a:lnTo>
                          <a:pt x="188" y="317"/>
                        </a:lnTo>
                        <a:lnTo>
                          <a:pt x="263" y="290"/>
                        </a:lnTo>
                        <a:lnTo>
                          <a:pt x="342" y="266"/>
                        </a:lnTo>
                        <a:lnTo>
                          <a:pt x="407" y="251"/>
                        </a:lnTo>
                        <a:lnTo>
                          <a:pt x="461" y="231"/>
                        </a:lnTo>
                        <a:lnTo>
                          <a:pt x="501" y="196"/>
                        </a:lnTo>
                        <a:lnTo>
                          <a:pt x="531" y="137"/>
                        </a:lnTo>
                        <a:lnTo>
                          <a:pt x="551" y="90"/>
                        </a:lnTo>
                        <a:lnTo>
                          <a:pt x="610" y="0"/>
                        </a:lnTo>
                        <a:lnTo>
                          <a:pt x="546" y="27"/>
                        </a:lnTo>
                        <a:close/>
                      </a:path>
                    </a:pathLst>
                  </a:custGeom>
                  <a:solidFill>
                    <a:srgbClr val="c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0" name=""/>
                  <p:cNvSpPr/>
                  <p:nvPr/>
                </p:nvSpPr>
                <p:spPr>
                  <a:xfrm>
                    <a:off x="454320" y="4602600"/>
                    <a:ext cx="114840" cy="59400"/>
                  </a:xfrm>
                  <a:custGeom>
                    <a:avLst/>
                    <a:gdLst/>
                    <a:ahLst/>
                    <a:rect l="l" t="t" r="r" b="b"/>
                    <a:pathLst>
                      <a:path w="471" h="247">
                        <a:moveTo>
                          <a:pt x="0" y="0"/>
                        </a:moveTo>
                        <a:lnTo>
                          <a:pt x="89" y="12"/>
                        </a:lnTo>
                        <a:lnTo>
                          <a:pt x="193" y="39"/>
                        </a:lnTo>
                        <a:lnTo>
                          <a:pt x="332" y="98"/>
                        </a:lnTo>
                        <a:lnTo>
                          <a:pt x="387" y="145"/>
                        </a:lnTo>
                        <a:lnTo>
                          <a:pt x="441" y="208"/>
                        </a:lnTo>
                        <a:lnTo>
                          <a:pt x="471" y="247"/>
                        </a:lnTo>
                        <a:lnTo>
                          <a:pt x="337" y="215"/>
                        </a:lnTo>
                        <a:lnTo>
                          <a:pt x="173" y="208"/>
                        </a:lnTo>
                        <a:lnTo>
                          <a:pt x="104" y="192"/>
                        </a:lnTo>
                        <a:lnTo>
                          <a:pt x="59" y="145"/>
                        </a:lnTo>
                        <a:lnTo>
                          <a:pt x="15" y="78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c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600" bIns="12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1" name=""/>
                  <p:cNvSpPr/>
                  <p:nvPr/>
                </p:nvSpPr>
                <p:spPr>
                  <a:xfrm>
                    <a:off x="513720" y="4788720"/>
                    <a:ext cx="41400" cy="145080"/>
                  </a:xfrm>
                  <a:custGeom>
                    <a:avLst/>
                    <a:gdLst/>
                    <a:ahLst/>
                    <a:rect l="l" t="t" r="r" b="b"/>
                    <a:pathLst>
                      <a:path w="168" h="599">
                        <a:moveTo>
                          <a:pt x="144" y="0"/>
                        </a:moveTo>
                        <a:lnTo>
                          <a:pt x="54" y="113"/>
                        </a:lnTo>
                        <a:lnTo>
                          <a:pt x="20" y="188"/>
                        </a:lnTo>
                        <a:lnTo>
                          <a:pt x="0" y="270"/>
                        </a:lnTo>
                        <a:lnTo>
                          <a:pt x="0" y="341"/>
                        </a:lnTo>
                        <a:lnTo>
                          <a:pt x="10" y="407"/>
                        </a:lnTo>
                        <a:lnTo>
                          <a:pt x="25" y="474"/>
                        </a:lnTo>
                        <a:lnTo>
                          <a:pt x="54" y="509"/>
                        </a:lnTo>
                        <a:lnTo>
                          <a:pt x="94" y="560"/>
                        </a:lnTo>
                        <a:lnTo>
                          <a:pt x="168" y="599"/>
                        </a:lnTo>
                        <a:lnTo>
                          <a:pt x="119" y="505"/>
                        </a:lnTo>
                        <a:lnTo>
                          <a:pt x="99" y="450"/>
                        </a:lnTo>
                        <a:lnTo>
                          <a:pt x="84" y="392"/>
                        </a:lnTo>
                        <a:lnTo>
                          <a:pt x="79" y="337"/>
                        </a:lnTo>
                        <a:lnTo>
                          <a:pt x="84" y="278"/>
                        </a:lnTo>
                        <a:lnTo>
                          <a:pt x="84" y="219"/>
                        </a:lnTo>
                        <a:lnTo>
                          <a:pt x="104" y="137"/>
                        </a:lnTo>
                        <a:lnTo>
                          <a:pt x="144" y="0"/>
                        </a:lnTo>
                        <a:close/>
                      </a:path>
                    </a:pathLst>
                  </a:custGeom>
                  <a:solidFill>
                    <a:srgbClr val="ff4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2" name=""/>
                  <p:cNvSpPr/>
                  <p:nvPr/>
                </p:nvSpPr>
                <p:spPr>
                  <a:xfrm>
                    <a:off x="702000" y="4725360"/>
                    <a:ext cx="50760" cy="187920"/>
                  </a:xfrm>
                  <a:custGeom>
                    <a:avLst/>
                    <a:gdLst/>
                    <a:ahLst/>
                    <a:rect l="l" t="t" r="r" b="b"/>
                    <a:pathLst>
                      <a:path w="208" h="776">
                        <a:moveTo>
                          <a:pt x="114" y="0"/>
                        </a:moveTo>
                        <a:lnTo>
                          <a:pt x="178" y="153"/>
                        </a:lnTo>
                        <a:lnTo>
                          <a:pt x="203" y="259"/>
                        </a:lnTo>
                        <a:lnTo>
                          <a:pt x="208" y="373"/>
                        </a:lnTo>
                        <a:lnTo>
                          <a:pt x="193" y="498"/>
                        </a:lnTo>
                        <a:lnTo>
                          <a:pt x="144" y="619"/>
                        </a:lnTo>
                        <a:lnTo>
                          <a:pt x="74" y="729"/>
                        </a:lnTo>
                        <a:lnTo>
                          <a:pt x="0" y="776"/>
                        </a:lnTo>
                        <a:lnTo>
                          <a:pt x="79" y="639"/>
                        </a:lnTo>
                        <a:lnTo>
                          <a:pt x="119" y="431"/>
                        </a:lnTo>
                        <a:lnTo>
                          <a:pt x="119" y="263"/>
                        </a:lnTo>
                        <a:lnTo>
                          <a:pt x="119" y="145"/>
                        </a:lnTo>
                        <a:lnTo>
                          <a:pt x="114" y="0"/>
                        </a:lnTo>
                        <a:close/>
                      </a:path>
                    </a:pathLst>
                  </a:custGeom>
                  <a:solidFill>
                    <a:srgbClr val="ff4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53" name=""/>
                  <p:cNvGrpSpPr/>
                  <p:nvPr/>
                </p:nvGrpSpPr>
                <p:grpSpPr>
                  <a:xfrm>
                    <a:off x="454320" y="4730400"/>
                    <a:ext cx="184680" cy="171360"/>
                    <a:chOff x="454320" y="4730400"/>
                    <a:chExt cx="184680" cy="171360"/>
                  </a:xfrm>
                </p:grpSpPr>
                <p:grpSp>
                  <p:nvGrpSpPr>
                    <p:cNvPr id="154" name=""/>
                    <p:cNvGrpSpPr/>
                    <p:nvPr/>
                  </p:nvGrpSpPr>
                  <p:grpSpPr>
                    <a:xfrm>
                      <a:off x="457560" y="4732200"/>
                      <a:ext cx="181440" cy="169560"/>
                      <a:chOff x="457560" y="4732200"/>
                      <a:chExt cx="181440" cy="169560"/>
                    </a:xfrm>
                  </p:grpSpPr>
                  <p:sp>
                    <p:nvSpPr>
                      <p:cNvPr id="155" name=""/>
                      <p:cNvSpPr/>
                      <p:nvPr/>
                    </p:nvSpPr>
                    <p:spPr>
                      <a:xfrm>
                        <a:off x="603360" y="4835880"/>
                        <a:ext cx="19440" cy="14760"/>
                      </a:xfrm>
                      <a:prstGeom prst="ellipse">
                        <a:avLst/>
                      </a:prstGeom>
                      <a:solidFill>
                        <a:srgbClr val="8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360" bIns="-363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56" name=""/>
                      <p:cNvSpPr/>
                      <p:nvPr/>
                    </p:nvSpPr>
                    <p:spPr>
                      <a:xfrm>
                        <a:off x="628560" y="4788360"/>
                        <a:ext cx="10440" cy="11160"/>
                      </a:xfrm>
                      <a:prstGeom prst="ellipse">
                        <a:avLst/>
                      </a:prstGeom>
                      <a:solidFill>
                        <a:srgbClr val="8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520" bIns="-385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57" name=""/>
                      <p:cNvSpPr/>
                      <p:nvPr/>
                    </p:nvSpPr>
                    <p:spPr>
                      <a:xfrm>
                        <a:off x="477000" y="4732200"/>
                        <a:ext cx="10440" cy="16200"/>
                      </a:xfrm>
                      <a:prstGeom prst="ellipse">
                        <a:avLst/>
                      </a:prstGeom>
                      <a:solidFill>
                        <a:srgbClr val="8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4920" bIns="-349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58" name=""/>
                      <p:cNvSpPr/>
                      <p:nvPr/>
                    </p:nvSpPr>
                    <p:spPr>
                      <a:xfrm>
                        <a:off x="457560" y="4833000"/>
                        <a:ext cx="15840" cy="17640"/>
                      </a:xfrm>
                      <a:prstGeom prst="ellipse">
                        <a:avLst/>
                      </a:prstGeom>
                      <a:solidFill>
                        <a:srgbClr val="8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4200" bIns="-342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59" name=""/>
                      <p:cNvSpPr/>
                      <p:nvPr/>
                    </p:nvSpPr>
                    <p:spPr>
                      <a:xfrm>
                        <a:off x="616320" y="4889160"/>
                        <a:ext cx="14040" cy="12600"/>
                      </a:xfrm>
                      <a:prstGeom prst="ellipse">
                        <a:avLst/>
                      </a:prstGeom>
                      <a:solidFill>
                        <a:srgbClr val="8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800" bIns="-37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60" name=""/>
                    <p:cNvGrpSpPr/>
                    <p:nvPr/>
                  </p:nvGrpSpPr>
                  <p:grpSpPr>
                    <a:xfrm>
                      <a:off x="454320" y="4730400"/>
                      <a:ext cx="181440" cy="169200"/>
                      <a:chOff x="454320" y="4730400"/>
                      <a:chExt cx="181440" cy="169200"/>
                    </a:xfrm>
                  </p:grpSpPr>
                  <p:sp>
                    <p:nvSpPr>
                      <p:cNvPr id="161" name=""/>
                      <p:cNvSpPr/>
                      <p:nvPr/>
                    </p:nvSpPr>
                    <p:spPr>
                      <a:xfrm>
                        <a:off x="599400" y="4834080"/>
                        <a:ext cx="19440" cy="14760"/>
                      </a:xfrm>
                      <a:prstGeom prst="ellipse">
                        <a:avLst/>
                      </a:prstGeom>
                      <a:solidFill>
                        <a:srgbClr val="ff404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360" bIns="-363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2" name=""/>
                      <p:cNvSpPr/>
                      <p:nvPr/>
                    </p:nvSpPr>
                    <p:spPr>
                      <a:xfrm>
                        <a:off x="625320" y="4786560"/>
                        <a:ext cx="10440" cy="10800"/>
                      </a:xfrm>
                      <a:prstGeom prst="ellipse">
                        <a:avLst/>
                      </a:prstGeom>
                      <a:solidFill>
                        <a:srgbClr val="ff404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880" bIns="-38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3" name=""/>
                      <p:cNvSpPr/>
                      <p:nvPr/>
                    </p:nvSpPr>
                    <p:spPr>
                      <a:xfrm>
                        <a:off x="473760" y="4730400"/>
                        <a:ext cx="10440" cy="16200"/>
                      </a:xfrm>
                      <a:prstGeom prst="ellipse">
                        <a:avLst/>
                      </a:prstGeom>
                      <a:solidFill>
                        <a:srgbClr val="ff404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4920" bIns="-349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4" name=""/>
                      <p:cNvSpPr/>
                      <p:nvPr/>
                    </p:nvSpPr>
                    <p:spPr>
                      <a:xfrm>
                        <a:off x="454320" y="4831200"/>
                        <a:ext cx="15480" cy="17640"/>
                      </a:xfrm>
                      <a:prstGeom prst="ellipse">
                        <a:avLst/>
                      </a:prstGeom>
                      <a:solidFill>
                        <a:srgbClr val="ff404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4200" bIns="-342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5" name=""/>
                      <p:cNvSpPr/>
                      <p:nvPr/>
                    </p:nvSpPr>
                    <p:spPr>
                      <a:xfrm>
                        <a:off x="613080" y="4887360"/>
                        <a:ext cx="14040" cy="12240"/>
                      </a:xfrm>
                      <a:prstGeom prst="ellipse">
                        <a:avLst/>
                      </a:prstGeom>
                      <a:solidFill>
                        <a:srgbClr val="ff404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160" bIns="-381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66" name=""/>
                    <p:cNvSpPr/>
                    <p:nvPr/>
                  </p:nvSpPr>
                  <p:spPr>
                    <a:xfrm>
                      <a:off x="601920" y="4837680"/>
                      <a:ext cx="10080" cy="7920"/>
                    </a:xfrm>
                    <a:prstGeom prst="ellipse">
                      <a:avLst/>
                    </a:prstGeom>
                    <a:solidFill>
                      <a:srgbClr val="ff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040" bIns="-41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7" name=""/>
                    <p:cNvSpPr/>
                    <p:nvPr/>
                  </p:nvSpPr>
                  <p:spPr>
                    <a:xfrm>
                      <a:off x="627840" y="4789440"/>
                      <a:ext cx="3960" cy="6480"/>
                    </a:xfrm>
                    <a:prstGeom prst="ellipse">
                      <a:avLst/>
                    </a:prstGeom>
                    <a:solidFill>
                      <a:srgbClr val="ff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760" bIns="-41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8" name=""/>
                    <p:cNvSpPr/>
                    <p:nvPr/>
                  </p:nvSpPr>
                  <p:spPr>
                    <a:xfrm>
                      <a:off x="475560" y="4734000"/>
                      <a:ext cx="6120" cy="9720"/>
                    </a:xfrm>
                    <a:prstGeom prst="ellipse">
                      <a:avLst/>
                    </a:prstGeom>
                    <a:solidFill>
                      <a:srgbClr val="ff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960" bIns="-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9" name=""/>
                    <p:cNvSpPr/>
                    <p:nvPr/>
                  </p:nvSpPr>
                  <p:spPr>
                    <a:xfrm>
                      <a:off x="456120" y="4834080"/>
                      <a:ext cx="7560" cy="11880"/>
                    </a:xfrm>
                    <a:prstGeom prst="ellipse">
                      <a:avLst/>
                    </a:prstGeom>
                    <a:solidFill>
                      <a:srgbClr val="ff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0" name=""/>
                    <p:cNvSpPr/>
                    <p:nvPr/>
                  </p:nvSpPr>
                  <p:spPr>
                    <a:xfrm>
                      <a:off x="615600" y="4889880"/>
                      <a:ext cx="6120" cy="6480"/>
                    </a:xfrm>
                    <a:prstGeom prst="ellipse">
                      <a:avLst/>
                    </a:prstGeom>
                    <a:solidFill>
                      <a:srgbClr val="ff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760" bIns="-41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171" name=""/>
              <p:cNvGrpSpPr/>
              <p:nvPr/>
            </p:nvGrpSpPr>
            <p:grpSpPr>
              <a:xfrm>
                <a:off x="630000" y="4779720"/>
                <a:ext cx="1134720" cy="1431360"/>
                <a:chOff x="630000" y="4779720"/>
                <a:chExt cx="1134720" cy="1431360"/>
              </a:xfrm>
            </p:grpSpPr>
            <p:grpSp>
              <p:nvGrpSpPr>
                <p:cNvPr id="172" name=""/>
                <p:cNvGrpSpPr/>
                <p:nvPr/>
              </p:nvGrpSpPr>
              <p:grpSpPr>
                <a:xfrm>
                  <a:off x="630000" y="5141520"/>
                  <a:ext cx="1134720" cy="1069560"/>
                  <a:chOff x="630000" y="5141520"/>
                  <a:chExt cx="1134720" cy="1069560"/>
                </a:xfrm>
              </p:grpSpPr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1051920" y="5286240"/>
                    <a:ext cx="712800" cy="920520"/>
                    <a:chOff x="1051920" y="5286240"/>
                    <a:chExt cx="712800" cy="92052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1051920" y="5286240"/>
                      <a:ext cx="712800" cy="920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15" h="3798">
                          <a:moveTo>
                            <a:pt x="0" y="3798"/>
                          </a:moveTo>
                          <a:lnTo>
                            <a:pt x="92" y="3047"/>
                          </a:lnTo>
                          <a:lnTo>
                            <a:pt x="185" y="2735"/>
                          </a:lnTo>
                          <a:lnTo>
                            <a:pt x="241" y="2385"/>
                          </a:lnTo>
                          <a:lnTo>
                            <a:pt x="334" y="2009"/>
                          </a:lnTo>
                          <a:lnTo>
                            <a:pt x="464" y="1672"/>
                          </a:lnTo>
                          <a:lnTo>
                            <a:pt x="575" y="1401"/>
                          </a:lnTo>
                          <a:lnTo>
                            <a:pt x="742" y="1128"/>
                          </a:lnTo>
                          <a:lnTo>
                            <a:pt x="966" y="856"/>
                          </a:lnTo>
                          <a:lnTo>
                            <a:pt x="1169" y="649"/>
                          </a:lnTo>
                          <a:lnTo>
                            <a:pt x="1356" y="480"/>
                          </a:lnTo>
                          <a:lnTo>
                            <a:pt x="1559" y="350"/>
                          </a:lnTo>
                          <a:lnTo>
                            <a:pt x="1931" y="194"/>
                          </a:lnTo>
                          <a:lnTo>
                            <a:pt x="2358" y="78"/>
                          </a:lnTo>
                          <a:lnTo>
                            <a:pt x="2915" y="0"/>
                          </a:lnTo>
                          <a:lnTo>
                            <a:pt x="2636" y="168"/>
                          </a:lnTo>
                          <a:lnTo>
                            <a:pt x="2451" y="299"/>
                          </a:lnTo>
                          <a:lnTo>
                            <a:pt x="2246" y="480"/>
                          </a:lnTo>
                          <a:lnTo>
                            <a:pt x="2098" y="609"/>
                          </a:lnTo>
                          <a:lnTo>
                            <a:pt x="1893" y="765"/>
                          </a:lnTo>
                          <a:lnTo>
                            <a:pt x="1708" y="920"/>
                          </a:lnTo>
                          <a:lnTo>
                            <a:pt x="1448" y="1141"/>
                          </a:lnTo>
                          <a:lnTo>
                            <a:pt x="1243" y="1309"/>
                          </a:lnTo>
                          <a:lnTo>
                            <a:pt x="1076" y="1504"/>
                          </a:lnTo>
                          <a:lnTo>
                            <a:pt x="909" y="1725"/>
                          </a:lnTo>
                          <a:lnTo>
                            <a:pt x="799" y="1919"/>
                          </a:lnTo>
                          <a:lnTo>
                            <a:pt x="632" y="2178"/>
                          </a:lnTo>
                          <a:lnTo>
                            <a:pt x="483" y="2477"/>
                          </a:lnTo>
                          <a:lnTo>
                            <a:pt x="352" y="2801"/>
                          </a:lnTo>
                          <a:lnTo>
                            <a:pt x="259" y="3151"/>
                          </a:lnTo>
                          <a:lnTo>
                            <a:pt x="185" y="3501"/>
                          </a:lnTo>
                          <a:lnTo>
                            <a:pt x="205" y="3798"/>
                          </a:lnTo>
                          <a:lnTo>
                            <a:pt x="0" y="3798"/>
                          </a:lnTo>
                          <a:close/>
                        </a:path>
                      </a:pathLst>
                    </a:custGeom>
                    <a:solidFill>
                      <a:srgbClr val="006000"/>
                    </a:solidFill>
                    <a:ln w="11160">
                      <a:solidFill>
                        <a:srgbClr val="004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5" name=""/>
                    <p:cNvSpPr/>
                    <p:nvPr/>
                  </p:nvSpPr>
                  <p:spPr>
                    <a:xfrm>
                      <a:off x="1124640" y="5355360"/>
                      <a:ext cx="448920" cy="562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38" h="2320">
                          <a:moveTo>
                            <a:pt x="1838" y="0"/>
                          </a:moveTo>
                          <a:lnTo>
                            <a:pt x="1578" y="142"/>
                          </a:lnTo>
                          <a:lnTo>
                            <a:pt x="1226" y="415"/>
                          </a:lnTo>
                          <a:lnTo>
                            <a:pt x="965" y="647"/>
                          </a:lnTo>
                          <a:lnTo>
                            <a:pt x="687" y="946"/>
                          </a:lnTo>
                          <a:lnTo>
                            <a:pt x="463" y="1283"/>
                          </a:lnTo>
                          <a:lnTo>
                            <a:pt x="260" y="1594"/>
                          </a:lnTo>
                          <a:lnTo>
                            <a:pt x="129" y="1957"/>
                          </a:lnTo>
                          <a:lnTo>
                            <a:pt x="0" y="2320"/>
                          </a:lnTo>
                          <a:lnTo>
                            <a:pt x="129" y="1789"/>
                          </a:lnTo>
                          <a:lnTo>
                            <a:pt x="335" y="1334"/>
                          </a:lnTo>
                          <a:lnTo>
                            <a:pt x="576" y="959"/>
                          </a:lnTo>
                          <a:lnTo>
                            <a:pt x="854" y="673"/>
                          </a:lnTo>
                          <a:lnTo>
                            <a:pt x="1113" y="427"/>
                          </a:lnTo>
                          <a:lnTo>
                            <a:pt x="1838" y="0"/>
                          </a:lnTo>
                          <a:close/>
                        </a:path>
                      </a:pathLst>
                    </a:custGeom>
                    <a:solidFill>
                      <a:srgbClr val="004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76" name=""/>
                  <p:cNvGrpSpPr/>
                  <p:nvPr/>
                </p:nvGrpSpPr>
                <p:grpSpPr>
                  <a:xfrm>
                    <a:off x="630000" y="5333760"/>
                    <a:ext cx="526320" cy="876240"/>
                    <a:chOff x="630000" y="5333760"/>
                    <a:chExt cx="526320" cy="876240"/>
                  </a:xfrm>
                </p:grpSpPr>
                <p:sp>
                  <p:nvSpPr>
                    <p:cNvPr id="177" name=""/>
                    <p:cNvSpPr/>
                    <p:nvPr/>
                  </p:nvSpPr>
                  <p:spPr>
                    <a:xfrm>
                      <a:off x="630000" y="5333760"/>
                      <a:ext cx="526320" cy="876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53" h="3618">
                          <a:moveTo>
                            <a:pt x="1688" y="3618"/>
                          </a:moveTo>
                          <a:lnTo>
                            <a:pt x="1373" y="3449"/>
                          </a:lnTo>
                          <a:lnTo>
                            <a:pt x="1131" y="3294"/>
                          </a:lnTo>
                          <a:lnTo>
                            <a:pt x="910" y="3086"/>
                          </a:lnTo>
                          <a:lnTo>
                            <a:pt x="723" y="2905"/>
                          </a:lnTo>
                          <a:lnTo>
                            <a:pt x="537" y="2697"/>
                          </a:lnTo>
                          <a:lnTo>
                            <a:pt x="407" y="2478"/>
                          </a:lnTo>
                          <a:lnTo>
                            <a:pt x="314" y="2205"/>
                          </a:lnTo>
                          <a:lnTo>
                            <a:pt x="222" y="1907"/>
                          </a:lnTo>
                          <a:lnTo>
                            <a:pt x="185" y="1699"/>
                          </a:lnTo>
                          <a:lnTo>
                            <a:pt x="167" y="1439"/>
                          </a:lnTo>
                          <a:lnTo>
                            <a:pt x="167" y="1168"/>
                          </a:lnTo>
                          <a:lnTo>
                            <a:pt x="167" y="960"/>
                          </a:lnTo>
                          <a:lnTo>
                            <a:pt x="185" y="713"/>
                          </a:lnTo>
                          <a:lnTo>
                            <a:pt x="185" y="493"/>
                          </a:lnTo>
                          <a:lnTo>
                            <a:pt x="111" y="273"/>
                          </a:lnTo>
                          <a:lnTo>
                            <a:pt x="0" y="0"/>
                          </a:lnTo>
                          <a:lnTo>
                            <a:pt x="314" y="260"/>
                          </a:lnTo>
                          <a:lnTo>
                            <a:pt x="445" y="468"/>
                          </a:lnTo>
                          <a:lnTo>
                            <a:pt x="556" y="636"/>
                          </a:lnTo>
                          <a:lnTo>
                            <a:pt x="668" y="895"/>
                          </a:lnTo>
                          <a:lnTo>
                            <a:pt x="743" y="1219"/>
                          </a:lnTo>
                          <a:lnTo>
                            <a:pt x="779" y="1479"/>
                          </a:lnTo>
                          <a:lnTo>
                            <a:pt x="779" y="1699"/>
                          </a:lnTo>
                          <a:lnTo>
                            <a:pt x="835" y="1984"/>
                          </a:lnTo>
                          <a:lnTo>
                            <a:pt x="890" y="2231"/>
                          </a:lnTo>
                          <a:lnTo>
                            <a:pt x="1020" y="2438"/>
                          </a:lnTo>
                          <a:lnTo>
                            <a:pt x="1169" y="2671"/>
                          </a:lnTo>
                          <a:lnTo>
                            <a:pt x="1373" y="2905"/>
                          </a:lnTo>
                          <a:lnTo>
                            <a:pt x="1596" y="3151"/>
                          </a:lnTo>
                          <a:lnTo>
                            <a:pt x="1837" y="3397"/>
                          </a:lnTo>
                          <a:lnTo>
                            <a:pt x="2153" y="3618"/>
                          </a:lnTo>
                          <a:lnTo>
                            <a:pt x="1688" y="3618"/>
                          </a:lnTo>
                          <a:close/>
                        </a:path>
                      </a:pathLst>
                    </a:custGeom>
                    <a:solidFill>
                      <a:srgbClr val="006000"/>
                    </a:solidFill>
                    <a:ln w="11160">
                      <a:solidFill>
                        <a:srgbClr val="004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8" name=""/>
                    <p:cNvSpPr/>
                    <p:nvPr/>
                  </p:nvSpPr>
                  <p:spPr>
                    <a:xfrm>
                      <a:off x="716400" y="5481360"/>
                      <a:ext cx="249120" cy="643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21" h="2658">
                          <a:moveTo>
                            <a:pt x="0" y="0"/>
                          </a:moveTo>
                          <a:lnTo>
                            <a:pt x="37" y="221"/>
                          </a:lnTo>
                          <a:lnTo>
                            <a:pt x="55" y="416"/>
                          </a:lnTo>
                          <a:lnTo>
                            <a:pt x="55" y="648"/>
                          </a:lnTo>
                          <a:lnTo>
                            <a:pt x="55" y="829"/>
                          </a:lnTo>
                          <a:lnTo>
                            <a:pt x="129" y="1142"/>
                          </a:lnTo>
                          <a:lnTo>
                            <a:pt x="222" y="1439"/>
                          </a:lnTo>
                          <a:lnTo>
                            <a:pt x="316" y="1698"/>
                          </a:lnTo>
                          <a:lnTo>
                            <a:pt x="427" y="1971"/>
                          </a:lnTo>
                          <a:lnTo>
                            <a:pt x="668" y="2334"/>
                          </a:lnTo>
                          <a:lnTo>
                            <a:pt x="1021" y="2658"/>
                          </a:lnTo>
                          <a:lnTo>
                            <a:pt x="743" y="2282"/>
                          </a:lnTo>
                          <a:lnTo>
                            <a:pt x="519" y="2010"/>
                          </a:lnTo>
                          <a:lnTo>
                            <a:pt x="334" y="1595"/>
                          </a:lnTo>
                          <a:lnTo>
                            <a:pt x="260" y="1323"/>
                          </a:lnTo>
                          <a:lnTo>
                            <a:pt x="149" y="1037"/>
                          </a:lnTo>
                          <a:lnTo>
                            <a:pt x="111" y="739"/>
                          </a:lnTo>
                          <a:lnTo>
                            <a:pt x="93" y="506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004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79" name=""/>
                  <p:cNvGrpSpPr/>
                  <p:nvPr/>
                </p:nvGrpSpPr>
                <p:grpSpPr>
                  <a:xfrm>
                    <a:off x="929160" y="5141520"/>
                    <a:ext cx="181800" cy="1069560"/>
                    <a:chOff x="929160" y="5141520"/>
                    <a:chExt cx="181800" cy="1069560"/>
                  </a:xfrm>
                </p:grpSpPr>
                <p:sp>
                  <p:nvSpPr>
                    <p:cNvPr id="180" name=""/>
                    <p:cNvSpPr/>
                    <p:nvPr/>
                  </p:nvSpPr>
                  <p:spPr>
                    <a:xfrm>
                      <a:off x="982800" y="5220360"/>
                      <a:ext cx="128160" cy="990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24" h="4090">
                          <a:moveTo>
                            <a:pt x="104" y="11"/>
                          </a:moveTo>
                          <a:lnTo>
                            <a:pt x="124" y="152"/>
                          </a:lnTo>
                          <a:lnTo>
                            <a:pt x="124" y="266"/>
                          </a:lnTo>
                          <a:lnTo>
                            <a:pt x="114" y="399"/>
                          </a:lnTo>
                          <a:lnTo>
                            <a:pt x="102" y="526"/>
                          </a:lnTo>
                          <a:lnTo>
                            <a:pt x="77" y="688"/>
                          </a:lnTo>
                          <a:lnTo>
                            <a:pt x="59" y="861"/>
                          </a:lnTo>
                          <a:lnTo>
                            <a:pt x="36" y="1080"/>
                          </a:lnTo>
                          <a:lnTo>
                            <a:pt x="23" y="1264"/>
                          </a:lnTo>
                          <a:lnTo>
                            <a:pt x="5" y="1601"/>
                          </a:lnTo>
                          <a:lnTo>
                            <a:pt x="0" y="1738"/>
                          </a:lnTo>
                          <a:lnTo>
                            <a:pt x="5" y="1885"/>
                          </a:lnTo>
                          <a:lnTo>
                            <a:pt x="5" y="2035"/>
                          </a:lnTo>
                          <a:lnTo>
                            <a:pt x="8" y="2208"/>
                          </a:lnTo>
                          <a:lnTo>
                            <a:pt x="31" y="2470"/>
                          </a:lnTo>
                          <a:lnTo>
                            <a:pt x="51" y="2636"/>
                          </a:lnTo>
                          <a:lnTo>
                            <a:pt x="59" y="2768"/>
                          </a:lnTo>
                          <a:lnTo>
                            <a:pt x="92" y="2980"/>
                          </a:lnTo>
                          <a:lnTo>
                            <a:pt x="120" y="3148"/>
                          </a:lnTo>
                          <a:lnTo>
                            <a:pt x="162" y="3343"/>
                          </a:lnTo>
                          <a:lnTo>
                            <a:pt x="208" y="3532"/>
                          </a:lnTo>
                          <a:lnTo>
                            <a:pt x="244" y="3682"/>
                          </a:lnTo>
                          <a:lnTo>
                            <a:pt x="273" y="3819"/>
                          </a:lnTo>
                          <a:lnTo>
                            <a:pt x="301" y="3938"/>
                          </a:lnTo>
                          <a:lnTo>
                            <a:pt x="339" y="4090"/>
                          </a:lnTo>
                          <a:lnTo>
                            <a:pt x="524" y="4090"/>
                          </a:lnTo>
                          <a:lnTo>
                            <a:pt x="496" y="4007"/>
                          </a:lnTo>
                          <a:lnTo>
                            <a:pt x="459" y="3870"/>
                          </a:lnTo>
                          <a:lnTo>
                            <a:pt x="431" y="3750"/>
                          </a:lnTo>
                          <a:lnTo>
                            <a:pt x="393" y="3610"/>
                          </a:lnTo>
                          <a:lnTo>
                            <a:pt x="362" y="3456"/>
                          </a:lnTo>
                          <a:lnTo>
                            <a:pt x="319" y="3273"/>
                          </a:lnTo>
                          <a:lnTo>
                            <a:pt x="287" y="3115"/>
                          </a:lnTo>
                          <a:lnTo>
                            <a:pt x="269" y="2980"/>
                          </a:lnTo>
                          <a:lnTo>
                            <a:pt x="231" y="2746"/>
                          </a:lnTo>
                          <a:lnTo>
                            <a:pt x="208" y="2587"/>
                          </a:lnTo>
                          <a:lnTo>
                            <a:pt x="190" y="2392"/>
                          </a:lnTo>
                          <a:lnTo>
                            <a:pt x="172" y="2267"/>
                          </a:lnTo>
                          <a:lnTo>
                            <a:pt x="162" y="2079"/>
                          </a:lnTo>
                          <a:lnTo>
                            <a:pt x="162" y="1854"/>
                          </a:lnTo>
                          <a:lnTo>
                            <a:pt x="162" y="1699"/>
                          </a:lnTo>
                          <a:lnTo>
                            <a:pt x="172" y="1522"/>
                          </a:lnTo>
                          <a:lnTo>
                            <a:pt x="190" y="1198"/>
                          </a:lnTo>
                          <a:lnTo>
                            <a:pt x="208" y="953"/>
                          </a:lnTo>
                          <a:lnTo>
                            <a:pt x="226" y="745"/>
                          </a:lnTo>
                          <a:lnTo>
                            <a:pt x="253" y="615"/>
                          </a:lnTo>
                          <a:lnTo>
                            <a:pt x="269" y="478"/>
                          </a:lnTo>
                          <a:lnTo>
                            <a:pt x="277" y="352"/>
                          </a:lnTo>
                          <a:lnTo>
                            <a:pt x="287" y="227"/>
                          </a:lnTo>
                          <a:lnTo>
                            <a:pt x="292" y="86"/>
                          </a:lnTo>
                          <a:lnTo>
                            <a:pt x="273" y="0"/>
                          </a:lnTo>
                          <a:lnTo>
                            <a:pt x="104" y="11"/>
                          </a:lnTo>
                          <a:close/>
                        </a:path>
                      </a:pathLst>
                    </a:custGeom>
                    <a:solidFill>
                      <a:srgbClr val="006000"/>
                    </a:solidFill>
                    <a:ln w="11160">
                      <a:solidFill>
                        <a:srgbClr val="004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1" name=""/>
                    <p:cNvSpPr/>
                    <p:nvPr/>
                  </p:nvSpPr>
                  <p:spPr>
                    <a:xfrm>
                      <a:off x="929160" y="5141520"/>
                      <a:ext cx="158760" cy="86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52" h="358">
                          <a:moveTo>
                            <a:pt x="0" y="0"/>
                          </a:moveTo>
                          <a:lnTo>
                            <a:pt x="12" y="51"/>
                          </a:lnTo>
                          <a:lnTo>
                            <a:pt x="61" y="100"/>
                          </a:lnTo>
                          <a:lnTo>
                            <a:pt x="121" y="127"/>
                          </a:lnTo>
                          <a:lnTo>
                            <a:pt x="190" y="151"/>
                          </a:lnTo>
                          <a:lnTo>
                            <a:pt x="255" y="162"/>
                          </a:lnTo>
                          <a:lnTo>
                            <a:pt x="289" y="213"/>
                          </a:lnTo>
                          <a:lnTo>
                            <a:pt x="309" y="284"/>
                          </a:lnTo>
                          <a:lnTo>
                            <a:pt x="324" y="354"/>
                          </a:lnTo>
                          <a:lnTo>
                            <a:pt x="404" y="358"/>
                          </a:lnTo>
                          <a:lnTo>
                            <a:pt x="463" y="350"/>
                          </a:lnTo>
                          <a:lnTo>
                            <a:pt x="503" y="335"/>
                          </a:lnTo>
                          <a:lnTo>
                            <a:pt x="473" y="260"/>
                          </a:lnTo>
                          <a:lnTo>
                            <a:pt x="463" y="198"/>
                          </a:lnTo>
                          <a:lnTo>
                            <a:pt x="481" y="158"/>
                          </a:lnTo>
                          <a:lnTo>
                            <a:pt x="566" y="140"/>
                          </a:lnTo>
                          <a:lnTo>
                            <a:pt x="627" y="104"/>
                          </a:lnTo>
                          <a:lnTo>
                            <a:pt x="645" y="72"/>
                          </a:lnTo>
                          <a:lnTo>
                            <a:pt x="652" y="2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006000"/>
                    </a:solidFill>
                    <a:ln w="11160">
                      <a:solidFill>
                        <a:srgbClr val="004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600" bIns="39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82" name=""/>
                  <p:cNvGrpSpPr/>
                  <p:nvPr/>
                </p:nvGrpSpPr>
                <p:grpSpPr>
                  <a:xfrm>
                    <a:off x="1066680" y="5369040"/>
                    <a:ext cx="317520" cy="841320"/>
                    <a:chOff x="1066680" y="5369040"/>
                    <a:chExt cx="317520" cy="841320"/>
                  </a:xfrm>
                </p:grpSpPr>
                <p:sp>
                  <p:nvSpPr>
                    <p:cNvPr id="183" name=""/>
                    <p:cNvSpPr/>
                    <p:nvPr/>
                  </p:nvSpPr>
                  <p:spPr>
                    <a:xfrm>
                      <a:off x="1066680" y="5369040"/>
                      <a:ext cx="317520" cy="841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00" h="3475">
                          <a:moveTo>
                            <a:pt x="0" y="3475"/>
                          </a:moveTo>
                          <a:lnTo>
                            <a:pt x="93" y="3268"/>
                          </a:lnTo>
                          <a:lnTo>
                            <a:pt x="241" y="3060"/>
                          </a:lnTo>
                          <a:lnTo>
                            <a:pt x="370" y="2828"/>
                          </a:lnTo>
                          <a:lnTo>
                            <a:pt x="483" y="2581"/>
                          </a:lnTo>
                          <a:lnTo>
                            <a:pt x="557" y="2334"/>
                          </a:lnTo>
                          <a:lnTo>
                            <a:pt x="612" y="2101"/>
                          </a:lnTo>
                          <a:lnTo>
                            <a:pt x="630" y="1907"/>
                          </a:lnTo>
                          <a:lnTo>
                            <a:pt x="704" y="1608"/>
                          </a:lnTo>
                          <a:lnTo>
                            <a:pt x="742" y="1284"/>
                          </a:lnTo>
                          <a:lnTo>
                            <a:pt x="742" y="986"/>
                          </a:lnTo>
                          <a:lnTo>
                            <a:pt x="742" y="689"/>
                          </a:lnTo>
                          <a:lnTo>
                            <a:pt x="724" y="429"/>
                          </a:lnTo>
                          <a:lnTo>
                            <a:pt x="668" y="0"/>
                          </a:lnTo>
                          <a:lnTo>
                            <a:pt x="817" y="260"/>
                          </a:lnTo>
                          <a:lnTo>
                            <a:pt x="946" y="532"/>
                          </a:lnTo>
                          <a:lnTo>
                            <a:pt x="1077" y="779"/>
                          </a:lnTo>
                          <a:lnTo>
                            <a:pt x="1187" y="1052"/>
                          </a:lnTo>
                          <a:lnTo>
                            <a:pt x="1225" y="1271"/>
                          </a:lnTo>
                          <a:lnTo>
                            <a:pt x="1262" y="1452"/>
                          </a:lnTo>
                          <a:lnTo>
                            <a:pt x="1300" y="1686"/>
                          </a:lnTo>
                          <a:lnTo>
                            <a:pt x="1280" y="1984"/>
                          </a:lnTo>
                          <a:lnTo>
                            <a:pt x="1225" y="2244"/>
                          </a:lnTo>
                          <a:lnTo>
                            <a:pt x="1169" y="2451"/>
                          </a:lnTo>
                          <a:lnTo>
                            <a:pt x="1095" y="2633"/>
                          </a:lnTo>
                          <a:lnTo>
                            <a:pt x="1002" y="2841"/>
                          </a:lnTo>
                          <a:lnTo>
                            <a:pt x="871" y="3060"/>
                          </a:lnTo>
                          <a:lnTo>
                            <a:pt x="724" y="3217"/>
                          </a:lnTo>
                          <a:lnTo>
                            <a:pt x="594" y="3346"/>
                          </a:lnTo>
                          <a:lnTo>
                            <a:pt x="427" y="3475"/>
                          </a:lnTo>
                          <a:lnTo>
                            <a:pt x="0" y="3475"/>
                          </a:lnTo>
                          <a:close/>
                        </a:path>
                      </a:pathLst>
                    </a:custGeom>
                    <a:solidFill>
                      <a:srgbClr val="006000"/>
                    </a:solidFill>
                    <a:ln w="11160">
                      <a:solidFill>
                        <a:srgbClr val="004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4" name=""/>
                    <p:cNvSpPr/>
                    <p:nvPr/>
                  </p:nvSpPr>
                  <p:spPr>
                    <a:xfrm>
                      <a:off x="1153080" y="5617080"/>
                      <a:ext cx="172440" cy="565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06" h="2334">
                          <a:moveTo>
                            <a:pt x="632" y="0"/>
                          </a:moveTo>
                          <a:lnTo>
                            <a:pt x="706" y="311"/>
                          </a:lnTo>
                          <a:lnTo>
                            <a:pt x="687" y="661"/>
                          </a:lnTo>
                          <a:lnTo>
                            <a:pt x="614" y="1063"/>
                          </a:lnTo>
                          <a:lnTo>
                            <a:pt x="519" y="1479"/>
                          </a:lnTo>
                          <a:lnTo>
                            <a:pt x="372" y="1829"/>
                          </a:lnTo>
                          <a:lnTo>
                            <a:pt x="131" y="2166"/>
                          </a:lnTo>
                          <a:lnTo>
                            <a:pt x="0" y="2334"/>
                          </a:lnTo>
                          <a:lnTo>
                            <a:pt x="167" y="2023"/>
                          </a:lnTo>
                          <a:lnTo>
                            <a:pt x="334" y="1724"/>
                          </a:lnTo>
                          <a:lnTo>
                            <a:pt x="465" y="1361"/>
                          </a:lnTo>
                          <a:lnTo>
                            <a:pt x="558" y="1024"/>
                          </a:lnTo>
                          <a:lnTo>
                            <a:pt x="632" y="635"/>
                          </a:lnTo>
                          <a:lnTo>
                            <a:pt x="687" y="401"/>
                          </a:lnTo>
                          <a:lnTo>
                            <a:pt x="632" y="0"/>
                          </a:lnTo>
                          <a:close/>
                        </a:path>
                      </a:pathLst>
                    </a:custGeom>
                    <a:solidFill>
                      <a:srgbClr val="004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794880" y="4779720"/>
                  <a:ext cx="375840" cy="371880"/>
                  <a:chOff x="794880" y="4779720"/>
                  <a:chExt cx="375840" cy="371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877320" y="4779720"/>
                    <a:ext cx="159840" cy="157320"/>
                    <a:chOff x="877320" y="4779720"/>
                    <a:chExt cx="159840" cy="15732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>
                      <a:off x="877320" y="4779720"/>
                      <a:ext cx="159840" cy="157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55" h="650">
                          <a:moveTo>
                            <a:pt x="655" y="313"/>
                          </a:moveTo>
                          <a:lnTo>
                            <a:pt x="605" y="235"/>
                          </a:lnTo>
                          <a:lnTo>
                            <a:pt x="536" y="172"/>
                          </a:lnTo>
                          <a:lnTo>
                            <a:pt x="397" y="94"/>
                          </a:lnTo>
                          <a:lnTo>
                            <a:pt x="268" y="47"/>
                          </a:lnTo>
                          <a:lnTo>
                            <a:pt x="129" y="0"/>
                          </a:lnTo>
                          <a:lnTo>
                            <a:pt x="109" y="86"/>
                          </a:lnTo>
                          <a:lnTo>
                            <a:pt x="89" y="172"/>
                          </a:lnTo>
                          <a:lnTo>
                            <a:pt x="50" y="242"/>
                          </a:lnTo>
                          <a:lnTo>
                            <a:pt x="0" y="360"/>
                          </a:lnTo>
                          <a:lnTo>
                            <a:pt x="20" y="509"/>
                          </a:lnTo>
                          <a:lnTo>
                            <a:pt x="447" y="650"/>
                          </a:lnTo>
                          <a:lnTo>
                            <a:pt x="655" y="313"/>
                          </a:lnTo>
                          <a:close/>
                        </a:path>
                      </a:pathLst>
                    </a:custGeom>
                    <a:solidFill>
                      <a:srgbClr val="c00000"/>
                    </a:solidFill>
                    <a:ln w="1116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>
                      <a:off x="918360" y="4791240"/>
                      <a:ext cx="106560" cy="96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36" h="399">
                          <a:moveTo>
                            <a:pt x="312" y="129"/>
                          </a:moveTo>
                          <a:lnTo>
                            <a:pt x="223" y="82"/>
                          </a:lnTo>
                          <a:lnTo>
                            <a:pt x="154" y="47"/>
                          </a:lnTo>
                          <a:lnTo>
                            <a:pt x="69" y="19"/>
                          </a:lnTo>
                          <a:lnTo>
                            <a:pt x="0" y="0"/>
                          </a:lnTo>
                          <a:lnTo>
                            <a:pt x="64" y="90"/>
                          </a:lnTo>
                          <a:lnTo>
                            <a:pt x="104" y="172"/>
                          </a:lnTo>
                          <a:lnTo>
                            <a:pt x="134" y="239"/>
                          </a:lnTo>
                          <a:lnTo>
                            <a:pt x="158" y="317"/>
                          </a:lnTo>
                          <a:lnTo>
                            <a:pt x="208" y="399"/>
                          </a:lnTo>
                          <a:lnTo>
                            <a:pt x="436" y="203"/>
                          </a:lnTo>
                          <a:lnTo>
                            <a:pt x="312" y="129"/>
                          </a:lnTo>
                          <a:close/>
                        </a:path>
                      </a:pathLst>
                    </a:custGeom>
                    <a:solidFill>
                      <a:srgbClr val="ff404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9" name=""/>
                    <p:cNvSpPr/>
                    <p:nvPr/>
                  </p:nvSpPr>
                  <p:spPr>
                    <a:xfrm>
                      <a:off x="881640" y="4797360"/>
                      <a:ext cx="72000" cy="89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3" h="368">
                          <a:moveTo>
                            <a:pt x="139" y="0"/>
                          </a:moveTo>
                          <a:lnTo>
                            <a:pt x="203" y="106"/>
                          </a:lnTo>
                          <a:lnTo>
                            <a:pt x="243" y="188"/>
                          </a:lnTo>
                          <a:lnTo>
                            <a:pt x="258" y="255"/>
                          </a:lnTo>
                          <a:lnTo>
                            <a:pt x="293" y="368"/>
                          </a:lnTo>
                          <a:lnTo>
                            <a:pt x="35" y="349"/>
                          </a:lnTo>
                          <a:lnTo>
                            <a:pt x="0" y="219"/>
                          </a:lnTo>
                          <a:lnTo>
                            <a:pt x="74" y="172"/>
                          </a:lnTo>
                          <a:lnTo>
                            <a:pt x="114" y="106"/>
                          </a:lnTo>
                          <a:lnTo>
                            <a:pt x="129" y="71"/>
                          </a:lnTo>
                          <a:lnTo>
                            <a:pt x="139" y="0"/>
                          </a:lnTo>
                          <a:close/>
                        </a:path>
                      </a:pathLst>
                    </a:custGeom>
                    <a:solidFill>
                      <a:srgbClr val="ff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2840" bIns="42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90" name=""/>
                  <p:cNvSpPr/>
                  <p:nvPr/>
                </p:nvSpPr>
                <p:spPr>
                  <a:xfrm>
                    <a:off x="911160" y="4798440"/>
                    <a:ext cx="259560" cy="349200"/>
                  </a:xfrm>
                  <a:custGeom>
                    <a:avLst/>
                    <a:gdLst/>
                    <a:ahLst/>
                    <a:rect l="l" t="t" r="r" b="b"/>
                    <a:pathLst>
                      <a:path w="1062" h="1442">
                        <a:moveTo>
                          <a:pt x="804" y="78"/>
                        </a:moveTo>
                        <a:lnTo>
                          <a:pt x="764" y="172"/>
                        </a:lnTo>
                        <a:lnTo>
                          <a:pt x="759" y="235"/>
                        </a:lnTo>
                        <a:lnTo>
                          <a:pt x="774" y="298"/>
                        </a:lnTo>
                        <a:lnTo>
                          <a:pt x="794" y="360"/>
                        </a:lnTo>
                        <a:lnTo>
                          <a:pt x="824" y="419"/>
                        </a:lnTo>
                        <a:lnTo>
                          <a:pt x="868" y="497"/>
                        </a:lnTo>
                        <a:lnTo>
                          <a:pt x="903" y="564"/>
                        </a:lnTo>
                        <a:lnTo>
                          <a:pt x="952" y="635"/>
                        </a:lnTo>
                        <a:lnTo>
                          <a:pt x="1002" y="744"/>
                        </a:lnTo>
                        <a:lnTo>
                          <a:pt x="1037" y="834"/>
                        </a:lnTo>
                        <a:lnTo>
                          <a:pt x="1057" y="913"/>
                        </a:lnTo>
                        <a:lnTo>
                          <a:pt x="1062" y="1007"/>
                        </a:lnTo>
                        <a:lnTo>
                          <a:pt x="1057" y="1073"/>
                        </a:lnTo>
                        <a:lnTo>
                          <a:pt x="1037" y="1156"/>
                        </a:lnTo>
                        <a:lnTo>
                          <a:pt x="997" y="1222"/>
                        </a:lnTo>
                        <a:lnTo>
                          <a:pt x="962" y="1277"/>
                        </a:lnTo>
                        <a:lnTo>
                          <a:pt x="873" y="1348"/>
                        </a:lnTo>
                        <a:lnTo>
                          <a:pt x="764" y="1395"/>
                        </a:lnTo>
                        <a:lnTo>
                          <a:pt x="585" y="1418"/>
                        </a:lnTo>
                        <a:lnTo>
                          <a:pt x="357" y="1442"/>
                        </a:lnTo>
                        <a:lnTo>
                          <a:pt x="208" y="1402"/>
                        </a:lnTo>
                        <a:lnTo>
                          <a:pt x="109" y="1332"/>
                        </a:lnTo>
                        <a:lnTo>
                          <a:pt x="50" y="1222"/>
                        </a:lnTo>
                        <a:lnTo>
                          <a:pt x="20" y="1097"/>
                        </a:lnTo>
                        <a:lnTo>
                          <a:pt x="0" y="987"/>
                        </a:lnTo>
                        <a:lnTo>
                          <a:pt x="0" y="870"/>
                        </a:lnTo>
                        <a:lnTo>
                          <a:pt x="10" y="776"/>
                        </a:lnTo>
                        <a:lnTo>
                          <a:pt x="20" y="666"/>
                        </a:lnTo>
                        <a:lnTo>
                          <a:pt x="40" y="564"/>
                        </a:lnTo>
                        <a:lnTo>
                          <a:pt x="69" y="439"/>
                        </a:lnTo>
                        <a:lnTo>
                          <a:pt x="129" y="345"/>
                        </a:lnTo>
                        <a:lnTo>
                          <a:pt x="198" y="243"/>
                        </a:lnTo>
                        <a:lnTo>
                          <a:pt x="288" y="164"/>
                        </a:lnTo>
                        <a:lnTo>
                          <a:pt x="377" y="117"/>
                        </a:lnTo>
                        <a:lnTo>
                          <a:pt x="486" y="63"/>
                        </a:lnTo>
                        <a:lnTo>
                          <a:pt x="600" y="35"/>
                        </a:lnTo>
                        <a:lnTo>
                          <a:pt x="704" y="16"/>
                        </a:lnTo>
                        <a:lnTo>
                          <a:pt x="843" y="0"/>
                        </a:lnTo>
                        <a:lnTo>
                          <a:pt x="804" y="78"/>
                        </a:lnTo>
                        <a:close/>
                      </a:path>
                    </a:pathLst>
                  </a:custGeom>
                  <a:solidFill>
                    <a:srgbClr val="e00000"/>
                  </a:solidFill>
                  <a:ln w="11160">
                    <a:solidFill>
                      <a:srgbClr val="8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1" name=""/>
                  <p:cNvSpPr/>
                  <p:nvPr/>
                </p:nvSpPr>
                <p:spPr>
                  <a:xfrm>
                    <a:off x="794880" y="4798440"/>
                    <a:ext cx="257040" cy="35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051" h="1457">
                        <a:moveTo>
                          <a:pt x="694" y="447"/>
                        </a:moveTo>
                        <a:lnTo>
                          <a:pt x="605" y="329"/>
                        </a:lnTo>
                        <a:lnTo>
                          <a:pt x="526" y="251"/>
                        </a:lnTo>
                        <a:lnTo>
                          <a:pt x="426" y="180"/>
                        </a:lnTo>
                        <a:lnTo>
                          <a:pt x="317" y="117"/>
                        </a:lnTo>
                        <a:lnTo>
                          <a:pt x="228" y="86"/>
                        </a:lnTo>
                        <a:lnTo>
                          <a:pt x="153" y="59"/>
                        </a:lnTo>
                        <a:lnTo>
                          <a:pt x="89" y="35"/>
                        </a:lnTo>
                        <a:lnTo>
                          <a:pt x="0" y="0"/>
                        </a:lnTo>
                        <a:lnTo>
                          <a:pt x="59" y="110"/>
                        </a:lnTo>
                        <a:lnTo>
                          <a:pt x="99" y="196"/>
                        </a:lnTo>
                        <a:lnTo>
                          <a:pt x="99" y="290"/>
                        </a:lnTo>
                        <a:lnTo>
                          <a:pt x="99" y="384"/>
                        </a:lnTo>
                        <a:lnTo>
                          <a:pt x="89" y="470"/>
                        </a:lnTo>
                        <a:lnTo>
                          <a:pt x="69" y="572"/>
                        </a:lnTo>
                        <a:lnTo>
                          <a:pt x="39" y="666"/>
                        </a:lnTo>
                        <a:lnTo>
                          <a:pt x="20" y="760"/>
                        </a:lnTo>
                        <a:lnTo>
                          <a:pt x="0" y="846"/>
                        </a:lnTo>
                        <a:lnTo>
                          <a:pt x="0" y="932"/>
                        </a:lnTo>
                        <a:lnTo>
                          <a:pt x="10" y="1018"/>
                        </a:lnTo>
                        <a:lnTo>
                          <a:pt x="39" y="1112"/>
                        </a:lnTo>
                        <a:lnTo>
                          <a:pt x="79" y="1207"/>
                        </a:lnTo>
                        <a:lnTo>
                          <a:pt x="119" y="1277"/>
                        </a:lnTo>
                        <a:lnTo>
                          <a:pt x="218" y="1379"/>
                        </a:lnTo>
                        <a:lnTo>
                          <a:pt x="327" y="1418"/>
                        </a:lnTo>
                        <a:lnTo>
                          <a:pt x="466" y="1449"/>
                        </a:lnTo>
                        <a:lnTo>
                          <a:pt x="625" y="1457"/>
                        </a:lnTo>
                        <a:lnTo>
                          <a:pt x="724" y="1457"/>
                        </a:lnTo>
                        <a:lnTo>
                          <a:pt x="873" y="1438"/>
                        </a:lnTo>
                        <a:lnTo>
                          <a:pt x="947" y="1398"/>
                        </a:lnTo>
                        <a:lnTo>
                          <a:pt x="1012" y="1332"/>
                        </a:lnTo>
                        <a:lnTo>
                          <a:pt x="1042" y="1238"/>
                        </a:lnTo>
                        <a:lnTo>
                          <a:pt x="1051" y="1160"/>
                        </a:lnTo>
                        <a:lnTo>
                          <a:pt x="1051" y="1034"/>
                        </a:lnTo>
                        <a:lnTo>
                          <a:pt x="1012" y="924"/>
                        </a:lnTo>
                        <a:lnTo>
                          <a:pt x="932" y="791"/>
                        </a:lnTo>
                        <a:lnTo>
                          <a:pt x="853" y="666"/>
                        </a:lnTo>
                        <a:lnTo>
                          <a:pt x="784" y="556"/>
                        </a:lnTo>
                        <a:lnTo>
                          <a:pt x="694" y="447"/>
                        </a:lnTo>
                        <a:close/>
                      </a:path>
                    </a:pathLst>
                  </a:custGeom>
                  <a:solidFill>
                    <a:srgbClr val="ff0000"/>
                  </a:solidFill>
                  <a:ln w="11160">
                    <a:solidFill>
                      <a:srgbClr val="8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2" name=""/>
                  <p:cNvSpPr/>
                  <p:nvPr/>
                </p:nvSpPr>
                <p:spPr>
                  <a:xfrm>
                    <a:off x="1092960" y="4924080"/>
                    <a:ext cx="60480" cy="204840"/>
                  </a:xfrm>
                  <a:custGeom>
                    <a:avLst/>
                    <a:gdLst/>
                    <a:ahLst/>
                    <a:rect l="l" t="t" r="r" b="b"/>
                    <a:pathLst>
                      <a:path w="248" h="846">
                        <a:moveTo>
                          <a:pt x="109" y="0"/>
                        </a:moveTo>
                        <a:lnTo>
                          <a:pt x="189" y="188"/>
                        </a:lnTo>
                        <a:lnTo>
                          <a:pt x="228" y="313"/>
                        </a:lnTo>
                        <a:lnTo>
                          <a:pt x="248" y="470"/>
                        </a:lnTo>
                        <a:lnTo>
                          <a:pt x="238" y="611"/>
                        </a:lnTo>
                        <a:lnTo>
                          <a:pt x="179" y="729"/>
                        </a:lnTo>
                        <a:lnTo>
                          <a:pt x="89" y="807"/>
                        </a:lnTo>
                        <a:lnTo>
                          <a:pt x="0" y="846"/>
                        </a:lnTo>
                        <a:lnTo>
                          <a:pt x="129" y="666"/>
                        </a:lnTo>
                        <a:lnTo>
                          <a:pt x="169" y="517"/>
                        </a:lnTo>
                        <a:lnTo>
                          <a:pt x="159" y="360"/>
                        </a:lnTo>
                        <a:lnTo>
                          <a:pt x="159" y="251"/>
                        </a:lnTo>
                        <a:lnTo>
                          <a:pt x="139" y="141"/>
                        </a:lnTo>
                        <a:lnTo>
                          <a:pt x="109" y="0"/>
                        </a:lnTo>
                        <a:close/>
                      </a:path>
                    </a:pathLst>
                  </a:cu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3" name=""/>
                  <p:cNvSpPr/>
                  <p:nvPr/>
                </p:nvSpPr>
                <p:spPr>
                  <a:xfrm>
                    <a:off x="804600" y="4809960"/>
                    <a:ext cx="149040" cy="97560"/>
                  </a:xfrm>
                  <a:custGeom>
                    <a:avLst/>
                    <a:gdLst/>
                    <a:ahLst/>
                    <a:rect l="l" t="t" r="r" b="b"/>
                    <a:pathLst>
                      <a:path w="611" h="403">
                        <a:moveTo>
                          <a:pt x="65" y="27"/>
                        </a:moveTo>
                        <a:lnTo>
                          <a:pt x="129" y="47"/>
                        </a:lnTo>
                        <a:lnTo>
                          <a:pt x="204" y="74"/>
                        </a:lnTo>
                        <a:lnTo>
                          <a:pt x="273" y="110"/>
                        </a:lnTo>
                        <a:lnTo>
                          <a:pt x="328" y="141"/>
                        </a:lnTo>
                        <a:lnTo>
                          <a:pt x="397" y="188"/>
                        </a:lnTo>
                        <a:lnTo>
                          <a:pt x="462" y="235"/>
                        </a:lnTo>
                        <a:lnTo>
                          <a:pt x="541" y="313"/>
                        </a:lnTo>
                        <a:lnTo>
                          <a:pt x="611" y="403"/>
                        </a:lnTo>
                        <a:lnTo>
                          <a:pt x="506" y="356"/>
                        </a:lnTo>
                        <a:lnTo>
                          <a:pt x="422" y="317"/>
                        </a:lnTo>
                        <a:lnTo>
                          <a:pt x="348" y="290"/>
                        </a:lnTo>
                        <a:lnTo>
                          <a:pt x="268" y="266"/>
                        </a:lnTo>
                        <a:lnTo>
                          <a:pt x="204" y="251"/>
                        </a:lnTo>
                        <a:lnTo>
                          <a:pt x="149" y="231"/>
                        </a:lnTo>
                        <a:lnTo>
                          <a:pt x="110" y="196"/>
                        </a:lnTo>
                        <a:lnTo>
                          <a:pt x="80" y="137"/>
                        </a:lnTo>
                        <a:lnTo>
                          <a:pt x="60" y="90"/>
                        </a:lnTo>
                        <a:lnTo>
                          <a:pt x="0" y="0"/>
                        </a:lnTo>
                        <a:lnTo>
                          <a:pt x="65" y="27"/>
                        </a:lnTo>
                        <a:close/>
                      </a:path>
                    </a:pathLst>
                  </a:custGeom>
                  <a:solidFill>
                    <a:srgbClr val="c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4" name=""/>
                  <p:cNvSpPr/>
                  <p:nvPr/>
                </p:nvSpPr>
                <p:spPr>
                  <a:xfrm>
                    <a:off x="986400" y="4808160"/>
                    <a:ext cx="114840" cy="59400"/>
                  </a:xfrm>
                  <a:custGeom>
                    <a:avLst/>
                    <a:gdLst/>
                    <a:ahLst/>
                    <a:rect l="l" t="t" r="r" b="b"/>
                    <a:pathLst>
                      <a:path w="471" h="247">
                        <a:moveTo>
                          <a:pt x="471" y="0"/>
                        </a:moveTo>
                        <a:lnTo>
                          <a:pt x="382" y="12"/>
                        </a:lnTo>
                        <a:lnTo>
                          <a:pt x="277" y="39"/>
                        </a:lnTo>
                        <a:lnTo>
                          <a:pt x="138" y="98"/>
                        </a:lnTo>
                        <a:lnTo>
                          <a:pt x="84" y="145"/>
                        </a:lnTo>
                        <a:lnTo>
                          <a:pt x="29" y="208"/>
                        </a:lnTo>
                        <a:lnTo>
                          <a:pt x="0" y="247"/>
                        </a:lnTo>
                        <a:lnTo>
                          <a:pt x="133" y="216"/>
                        </a:lnTo>
                        <a:lnTo>
                          <a:pt x="297" y="208"/>
                        </a:lnTo>
                        <a:lnTo>
                          <a:pt x="367" y="192"/>
                        </a:lnTo>
                        <a:lnTo>
                          <a:pt x="411" y="145"/>
                        </a:lnTo>
                        <a:lnTo>
                          <a:pt x="456" y="78"/>
                        </a:lnTo>
                        <a:lnTo>
                          <a:pt x="471" y="0"/>
                        </a:lnTo>
                        <a:close/>
                      </a:path>
                    </a:pathLst>
                  </a:custGeom>
                  <a:solidFill>
                    <a:srgbClr val="c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600" bIns="12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5" name=""/>
                  <p:cNvSpPr/>
                  <p:nvPr/>
                </p:nvSpPr>
                <p:spPr>
                  <a:xfrm>
                    <a:off x="1001160" y="4994280"/>
                    <a:ext cx="41040" cy="145080"/>
                  </a:xfrm>
                  <a:custGeom>
                    <a:avLst/>
                    <a:gdLst/>
                    <a:ahLst/>
                    <a:rect l="l" t="t" r="r" b="b"/>
                    <a:pathLst>
                      <a:path w="169" h="599">
                        <a:moveTo>
                          <a:pt x="25" y="0"/>
                        </a:moveTo>
                        <a:lnTo>
                          <a:pt x="114" y="114"/>
                        </a:lnTo>
                        <a:lnTo>
                          <a:pt x="149" y="188"/>
                        </a:lnTo>
                        <a:lnTo>
                          <a:pt x="169" y="270"/>
                        </a:lnTo>
                        <a:lnTo>
                          <a:pt x="169" y="341"/>
                        </a:lnTo>
                        <a:lnTo>
                          <a:pt x="159" y="407"/>
                        </a:lnTo>
                        <a:lnTo>
                          <a:pt x="144" y="474"/>
                        </a:lnTo>
                        <a:lnTo>
                          <a:pt x="114" y="509"/>
                        </a:lnTo>
                        <a:lnTo>
                          <a:pt x="74" y="560"/>
                        </a:lnTo>
                        <a:lnTo>
                          <a:pt x="0" y="599"/>
                        </a:lnTo>
                        <a:lnTo>
                          <a:pt x="50" y="505"/>
                        </a:lnTo>
                        <a:lnTo>
                          <a:pt x="70" y="450"/>
                        </a:lnTo>
                        <a:lnTo>
                          <a:pt x="84" y="392"/>
                        </a:lnTo>
                        <a:lnTo>
                          <a:pt x="89" y="337"/>
                        </a:lnTo>
                        <a:lnTo>
                          <a:pt x="84" y="278"/>
                        </a:lnTo>
                        <a:lnTo>
                          <a:pt x="84" y="219"/>
                        </a:lnTo>
                        <a:lnTo>
                          <a:pt x="65" y="137"/>
                        </a:lnTo>
                        <a:lnTo>
                          <a:pt x="25" y="0"/>
                        </a:lnTo>
                        <a:close/>
                      </a:path>
                    </a:pathLst>
                  </a:custGeom>
                  <a:solidFill>
                    <a:srgbClr val="ff4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6" name=""/>
                  <p:cNvSpPr/>
                  <p:nvPr/>
                </p:nvSpPr>
                <p:spPr>
                  <a:xfrm>
                    <a:off x="803160" y="4930560"/>
                    <a:ext cx="50760" cy="187920"/>
                  </a:xfrm>
                  <a:custGeom>
                    <a:avLst/>
                    <a:gdLst/>
                    <a:ahLst/>
                    <a:rect l="l" t="t" r="r" b="b"/>
                    <a:pathLst>
                      <a:path w="209" h="776">
                        <a:moveTo>
                          <a:pt x="95" y="0"/>
                        </a:moveTo>
                        <a:lnTo>
                          <a:pt x="30" y="153"/>
                        </a:lnTo>
                        <a:lnTo>
                          <a:pt x="5" y="259"/>
                        </a:lnTo>
                        <a:lnTo>
                          <a:pt x="0" y="373"/>
                        </a:lnTo>
                        <a:lnTo>
                          <a:pt x="15" y="498"/>
                        </a:lnTo>
                        <a:lnTo>
                          <a:pt x="65" y="619"/>
                        </a:lnTo>
                        <a:lnTo>
                          <a:pt x="134" y="729"/>
                        </a:lnTo>
                        <a:lnTo>
                          <a:pt x="209" y="776"/>
                        </a:lnTo>
                        <a:lnTo>
                          <a:pt x="129" y="639"/>
                        </a:lnTo>
                        <a:lnTo>
                          <a:pt x="90" y="431"/>
                        </a:lnTo>
                        <a:lnTo>
                          <a:pt x="90" y="263"/>
                        </a:lnTo>
                        <a:lnTo>
                          <a:pt x="90" y="145"/>
                        </a:lnTo>
                        <a:lnTo>
                          <a:pt x="95" y="0"/>
                        </a:lnTo>
                        <a:close/>
                      </a:path>
                    </a:pathLst>
                  </a:custGeom>
                  <a:solidFill>
                    <a:srgbClr val="ff4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97" name=""/>
                  <p:cNvGrpSpPr/>
                  <p:nvPr/>
                </p:nvGrpSpPr>
                <p:grpSpPr>
                  <a:xfrm>
                    <a:off x="915840" y="4935960"/>
                    <a:ext cx="185040" cy="171000"/>
                    <a:chOff x="915840" y="4935960"/>
                    <a:chExt cx="185040" cy="171000"/>
                  </a:xfrm>
                </p:grpSpPr>
                <p:grpSp>
                  <p:nvGrpSpPr>
                    <p:cNvPr id="198" name=""/>
                    <p:cNvGrpSpPr/>
                    <p:nvPr/>
                  </p:nvGrpSpPr>
                  <p:grpSpPr>
                    <a:xfrm>
                      <a:off x="915840" y="4937760"/>
                      <a:ext cx="181440" cy="169200"/>
                      <a:chOff x="915840" y="4937760"/>
                      <a:chExt cx="181440" cy="169200"/>
                    </a:xfrm>
                  </p:grpSpPr>
                  <p:sp>
                    <p:nvSpPr>
                      <p:cNvPr id="199" name=""/>
                      <p:cNvSpPr/>
                      <p:nvPr/>
                    </p:nvSpPr>
                    <p:spPr>
                      <a:xfrm>
                        <a:off x="932760" y="5041440"/>
                        <a:ext cx="19080" cy="14760"/>
                      </a:xfrm>
                      <a:prstGeom prst="ellipse">
                        <a:avLst/>
                      </a:prstGeom>
                      <a:solidFill>
                        <a:srgbClr val="8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360" bIns="-363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00" name=""/>
                      <p:cNvSpPr/>
                      <p:nvPr/>
                    </p:nvSpPr>
                    <p:spPr>
                      <a:xfrm>
                        <a:off x="915840" y="4993920"/>
                        <a:ext cx="10440" cy="11160"/>
                      </a:xfrm>
                      <a:prstGeom prst="ellipse">
                        <a:avLst/>
                      </a:prstGeom>
                      <a:solidFill>
                        <a:srgbClr val="8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520" bIns="-385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01" name=""/>
                      <p:cNvSpPr/>
                      <p:nvPr/>
                    </p:nvSpPr>
                    <p:spPr>
                      <a:xfrm>
                        <a:off x="1067400" y="4937760"/>
                        <a:ext cx="10440" cy="16200"/>
                      </a:xfrm>
                      <a:prstGeom prst="ellipse">
                        <a:avLst/>
                      </a:prstGeom>
                      <a:solidFill>
                        <a:srgbClr val="8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4920" bIns="-349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02" name=""/>
                      <p:cNvSpPr/>
                      <p:nvPr/>
                    </p:nvSpPr>
                    <p:spPr>
                      <a:xfrm>
                        <a:off x="1081800" y="5038560"/>
                        <a:ext cx="15480" cy="17640"/>
                      </a:xfrm>
                      <a:prstGeom prst="ellipse">
                        <a:avLst/>
                      </a:prstGeom>
                      <a:solidFill>
                        <a:srgbClr val="8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4200" bIns="-342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03" name=""/>
                      <p:cNvSpPr/>
                      <p:nvPr/>
                    </p:nvSpPr>
                    <p:spPr>
                      <a:xfrm>
                        <a:off x="924480" y="5094720"/>
                        <a:ext cx="14040" cy="12240"/>
                      </a:xfrm>
                      <a:prstGeom prst="ellipse">
                        <a:avLst/>
                      </a:prstGeom>
                      <a:solidFill>
                        <a:srgbClr val="8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160" bIns="-381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04" name=""/>
                    <p:cNvGrpSpPr/>
                    <p:nvPr/>
                  </p:nvGrpSpPr>
                  <p:grpSpPr>
                    <a:xfrm>
                      <a:off x="919080" y="4935960"/>
                      <a:ext cx="181800" cy="169560"/>
                      <a:chOff x="919080" y="4935960"/>
                      <a:chExt cx="181800" cy="169560"/>
                    </a:xfrm>
                  </p:grpSpPr>
                  <p:sp>
                    <p:nvSpPr>
                      <p:cNvPr id="205" name=""/>
                      <p:cNvSpPr/>
                      <p:nvPr/>
                    </p:nvSpPr>
                    <p:spPr>
                      <a:xfrm>
                        <a:off x="936000" y="5039640"/>
                        <a:ext cx="19440" cy="14760"/>
                      </a:xfrm>
                      <a:prstGeom prst="ellipse">
                        <a:avLst/>
                      </a:prstGeom>
                      <a:solidFill>
                        <a:srgbClr val="ff404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360" bIns="-363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06" name=""/>
                      <p:cNvSpPr/>
                      <p:nvPr/>
                    </p:nvSpPr>
                    <p:spPr>
                      <a:xfrm>
                        <a:off x="919080" y="4992120"/>
                        <a:ext cx="11160" cy="11520"/>
                      </a:xfrm>
                      <a:prstGeom prst="ellipse">
                        <a:avLst/>
                      </a:prstGeom>
                      <a:solidFill>
                        <a:srgbClr val="ff404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160" bIns="-381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07" name=""/>
                      <p:cNvSpPr/>
                      <p:nvPr/>
                    </p:nvSpPr>
                    <p:spPr>
                      <a:xfrm>
                        <a:off x="1070640" y="4935960"/>
                        <a:ext cx="11160" cy="16200"/>
                      </a:xfrm>
                      <a:prstGeom prst="ellipse">
                        <a:avLst/>
                      </a:prstGeom>
                      <a:solidFill>
                        <a:srgbClr val="ff404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4920" bIns="-349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08" name=""/>
                      <p:cNvSpPr/>
                      <p:nvPr/>
                    </p:nvSpPr>
                    <p:spPr>
                      <a:xfrm>
                        <a:off x="1085400" y="5036760"/>
                        <a:ext cx="15480" cy="18000"/>
                      </a:xfrm>
                      <a:prstGeom prst="ellipse">
                        <a:avLst/>
                      </a:prstGeom>
                      <a:solidFill>
                        <a:srgbClr val="ff404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3840" bIns="-338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09" name=""/>
                      <p:cNvSpPr/>
                      <p:nvPr/>
                    </p:nvSpPr>
                    <p:spPr>
                      <a:xfrm>
                        <a:off x="928080" y="5092920"/>
                        <a:ext cx="13320" cy="12600"/>
                      </a:xfrm>
                      <a:prstGeom prst="ellipse">
                        <a:avLst/>
                      </a:prstGeom>
                      <a:solidFill>
                        <a:srgbClr val="ff404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800" bIns="-37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210" name=""/>
                    <p:cNvSpPr/>
                    <p:nvPr/>
                  </p:nvSpPr>
                  <p:spPr>
                    <a:xfrm>
                      <a:off x="943200" y="5043240"/>
                      <a:ext cx="10080" cy="7920"/>
                    </a:xfrm>
                    <a:prstGeom prst="ellipse">
                      <a:avLst/>
                    </a:prstGeom>
                    <a:solidFill>
                      <a:srgbClr val="ff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040" bIns="-41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1" name=""/>
                    <p:cNvSpPr/>
                    <p:nvPr/>
                  </p:nvSpPr>
                  <p:spPr>
                    <a:xfrm>
                      <a:off x="923400" y="4995000"/>
                      <a:ext cx="4320" cy="6480"/>
                    </a:xfrm>
                    <a:prstGeom prst="ellipse">
                      <a:avLst/>
                    </a:prstGeom>
                    <a:solidFill>
                      <a:srgbClr val="ff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760" bIns="-41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>
                      <a:off x="1073160" y="4939560"/>
                      <a:ext cx="6120" cy="10080"/>
                    </a:xfrm>
                    <a:prstGeom prst="ellipse">
                      <a:avLst/>
                    </a:prstGeom>
                    <a:solidFill>
                      <a:srgbClr val="ff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600" bIns="-39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3" name=""/>
                    <p:cNvSpPr/>
                    <p:nvPr/>
                  </p:nvSpPr>
                  <p:spPr>
                    <a:xfrm>
                      <a:off x="1091160" y="5039640"/>
                      <a:ext cx="7560" cy="11880"/>
                    </a:xfrm>
                    <a:prstGeom prst="ellipse">
                      <a:avLst/>
                    </a:prstGeom>
                    <a:solidFill>
                      <a:srgbClr val="ff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4" name=""/>
                    <p:cNvSpPr/>
                    <p:nvPr/>
                  </p:nvSpPr>
                  <p:spPr>
                    <a:xfrm>
                      <a:off x="933120" y="5095800"/>
                      <a:ext cx="6840" cy="6120"/>
                    </a:xfrm>
                    <a:prstGeom prst="ellipse">
                      <a:avLst/>
                    </a:prstGeom>
                    <a:solidFill>
                      <a:srgbClr val="ff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120" bIns="-42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215" name=""/>
              <p:cNvGrpSpPr/>
              <p:nvPr/>
            </p:nvGrpSpPr>
            <p:grpSpPr>
              <a:xfrm>
                <a:off x="653760" y="5055120"/>
                <a:ext cx="1679040" cy="1155960"/>
                <a:chOff x="653760" y="5055120"/>
                <a:chExt cx="1679040" cy="1155960"/>
              </a:xfrm>
            </p:grpSpPr>
            <p:grpSp>
              <p:nvGrpSpPr>
                <p:cNvPr id="216" name=""/>
                <p:cNvGrpSpPr/>
                <p:nvPr/>
              </p:nvGrpSpPr>
              <p:grpSpPr>
                <a:xfrm>
                  <a:off x="653760" y="5270040"/>
                  <a:ext cx="1679040" cy="941040"/>
                  <a:chOff x="653760" y="5270040"/>
                  <a:chExt cx="1679040" cy="941040"/>
                </a:xfrm>
              </p:grpSpPr>
              <p:sp>
                <p:nvSpPr>
                  <p:cNvPr id="217" name=""/>
                  <p:cNvSpPr/>
                  <p:nvPr/>
                </p:nvSpPr>
                <p:spPr>
                  <a:xfrm>
                    <a:off x="1685880" y="5270040"/>
                    <a:ext cx="1713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701" h="523">
                        <a:moveTo>
                          <a:pt x="172" y="0"/>
                        </a:moveTo>
                        <a:lnTo>
                          <a:pt x="106" y="105"/>
                        </a:lnTo>
                        <a:lnTo>
                          <a:pt x="106" y="199"/>
                        </a:lnTo>
                        <a:lnTo>
                          <a:pt x="145" y="303"/>
                        </a:lnTo>
                        <a:lnTo>
                          <a:pt x="0" y="429"/>
                        </a:lnTo>
                        <a:lnTo>
                          <a:pt x="132" y="523"/>
                        </a:lnTo>
                        <a:lnTo>
                          <a:pt x="238" y="429"/>
                        </a:lnTo>
                        <a:lnTo>
                          <a:pt x="423" y="481"/>
                        </a:lnTo>
                        <a:lnTo>
                          <a:pt x="595" y="481"/>
                        </a:lnTo>
                        <a:lnTo>
                          <a:pt x="701" y="418"/>
                        </a:lnTo>
                        <a:lnTo>
                          <a:pt x="172" y="0"/>
                        </a:lnTo>
                        <a:close/>
                      </a:path>
                    </a:pathLst>
                  </a:custGeom>
                  <a:solidFill>
                    <a:srgbClr val="006000"/>
                  </a:solidFill>
                  <a:ln w="11160">
                    <a:solidFill>
                      <a:srgbClr val="004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18" name=""/>
                  <p:cNvGrpSpPr/>
                  <p:nvPr/>
                </p:nvGrpSpPr>
                <p:grpSpPr>
                  <a:xfrm>
                    <a:off x="653760" y="5288760"/>
                    <a:ext cx="1679040" cy="922320"/>
                    <a:chOff x="653760" y="5288760"/>
                    <a:chExt cx="1679040" cy="922320"/>
                  </a:xfrm>
                </p:grpSpPr>
                <p:grpSp>
                  <p:nvGrpSpPr>
                    <p:cNvPr id="219" name=""/>
                    <p:cNvGrpSpPr/>
                    <p:nvPr/>
                  </p:nvGrpSpPr>
                  <p:grpSpPr>
                    <a:xfrm>
                      <a:off x="1333440" y="5622480"/>
                      <a:ext cx="999360" cy="588600"/>
                      <a:chOff x="1333440" y="5622480"/>
                      <a:chExt cx="999360" cy="588600"/>
                    </a:xfrm>
                  </p:grpSpPr>
                  <p:sp>
                    <p:nvSpPr>
                      <p:cNvPr id="220" name=""/>
                      <p:cNvSpPr/>
                      <p:nvPr/>
                    </p:nvSpPr>
                    <p:spPr>
                      <a:xfrm>
                        <a:off x="1333440" y="5622480"/>
                        <a:ext cx="999360" cy="588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088" h="2429">
                            <a:moveTo>
                              <a:pt x="0" y="2429"/>
                            </a:moveTo>
                            <a:lnTo>
                              <a:pt x="59" y="1535"/>
                            </a:lnTo>
                            <a:lnTo>
                              <a:pt x="178" y="1144"/>
                            </a:lnTo>
                            <a:lnTo>
                              <a:pt x="357" y="909"/>
                            </a:lnTo>
                            <a:lnTo>
                              <a:pt x="575" y="689"/>
                            </a:lnTo>
                            <a:lnTo>
                              <a:pt x="853" y="501"/>
                            </a:lnTo>
                            <a:lnTo>
                              <a:pt x="1091" y="344"/>
                            </a:lnTo>
                            <a:lnTo>
                              <a:pt x="1369" y="235"/>
                            </a:lnTo>
                            <a:lnTo>
                              <a:pt x="1746" y="125"/>
                            </a:lnTo>
                            <a:lnTo>
                              <a:pt x="2083" y="31"/>
                            </a:lnTo>
                            <a:lnTo>
                              <a:pt x="2401" y="15"/>
                            </a:lnTo>
                            <a:lnTo>
                              <a:pt x="2738" y="0"/>
                            </a:lnTo>
                            <a:lnTo>
                              <a:pt x="3016" y="31"/>
                            </a:lnTo>
                            <a:lnTo>
                              <a:pt x="3354" y="94"/>
                            </a:lnTo>
                            <a:lnTo>
                              <a:pt x="3552" y="172"/>
                            </a:lnTo>
                            <a:lnTo>
                              <a:pt x="4088" y="548"/>
                            </a:lnTo>
                            <a:lnTo>
                              <a:pt x="3512" y="454"/>
                            </a:lnTo>
                            <a:lnTo>
                              <a:pt x="3234" y="564"/>
                            </a:lnTo>
                            <a:lnTo>
                              <a:pt x="2897" y="579"/>
                            </a:lnTo>
                            <a:lnTo>
                              <a:pt x="2619" y="611"/>
                            </a:lnTo>
                            <a:lnTo>
                              <a:pt x="2302" y="689"/>
                            </a:lnTo>
                            <a:lnTo>
                              <a:pt x="1945" y="705"/>
                            </a:lnTo>
                            <a:lnTo>
                              <a:pt x="1687" y="752"/>
                            </a:lnTo>
                            <a:lnTo>
                              <a:pt x="1329" y="815"/>
                            </a:lnTo>
                            <a:lnTo>
                              <a:pt x="1012" y="877"/>
                            </a:lnTo>
                            <a:lnTo>
                              <a:pt x="833" y="1018"/>
                            </a:lnTo>
                            <a:lnTo>
                              <a:pt x="595" y="1316"/>
                            </a:lnTo>
                            <a:lnTo>
                              <a:pt x="476" y="1629"/>
                            </a:lnTo>
                            <a:lnTo>
                              <a:pt x="417" y="1896"/>
                            </a:lnTo>
                            <a:lnTo>
                              <a:pt x="397" y="2429"/>
                            </a:lnTo>
                            <a:lnTo>
                              <a:pt x="0" y="2429"/>
                            </a:lnTo>
                            <a:close/>
                          </a:path>
                        </a:pathLst>
                      </a:custGeom>
                      <a:solidFill>
                        <a:srgbClr val="006000"/>
                      </a:solidFill>
                      <a:ln w="11160">
                        <a:solidFill>
                          <a:srgbClr val="004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21" name=""/>
                      <p:cNvSpPr/>
                      <p:nvPr/>
                    </p:nvSpPr>
                    <p:spPr>
                      <a:xfrm>
                        <a:off x="1382040" y="5683320"/>
                        <a:ext cx="737280" cy="432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017" h="1787">
                            <a:moveTo>
                              <a:pt x="0" y="1787"/>
                            </a:moveTo>
                            <a:lnTo>
                              <a:pt x="40" y="1317"/>
                            </a:lnTo>
                            <a:lnTo>
                              <a:pt x="258" y="831"/>
                            </a:lnTo>
                            <a:lnTo>
                              <a:pt x="715" y="502"/>
                            </a:lnTo>
                            <a:lnTo>
                              <a:pt x="1409" y="298"/>
                            </a:lnTo>
                            <a:lnTo>
                              <a:pt x="1965" y="204"/>
                            </a:lnTo>
                            <a:lnTo>
                              <a:pt x="2620" y="47"/>
                            </a:lnTo>
                            <a:lnTo>
                              <a:pt x="3017" y="47"/>
                            </a:lnTo>
                            <a:lnTo>
                              <a:pt x="2501" y="0"/>
                            </a:lnTo>
                            <a:lnTo>
                              <a:pt x="2064" y="63"/>
                            </a:lnTo>
                            <a:lnTo>
                              <a:pt x="1608" y="220"/>
                            </a:lnTo>
                            <a:lnTo>
                              <a:pt x="893" y="423"/>
                            </a:lnTo>
                            <a:lnTo>
                              <a:pt x="238" y="737"/>
                            </a:lnTo>
                            <a:lnTo>
                              <a:pt x="100" y="1003"/>
                            </a:lnTo>
                            <a:lnTo>
                              <a:pt x="0" y="1787"/>
                            </a:lnTo>
                            <a:close/>
                          </a:path>
                        </a:pathLst>
                      </a:custGeom>
                      <a:solidFill>
                        <a:srgbClr val="004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222" name=""/>
                    <p:cNvSpPr/>
                    <p:nvPr/>
                  </p:nvSpPr>
                  <p:spPr>
                    <a:xfrm>
                      <a:off x="1330920" y="5368680"/>
                      <a:ext cx="392400" cy="841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08" h="3474">
                          <a:moveTo>
                            <a:pt x="1494" y="0"/>
                          </a:moveTo>
                          <a:lnTo>
                            <a:pt x="1335" y="114"/>
                          </a:lnTo>
                          <a:lnTo>
                            <a:pt x="1186" y="231"/>
                          </a:lnTo>
                          <a:lnTo>
                            <a:pt x="978" y="406"/>
                          </a:lnTo>
                          <a:lnTo>
                            <a:pt x="829" y="568"/>
                          </a:lnTo>
                          <a:lnTo>
                            <a:pt x="695" y="729"/>
                          </a:lnTo>
                          <a:lnTo>
                            <a:pt x="581" y="889"/>
                          </a:lnTo>
                          <a:lnTo>
                            <a:pt x="491" y="1042"/>
                          </a:lnTo>
                          <a:lnTo>
                            <a:pt x="422" y="1211"/>
                          </a:lnTo>
                          <a:lnTo>
                            <a:pt x="369" y="1399"/>
                          </a:lnTo>
                          <a:lnTo>
                            <a:pt x="328" y="1598"/>
                          </a:lnTo>
                          <a:lnTo>
                            <a:pt x="276" y="1811"/>
                          </a:lnTo>
                          <a:lnTo>
                            <a:pt x="214" y="2088"/>
                          </a:lnTo>
                          <a:lnTo>
                            <a:pt x="144" y="2300"/>
                          </a:lnTo>
                          <a:lnTo>
                            <a:pt x="75" y="2557"/>
                          </a:lnTo>
                          <a:lnTo>
                            <a:pt x="45" y="2745"/>
                          </a:lnTo>
                          <a:lnTo>
                            <a:pt x="20" y="2906"/>
                          </a:lnTo>
                          <a:lnTo>
                            <a:pt x="0" y="3113"/>
                          </a:lnTo>
                          <a:lnTo>
                            <a:pt x="0" y="3297"/>
                          </a:lnTo>
                          <a:lnTo>
                            <a:pt x="0" y="3474"/>
                          </a:lnTo>
                          <a:lnTo>
                            <a:pt x="157" y="3472"/>
                          </a:lnTo>
                          <a:lnTo>
                            <a:pt x="159" y="3207"/>
                          </a:lnTo>
                          <a:lnTo>
                            <a:pt x="174" y="2996"/>
                          </a:lnTo>
                          <a:lnTo>
                            <a:pt x="197" y="2846"/>
                          </a:lnTo>
                          <a:lnTo>
                            <a:pt x="219" y="2674"/>
                          </a:lnTo>
                          <a:lnTo>
                            <a:pt x="248" y="2515"/>
                          </a:lnTo>
                          <a:lnTo>
                            <a:pt x="293" y="2370"/>
                          </a:lnTo>
                          <a:lnTo>
                            <a:pt x="343" y="2221"/>
                          </a:lnTo>
                          <a:lnTo>
                            <a:pt x="387" y="2065"/>
                          </a:lnTo>
                          <a:lnTo>
                            <a:pt x="437" y="1869"/>
                          </a:lnTo>
                          <a:lnTo>
                            <a:pt x="481" y="1649"/>
                          </a:lnTo>
                          <a:lnTo>
                            <a:pt x="515" y="1430"/>
                          </a:lnTo>
                          <a:lnTo>
                            <a:pt x="601" y="1152"/>
                          </a:lnTo>
                          <a:lnTo>
                            <a:pt x="680" y="983"/>
                          </a:lnTo>
                          <a:lnTo>
                            <a:pt x="789" y="831"/>
                          </a:lnTo>
                          <a:lnTo>
                            <a:pt x="928" y="654"/>
                          </a:lnTo>
                          <a:lnTo>
                            <a:pt x="1110" y="458"/>
                          </a:lnTo>
                          <a:lnTo>
                            <a:pt x="1255" y="325"/>
                          </a:lnTo>
                          <a:lnTo>
                            <a:pt x="1464" y="176"/>
                          </a:lnTo>
                          <a:lnTo>
                            <a:pt x="1608" y="74"/>
                          </a:lnTo>
                          <a:lnTo>
                            <a:pt x="1494" y="0"/>
                          </a:lnTo>
                          <a:close/>
                        </a:path>
                      </a:pathLst>
                    </a:custGeom>
                    <a:solidFill>
                      <a:srgbClr val="006000"/>
                    </a:solidFill>
                    <a:ln w="11160">
                      <a:solidFill>
                        <a:srgbClr val="004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223" name=""/>
                    <p:cNvGrpSpPr/>
                    <p:nvPr/>
                  </p:nvGrpSpPr>
                  <p:grpSpPr>
                    <a:xfrm>
                      <a:off x="653760" y="5288760"/>
                      <a:ext cx="712440" cy="920880"/>
                      <a:chOff x="653760" y="5288760"/>
                      <a:chExt cx="712440" cy="920880"/>
                    </a:xfrm>
                  </p:grpSpPr>
                  <p:sp>
                    <p:nvSpPr>
                      <p:cNvPr id="224" name=""/>
                      <p:cNvSpPr/>
                      <p:nvPr/>
                    </p:nvSpPr>
                    <p:spPr>
                      <a:xfrm>
                        <a:off x="653760" y="5288760"/>
                        <a:ext cx="712440" cy="920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916" h="3799">
                            <a:moveTo>
                              <a:pt x="2916" y="3799"/>
                            </a:moveTo>
                            <a:lnTo>
                              <a:pt x="2823" y="3048"/>
                            </a:lnTo>
                            <a:lnTo>
                              <a:pt x="2731" y="2736"/>
                            </a:lnTo>
                            <a:lnTo>
                              <a:pt x="2674" y="2386"/>
                            </a:lnTo>
                            <a:lnTo>
                              <a:pt x="2582" y="2010"/>
                            </a:lnTo>
                            <a:lnTo>
                              <a:pt x="2451" y="1673"/>
                            </a:lnTo>
                            <a:lnTo>
                              <a:pt x="2340" y="1401"/>
                            </a:lnTo>
                            <a:lnTo>
                              <a:pt x="2173" y="1128"/>
                            </a:lnTo>
                            <a:lnTo>
                              <a:pt x="1950" y="857"/>
                            </a:lnTo>
                            <a:lnTo>
                              <a:pt x="1747" y="649"/>
                            </a:lnTo>
                            <a:lnTo>
                              <a:pt x="1560" y="481"/>
                            </a:lnTo>
                            <a:lnTo>
                              <a:pt x="1356" y="350"/>
                            </a:lnTo>
                            <a:lnTo>
                              <a:pt x="984" y="195"/>
                            </a:lnTo>
                            <a:lnTo>
                              <a:pt x="558" y="78"/>
                            </a:lnTo>
                            <a:lnTo>
                              <a:pt x="0" y="0"/>
                            </a:lnTo>
                            <a:lnTo>
                              <a:pt x="280" y="168"/>
                            </a:lnTo>
                            <a:lnTo>
                              <a:pt x="465" y="299"/>
                            </a:lnTo>
                            <a:lnTo>
                              <a:pt x="670" y="481"/>
                            </a:lnTo>
                            <a:lnTo>
                              <a:pt x="817" y="610"/>
                            </a:lnTo>
                            <a:lnTo>
                              <a:pt x="1022" y="765"/>
                            </a:lnTo>
                            <a:lnTo>
                              <a:pt x="1208" y="921"/>
                            </a:lnTo>
                            <a:lnTo>
                              <a:pt x="1467" y="1141"/>
                            </a:lnTo>
                            <a:lnTo>
                              <a:pt x="1672" y="1310"/>
                            </a:lnTo>
                            <a:lnTo>
                              <a:pt x="1839" y="1504"/>
                            </a:lnTo>
                            <a:lnTo>
                              <a:pt x="2006" y="1725"/>
                            </a:lnTo>
                            <a:lnTo>
                              <a:pt x="2117" y="1920"/>
                            </a:lnTo>
                            <a:lnTo>
                              <a:pt x="2284" y="2178"/>
                            </a:lnTo>
                            <a:lnTo>
                              <a:pt x="2433" y="2477"/>
                            </a:lnTo>
                            <a:lnTo>
                              <a:pt x="2564" y="2801"/>
                            </a:lnTo>
                            <a:lnTo>
                              <a:pt x="2656" y="3151"/>
                            </a:lnTo>
                            <a:lnTo>
                              <a:pt x="2731" y="3501"/>
                            </a:lnTo>
                            <a:lnTo>
                              <a:pt x="2711" y="3799"/>
                            </a:lnTo>
                            <a:lnTo>
                              <a:pt x="2916" y="3799"/>
                            </a:lnTo>
                            <a:close/>
                          </a:path>
                        </a:pathLst>
                      </a:custGeom>
                      <a:solidFill>
                        <a:srgbClr val="006000"/>
                      </a:solidFill>
                      <a:ln w="11160">
                        <a:solidFill>
                          <a:srgbClr val="004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25" name=""/>
                      <p:cNvSpPr/>
                      <p:nvPr/>
                    </p:nvSpPr>
                    <p:spPr>
                      <a:xfrm>
                        <a:off x="844200" y="5357880"/>
                        <a:ext cx="449280" cy="562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837" h="2320">
                            <a:moveTo>
                              <a:pt x="0" y="0"/>
                            </a:moveTo>
                            <a:lnTo>
                              <a:pt x="259" y="142"/>
                            </a:lnTo>
                            <a:lnTo>
                              <a:pt x="612" y="415"/>
                            </a:lnTo>
                            <a:lnTo>
                              <a:pt x="873" y="648"/>
                            </a:lnTo>
                            <a:lnTo>
                              <a:pt x="1151" y="947"/>
                            </a:lnTo>
                            <a:lnTo>
                              <a:pt x="1374" y="1284"/>
                            </a:lnTo>
                            <a:lnTo>
                              <a:pt x="1577" y="1594"/>
                            </a:lnTo>
                            <a:lnTo>
                              <a:pt x="1708" y="1957"/>
                            </a:lnTo>
                            <a:lnTo>
                              <a:pt x="1837" y="2320"/>
                            </a:lnTo>
                            <a:lnTo>
                              <a:pt x="1708" y="1789"/>
                            </a:lnTo>
                            <a:lnTo>
                              <a:pt x="1503" y="1335"/>
                            </a:lnTo>
                            <a:lnTo>
                              <a:pt x="1262" y="960"/>
                            </a:lnTo>
                            <a:lnTo>
                              <a:pt x="984" y="674"/>
                            </a:lnTo>
                            <a:lnTo>
                              <a:pt x="724" y="427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004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226" name=""/>
                <p:cNvGrpSpPr/>
                <p:nvPr/>
              </p:nvGrpSpPr>
              <p:grpSpPr>
                <a:xfrm>
                  <a:off x="1693440" y="5055120"/>
                  <a:ext cx="518760" cy="325440"/>
                  <a:chOff x="1693440" y="5055120"/>
                  <a:chExt cx="518760" cy="325440"/>
                </a:xfrm>
              </p:grpSpPr>
              <p:grpSp>
                <p:nvGrpSpPr>
                  <p:cNvPr id="227" name=""/>
                  <p:cNvGrpSpPr/>
                  <p:nvPr/>
                </p:nvGrpSpPr>
                <p:grpSpPr>
                  <a:xfrm>
                    <a:off x="1909440" y="5103360"/>
                    <a:ext cx="266760" cy="150480"/>
                    <a:chOff x="1909440" y="5103360"/>
                    <a:chExt cx="266760" cy="150480"/>
                  </a:xfrm>
                </p:grpSpPr>
                <p:sp>
                  <p:nvSpPr>
                    <p:cNvPr id="228" name=""/>
                    <p:cNvSpPr/>
                    <p:nvPr/>
                  </p:nvSpPr>
                  <p:spPr>
                    <a:xfrm>
                      <a:off x="1909440" y="5103360"/>
                      <a:ext cx="266760" cy="150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91" h="623">
                          <a:moveTo>
                            <a:pt x="213" y="43"/>
                          </a:moveTo>
                          <a:lnTo>
                            <a:pt x="407" y="31"/>
                          </a:lnTo>
                          <a:lnTo>
                            <a:pt x="560" y="0"/>
                          </a:lnTo>
                          <a:lnTo>
                            <a:pt x="689" y="4"/>
                          </a:lnTo>
                          <a:lnTo>
                            <a:pt x="793" y="20"/>
                          </a:lnTo>
                          <a:lnTo>
                            <a:pt x="863" y="43"/>
                          </a:lnTo>
                          <a:lnTo>
                            <a:pt x="927" y="78"/>
                          </a:lnTo>
                          <a:lnTo>
                            <a:pt x="1012" y="122"/>
                          </a:lnTo>
                          <a:lnTo>
                            <a:pt x="1091" y="145"/>
                          </a:lnTo>
                          <a:lnTo>
                            <a:pt x="1022" y="169"/>
                          </a:lnTo>
                          <a:lnTo>
                            <a:pt x="962" y="216"/>
                          </a:lnTo>
                          <a:lnTo>
                            <a:pt x="913" y="325"/>
                          </a:lnTo>
                          <a:lnTo>
                            <a:pt x="793" y="419"/>
                          </a:lnTo>
                          <a:lnTo>
                            <a:pt x="20" y="623"/>
                          </a:lnTo>
                          <a:lnTo>
                            <a:pt x="0" y="278"/>
                          </a:lnTo>
                          <a:lnTo>
                            <a:pt x="213" y="43"/>
                          </a:lnTo>
                          <a:close/>
                        </a:path>
                      </a:pathLst>
                    </a:custGeom>
                    <a:solidFill>
                      <a:srgbClr val="c00000"/>
                    </a:solidFill>
                    <a:ln w="1116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9" name=""/>
                    <p:cNvSpPr/>
                    <p:nvPr/>
                  </p:nvSpPr>
                  <p:spPr>
                    <a:xfrm>
                      <a:off x="1928880" y="5114160"/>
                      <a:ext cx="218160" cy="74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93" h="310">
                          <a:moveTo>
                            <a:pt x="347" y="16"/>
                          </a:moveTo>
                          <a:lnTo>
                            <a:pt x="496" y="0"/>
                          </a:lnTo>
                          <a:lnTo>
                            <a:pt x="590" y="0"/>
                          </a:lnTo>
                          <a:lnTo>
                            <a:pt x="660" y="4"/>
                          </a:lnTo>
                          <a:lnTo>
                            <a:pt x="754" y="24"/>
                          </a:lnTo>
                          <a:lnTo>
                            <a:pt x="819" y="59"/>
                          </a:lnTo>
                          <a:lnTo>
                            <a:pt x="893" y="82"/>
                          </a:lnTo>
                          <a:lnTo>
                            <a:pt x="744" y="98"/>
                          </a:lnTo>
                          <a:lnTo>
                            <a:pt x="640" y="126"/>
                          </a:lnTo>
                          <a:lnTo>
                            <a:pt x="531" y="157"/>
                          </a:lnTo>
                          <a:lnTo>
                            <a:pt x="402" y="204"/>
                          </a:lnTo>
                          <a:lnTo>
                            <a:pt x="233" y="310"/>
                          </a:lnTo>
                          <a:lnTo>
                            <a:pt x="0" y="149"/>
                          </a:lnTo>
                          <a:lnTo>
                            <a:pt x="347" y="16"/>
                          </a:lnTo>
                          <a:close/>
                        </a:path>
                      </a:pathLst>
                    </a:custGeom>
                    <a:solidFill>
                      <a:srgbClr val="ff404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8080" bIns="28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>
                      <a:off x="1984680" y="5140080"/>
                      <a:ext cx="173160" cy="61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10" h="255">
                          <a:moveTo>
                            <a:pt x="159" y="145"/>
                          </a:moveTo>
                          <a:lnTo>
                            <a:pt x="298" y="78"/>
                          </a:lnTo>
                          <a:lnTo>
                            <a:pt x="392" y="47"/>
                          </a:lnTo>
                          <a:lnTo>
                            <a:pt x="496" y="23"/>
                          </a:lnTo>
                          <a:lnTo>
                            <a:pt x="586" y="4"/>
                          </a:lnTo>
                          <a:lnTo>
                            <a:pt x="670" y="0"/>
                          </a:lnTo>
                          <a:lnTo>
                            <a:pt x="710" y="0"/>
                          </a:lnTo>
                          <a:lnTo>
                            <a:pt x="645" y="27"/>
                          </a:lnTo>
                          <a:lnTo>
                            <a:pt x="610" y="74"/>
                          </a:lnTo>
                          <a:lnTo>
                            <a:pt x="591" y="117"/>
                          </a:lnTo>
                          <a:lnTo>
                            <a:pt x="556" y="227"/>
                          </a:lnTo>
                          <a:lnTo>
                            <a:pt x="0" y="255"/>
                          </a:lnTo>
                          <a:lnTo>
                            <a:pt x="159" y="145"/>
                          </a:lnTo>
                          <a:close/>
                        </a:path>
                      </a:pathLst>
                    </a:custGeom>
                    <a:solidFill>
                      <a:srgbClr val="ff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4760" bIns="14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1" name=""/>
                  <p:cNvSpPr/>
                  <p:nvPr/>
                </p:nvSpPr>
                <p:spPr>
                  <a:xfrm>
                    <a:off x="1739520" y="5172480"/>
                    <a:ext cx="472680" cy="208080"/>
                  </a:xfrm>
                  <a:custGeom>
                    <a:avLst/>
                    <a:gdLst/>
                    <a:ahLst/>
                    <a:rect l="l" t="t" r="r" b="b"/>
                    <a:pathLst>
                      <a:path w="1935" h="862">
                        <a:moveTo>
                          <a:pt x="0" y="627"/>
                        </a:moveTo>
                        <a:lnTo>
                          <a:pt x="119" y="729"/>
                        </a:lnTo>
                        <a:lnTo>
                          <a:pt x="248" y="791"/>
                        </a:lnTo>
                        <a:lnTo>
                          <a:pt x="377" y="823"/>
                        </a:lnTo>
                        <a:lnTo>
                          <a:pt x="501" y="850"/>
                        </a:lnTo>
                        <a:lnTo>
                          <a:pt x="625" y="862"/>
                        </a:lnTo>
                        <a:lnTo>
                          <a:pt x="744" y="862"/>
                        </a:lnTo>
                        <a:lnTo>
                          <a:pt x="878" y="850"/>
                        </a:lnTo>
                        <a:lnTo>
                          <a:pt x="992" y="835"/>
                        </a:lnTo>
                        <a:lnTo>
                          <a:pt x="1092" y="799"/>
                        </a:lnTo>
                        <a:lnTo>
                          <a:pt x="1171" y="764"/>
                        </a:lnTo>
                        <a:lnTo>
                          <a:pt x="1235" y="725"/>
                        </a:lnTo>
                        <a:lnTo>
                          <a:pt x="1300" y="674"/>
                        </a:lnTo>
                        <a:lnTo>
                          <a:pt x="1379" y="603"/>
                        </a:lnTo>
                        <a:lnTo>
                          <a:pt x="1439" y="533"/>
                        </a:lnTo>
                        <a:lnTo>
                          <a:pt x="1469" y="439"/>
                        </a:lnTo>
                        <a:lnTo>
                          <a:pt x="1528" y="345"/>
                        </a:lnTo>
                        <a:lnTo>
                          <a:pt x="1578" y="290"/>
                        </a:lnTo>
                        <a:lnTo>
                          <a:pt x="1622" y="239"/>
                        </a:lnTo>
                        <a:lnTo>
                          <a:pt x="1687" y="204"/>
                        </a:lnTo>
                        <a:lnTo>
                          <a:pt x="1737" y="180"/>
                        </a:lnTo>
                        <a:lnTo>
                          <a:pt x="1836" y="157"/>
                        </a:lnTo>
                        <a:lnTo>
                          <a:pt x="1935" y="110"/>
                        </a:lnTo>
                        <a:lnTo>
                          <a:pt x="1776" y="71"/>
                        </a:lnTo>
                        <a:lnTo>
                          <a:pt x="1598" y="39"/>
                        </a:lnTo>
                        <a:lnTo>
                          <a:pt x="1449" y="16"/>
                        </a:lnTo>
                        <a:lnTo>
                          <a:pt x="1270" y="8"/>
                        </a:lnTo>
                        <a:lnTo>
                          <a:pt x="1072" y="0"/>
                        </a:lnTo>
                        <a:lnTo>
                          <a:pt x="863" y="24"/>
                        </a:lnTo>
                        <a:lnTo>
                          <a:pt x="695" y="63"/>
                        </a:lnTo>
                        <a:lnTo>
                          <a:pt x="526" y="125"/>
                        </a:lnTo>
                        <a:lnTo>
                          <a:pt x="417" y="196"/>
                        </a:lnTo>
                        <a:lnTo>
                          <a:pt x="268" y="298"/>
                        </a:lnTo>
                        <a:lnTo>
                          <a:pt x="149" y="415"/>
                        </a:lnTo>
                        <a:lnTo>
                          <a:pt x="60" y="549"/>
                        </a:lnTo>
                        <a:lnTo>
                          <a:pt x="0" y="627"/>
                        </a:lnTo>
                        <a:close/>
                      </a:path>
                    </a:pathLst>
                  </a:custGeom>
                  <a:solidFill>
                    <a:srgbClr val="e00000"/>
                  </a:solidFill>
                  <a:ln w="11160">
                    <a:solidFill>
                      <a:srgbClr val="8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2" name=""/>
                  <p:cNvSpPr/>
                  <p:nvPr/>
                </p:nvSpPr>
                <p:spPr>
                  <a:xfrm>
                    <a:off x="2032920" y="5181840"/>
                    <a:ext cx="156240" cy="38520"/>
                  </a:xfrm>
                  <a:custGeom>
                    <a:avLst/>
                    <a:gdLst/>
                    <a:ahLst/>
                    <a:rect l="l" t="t" r="r" b="b"/>
                    <a:pathLst>
                      <a:path w="640" h="161">
                        <a:moveTo>
                          <a:pt x="0" y="0"/>
                        </a:moveTo>
                        <a:lnTo>
                          <a:pt x="183" y="4"/>
                        </a:lnTo>
                        <a:lnTo>
                          <a:pt x="357" y="28"/>
                        </a:lnTo>
                        <a:lnTo>
                          <a:pt x="436" y="43"/>
                        </a:lnTo>
                        <a:lnTo>
                          <a:pt x="526" y="63"/>
                        </a:lnTo>
                        <a:lnTo>
                          <a:pt x="605" y="79"/>
                        </a:lnTo>
                        <a:lnTo>
                          <a:pt x="640" y="79"/>
                        </a:lnTo>
                        <a:lnTo>
                          <a:pt x="521" y="118"/>
                        </a:lnTo>
                        <a:lnTo>
                          <a:pt x="446" y="149"/>
                        </a:lnTo>
                        <a:lnTo>
                          <a:pt x="317" y="161"/>
                        </a:lnTo>
                        <a:lnTo>
                          <a:pt x="173" y="137"/>
                        </a:lnTo>
                        <a:lnTo>
                          <a:pt x="34" y="75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c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280" bIns="-8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3" name=""/>
                  <p:cNvSpPr/>
                  <p:nvPr/>
                </p:nvSpPr>
                <p:spPr>
                  <a:xfrm>
                    <a:off x="1775880" y="5298840"/>
                    <a:ext cx="297000" cy="74880"/>
                  </a:xfrm>
                  <a:custGeom>
                    <a:avLst/>
                    <a:gdLst/>
                    <a:ahLst/>
                    <a:rect l="l" t="t" r="r" b="b"/>
                    <a:pathLst>
                      <a:path w="1215" h="310">
                        <a:moveTo>
                          <a:pt x="104" y="204"/>
                        </a:moveTo>
                        <a:lnTo>
                          <a:pt x="208" y="223"/>
                        </a:lnTo>
                        <a:lnTo>
                          <a:pt x="313" y="235"/>
                        </a:lnTo>
                        <a:lnTo>
                          <a:pt x="506" y="247"/>
                        </a:lnTo>
                        <a:lnTo>
                          <a:pt x="699" y="231"/>
                        </a:lnTo>
                        <a:lnTo>
                          <a:pt x="848" y="200"/>
                        </a:lnTo>
                        <a:lnTo>
                          <a:pt x="992" y="153"/>
                        </a:lnTo>
                        <a:lnTo>
                          <a:pt x="1131" y="75"/>
                        </a:lnTo>
                        <a:lnTo>
                          <a:pt x="1215" y="0"/>
                        </a:lnTo>
                        <a:lnTo>
                          <a:pt x="1166" y="102"/>
                        </a:lnTo>
                        <a:lnTo>
                          <a:pt x="1096" y="157"/>
                        </a:lnTo>
                        <a:lnTo>
                          <a:pt x="987" y="216"/>
                        </a:lnTo>
                        <a:lnTo>
                          <a:pt x="888" y="263"/>
                        </a:lnTo>
                        <a:lnTo>
                          <a:pt x="779" y="290"/>
                        </a:lnTo>
                        <a:lnTo>
                          <a:pt x="630" y="306"/>
                        </a:lnTo>
                        <a:lnTo>
                          <a:pt x="466" y="310"/>
                        </a:lnTo>
                        <a:lnTo>
                          <a:pt x="317" y="302"/>
                        </a:lnTo>
                        <a:lnTo>
                          <a:pt x="174" y="274"/>
                        </a:lnTo>
                        <a:lnTo>
                          <a:pt x="84" y="247"/>
                        </a:lnTo>
                        <a:lnTo>
                          <a:pt x="0" y="200"/>
                        </a:lnTo>
                        <a:lnTo>
                          <a:pt x="104" y="204"/>
                        </a:lnTo>
                        <a:close/>
                      </a:path>
                    </a:pathLst>
                  </a:custGeom>
                  <a:solidFill>
                    <a:srgbClr val="c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080" bIns="28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693440" y="5055120"/>
                    <a:ext cx="339480" cy="288000"/>
                    <a:chOff x="1693440" y="5055120"/>
                    <a:chExt cx="339480" cy="28800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693440" y="5055120"/>
                      <a:ext cx="339480" cy="288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89" h="1191">
                          <a:moveTo>
                            <a:pt x="109" y="1082"/>
                          </a:moveTo>
                          <a:lnTo>
                            <a:pt x="39" y="964"/>
                          </a:lnTo>
                          <a:lnTo>
                            <a:pt x="10" y="878"/>
                          </a:lnTo>
                          <a:lnTo>
                            <a:pt x="0" y="753"/>
                          </a:lnTo>
                          <a:lnTo>
                            <a:pt x="10" y="666"/>
                          </a:lnTo>
                          <a:lnTo>
                            <a:pt x="59" y="572"/>
                          </a:lnTo>
                          <a:lnTo>
                            <a:pt x="158" y="478"/>
                          </a:lnTo>
                          <a:lnTo>
                            <a:pt x="238" y="416"/>
                          </a:lnTo>
                          <a:lnTo>
                            <a:pt x="337" y="361"/>
                          </a:lnTo>
                          <a:lnTo>
                            <a:pt x="476" y="306"/>
                          </a:lnTo>
                          <a:lnTo>
                            <a:pt x="585" y="282"/>
                          </a:lnTo>
                          <a:lnTo>
                            <a:pt x="724" y="251"/>
                          </a:lnTo>
                          <a:lnTo>
                            <a:pt x="873" y="235"/>
                          </a:lnTo>
                          <a:lnTo>
                            <a:pt x="972" y="212"/>
                          </a:lnTo>
                          <a:lnTo>
                            <a:pt x="1141" y="173"/>
                          </a:lnTo>
                          <a:lnTo>
                            <a:pt x="1260" y="94"/>
                          </a:lnTo>
                          <a:lnTo>
                            <a:pt x="1389" y="0"/>
                          </a:lnTo>
                          <a:lnTo>
                            <a:pt x="1379" y="110"/>
                          </a:lnTo>
                          <a:lnTo>
                            <a:pt x="1329" y="259"/>
                          </a:lnTo>
                          <a:lnTo>
                            <a:pt x="1280" y="369"/>
                          </a:lnTo>
                          <a:lnTo>
                            <a:pt x="1220" y="502"/>
                          </a:lnTo>
                          <a:lnTo>
                            <a:pt x="1180" y="604"/>
                          </a:lnTo>
                          <a:lnTo>
                            <a:pt x="1121" y="706"/>
                          </a:lnTo>
                          <a:lnTo>
                            <a:pt x="1071" y="792"/>
                          </a:lnTo>
                          <a:lnTo>
                            <a:pt x="982" y="925"/>
                          </a:lnTo>
                          <a:lnTo>
                            <a:pt x="903" y="988"/>
                          </a:lnTo>
                          <a:lnTo>
                            <a:pt x="783" y="1082"/>
                          </a:lnTo>
                          <a:lnTo>
                            <a:pt x="585" y="1168"/>
                          </a:lnTo>
                          <a:lnTo>
                            <a:pt x="456" y="1183"/>
                          </a:lnTo>
                          <a:lnTo>
                            <a:pt x="287" y="1191"/>
                          </a:lnTo>
                          <a:lnTo>
                            <a:pt x="109" y="1082"/>
                          </a:lnTo>
                          <a:close/>
                        </a:path>
                      </a:pathLst>
                    </a:custGeom>
                    <a:solidFill>
                      <a:srgbClr val="ff0000"/>
                    </a:solidFill>
                    <a:ln w="1116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>
                      <a:off x="1700640" y="5134320"/>
                      <a:ext cx="132480" cy="10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41" h="447">
                          <a:moveTo>
                            <a:pt x="0" y="447"/>
                          </a:moveTo>
                          <a:lnTo>
                            <a:pt x="10" y="345"/>
                          </a:lnTo>
                          <a:lnTo>
                            <a:pt x="55" y="259"/>
                          </a:lnTo>
                          <a:lnTo>
                            <a:pt x="139" y="177"/>
                          </a:lnTo>
                          <a:lnTo>
                            <a:pt x="248" y="110"/>
                          </a:lnTo>
                          <a:lnTo>
                            <a:pt x="338" y="63"/>
                          </a:lnTo>
                          <a:lnTo>
                            <a:pt x="457" y="20"/>
                          </a:lnTo>
                          <a:lnTo>
                            <a:pt x="541" y="0"/>
                          </a:lnTo>
                          <a:lnTo>
                            <a:pt x="412" y="98"/>
                          </a:lnTo>
                          <a:lnTo>
                            <a:pt x="338" y="204"/>
                          </a:lnTo>
                          <a:lnTo>
                            <a:pt x="258" y="310"/>
                          </a:lnTo>
                          <a:lnTo>
                            <a:pt x="189" y="369"/>
                          </a:lnTo>
                          <a:lnTo>
                            <a:pt x="100" y="424"/>
                          </a:lnTo>
                          <a:lnTo>
                            <a:pt x="0" y="447"/>
                          </a:lnTo>
                          <a:close/>
                        </a:path>
                      </a:pathLst>
                    </a:custGeom>
                    <a:solidFill>
                      <a:srgbClr val="ff404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900440" y="5072040"/>
                      <a:ext cx="120240" cy="55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91" h="227">
                          <a:moveTo>
                            <a:pt x="491" y="0"/>
                          </a:moveTo>
                          <a:lnTo>
                            <a:pt x="377" y="94"/>
                          </a:lnTo>
                          <a:lnTo>
                            <a:pt x="243" y="153"/>
                          </a:lnTo>
                          <a:lnTo>
                            <a:pt x="129" y="176"/>
                          </a:lnTo>
                          <a:lnTo>
                            <a:pt x="0" y="192"/>
                          </a:lnTo>
                          <a:lnTo>
                            <a:pt x="84" y="215"/>
                          </a:lnTo>
                          <a:lnTo>
                            <a:pt x="193" y="227"/>
                          </a:lnTo>
                          <a:lnTo>
                            <a:pt x="322" y="223"/>
                          </a:lnTo>
                          <a:lnTo>
                            <a:pt x="387" y="204"/>
                          </a:lnTo>
                          <a:lnTo>
                            <a:pt x="446" y="149"/>
                          </a:lnTo>
                          <a:lnTo>
                            <a:pt x="471" y="86"/>
                          </a:lnTo>
                          <a:lnTo>
                            <a:pt x="491" y="0"/>
                          </a:lnTo>
                          <a:close/>
                        </a:path>
                      </a:pathLst>
                    </a:custGeom>
                    <a:solidFill>
                      <a:srgbClr val="ff404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8280" bIns="8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38" name=""/>
                  <p:cNvGrpSpPr/>
                  <p:nvPr/>
                </p:nvGrpSpPr>
                <p:grpSpPr>
                  <a:xfrm>
                    <a:off x="1801440" y="5256000"/>
                    <a:ext cx="22320" cy="16920"/>
                    <a:chOff x="1801440" y="5256000"/>
                    <a:chExt cx="22320" cy="16920"/>
                  </a:xfrm>
                </p:grpSpPr>
                <p:sp>
                  <p:nvSpPr>
                    <p:cNvPr id="239" name=""/>
                    <p:cNvSpPr/>
                    <p:nvPr/>
                  </p:nvSpPr>
                  <p:spPr>
                    <a:xfrm>
                      <a:off x="1805040" y="5257800"/>
                      <a:ext cx="18720" cy="15120"/>
                    </a:xfrm>
                    <a:prstGeom prst="ellipse">
                      <a:avLst/>
                    </a:prstGeom>
                    <a:solidFill>
                      <a:srgbClr val="8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6000" bIns="-36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0" name=""/>
                    <p:cNvSpPr/>
                    <p:nvPr/>
                  </p:nvSpPr>
                  <p:spPr>
                    <a:xfrm>
                      <a:off x="1801440" y="5256000"/>
                      <a:ext cx="19440" cy="15120"/>
                    </a:xfrm>
                    <a:prstGeom prst="ellipse">
                      <a:avLst/>
                    </a:prstGeom>
                    <a:solidFill>
                      <a:srgbClr val="ff404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6000" bIns="-36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1" name=""/>
                    <p:cNvSpPr/>
                    <p:nvPr/>
                  </p:nvSpPr>
                  <p:spPr>
                    <a:xfrm>
                      <a:off x="1803600" y="5259600"/>
                      <a:ext cx="10080" cy="8280"/>
                    </a:xfrm>
                    <a:prstGeom prst="ellipse">
                      <a:avLst/>
                    </a:prstGeom>
                    <a:solidFill>
                      <a:srgbClr val="ff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680" bIns="-40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42" name=""/>
                  <p:cNvGrpSpPr/>
                  <p:nvPr/>
                </p:nvGrpSpPr>
                <p:grpSpPr>
                  <a:xfrm>
                    <a:off x="2109240" y="5150880"/>
                    <a:ext cx="14400" cy="12960"/>
                    <a:chOff x="2109240" y="5150880"/>
                    <a:chExt cx="14400" cy="12960"/>
                  </a:xfrm>
                </p:grpSpPr>
                <p:sp>
                  <p:nvSpPr>
                    <p:cNvPr id="243" name=""/>
                    <p:cNvSpPr/>
                    <p:nvPr/>
                  </p:nvSpPr>
                  <p:spPr>
                    <a:xfrm>
                      <a:off x="2113200" y="5152320"/>
                      <a:ext cx="10440" cy="11520"/>
                    </a:xfrm>
                    <a:prstGeom prst="ellipse">
                      <a:avLst/>
                    </a:prstGeom>
                    <a:solidFill>
                      <a:srgbClr val="8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160" bIns="-38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2109240" y="5150880"/>
                      <a:ext cx="10440" cy="11160"/>
                    </a:xfrm>
                    <a:prstGeom prst="ellipse">
                      <a:avLst/>
                    </a:prstGeom>
                    <a:solidFill>
                      <a:srgbClr val="ff404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520" bIns="-38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>
                      <a:off x="2111400" y="5153040"/>
                      <a:ext cx="3960" cy="6480"/>
                    </a:xfrm>
                    <a:prstGeom prst="ellipse">
                      <a:avLst/>
                    </a:prstGeom>
                    <a:solidFill>
                      <a:srgbClr val="ff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760" bIns="-41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2048760" y="5271840"/>
                    <a:ext cx="14400" cy="17640"/>
                    <a:chOff x="2048760" y="5271840"/>
                    <a:chExt cx="14400" cy="1764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>
                      <a:off x="2052720" y="5273640"/>
                      <a:ext cx="10440" cy="15840"/>
                    </a:xfrm>
                    <a:prstGeom prst="ellipse">
                      <a:avLst/>
                    </a:prstGeom>
                    <a:solidFill>
                      <a:srgbClr val="8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280" bIns="-35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>
                      <a:off x="2048760" y="5271840"/>
                      <a:ext cx="10440" cy="16200"/>
                    </a:xfrm>
                    <a:prstGeom prst="ellipse">
                      <a:avLst/>
                    </a:prstGeom>
                    <a:solidFill>
                      <a:srgbClr val="ff404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4920" bIns="-34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050920" y="5275440"/>
                      <a:ext cx="5760" cy="9720"/>
                    </a:xfrm>
                    <a:prstGeom prst="ellipse">
                      <a:avLst/>
                    </a:prstGeom>
                    <a:solidFill>
                      <a:srgbClr val="ff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960" bIns="-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50" name=""/>
                  <p:cNvGrpSpPr/>
                  <p:nvPr/>
                </p:nvGrpSpPr>
                <p:grpSpPr>
                  <a:xfrm>
                    <a:off x="1965240" y="5137200"/>
                    <a:ext cx="19440" cy="19800"/>
                    <a:chOff x="1965240" y="5137200"/>
                    <a:chExt cx="19440" cy="19800"/>
                  </a:xfrm>
                </p:grpSpPr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1968480" y="5139000"/>
                      <a:ext cx="16200" cy="18000"/>
                    </a:xfrm>
                    <a:prstGeom prst="ellipse">
                      <a:avLst/>
                    </a:prstGeom>
                    <a:solidFill>
                      <a:srgbClr val="8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840" bIns="-33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>
                      <a:off x="1965240" y="5137200"/>
                      <a:ext cx="15480" cy="18000"/>
                    </a:xfrm>
                    <a:prstGeom prst="ellipse">
                      <a:avLst/>
                    </a:prstGeom>
                    <a:solidFill>
                      <a:srgbClr val="ff404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840" bIns="-33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>
                      <a:off x="1968480" y="5141160"/>
                      <a:ext cx="6840" cy="11880"/>
                    </a:xfrm>
                    <a:prstGeom prst="ellipse">
                      <a:avLst/>
                    </a:prstGeom>
                    <a:solidFill>
                      <a:srgbClr val="ff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1814400" y="5309280"/>
                    <a:ext cx="17640" cy="14400"/>
                    <a:chOff x="1814400" y="5309280"/>
                    <a:chExt cx="17640" cy="1440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>
                      <a:off x="1818000" y="5311080"/>
                      <a:ext cx="14040" cy="12600"/>
                    </a:xfrm>
                    <a:prstGeom prst="ellipse">
                      <a:avLst/>
                    </a:prstGeom>
                    <a:solidFill>
                      <a:srgbClr val="8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>
                      <a:off x="1814400" y="5309280"/>
                      <a:ext cx="14040" cy="12600"/>
                    </a:xfrm>
                    <a:prstGeom prst="ellipse">
                      <a:avLst/>
                    </a:prstGeom>
                    <a:solidFill>
                      <a:srgbClr val="ff404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7" name=""/>
                    <p:cNvSpPr/>
                    <p:nvPr/>
                  </p:nvSpPr>
                  <p:spPr>
                    <a:xfrm>
                      <a:off x="1816560" y="5312160"/>
                      <a:ext cx="6840" cy="6120"/>
                    </a:xfrm>
                    <a:prstGeom prst="ellipse">
                      <a:avLst/>
                    </a:prstGeom>
                    <a:solidFill>
                      <a:srgbClr val="ff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120" bIns="-42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grpSp>
          <p:nvGrpSpPr>
            <p:cNvPr id="258" name=""/>
            <p:cNvGrpSpPr/>
            <p:nvPr/>
          </p:nvGrpSpPr>
          <p:grpSpPr>
            <a:xfrm>
              <a:off x="1311120" y="4572000"/>
              <a:ext cx="1279800" cy="1637280"/>
              <a:chOff x="1311120" y="4572000"/>
              <a:chExt cx="1279800" cy="1637280"/>
            </a:xfrm>
          </p:grpSpPr>
          <p:grpSp>
            <p:nvGrpSpPr>
              <p:cNvPr id="259" name=""/>
              <p:cNvGrpSpPr/>
              <p:nvPr/>
            </p:nvGrpSpPr>
            <p:grpSpPr>
              <a:xfrm>
                <a:off x="1311120" y="4924440"/>
                <a:ext cx="1279800" cy="1284840"/>
                <a:chOff x="1311120" y="4924440"/>
                <a:chExt cx="1279800" cy="128484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2037600" y="5144760"/>
                  <a:ext cx="553320" cy="1059120"/>
                  <a:chOff x="2037600" y="5144760"/>
                  <a:chExt cx="553320" cy="105912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 flipH="1">
                    <a:off x="2037240" y="5144760"/>
                    <a:ext cx="553320" cy="1059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02" h="4372">
                        <a:moveTo>
                          <a:pt x="1806" y="4372"/>
                        </a:moveTo>
                        <a:lnTo>
                          <a:pt x="1469" y="4168"/>
                        </a:lnTo>
                        <a:lnTo>
                          <a:pt x="1211" y="3980"/>
                        </a:lnTo>
                        <a:lnTo>
                          <a:pt x="973" y="3729"/>
                        </a:lnTo>
                        <a:lnTo>
                          <a:pt x="774" y="3510"/>
                        </a:lnTo>
                        <a:lnTo>
                          <a:pt x="576" y="3259"/>
                        </a:lnTo>
                        <a:lnTo>
                          <a:pt x="437" y="2993"/>
                        </a:lnTo>
                        <a:lnTo>
                          <a:pt x="338" y="2664"/>
                        </a:lnTo>
                        <a:lnTo>
                          <a:pt x="238" y="2303"/>
                        </a:lnTo>
                        <a:lnTo>
                          <a:pt x="199" y="2052"/>
                        </a:lnTo>
                        <a:lnTo>
                          <a:pt x="179" y="1739"/>
                        </a:lnTo>
                        <a:lnTo>
                          <a:pt x="179" y="1410"/>
                        </a:lnTo>
                        <a:lnTo>
                          <a:pt x="179" y="1159"/>
                        </a:lnTo>
                        <a:lnTo>
                          <a:pt x="199" y="862"/>
                        </a:lnTo>
                        <a:lnTo>
                          <a:pt x="199" y="595"/>
                        </a:lnTo>
                        <a:lnTo>
                          <a:pt x="119" y="329"/>
                        </a:lnTo>
                        <a:lnTo>
                          <a:pt x="0" y="0"/>
                        </a:lnTo>
                        <a:lnTo>
                          <a:pt x="338" y="313"/>
                        </a:lnTo>
                        <a:lnTo>
                          <a:pt x="476" y="564"/>
                        </a:lnTo>
                        <a:lnTo>
                          <a:pt x="596" y="767"/>
                        </a:lnTo>
                        <a:lnTo>
                          <a:pt x="715" y="1081"/>
                        </a:lnTo>
                        <a:lnTo>
                          <a:pt x="794" y="1473"/>
                        </a:lnTo>
                        <a:lnTo>
                          <a:pt x="834" y="1786"/>
                        </a:lnTo>
                        <a:lnTo>
                          <a:pt x="834" y="2052"/>
                        </a:lnTo>
                        <a:lnTo>
                          <a:pt x="893" y="2397"/>
                        </a:lnTo>
                        <a:lnTo>
                          <a:pt x="953" y="2695"/>
                        </a:lnTo>
                        <a:lnTo>
                          <a:pt x="1092" y="2946"/>
                        </a:lnTo>
                        <a:lnTo>
                          <a:pt x="1250" y="3228"/>
                        </a:lnTo>
                        <a:lnTo>
                          <a:pt x="1469" y="3510"/>
                        </a:lnTo>
                        <a:lnTo>
                          <a:pt x="1707" y="3808"/>
                        </a:lnTo>
                        <a:lnTo>
                          <a:pt x="1965" y="4105"/>
                        </a:lnTo>
                        <a:lnTo>
                          <a:pt x="2302" y="4372"/>
                        </a:lnTo>
                        <a:lnTo>
                          <a:pt x="1806" y="4372"/>
                        </a:lnTo>
                        <a:close/>
                      </a:path>
                    </a:pathLst>
                  </a:custGeom>
                  <a:solidFill>
                    <a:srgbClr val="006000"/>
                  </a:solidFill>
                  <a:ln w="11160">
                    <a:solidFill>
                      <a:srgbClr val="004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 flipH="1">
                    <a:off x="2237760" y="5323320"/>
                    <a:ext cx="262440" cy="777960"/>
                  </a:xfrm>
                  <a:custGeom>
                    <a:avLst/>
                    <a:gdLst/>
                    <a:ahLst/>
                    <a:rect l="l" t="t" r="r" b="b"/>
                    <a:pathLst>
                      <a:path w="1092" h="3213">
                        <a:moveTo>
                          <a:pt x="0" y="0"/>
                        </a:moveTo>
                        <a:lnTo>
                          <a:pt x="40" y="267"/>
                        </a:lnTo>
                        <a:lnTo>
                          <a:pt x="60" y="502"/>
                        </a:lnTo>
                        <a:lnTo>
                          <a:pt x="60" y="784"/>
                        </a:lnTo>
                        <a:lnTo>
                          <a:pt x="60" y="1003"/>
                        </a:lnTo>
                        <a:lnTo>
                          <a:pt x="139" y="1379"/>
                        </a:lnTo>
                        <a:lnTo>
                          <a:pt x="238" y="1740"/>
                        </a:lnTo>
                        <a:lnTo>
                          <a:pt x="338" y="2053"/>
                        </a:lnTo>
                        <a:lnTo>
                          <a:pt x="457" y="2382"/>
                        </a:lnTo>
                        <a:lnTo>
                          <a:pt x="715" y="2821"/>
                        </a:lnTo>
                        <a:lnTo>
                          <a:pt x="1092" y="3213"/>
                        </a:lnTo>
                        <a:lnTo>
                          <a:pt x="794" y="2758"/>
                        </a:lnTo>
                        <a:lnTo>
                          <a:pt x="556" y="2429"/>
                        </a:lnTo>
                        <a:lnTo>
                          <a:pt x="357" y="1928"/>
                        </a:lnTo>
                        <a:lnTo>
                          <a:pt x="278" y="1599"/>
                        </a:lnTo>
                        <a:lnTo>
                          <a:pt x="159" y="1254"/>
                        </a:lnTo>
                        <a:lnTo>
                          <a:pt x="119" y="893"/>
                        </a:lnTo>
                        <a:lnTo>
                          <a:pt x="99" y="61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4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 flipH="1">
                  <a:off x="2026800" y="5006160"/>
                  <a:ext cx="134280" cy="1195560"/>
                </a:xfrm>
                <a:custGeom>
                  <a:avLst/>
                  <a:gdLst/>
                  <a:ahLst/>
                  <a:rect l="l" t="t" r="r" b="b"/>
                  <a:pathLst>
                    <a:path w="561" h="4936">
                      <a:moveTo>
                        <a:pt x="283" y="0"/>
                      </a:moveTo>
                      <a:lnTo>
                        <a:pt x="238" y="119"/>
                      </a:lnTo>
                      <a:lnTo>
                        <a:pt x="189" y="287"/>
                      </a:lnTo>
                      <a:lnTo>
                        <a:pt x="144" y="455"/>
                      </a:lnTo>
                      <a:lnTo>
                        <a:pt x="109" y="628"/>
                      </a:lnTo>
                      <a:lnTo>
                        <a:pt x="85" y="824"/>
                      </a:lnTo>
                      <a:lnTo>
                        <a:pt x="65" y="1034"/>
                      </a:lnTo>
                      <a:lnTo>
                        <a:pt x="40" y="1298"/>
                      </a:lnTo>
                      <a:lnTo>
                        <a:pt x="25" y="1520"/>
                      </a:lnTo>
                      <a:lnTo>
                        <a:pt x="5" y="1927"/>
                      </a:lnTo>
                      <a:lnTo>
                        <a:pt x="0" y="2093"/>
                      </a:lnTo>
                      <a:lnTo>
                        <a:pt x="5" y="2272"/>
                      </a:lnTo>
                      <a:lnTo>
                        <a:pt x="5" y="2453"/>
                      </a:lnTo>
                      <a:lnTo>
                        <a:pt x="10" y="2661"/>
                      </a:lnTo>
                      <a:lnTo>
                        <a:pt x="35" y="2978"/>
                      </a:lnTo>
                      <a:lnTo>
                        <a:pt x="55" y="3178"/>
                      </a:lnTo>
                      <a:lnTo>
                        <a:pt x="65" y="3337"/>
                      </a:lnTo>
                      <a:lnTo>
                        <a:pt x="99" y="3593"/>
                      </a:lnTo>
                      <a:lnTo>
                        <a:pt x="129" y="3797"/>
                      </a:lnTo>
                      <a:lnTo>
                        <a:pt x="174" y="4032"/>
                      </a:lnTo>
                      <a:lnTo>
                        <a:pt x="223" y="4262"/>
                      </a:lnTo>
                      <a:lnTo>
                        <a:pt x="263" y="4444"/>
                      </a:lnTo>
                      <a:lnTo>
                        <a:pt x="293" y="4608"/>
                      </a:lnTo>
                      <a:lnTo>
                        <a:pt x="323" y="4753"/>
                      </a:lnTo>
                      <a:lnTo>
                        <a:pt x="362" y="4936"/>
                      </a:lnTo>
                      <a:lnTo>
                        <a:pt x="561" y="4936"/>
                      </a:lnTo>
                      <a:lnTo>
                        <a:pt x="531" y="4835"/>
                      </a:lnTo>
                      <a:lnTo>
                        <a:pt x="491" y="4671"/>
                      </a:lnTo>
                      <a:lnTo>
                        <a:pt x="462" y="4526"/>
                      </a:lnTo>
                      <a:lnTo>
                        <a:pt x="422" y="4356"/>
                      </a:lnTo>
                      <a:lnTo>
                        <a:pt x="387" y="4169"/>
                      </a:lnTo>
                      <a:lnTo>
                        <a:pt x="343" y="3949"/>
                      </a:lnTo>
                      <a:lnTo>
                        <a:pt x="308" y="3758"/>
                      </a:lnTo>
                      <a:lnTo>
                        <a:pt x="288" y="3593"/>
                      </a:lnTo>
                      <a:lnTo>
                        <a:pt x="248" y="3311"/>
                      </a:lnTo>
                      <a:lnTo>
                        <a:pt x="223" y="3119"/>
                      </a:lnTo>
                      <a:lnTo>
                        <a:pt x="204" y="2883"/>
                      </a:lnTo>
                      <a:lnTo>
                        <a:pt x="184" y="2732"/>
                      </a:lnTo>
                      <a:lnTo>
                        <a:pt x="174" y="2504"/>
                      </a:lnTo>
                      <a:lnTo>
                        <a:pt x="174" y="2234"/>
                      </a:lnTo>
                      <a:lnTo>
                        <a:pt x="174" y="2046"/>
                      </a:lnTo>
                      <a:lnTo>
                        <a:pt x="184" y="1833"/>
                      </a:lnTo>
                      <a:lnTo>
                        <a:pt x="204" y="1441"/>
                      </a:lnTo>
                      <a:lnTo>
                        <a:pt x="223" y="1145"/>
                      </a:lnTo>
                      <a:lnTo>
                        <a:pt x="243" y="893"/>
                      </a:lnTo>
                      <a:lnTo>
                        <a:pt x="253" y="738"/>
                      </a:lnTo>
                      <a:lnTo>
                        <a:pt x="288" y="569"/>
                      </a:lnTo>
                      <a:lnTo>
                        <a:pt x="328" y="389"/>
                      </a:lnTo>
                      <a:lnTo>
                        <a:pt x="377" y="209"/>
                      </a:lnTo>
                      <a:lnTo>
                        <a:pt x="442" y="15"/>
                      </a:lnTo>
                      <a:lnTo>
                        <a:pt x="283" y="0"/>
                      </a:lnTo>
                      <a:close/>
                    </a:path>
                  </a:pathLst>
                </a:custGeom>
                <a:solidFill>
                  <a:srgbClr val="006000"/>
                </a:solidFill>
                <a:ln w="11160">
                  <a:solidFill>
                    <a:srgbClr val="004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>
                  <a:off x="1967760" y="4924440"/>
                  <a:ext cx="167760" cy="94320"/>
                </a:xfrm>
                <a:custGeom>
                  <a:avLst/>
                  <a:gdLst/>
                  <a:ahLst/>
                  <a:rect l="l" t="t" r="r" b="b"/>
                  <a:pathLst>
                    <a:path w="698" h="391">
                      <a:moveTo>
                        <a:pt x="0" y="0"/>
                      </a:moveTo>
                      <a:lnTo>
                        <a:pt x="14" y="63"/>
                      </a:lnTo>
                      <a:lnTo>
                        <a:pt x="67" y="122"/>
                      </a:lnTo>
                      <a:lnTo>
                        <a:pt x="159" y="151"/>
                      </a:lnTo>
                      <a:lnTo>
                        <a:pt x="200" y="162"/>
                      </a:lnTo>
                      <a:lnTo>
                        <a:pt x="191" y="215"/>
                      </a:lnTo>
                      <a:lnTo>
                        <a:pt x="169" y="296"/>
                      </a:lnTo>
                      <a:lnTo>
                        <a:pt x="154" y="360"/>
                      </a:lnTo>
                      <a:lnTo>
                        <a:pt x="209" y="377"/>
                      </a:lnTo>
                      <a:lnTo>
                        <a:pt x="306" y="387"/>
                      </a:lnTo>
                      <a:lnTo>
                        <a:pt x="333" y="391"/>
                      </a:lnTo>
                      <a:lnTo>
                        <a:pt x="364" y="292"/>
                      </a:lnTo>
                      <a:lnTo>
                        <a:pt x="387" y="211"/>
                      </a:lnTo>
                      <a:lnTo>
                        <a:pt x="406" y="195"/>
                      </a:lnTo>
                      <a:lnTo>
                        <a:pt x="516" y="192"/>
                      </a:lnTo>
                      <a:lnTo>
                        <a:pt x="606" y="170"/>
                      </a:lnTo>
                      <a:lnTo>
                        <a:pt x="672" y="126"/>
                      </a:lnTo>
                      <a:lnTo>
                        <a:pt x="690" y="88"/>
                      </a:lnTo>
                      <a:lnTo>
                        <a:pt x="698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6000"/>
                </a:solidFill>
                <a:ln w="11160">
                  <a:solidFill>
                    <a:srgbClr val="004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65" name=""/>
                <p:cNvGrpSpPr/>
                <p:nvPr/>
              </p:nvGrpSpPr>
              <p:grpSpPr>
                <a:xfrm>
                  <a:off x="1311120" y="5096880"/>
                  <a:ext cx="749160" cy="1112400"/>
                  <a:chOff x="1311120" y="5096880"/>
                  <a:chExt cx="749160" cy="111240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 flipH="1">
                    <a:off x="1310760" y="5096880"/>
                    <a:ext cx="749160" cy="1112400"/>
                  </a:xfrm>
                  <a:custGeom>
                    <a:avLst/>
                    <a:gdLst/>
                    <a:ahLst/>
                    <a:rect l="l" t="t" r="r" b="b"/>
                    <a:pathLst>
                      <a:path w="3115" h="4592">
                        <a:moveTo>
                          <a:pt x="0" y="4592"/>
                        </a:moveTo>
                        <a:lnTo>
                          <a:pt x="99" y="3683"/>
                        </a:lnTo>
                        <a:lnTo>
                          <a:pt x="198" y="3307"/>
                        </a:lnTo>
                        <a:lnTo>
                          <a:pt x="258" y="2883"/>
                        </a:lnTo>
                        <a:lnTo>
                          <a:pt x="357" y="2429"/>
                        </a:lnTo>
                        <a:lnTo>
                          <a:pt x="496" y="2022"/>
                        </a:lnTo>
                        <a:lnTo>
                          <a:pt x="615" y="1693"/>
                        </a:lnTo>
                        <a:lnTo>
                          <a:pt x="793" y="1363"/>
                        </a:lnTo>
                        <a:lnTo>
                          <a:pt x="1031" y="1034"/>
                        </a:lnTo>
                        <a:lnTo>
                          <a:pt x="1250" y="784"/>
                        </a:lnTo>
                        <a:lnTo>
                          <a:pt x="1448" y="580"/>
                        </a:lnTo>
                        <a:lnTo>
                          <a:pt x="1666" y="423"/>
                        </a:lnTo>
                        <a:lnTo>
                          <a:pt x="2063" y="235"/>
                        </a:lnTo>
                        <a:lnTo>
                          <a:pt x="2520" y="94"/>
                        </a:lnTo>
                        <a:lnTo>
                          <a:pt x="3115" y="0"/>
                        </a:lnTo>
                        <a:lnTo>
                          <a:pt x="2817" y="204"/>
                        </a:lnTo>
                        <a:lnTo>
                          <a:pt x="2619" y="361"/>
                        </a:lnTo>
                        <a:lnTo>
                          <a:pt x="2401" y="580"/>
                        </a:lnTo>
                        <a:lnTo>
                          <a:pt x="2242" y="737"/>
                        </a:lnTo>
                        <a:lnTo>
                          <a:pt x="2024" y="925"/>
                        </a:lnTo>
                        <a:lnTo>
                          <a:pt x="1825" y="1113"/>
                        </a:lnTo>
                        <a:lnTo>
                          <a:pt x="1547" y="1379"/>
                        </a:lnTo>
                        <a:lnTo>
                          <a:pt x="1329" y="1583"/>
                        </a:lnTo>
                        <a:lnTo>
                          <a:pt x="1151" y="1818"/>
                        </a:lnTo>
                        <a:lnTo>
                          <a:pt x="972" y="2084"/>
                        </a:lnTo>
                        <a:lnTo>
                          <a:pt x="853" y="2319"/>
                        </a:lnTo>
                        <a:lnTo>
                          <a:pt x="674" y="2633"/>
                        </a:lnTo>
                        <a:lnTo>
                          <a:pt x="516" y="2993"/>
                        </a:lnTo>
                        <a:lnTo>
                          <a:pt x="377" y="3385"/>
                        </a:lnTo>
                        <a:lnTo>
                          <a:pt x="277" y="3808"/>
                        </a:lnTo>
                        <a:lnTo>
                          <a:pt x="198" y="4231"/>
                        </a:lnTo>
                        <a:lnTo>
                          <a:pt x="218" y="4592"/>
                        </a:lnTo>
                        <a:lnTo>
                          <a:pt x="0" y="4592"/>
                        </a:lnTo>
                        <a:close/>
                      </a:path>
                    </a:pathLst>
                  </a:custGeom>
                  <a:solidFill>
                    <a:srgbClr val="006000"/>
                  </a:solidFill>
                  <a:ln w="11160">
                    <a:solidFill>
                      <a:srgbClr val="004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 flipH="1">
                    <a:off x="1511640" y="5180040"/>
                    <a:ext cx="472320" cy="679680"/>
                  </a:xfrm>
                  <a:custGeom>
                    <a:avLst/>
                    <a:gdLst/>
                    <a:ahLst/>
                    <a:rect l="l" t="t" r="r" b="b"/>
                    <a:pathLst>
                      <a:path w="1965" h="2805">
                        <a:moveTo>
                          <a:pt x="1965" y="0"/>
                        </a:moveTo>
                        <a:lnTo>
                          <a:pt x="1687" y="172"/>
                        </a:lnTo>
                        <a:lnTo>
                          <a:pt x="1310" y="501"/>
                        </a:lnTo>
                        <a:lnTo>
                          <a:pt x="1032" y="783"/>
                        </a:lnTo>
                        <a:lnTo>
                          <a:pt x="734" y="1144"/>
                        </a:lnTo>
                        <a:lnTo>
                          <a:pt x="496" y="1551"/>
                        </a:lnTo>
                        <a:lnTo>
                          <a:pt x="278" y="1927"/>
                        </a:lnTo>
                        <a:lnTo>
                          <a:pt x="139" y="2366"/>
                        </a:lnTo>
                        <a:lnTo>
                          <a:pt x="0" y="2805"/>
                        </a:lnTo>
                        <a:lnTo>
                          <a:pt x="139" y="2162"/>
                        </a:lnTo>
                        <a:lnTo>
                          <a:pt x="357" y="1614"/>
                        </a:lnTo>
                        <a:lnTo>
                          <a:pt x="615" y="1160"/>
                        </a:lnTo>
                        <a:lnTo>
                          <a:pt x="913" y="815"/>
                        </a:lnTo>
                        <a:lnTo>
                          <a:pt x="1191" y="517"/>
                        </a:lnTo>
                        <a:lnTo>
                          <a:pt x="1965" y="0"/>
                        </a:lnTo>
                        <a:close/>
                      </a:path>
                    </a:pathLst>
                  </a:custGeom>
                  <a:solidFill>
                    <a:srgbClr val="004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68" name=""/>
                <p:cNvGrpSpPr/>
                <p:nvPr/>
              </p:nvGrpSpPr>
              <p:grpSpPr>
                <a:xfrm>
                  <a:off x="2047320" y="5190120"/>
                  <a:ext cx="334080" cy="1017360"/>
                  <a:chOff x="2047320" y="5190120"/>
                  <a:chExt cx="334080" cy="1017360"/>
                </a:xfrm>
              </p:grpSpPr>
              <p:sp>
                <p:nvSpPr>
                  <p:cNvPr id="269" name=""/>
                  <p:cNvSpPr/>
                  <p:nvPr/>
                </p:nvSpPr>
                <p:spPr>
                  <a:xfrm flipH="1">
                    <a:off x="2047320" y="5190120"/>
                    <a:ext cx="334080" cy="10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1389" h="4199">
                        <a:moveTo>
                          <a:pt x="1389" y="4199"/>
                        </a:moveTo>
                        <a:lnTo>
                          <a:pt x="1290" y="3949"/>
                        </a:lnTo>
                        <a:lnTo>
                          <a:pt x="1132" y="3698"/>
                        </a:lnTo>
                        <a:lnTo>
                          <a:pt x="993" y="3416"/>
                        </a:lnTo>
                        <a:lnTo>
                          <a:pt x="874" y="3118"/>
                        </a:lnTo>
                        <a:lnTo>
                          <a:pt x="794" y="2820"/>
                        </a:lnTo>
                        <a:lnTo>
                          <a:pt x="735" y="2538"/>
                        </a:lnTo>
                        <a:lnTo>
                          <a:pt x="715" y="2303"/>
                        </a:lnTo>
                        <a:lnTo>
                          <a:pt x="635" y="1943"/>
                        </a:lnTo>
                        <a:lnTo>
                          <a:pt x="596" y="1551"/>
                        </a:lnTo>
                        <a:lnTo>
                          <a:pt x="596" y="1191"/>
                        </a:lnTo>
                        <a:lnTo>
                          <a:pt x="596" y="830"/>
                        </a:lnTo>
                        <a:lnTo>
                          <a:pt x="616" y="517"/>
                        </a:lnTo>
                        <a:lnTo>
                          <a:pt x="675" y="0"/>
                        </a:lnTo>
                        <a:lnTo>
                          <a:pt x="516" y="313"/>
                        </a:lnTo>
                        <a:lnTo>
                          <a:pt x="377" y="642"/>
                        </a:lnTo>
                        <a:lnTo>
                          <a:pt x="239" y="940"/>
                        </a:lnTo>
                        <a:lnTo>
                          <a:pt x="119" y="1269"/>
                        </a:lnTo>
                        <a:lnTo>
                          <a:pt x="80" y="1535"/>
                        </a:lnTo>
                        <a:lnTo>
                          <a:pt x="40" y="1755"/>
                        </a:lnTo>
                        <a:lnTo>
                          <a:pt x="0" y="2037"/>
                        </a:lnTo>
                        <a:lnTo>
                          <a:pt x="20" y="2397"/>
                        </a:lnTo>
                        <a:lnTo>
                          <a:pt x="80" y="2711"/>
                        </a:lnTo>
                        <a:lnTo>
                          <a:pt x="139" y="2961"/>
                        </a:lnTo>
                        <a:lnTo>
                          <a:pt x="219" y="3181"/>
                        </a:lnTo>
                        <a:lnTo>
                          <a:pt x="318" y="3431"/>
                        </a:lnTo>
                        <a:lnTo>
                          <a:pt x="457" y="3698"/>
                        </a:lnTo>
                        <a:lnTo>
                          <a:pt x="616" y="3886"/>
                        </a:lnTo>
                        <a:lnTo>
                          <a:pt x="754" y="4043"/>
                        </a:lnTo>
                        <a:lnTo>
                          <a:pt x="933" y="4199"/>
                        </a:lnTo>
                        <a:lnTo>
                          <a:pt x="1389" y="4199"/>
                        </a:lnTo>
                        <a:close/>
                      </a:path>
                    </a:pathLst>
                  </a:custGeom>
                  <a:solidFill>
                    <a:srgbClr val="006000"/>
                  </a:solidFill>
                  <a:ln w="11160">
                    <a:solidFill>
                      <a:srgbClr val="004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>
                    <a:off x="2138040" y="5490000"/>
                    <a:ext cx="181440" cy="683640"/>
                  </a:xfrm>
                  <a:custGeom>
                    <a:avLst/>
                    <a:gdLst/>
                    <a:ahLst/>
                    <a:rect l="l" t="t" r="r" b="b"/>
                    <a:pathLst>
                      <a:path w="754" h="2820">
                        <a:moveTo>
                          <a:pt x="80" y="0"/>
                        </a:moveTo>
                        <a:lnTo>
                          <a:pt x="0" y="376"/>
                        </a:lnTo>
                        <a:lnTo>
                          <a:pt x="20" y="799"/>
                        </a:lnTo>
                        <a:lnTo>
                          <a:pt x="100" y="1285"/>
                        </a:lnTo>
                        <a:lnTo>
                          <a:pt x="199" y="1786"/>
                        </a:lnTo>
                        <a:lnTo>
                          <a:pt x="358" y="2209"/>
                        </a:lnTo>
                        <a:lnTo>
                          <a:pt x="616" y="2617"/>
                        </a:lnTo>
                        <a:lnTo>
                          <a:pt x="754" y="2820"/>
                        </a:lnTo>
                        <a:lnTo>
                          <a:pt x="576" y="2444"/>
                        </a:lnTo>
                        <a:lnTo>
                          <a:pt x="397" y="2084"/>
                        </a:lnTo>
                        <a:lnTo>
                          <a:pt x="258" y="1645"/>
                        </a:lnTo>
                        <a:lnTo>
                          <a:pt x="159" y="1238"/>
                        </a:lnTo>
                        <a:lnTo>
                          <a:pt x="80" y="767"/>
                        </a:lnTo>
                        <a:lnTo>
                          <a:pt x="20" y="485"/>
                        </a:lnTo>
                        <a:lnTo>
                          <a:pt x="80" y="0"/>
                        </a:lnTo>
                        <a:close/>
                      </a:path>
                    </a:pathLst>
                  </a:custGeom>
                  <a:solidFill>
                    <a:srgbClr val="004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71" name=""/>
              <p:cNvGrpSpPr/>
              <p:nvPr/>
            </p:nvGrpSpPr>
            <p:grpSpPr>
              <a:xfrm>
                <a:off x="1842480" y="4572000"/>
                <a:ext cx="369000" cy="371880"/>
                <a:chOff x="1842480" y="4572000"/>
                <a:chExt cx="369000" cy="371880"/>
              </a:xfrm>
            </p:grpSpPr>
            <p:grpSp>
              <p:nvGrpSpPr>
                <p:cNvPr id="272" name=""/>
                <p:cNvGrpSpPr/>
                <p:nvPr/>
              </p:nvGrpSpPr>
              <p:grpSpPr>
                <a:xfrm>
                  <a:off x="1923120" y="4572000"/>
                  <a:ext cx="157320" cy="157320"/>
                  <a:chOff x="1923120" y="4572000"/>
                  <a:chExt cx="157320" cy="157320"/>
                </a:xfrm>
              </p:grpSpPr>
              <p:sp>
                <p:nvSpPr>
                  <p:cNvPr id="273" name=""/>
                  <p:cNvSpPr/>
                  <p:nvPr/>
                </p:nvSpPr>
                <p:spPr>
                  <a:xfrm flipH="1">
                    <a:off x="1922760" y="4572000"/>
                    <a:ext cx="157320" cy="157320"/>
                  </a:xfrm>
                  <a:custGeom>
                    <a:avLst/>
                    <a:gdLst/>
                    <a:ahLst/>
                    <a:rect l="l" t="t" r="r" b="b"/>
                    <a:pathLst>
                      <a:path w="654" h="651">
                        <a:moveTo>
                          <a:pt x="0" y="314"/>
                        </a:moveTo>
                        <a:lnTo>
                          <a:pt x="49" y="236"/>
                        </a:lnTo>
                        <a:lnTo>
                          <a:pt x="119" y="173"/>
                        </a:lnTo>
                        <a:lnTo>
                          <a:pt x="258" y="94"/>
                        </a:lnTo>
                        <a:lnTo>
                          <a:pt x="387" y="47"/>
                        </a:lnTo>
                        <a:lnTo>
                          <a:pt x="525" y="0"/>
                        </a:lnTo>
                        <a:lnTo>
                          <a:pt x="545" y="87"/>
                        </a:lnTo>
                        <a:lnTo>
                          <a:pt x="565" y="173"/>
                        </a:lnTo>
                        <a:lnTo>
                          <a:pt x="605" y="243"/>
                        </a:lnTo>
                        <a:lnTo>
                          <a:pt x="654" y="361"/>
                        </a:lnTo>
                        <a:lnTo>
                          <a:pt x="635" y="510"/>
                        </a:lnTo>
                        <a:lnTo>
                          <a:pt x="208" y="651"/>
                        </a:lnTo>
                        <a:lnTo>
                          <a:pt x="0" y="314"/>
                        </a:lnTo>
                        <a:close/>
                      </a:path>
                    </a:pathLst>
                  </a:custGeom>
                  <a:solidFill>
                    <a:srgbClr val="c00000"/>
                  </a:solidFill>
                  <a:ln w="11160">
                    <a:solidFill>
                      <a:srgbClr val="8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>
                    <a:off x="1964160" y="4583520"/>
                    <a:ext cx="1044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437" h="400">
                        <a:moveTo>
                          <a:pt x="124" y="130"/>
                        </a:moveTo>
                        <a:lnTo>
                          <a:pt x="214" y="83"/>
                        </a:lnTo>
                        <a:lnTo>
                          <a:pt x="283" y="47"/>
                        </a:lnTo>
                        <a:lnTo>
                          <a:pt x="367" y="20"/>
                        </a:lnTo>
                        <a:lnTo>
                          <a:pt x="437" y="0"/>
                        </a:lnTo>
                        <a:lnTo>
                          <a:pt x="372" y="91"/>
                        </a:lnTo>
                        <a:lnTo>
                          <a:pt x="333" y="173"/>
                        </a:lnTo>
                        <a:lnTo>
                          <a:pt x="303" y="239"/>
                        </a:lnTo>
                        <a:lnTo>
                          <a:pt x="278" y="318"/>
                        </a:lnTo>
                        <a:lnTo>
                          <a:pt x="228" y="400"/>
                        </a:lnTo>
                        <a:lnTo>
                          <a:pt x="0" y="204"/>
                        </a:lnTo>
                        <a:lnTo>
                          <a:pt x="124" y="130"/>
                        </a:lnTo>
                        <a:close/>
                      </a:path>
                    </a:pathLst>
                  </a:custGeom>
                  <a:solidFill>
                    <a:srgbClr val="ff4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H="1">
                    <a:off x="1927800" y="4589640"/>
                    <a:ext cx="70560" cy="8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93" h="368">
                        <a:moveTo>
                          <a:pt x="154" y="0"/>
                        </a:moveTo>
                        <a:lnTo>
                          <a:pt x="89" y="106"/>
                        </a:lnTo>
                        <a:lnTo>
                          <a:pt x="49" y="188"/>
                        </a:lnTo>
                        <a:lnTo>
                          <a:pt x="35" y="255"/>
                        </a:lnTo>
                        <a:lnTo>
                          <a:pt x="0" y="368"/>
                        </a:lnTo>
                        <a:lnTo>
                          <a:pt x="258" y="349"/>
                        </a:lnTo>
                        <a:lnTo>
                          <a:pt x="293" y="219"/>
                        </a:lnTo>
                        <a:lnTo>
                          <a:pt x="218" y="172"/>
                        </a:lnTo>
                        <a:lnTo>
                          <a:pt x="178" y="106"/>
                        </a:lnTo>
                        <a:lnTo>
                          <a:pt x="164" y="70"/>
                        </a:lnTo>
                        <a:lnTo>
                          <a:pt x="154" y="0"/>
                        </a:lnTo>
                        <a:close/>
                      </a:path>
                    </a:pathLst>
                  </a:cu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840" bIns="42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76" name=""/>
                <p:cNvSpPr/>
                <p:nvPr/>
              </p:nvSpPr>
              <p:spPr>
                <a:xfrm flipH="1">
                  <a:off x="1956600" y="4590720"/>
                  <a:ext cx="254880" cy="349200"/>
                </a:xfrm>
                <a:custGeom>
                  <a:avLst/>
                  <a:gdLst/>
                  <a:ahLst/>
                  <a:rect l="l" t="t" r="r" b="b"/>
                  <a:pathLst>
                    <a:path w="1062" h="1441">
                      <a:moveTo>
                        <a:pt x="258" y="78"/>
                      </a:moveTo>
                      <a:lnTo>
                        <a:pt x="298" y="172"/>
                      </a:lnTo>
                      <a:lnTo>
                        <a:pt x="302" y="235"/>
                      </a:lnTo>
                      <a:lnTo>
                        <a:pt x="288" y="298"/>
                      </a:lnTo>
                      <a:lnTo>
                        <a:pt x="268" y="360"/>
                      </a:lnTo>
                      <a:lnTo>
                        <a:pt x="238" y="419"/>
                      </a:lnTo>
                      <a:lnTo>
                        <a:pt x="193" y="497"/>
                      </a:lnTo>
                      <a:lnTo>
                        <a:pt x="159" y="564"/>
                      </a:lnTo>
                      <a:lnTo>
                        <a:pt x="109" y="634"/>
                      </a:lnTo>
                      <a:lnTo>
                        <a:pt x="59" y="744"/>
                      </a:lnTo>
                      <a:lnTo>
                        <a:pt x="25" y="834"/>
                      </a:lnTo>
                      <a:lnTo>
                        <a:pt x="5" y="913"/>
                      </a:lnTo>
                      <a:lnTo>
                        <a:pt x="0" y="1007"/>
                      </a:lnTo>
                      <a:lnTo>
                        <a:pt x="5" y="1073"/>
                      </a:lnTo>
                      <a:lnTo>
                        <a:pt x="25" y="1155"/>
                      </a:lnTo>
                      <a:lnTo>
                        <a:pt x="64" y="1222"/>
                      </a:lnTo>
                      <a:lnTo>
                        <a:pt x="99" y="1277"/>
                      </a:lnTo>
                      <a:lnTo>
                        <a:pt x="188" y="1347"/>
                      </a:lnTo>
                      <a:lnTo>
                        <a:pt x="298" y="1394"/>
                      </a:lnTo>
                      <a:lnTo>
                        <a:pt x="476" y="1418"/>
                      </a:lnTo>
                      <a:lnTo>
                        <a:pt x="704" y="1441"/>
                      </a:lnTo>
                      <a:lnTo>
                        <a:pt x="853" y="1402"/>
                      </a:lnTo>
                      <a:lnTo>
                        <a:pt x="952" y="1332"/>
                      </a:lnTo>
                      <a:lnTo>
                        <a:pt x="1012" y="1222"/>
                      </a:lnTo>
                      <a:lnTo>
                        <a:pt x="1042" y="1097"/>
                      </a:lnTo>
                      <a:lnTo>
                        <a:pt x="1062" y="987"/>
                      </a:lnTo>
                      <a:lnTo>
                        <a:pt x="1062" y="869"/>
                      </a:lnTo>
                      <a:lnTo>
                        <a:pt x="1052" y="775"/>
                      </a:lnTo>
                      <a:lnTo>
                        <a:pt x="1042" y="666"/>
                      </a:lnTo>
                      <a:lnTo>
                        <a:pt x="1022" y="564"/>
                      </a:lnTo>
                      <a:lnTo>
                        <a:pt x="992" y="439"/>
                      </a:lnTo>
                      <a:lnTo>
                        <a:pt x="933" y="345"/>
                      </a:lnTo>
                      <a:lnTo>
                        <a:pt x="863" y="243"/>
                      </a:lnTo>
                      <a:lnTo>
                        <a:pt x="774" y="164"/>
                      </a:lnTo>
                      <a:lnTo>
                        <a:pt x="684" y="117"/>
                      </a:lnTo>
                      <a:lnTo>
                        <a:pt x="575" y="62"/>
                      </a:lnTo>
                      <a:lnTo>
                        <a:pt x="461" y="35"/>
                      </a:lnTo>
                      <a:lnTo>
                        <a:pt x="357" y="15"/>
                      </a:lnTo>
                      <a:lnTo>
                        <a:pt x="218" y="0"/>
                      </a:lnTo>
                      <a:lnTo>
                        <a:pt x="258" y="78"/>
                      </a:lnTo>
                      <a:close/>
                    </a:path>
                  </a:pathLst>
                </a:custGeom>
                <a:solidFill>
                  <a:srgbClr val="e00000"/>
                </a:solidFill>
                <a:ln w="11160">
                  <a:solidFill>
                    <a:srgbClr val="8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 flipH="1">
                  <a:off x="1842480" y="4590720"/>
                  <a:ext cx="252000" cy="353160"/>
                </a:xfrm>
                <a:custGeom>
                  <a:avLst/>
                  <a:gdLst/>
                  <a:ahLst/>
                  <a:rect l="l" t="t" r="r" b="b"/>
                  <a:pathLst>
                    <a:path w="1052" h="1457">
                      <a:moveTo>
                        <a:pt x="357" y="446"/>
                      </a:moveTo>
                      <a:lnTo>
                        <a:pt x="447" y="329"/>
                      </a:lnTo>
                      <a:lnTo>
                        <a:pt x="526" y="251"/>
                      </a:lnTo>
                      <a:lnTo>
                        <a:pt x="625" y="180"/>
                      </a:lnTo>
                      <a:lnTo>
                        <a:pt x="734" y="117"/>
                      </a:lnTo>
                      <a:lnTo>
                        <a:pt x="824" y="86"/>
                      </a:lnTo>
                      <a:lnTo>
                        <a:pt x="898" y="59"/>
                      </a:lnTo>
                      <a:lnTo>
                        <a:pt x="962" y="35"/>
                      </a:lnTo>
                      <a:lnTo>
                        <a:pt x="1052" y="0"/>
                      </a:lnTo>
                      <a:lnTo>
                        <a:pt x="992" y="109"/>
                      </a:lnTo>
                      <a:lnTo>
                        <a:pt x="953" y="196"/>
                      </a:lnTo>
                      <a:lnTo>
                        <a:pt x="953" y="290"/>
                      </a:lnTo>
                      <a:lnTo>
                        <a:pt x="953" y="384"/>
                      </a:lnTo>
                      <a:lnTo>
                        <a:pt x="962" y="470"/>
                      </a:lnTo>
                      <a:lnTo>
                        <a:pt x="982" y="572"/>
                      </a:lnTo>
                      <a:lnTo>
                        <a:pt x="1012" y="666"/>
                      </a:lnTo>
                      <a:lnTo>
                        <a:pt x="1032" y="760"/>
                      </a:lnTo>
                      <a:lnTo>
                        <a:pt x="1052" y="846"/>
                      </a:lnTo>
                      <a:lnTo>
                        <a:pt x="1052" y="932"/>
                      </a:lnTo>
                      <a:lnTo>
                        <a:pt x="1042" y="1018"/>
                      </a:lnTo>
                      <a:lnTo>
                        <a:pt x="1012" y="1112"/>
                      </a:lnTo>
                      <a:lnTo>
                        <a:pt x="972" y="1206"/>
                      </a:lnTo>
                      <a:lnTo>
                        <a:pt x="933" y="1277"/>
                      </a:lnTo>
                      <a:lnTo>
                        <a:pt x="834" y="1379"/>
                      </a:lnTo>
                      <a:lnTo>
                        <a:pt x="724" y="1418"/>
                      </a:lnTo>
                      <a:lnTo>
                        <a:pt x="585" y="1449"/>
                      </a:lnTo>
                      <a:lnTo>
                        <a:pt x="427" y="1457"/>
                      </a:lnTo>
                      <a:lnTo>
                        <a:pt x="327" y="1457"/>
                      </a:lnTo>
                      <a:lnTo>
                        <a:pt x="179" y="1438"/>
                      </a:lnTo>
                      <a:lnTo>
                        <a:pt x="104" y="1398"/>
                      </a:lnTo>
                      <a:lnTo>
                        <a:pt x="40" y="1332"/>
                      </a:lnTo>
                      <a:lnTo>
                        <a:pt x="10" y="1238"/>
                      </a:lnTo>
                      <a:lnTo>
                        <a:pt x="0" y="1159"/>
                      </a:lnTo>
                      <a:lnTo>
                        <a:pt x="0" y="1034"/>
                      </a:lnTo>
                      <a:lnTo>
                        <a:pt x="40" y="924"/>
                      </a:lnTo>
                      <a:lnTo>
                        <a:pt x="119" y="791"/>
                      </a:lnTo>
                      <a:lnTo>
                        <a:pt x="198" y="666"/>
                      </a:lnTo>
                      <a:lnTo>
                        <a:pt x="268" y="556"/>
                      </a:lnTo>
                      <a:lnTo>
                        <a:pt x="357" y="446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11160">
                  <a:solidFill>
                    <a:srgbClr val="8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 flipH="1">
                  <a:off x="2135160" y="4716360"/>
                  <a:ext cx="59400" cy="204840"/>
                </a:xfrm>
                <a:custGeom>
                  <a:avLst/>
                  <a:gdLst/>
                  <a:ahLst/>
                  <a:rect l="l" t="t" r="r" b="b"/>
                  <a:pathLst>
                    <a:path w="248" h="846">
                      <a:moveTo>
                        <a:pt x="139" y="0"/>
                      </a:moveTo>
                      <a:lnTo>
                        <a:pt x="60" y="188"/>
                      </a:lnTo>
                      <a:lnTo>
                        <a:pt x="20" y="313"/>
                      </a:lnTo>
                      <a:lnTo>
                        <a:pt x="0" y="470"/>
                      </a:lnTo>
                      <a:lnTo>
                        <a:pt x="10" y="611"/>
                      </a:lnTo>
                      <a:lnTo>
                        <a:pt x="70" y="729"/>
                      </a:lnTo>
                      <a:lnTo>
                        <a:pt x="159" y="807"/>
                      </a:lnTo>
                      <a:lnTo>
                        <a:pt x="248" y="846"/>
                      </a:lnTo>
                      <a:lnTo>
                        <a:pt x="119" y="666"/>
                      </a:lnTo>
                      <a:lnTo>
                        <a:pt x="80" y="517"/>
                      </a:lnTo>
                      <a:lnTo>
                        <a:pt x="90" y="360"/>
                      </a:lnTo>
                      <a:lnTo>
                        <a:pt x="90" y="251"/>
                      </a:lnTo>
                      <a:lnTo>
                        <a:pt x="109" y="141"/>
                      </a:lnTo>
                      <a:lnTo>
                        <a:pt x="139" y="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 flipH="1">
                  <a:off x="1851480" y="4602240"/>
                  <a:ext cx="146880" cy="97560"/>
                </a:xfrm>
                <a:custGeom>
                  <a:avLst/>
                  <a:gdLst/>
                  <a:ahLst/>
                  <a:rect l="l" t="t" r="r" b="b"/>
                  <a:pathLst>
                    <a:path w="610" h="403">
                      <a:moveTo>
                        <a:pt x="546" y="27"/>
                      </a:moveTo>
                      <a:lnTo>
                        <a:pt x="481" y="47"/>
                      </a:lnTo>
                      <a:lnTo>
                        <a:pt x="407" y="74"/>
                      </a:lnTo>
                      <a:lnTo>
                        <a:pt x="337" y="110"/>
                      </a:lnTo>
                      <a:lnTo>
                        <a:pt x="283" y="141"/>
                      </a:lnTo>
                      <a:lnTo>
                        <a:pt x="213" y="188"/>
                      </a:lnTo>
                      <a:lnTo>
                        <a:pt x="149" y="235"/>
                      </a:lnTo>
                      <a:lnTo>
                        <a:pt x="69" y="313"/>
                      </a:lnTo>
                      <a:lnTo>
                        <a:pt x="0" y="403"/>
                      </a:lnTo>
                      <a:lnTo>
                        <a:pt x="104" y="356"/>
                      </a:lnTo>
                      <a:lnTo>
                        <a:pt x="188" y="317"/>
                      </a:lnTo>
                      <a:lnTo>
                        <a:pt x="263" y="290"/>
                      </a:lnTo>
                      <a:lnTo>
                        <a:pt x="342" y="266"/>
                      </a:lnTo>
                      <a:lnTo>
                        <a:pt x="407" y="251"/>
                      </a:lnTo>
                      <a:lnTo>
                        <a:pt x="461" y="231"/>
                      </a:lnTo>
                      <a:lnTo>
                        <a:pt x="501" y="196"/>
                      </a:lnTo>
                      <a:lnTo>
                        <a:pt x="531" y="137"/>
                      </a:lnTo>
                      <a:lnTo>
                        <a:pt x="551" y="90"/>
                      </a:lnTo>
                      <a:lnTo>
                        <a:pt x="610" y="0"/>
                      </a:lnTo>
                      <a:lnTo>
                        <a:pt x="546" y="27"/>
                      </a:lnTo>
                      <a:close/>
                    </a:path>
                  </a:pathLst>
                </a:custGeom>
                <a:solidFill>
                  <a:srgbClr val="c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flipH="1">
                  <a:off x="2030400" y="4600440"/>
                  <a:ext cx="112680" cy="59400"/>
                </a:xfrm>
                <a:custGeom>
                  <a:avLst/>
                  <a:gdLst/>
                  <a:ahLst/>
                  <a:rect l="l" t="t" r="r" b="b"/>
                  <a:pathLst>
                    <a:path w="471" h="247">
                      <a:moveTo>
                        <a:pt x="0" y="0"/>
                      </a:moveTo>
                      <a:lnTo>
                        <a:pt x="89" y="12"/>
                      </a:lnTo>
                      <a:lnTo>
                        <a:pt x="193" y="39"/>
                      </a:lnTo>
                      <a:lnTo>
                        <a:pt x="332" y="98"/>
                      </a:lnTo>
                      <a:lnTo>
                        <a:pt x="387" y="145"/>
                      </a:lnTo>
                      <a:lnTo>
                        <a:pt x="441" y="208"/>
                      </a:lnTo>
                      <a:lnTo>
                        <a:pt x="471" y="247"/>
                      </a:lnTo>
                      <a:lnTo>
                        <a:pt x="337" y="215"/>
                      </a:lnTo>
                      <a:lnTo>
                        <a:pt x="173" y="208"/>
                      </a:lnTo>
                      <a:lnTo>
                        <a:pt x="104" y="192"/>
                      </a:lnTo>
                      <a:lnTo>
                        <a:pt x="59" y="145"/>
                      </a:lnTo>
                      <a:lnTo>
                        <a:pt x="15" y="7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 flipH="1">
                  <a:off x="2044440" y="4786560"/>
                  <a:ext cx="40680" cy="145080"/>
                </a:xfrm>
                <a:custGeom>
                  <a:avLst/>
                  <a:gdLst/>
                  <a:ahLst/>
                  <a:rect l="l" t="t" r="r" b="b"/>
                  <a:pathLst>
                    <a:path w="168" h="599">
                      <a:moveTo>
                        <a:pt x="144" y="0"/>
                      </a:moveTo>
                      <a:lnTo>
                        <a:pt x="54" y="113"/>
                      </a:lnTo>
                      <a:lnTo>
                        <a:pt x="20" y="188"/>
                      </a:lnTo>
                      <a:lnTo>
                        <a:pt x="0" y="270"/>
                      </a:lnTo>
                      <a:lnTo>
                        <a:pt x="0" y="341"/>
                      </a:lnTo>
                      <a:lnTo>
                        <a:pt x="10" y="407"/>
                      </a:lnTo>
                      <a:lnTo>
                        <a:pt x="25" y="474"/>
                      </a:lnTo>
                      <a:lnTo>
                        <a:pt x="54" y="509"/>
                      </a:lnTo>
                      <a:lnTo>
                        <a:pt x="94" y="560"/>
                      </a:lnTo>
                      <a:lnTo>
                        <a:pt x="168" y="599"/>
                      </a:lnTo>
                      <a:lnTo>
                        <a:pt x="119" y="505"/>
                      </a:lnTo>
                      <a:lnTo>
                        <a:pt x="99" y="450"/>
                      </a:lnTo>
                      <a:lnTo>
                        <a:pt x="84" y="392"/>
                      </a:lnTo>
                      <a:lnTo>
                        <a:pt x="79" y="337"/>
                      </a:lnTo>
                      <a:lnTo>
                        <a:pt x="84" y="278"/>
                      </a:lnTo>
                      <a:lnTo>
                        <a:pt x="84" y="219"/>
                      </a:lnTo>
                      <a:lnTo>
                        <a:pt x="104" y="137"/>
                      </a:lnTo>
                      <a:lnTo>
                        <a:pt x="144" y="0"/>
                      </a:lnTo>
                      <a:close/>
                    </a:path>
                  </a:pathLst>
                </a:custGeom>
                <a:solidFill>
                  <a:srgbClr val="ff4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 flipH="1">
                  <a:off x="1850400" y="4723200"/>
                  <a:ext cx="49680" cy="187920"/>
                </a:xfrm>
                <a:custGeom>
                  <a:avLst/>
                  <a:gdLst/>
                  <a:ahLst/>
                  <a:rect l="l" t="t" r="r" b="b"/>
                  <a:pathLst>
                    <a:path w="208" h="776">
                      <a:moveTo>
                        <a:pt x="114" y="0"/>
                      </a:moveTo>
                      <a:lnTo>
                        <a:pt x="178" y="153"/>
                      </a:lnTo>
                      <a:lnTo>
                        <a:pt x="203" y="259"/>
                      </a:lnTo>
                      <a:lnTo>
                        <a:pt x="208" y="373"/>
                      </a:lnTo>
                      <a:lnTo>
                        <a:pt x="193" y="498"/>
                      </a:lnTo>
                      <a:lnTo>
                        <a:pt x="144" y="619"/>
                      </a:lnTo>
                      <a:lnTo>
                        <a:pt x="74" y="729"/>
                      </a:lnTo>
                      <a:lnTo>
                        <a:pt x="0" y="776"/>
                      </a:lnTo>
                      <a:lnTo>
                        <a:pt x="79" y="639"/>
                      </a:lnTo>
                      <a:lnTo>
                        <a:pt x="119" y="431"/>
                      </a:lnTo>
                      <a:lnTo>
                        <a:pt x="119" y="263"/>
                      </a:lnTo>
                      <a:lnTo>
                        <a:pt x="119" y="145"/>
                      </a:lnTo>
                      <a:lnTo>
                        <a:pt x="114" y="0"/>
                      </a:lnTo>
                      <a:close/>
                    </a:path>
                  </a:pathLst>
                </a:custGeom>
                <a:solidFill>
                  <a:srgbClr val="ff4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83" name=""/>
                <p:cNvGrpSpPr/>
                <p:nvPr/>
              </p:nvGrpSpPr>
              <p:grpSpPr>
                <a:xfrm>
                  <a:off x="1961640" y="4728240"/>
                  <a:ext cx="181800" cy="171360"/>
                  <a:chOff x="1961640" y="4728240"/>
                  <a:chExt cx="181800" cy="171360"/>
                </a:xfrm>
              </p:grpSpPr>
              <p:grpSp>
                <p:nvGrpSpPr>
                  <p:cNvPr id="284" name=""/>
                  <p:cNvGrpSpPr/>
                  <p:nvPr/>
                </p:nvGrpSpPr>
                <p:grpSpPr>
                  <a:xfrm>
                    <a:off x="1961640" y="4730040"/>
                    <a:ext cx="178560" cy="169560"/>
                    <a:chOff x="1961640" y="4730040"/>
                    <a:chExt cx="178560" cy="169560"/>
                  </a:xfrm>
                </p:grpSpPr>
                <p:sp>
                  <p:nvSpPr>
                    <p:cNvPr id="285" name=""/>
                    <p:cNvSpPr/>
                    <p:nvPr/>
                  </p:nvSpPr>
                  <p:spPr>
                    <a:xfrm flipH="1">
                      <a:off x="1977840" y="4833720"/>
                      <a:ext cx="19080" cy="14760"/>
                    </a:xfrm>
                    <a:prstGeom prst="ellipse">
                      <a:avLst/>
                    </a:prstGeom>
                    <a:solidFill>
                      <a:srgbClr val="8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6360" bIns="-36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6" name=""/>
                    <p:cNvSpPr/>
                    <p:nvPr/>
                  </p:nvSpPr>
                  <p:spPr>
                    <a:xfrm flipH="1">
                      <a:off x="1961280" y="4786200"/>
                      <a:ext cx="10440" cy="11160"/>
                    </a:xfrm>
                    <a:prstGeom prst="ellipse">
                      <a:avLst/>
                    </a:prstGeom>
                    <a:solidFill>
                      <a:srgbClr val="8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520" bIns="-38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7" name=""/>
                    <p:cNvSpPr/>
                    <p:nvPr/>
                  </p:nvSpPr>
                  <p:spPr>
                    <a:xfrm flipH="1">
                      <a:off x="2110320" y="4730040"/>
                      <a:ext cx="10440" cy="16200"/>
                    </a:xfrm>
                    <a:prstGeom prst="ellipse">
                      <a:avLst/>
                    </a:prstGeom>
                    <a:solidFill>
                      <a:srgbClr val="8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4920" bIns="-34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8" name=""/>
                    <p:cNvSpPr/>
                    <p:nvPr/>
                  </p:nvSpPr>
                  <p:spPr>
                    <a:xfrm flipH="1">
                      <a:off x="2124360" y="4830840"/>
                      <a:ext cx="15480" cy="17640"/>
                    </a:xfrm>
                    <a:prstGeom prst="ellipse">
                      <a:avLst/>
                    </a:prstGeom>
                    <a:solidFill>
                      <a:srgbClr val="8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4200" bIns="-34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9" name=""/>
                    <p:cNvSpPr/>
                    <p:nvPr/>
                  </p:nvSpPr>
                  <p:spPr>
                    <a:xfrm flipH="1">
                      <a:off x="1970280" y="4887000"/>
                      <a:ext cx="13680" cy="12600"/>
                    </a:xfrm>
                    <a:prstGeom prst="ellipse">
                      <a:avLst/>
                    </a:prstGeom>
                    <a:solidFill>
                      <a:srgbClr val="8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90" name=""/>
                  <p:cNvGrpSpPr/>
                  <p:nvPr/>
                </p:nvGrpSpPr>
                <p:grpSpPr>
                  <a:xfrm>
                    <a:off x="1964880" y="4728240"/>
                    <a:ext cx="178560" cy="169200"/>
                    <a:chOff x="1964880" y="4728240"/>
                    <a:chExt cx="178560" cy="169200"/>
                  </a:xfrm>
                </p:grpSpPr>
                <p:sp>
                  <p:nvSpPr>
                    <p:cNvPr id="291" name=""/>
                    <p:cNvSpPr/>
                    <p:nvPr/>
                  </p:nvSpPr>
                  <p:spPr>
                    <a:xfrm flipH="1">
                      <a:off x="1981440" y="4831920"/>
                      <a:ext cx="19080" cy="14760"/>
                    </a:xfrm>
                    <a:prstGeom prst="ellipse">
                      <a:avLst/>
                    </a:prstGeom>
                    <a:solidFill>
                      <a:srgbClr val="ff404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6360" bIns="-36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2" name=""/>
                    <p:cNvSpPr/>
                    <p:nvPr/>
                  </p:nvSpPr>
                  <p:spPr>
                    <a:xfrm flipH="1">
                      <a:off x="1964520" y="4784400"/>
                      <a:ext cx="10440" cy="10800"/>
                    </a:xfrm>
                    <a:prstGeom prst="ellipse">
                      <a:avLst/>
                    </a:prstGeom>
                    <a:solidFill>
                      <a:srgbClr val="ff404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880" bIns="-38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3" name=""/>
                    <p:cNvSpPr/>
                    <p:nvPr/>
                  </p:nvSpPr>
                  <p:spPr>
                    <a:xfrm flipH="1">
                      <a:off x="2113560" y="4728240"/>
                      <a:ext cx="10440" cy="16200"/>
                    </a:xfrm>
                    <a:prstGeom prst="ellipse">
                      <a:avLst/>
                    </a:prstGeom>
                    <a:solidFill>
                      <a:srgbClr val="ff404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4920" bIns="-34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4" name=""/>
                    <p:cNvSpPr/>
                    <p:nvPr/>
                  </p:nvSpPr>
                  <p:spPr>
                    <a:xfrm flipH="1">
                      <a:off x="2128320" y="4829040"/>
                      <a:ext cx="15120" cy="17640"/>
                    </a:xfrm>
                    <a:prstGeom prst="ellipse">
                      <a:avLst/>
                    </a:prstGeom>
                    <a:solidFill>
                      <a:srgbClr val="ff404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4200" bIns="-34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5" name=""/>
                    <p:cNvSpPr/>
                    <p:nvPr/>
                  </p:nvSpPr>
                  <p:spPr>
                    <a:xfrm flipH="1">
                      <a:off x="1973520" y="4885200"/>
                      <a:ext cx="13680" cy="12240"/>
                    </a:xfrm>
                    <a:prstGeom prst="ellipse">
                      <a:avLst/>
                    </a:prstGeom>
                    <a:solidFill>
                      <a:srgbClr val="ff404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160" bIns="-38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96" name=""/>
                  <p:cNvSpPr/>
                  <p:nvPr/>
                </p:nvSpPr>
                <p:spPr>
                  <a:xfrm flipH="1">
                    <a:off x="1988280" y="4835520"/>
                    <a:ext cx="9720" cy="7920"/>
                  </a:xfrm>
                  <a:prstGeom prst="ellipse">
                    <a:avLst/>
                  </a:prstGeom>
                  <a:solidFill>
                    <a:srgbClr val="ff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7" name=""/>
                  <p:cNvSpPr/>
                  <p:nvPr/>
                </p:nvSpPr>
                <p:spPr>
                  <a:xfrm flipH="1">
                    <a:off x="1969560" y="4787280"/>
                    <a:ext cx="3600" cy="6480"/>
                  </a:xfrm>
                  <a:prstGeom prst="ellipse">
                    <a:avLst/>
                  </a:prstGeom>
                  <a:solidFill>
                    <a:srgbClr val="ff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8" name=""/>
                  <p:cNvSpPr/>
                  <p:nvPr/>
                </p:nvSpPr>
                <p:spPr>
                  <a:xfrm flipH="1">
                    <a:off x="2116080" y="4731840"/>
                    <a:ext cx="6120" cy="9720"/>
                  </a:xfrm>
                  <a:prstGeom prst="ellipse">
                    <a:avLst/>
                  </a:prstGeom>
                  <a:solidFill>
                    <a:srgbClr val="ff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9" name=""/>
                  <p:cNvSpPr/>
                  <p:nvPr/>
                </p:nvSpPr>
                <p:spPr>
                  <a:xfrm flipH="1">
                    <a:off x="2133720" y="4831920"/>
                    <a:ext cx="7560" cy="11880"/>
                  </a:xfrm>
                  <a:prstGeom prst="ellipse">
                    <a:avLst/>
                  </a:prstGeom>
                  <a:solidFill>
                    <a:srgbClr val="ff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0" name=""/>
                  <p:cNvSpPr/>
                  <p:nvPr/>
                </p:nvSpPr>
                <p:spPr>
                  <a:xfrm flipH="1">
                    <a:off x="1978560" y="4887720"/>
                    <a:ext cx="6120" cy="6480"/>
                  </a:xfrm>
                  <a:prstGeom prst="ellipse">
                    <a:avLst/>
                  </a:prstGeom>
                  <a:solidFill>
                    <a:srgbClr val="ff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46479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fbff"/>
                </a:solidFill>
                <a:latin typeface="Monotype Corsiva"/>
              </a:rPr>
              <a:t>Thank You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82240" cy="1143000"/>
          </a:xfrm>
          <a:prstGeom prst="rect">
            <a:avLst/>
          </a:prstGeom>
          <a:solidFill>
            <a:srgbClr val="003366"/>
          </a:solidFill>
          <a:ln w="1908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ffffff"/>
                </a:solidFill>
                <a:latin typeface="华文新魏"/>
                <a:ea typeface="华文新魏"/>
              </a:rPr>
              <a:t>如何应用本文课程介绍的模型？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e6f4ff"/>
          </a:solidFill>
          <a:ln w="19080">
            <a:solidFill>
              <a:srgbClr val="808080"/>
            </a:solidFill>
            <a:miter/>
          </a:ln>
        </p:spPr>
        <p:txBody>
          <a:bodyPr anchor="ctr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3366"/>
                </a:solidFill>
                <a:latin typeface="华文新魏"/>
                <a:ea typeface="华文新魏"/>
              </a:rPr>
              <a:t>前提  理论储备：各个模型的基本假设、分析方式、适用范围和基本观点是什么？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3366"/>
                </a:solidFill>
                <a:latin typeface="华文新魏"/>
                <a:ea typeface="华文新魏"/>
              </a:rPr>
              <a:t>第一步，情景分析：你面临的情景与哪个模型最匹配？（注意：一种情景可能会与几个模型同时匹配）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3366"/>
                </a:solidFill>
                <a:latin typeface="华文新魏"/>
                <a:ea typeface="华文新魏"/>
              </a:rPr>
              <a:t>第二步，模型应用：分解情景，将情景套用到模型，运用模型的逻辑，进行分析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3366"/>
                </a:solidFill>
                <a:latin typeface="华文新魏"/>
                <a:ea typeface="华文新魏"/>
              </a:rPr>
              <a:t>第三步：得出结论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076960" cy="685800"/>
          </a:xfrm>
          <a:prstGeom prst="rect">
            <a:avLst/>
          </a:prstGeom>
          <a:solidFill>
            <a:srgbClr val="003366"/>
          </a:solidFill>
          <a:ln w="1908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ffffff"/>
                </a:solidFill>
                <a:latin typeface="华文新魏"/>
                <a:ea typeface="华文新魏"/>
              </a:rPr>
              <a:t>范例：北大人事改革政策分析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839080" cy="4953240"/>
          </a:xfrm>
          <a:prstGeom prst="rect">
            <a:avLst/>
          </a:prstGeom>
          <a:solidFill>
            <a:srgbClr val="e6f4ff"/>
          </a:solidFill>
          <a:ln w="19080">
            <a:solidFill>
              <a:srgbClr val="808080"/>
            </a:solidFill>
            <a:miter/>
          </a:ln>
        </p:spPr>
        <p:txBody>
          <a:bodyPr anchor="ctr">
            <a:normAutofit/>
          </a:bodyPr>
          <a:p>
            <a:pPr marL="343080" indent="-343080">
              <a:lnSpc>
                <a:spcPct val="100000"/>
              </a:lnSpc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华文新魏"/>
                <a:ea typeface="华文新魏"/>
              </a:rPr>
              <a:t>第一步，情景分析：可资运用的模型包括：团体模型，精英模型，渐进模型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华文新魏"/>
                <a:ea typeface="华文新魏"/>
              </a:rPr>
              <a:t>第二步，（渐进）模型应用：政策系以前政策的调整（保留合理部分，调整不合理部分）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华文新魏"/>
                <a:ea typeface="华文新魏"/>
              </a:rPr>
              <a:t>     </a:t>
            </a:r>
            <a:r>
              <a:rPr b="0" lang="zh-CN" sz="2800" spc="-1" strike="noStrike">
                <a:solidFill>
                  <a:srgbClr val="003366"/>
                </a:solidFill>
                <a:latin typeface="华文新魏"/>
                <a:ea typeface="华文新魏"/>
              </a:rPr>
              <a:t>－以往政策分析：北大现存人事制度哪些合理？哪些不合理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华文新魏"/>
                <a:ea typeface="华文新魏"/>
              </a:rPr>
              <a:t>       </a:t>
            </a:r>
            <a:r>
              <a:rPr b="0" lang="zh-CN" sz="2800" spc="-1" strike="noStrike">
                <a:solidFill>
                  <a:srgbClr val="003366"/>
                </a:solidFill>
                <a:latin typeface="华文新魏"/>
                <a:ea typeface="华文新魏"/>
              </a:rPr>
              <a:t>－方案分析：保留了什么？调整了什么？（保留：党政后勤，教授；调整：副教授、讲师、助教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华文新魏"/>
                <a:ea typeface="华文新魏"/>
              </a:rPr>
              <a:t>       </a:t>
            </a:r>
            <a:r>
              <a:rPr b="0" lang="zh-CN" sz="2800" spc="-1" strike="noStrike">
                <a:solidFill>
                  <a:srgbClr val="003366"/>
                </a:solidFill>
                <a:latin typeface="华文新魏"/>
                <a:ea typeface="华文新魏"/>
              </a:rPr>
              <a:t>－方案评估：现在做的调整合理吗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华文新魏"/>
                <a:ea typeface="华文新魏"/>
              </a:rPr>
              <a:t>           </a:t>
            </a:r>
            <a:r>
              <a:rPr b="0" lang="zh-CN" sz="2800" spc="-1" strike="noStrike">
                <a:solidFill>
                  <a:srgbClr val="003366"/>
                </a:solidFill>
                <a:latin typeface="华文新魏"/>
                <a:ea typeface="华文新魏"/>
              </a:rPr>
              <a:t>－评估结果：不全面的合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华文新魏"/>
                <a:ea typeface="华文新魏"/>
              </a:rPr>
              <a:t>第三步，得出结论：进一步改革（在全校各系统、各层级引入竞争机制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4876920" cy="1143000"/>
          </a:xfrm>
          <a:prstGeom prst="rect">
            <a:avLst/>
          </a:prstGeom>
          <a:solidFill>
            <a:srgbClr val="003366"/>
          </a:solidFill>
          <a:ln w="1908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快速练习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solidFill>
            <a:srgbClr val="e6f4ff"/>
          </a:solidFill>
          <a:ln w="19080">
            <a:solidFill>
              <a:srgbClr val="808080"/>
            </a:solidFill>
            <a:miter/>
          </a:ln>
        </p:spPr>
        <p:txBody>
          <a:bodyPr anchor="ctr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66"/>
                </a:solidFill>
                <a:latin typeface="华文新魏"/>
                <a:ea typeface="华文新魏"/>
              </a:rPr>
              <a:t>  </a:t>
            </a:r>
            <a:r>
              <a:rPr b="0" lang="zh-CN" sz="6600" spc="-1" strike="noStrike">
                <a:solidFill>
                  <a:srgbClr val="003366"/>
                </a:solidFill>
                <a:latin typeface="华文新魏"/>
                <a:ea typeface="华文新魏"/>
              </a:rPr>
              <a:t>套用刚才的形式，用团体模型分析北大人事改革政策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153640" cy="761760"/>
          </a:xfrm>
          <a:prstGeom prst="rect">
            <a:avLst/>
          </a:prstGeom>
          <a:solidFill>
            <a:srgbClr val="003366"/>
          </a:solidFill>
          <a:ln w="1908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500" spc="-1" strike="noStrike">
                <a:solidFill>
                  <a:srgbClr val="ffffff"/>
                </a:solidFill>
                <a:latin typeface="华文新魏"/>
                <a:ea typeface="华文新魏"/>
              </a:rPr>
              <a:t>2</a:t>
            </a:r>
            <a:r>
              <a:rPr b="1" lang="zh-CN" sz="5500" spc="-1" strike="noStrike">
                <a:solidFill>
                  <a:srgbClr val="ffffff"/>
                </a:solidFill>
                <a:latin typeface="华文新魏"/>
                <a:ea typeface="华文新魏"/>
              </a:rPr>
              <a:t>、从哪个点上进行分析？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4800600"/>
          </a:xfrm>
          <a:prstGeom prst="rect">
            <a:avLst/>
          </a:prstGeom>
          <a:solidFill>
            <a:srgbClr val="e6f4ff"/>
          </a:solidFill>
          <a:ln w="19080">
            <a:solidFill>
              <a:srgbClr val="808080"/>
            </a:solidFill>
            <a:miter/>
          </a:ln>
        </p:spPr>
        <p:txBody>
          <a:bodyPr anchor="ctr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华文新魏"/>
                <a:ea typeface="华文新魏"/>
              </a:rPr>
              <a:t>     </a:t>
            </a:r>
            <a:r>
              <a:rPr b="0" lang="zh-CN" sz="2800" spc="-1" strike="noStrike">
                <a:solidFill>
                  <a:srgbClr val="003366"/>
                </a:solidFill>
                <a:latin typeface="华文新魏"/>
                <a:ea typeface="华文新魏"/>
              </a:rPr>
              <a:t>－问题（是政策问题吗？需要采取政策行动吗？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华文新魏"/>
                <a:ea typeface="华文新魏"/>
              </a:rPr>
              <a:t>     </a:t>
            </a:r>
            <a:r>
              <a:rPr b="0" lang="zh-CN" sz="2800" spc="-1" strike="noStrike">
                <a:solidFill>
                  <a:srgbClr val="003366"/>
                </a:solidFill>
                <a:latin typeface="华文新魏"/>
                <a:ea typeface="华文新魏"/>
              </a:rPr>
              <a:t>－评估标准（经济、政治、可行性标准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华文新魏"/>
                <a:ea typeface="华文新魏"/>
              </a:rPr>
              <a:t>     </a:t>
            </a:r>
            <a:r>
              <a:rPr b="0" lang="zh-CN" sz="2800" spc="-1" strike="noStrike">
                <a:solidFill>
                  <a:srgbClr val="003366"/>
                </a:solidFill>
                <a:latin typeface="华文新魏"/>
                <a:ea typeface="华文新魏"/>
              </a:rPr>
              <a:t>－备选政策（备选政策的来源？是否有其他被选政策？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华文新魏"/>
                <a:ea typeface="华文新魏"/>
              </a:rPr>
              <a:t>     </a:t>
            </a:r>
            <a:r>
              <a:rPr b="0" lang="zh-CN" sz="2800" spc="-1" strike="noStrike">
                <a:solidFill>
                  <a:srgbClr val="003366"/>
                </a:solidFill>
                <a:latin typeface="华文新魏"/>
                <a:ea typeface="华文新魏"/>
              </a:rPr>
              <a:t>－评估备选政策（备选政策与标准的比较？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华文新魏"/>
                <a:ea typeface="华文新魏"/>
              </a:rPr>
              <a:t>     </a:t>
            </a:r>
            <a:r>
              <a:rPr b="0" lang="zh-CN" sz="2800" spc="-1" strike="noStrike">
                <a:solidFill>
                  <a:srgbClr val="003366"/>
                </a:solidFill>
                <a:latin typeface="华文新魏"/>
                <a:ea typeface="华文新魏"/>
              </a:rPr>
              <a:t>－展示和区分被选政策（备选政策是可操作的吗？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华文新魏"/>
                <a:ea typeface="华文新魏"/>
              </a:rPr>
              <a:t>       </a:t>
            </a:r>
            <a:r>
              <a:rPr b="0" lang="zh-CN" sz="2800" spc="-1" strike="noStrike">
                <a:solidFill>
                  <a:srgbClr val="003366"/>
                </a:solidFill>
                <a:latin typeface="华文新魏"/>
                <a:ea typeface="华文新魏"/>
              </a:rPr>
              <a:t>－政策实施（方案能被执行吗？执行能实现结果吗？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华文新魏"/>
                <a:ea typeface="华文新魏"/>
              </a:rPr>
              <a:t>      </a:t>
            </a:r>
            <a:r>
              <a:rPr b="0" lang="zh-CN" sz="2800" spc="-1" strike="noStrike">
                <a:solidFill>
                  <a:srgbClr val="003366"/>
                </a:solidFill>
                <a:latin typeface="华文新魏"/>
                <a:ea typeface="华文新魏"/>
              </a:rPr>
              <a:t>－结果评估（预期目标是什么？实际结果是什么？成功与失败之处？要不要采取行动？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609120" y="1371600"/>
            <a:ext cx="8077320" cy="5486400"/>
          </a:xfrm>
          <a:prstGeom prst="rect">
            <a:avLst/>
          </a:prstGeom>
          <a:solidFill>
            <a:srgbClr val="e6f4ff"/>
          </a:solidFill>
          <a:ln w="19080">
            <a:solidFill>
              <a:srgbClr val="808080"/>
            </a:solidFill>
            <a:miter/>
          </a:ln>
        </p:spPr>
        <p:txBody>
          <a:bodyPr anchor="ctr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华文新魏"/>
                <a:ea typeface="华文新魏"/>
              </a:rPr>
              <a:t>什么是北大人事制度的真问题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华文新魏"/>
                <a:ea typeface="华文新魏"/>
              </a:rPr>
              <a:t>       </a:t>
            </a:r>
            <a:r>
              <a:rPr b="0" lang="zh-CN" sz="3200" spc="-1" strike="noStrike">
                <a:solidFill>
                  <a:srgbClr val="003366"/>
                </a:solidFill>
                <a:latin typeface="华文新魏"/>
                <a:ea typeface="华文新魏"/>
              </a:rPr>
              <a:t>－问题界定：</a:t>
            </a:r>
            <a:r>
              <a:rPr b="0" lang="zh-CN" sz="3200" spc="-1" strike="noStrike">
                <a:solidFill>
                  <a:srgbClr val="003366"/>
                </a:solidFill>
                <a:latin typeface="华文新魏"/>
                <a:ea typeface="华文新魏"/>
              </a:rPr>
              <a:t>1</a:t>
            </a:r>
            <a:r>
              <a:rPr b="0" lang="zh-CN" sz="3200" spc="-1" strike="noStrike">
                <a:solidFill>
                  <a:srgbClr val="003366"/>
                </a:solidFill>
                <a:latin typeface="华文新魏"/>
                <a:ea typeface="华文新魏"/>
              </a:rPr>
              <a:t>、理论上：“大学”“人事”、“制度”、“问题”（个人／公共？严重？普遍？非解决不可？）</a:t>
            </a:r>
            <a:r>
              <a:rPr b="0" lang="zh-CN" sz="3200" spc="-1" strike="noStrike">
                <a:solidFill>
                  <a:srgbClr val="003366"/>
                </a:solidFill>
                <a:latin typeface="华文新魏"/>
                <a:ea typeface="华文新魏"/>
              </a:rPr>
              <a:t>2</a:t>
            </a:r>
            <a:r>
              <a:rPr b="0" lang="zh-CN" sz="3200" spc="-1" strike="noStrike">
                <a:solidFill>
                  <a:srgbClr val="003366"/>
                </a:solidFill>
                <a:latin typeface="华文新魏"/>
                <a:ea typeface="华文新魏"/>
              </a:rPr>
              <a:t>、经验上：真正的问题是学校行政化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华文新魏"/>
                <a:ea typeface="华文新魏"/>
              </a:rPr>
              <a:t>      </a:t>
            </a:r>
            <a:r>
              <a:rPr b="0" lang="zh-CN" sz="3200" spc="-1" strike="noStrike">
                <a:solidFill>
                  <a:srgbClr val="003366"/>
                </a:solidFill>
                <a:latin typeface="华文新魏"/>
                <a:ea typeface="华文新魏"/>
              </a:rPr>
              <a:t>－问题描述：事实（教工／政工／职工）比例；例子，比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华文新魏"/>
                <a:ea typeface="华文新魏"/>
              </a:rPr>
              <a:t>    </a:t>
            </a:r>
            <a:r>
              <a:rPr b="0" lang="zh-CN" sz="3200" spc="-1" strike="noStrike">
                <a:solidFill>
                  <a:srgbClr val="003366"/>
                </a:solidFill>
                <a:latin typeface="华文新魏"/>
                <a:ea typeface="华文新魏"/>
              </a:rPr>
              <a:t>－问题的轮廓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华文新魏"/>
                <a:ea typeface="华文新魏"/>
              </a:rPr>
              <a:t>    </a:t>
            </a:r>
            <a:r>
              <a:rPr b="0" lang="zh-CN" sz="3200" spc="-1" strike="noStrike">
                <a:solidFill>
                  <a:srgbClr val="003366"/>
                </a:solidFill>
                <a:latin typeface="华文新魏"/>
                <a:ea typeface="华文新魏"/>
              </a:rPr>
              <a:t>－问题解决的目标：行政化转向学校化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华文新魏"/>
                <a:ea typeface="华文新魏"/>
              </a:rPr>
              <a:t>    </a:t>
            </a:r>
            <a:r>
              <a:rPr b="0" lang="zh-CN" sz="3200" spc="-1" strike="noStrike">
                <a:solidFill>
                  <a:srgbClr val="003366"/>
                </a:solidFill>
                <a:latin typeface="华文新魏"/>
                <a:ea typeface="华文新魏"/>
              </a:rPr>
              <a:t>－问题的封界：环境封界、利益封界、政治封</a:t>
            </a:r>
            <a:r>
              <a:rPr b="0" lang="zh-CN" sz="2800" spc="-1" strike="noStrike">
                <a:solidFill>
                  <a:srgbClr val="003366"/>
                </a:solidFill>
                <a:latin typeface="华文新魏"/>
                <a:ea typeface="华文新魏"/>
              </a:rPr>
              <a:t>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6320" y="457200"/>
            <a:ext cx="8076960" cy="685800"/>
          </a:xfrm>
          <a:prstGeom prst="rect">
            <a:avLst/>
          </a:prstGeom>
          <a:solidFill>
            <a:srgbClr val="003366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ffffff"/>
                </a:solidFill>
                <a:latin typeface="华文新魏"/>
                <a:ea typeface="华文新魏"/>
              </a:rPr>
              <a:t>范例：北大人事改革政策分析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3366"/>
          </a:solidFill>
          <a:ln w="1908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快速练习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e6f4ff"/>
          </a:solidFill>
          <a:ln w="19080">
            <a:solidFill>
              <a:srgbClr val="808080"/>
            </a:solidFill>
            <a:miter/>
          </a:ln>
        </p:spPr>
        <p:txBody>
          <a:bodyPr anchor="ctr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3366"/>
                </a:solidFill>
                <a:latin typeface="华文新魏"/>
                <a:ea typeface="华文新魏"/>
              </a:rPr>
              <a:t>套用上面的形式，从方案评估的标准方面，对北大人事制度改革政策进行分析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5T12:23:53Z</dcterms:created>
  <dc:creator>ipa</dc:creator>
  <dc:description/>
  <dc:language>en-US</dc:language>
  <cp:lastModifiedBy>wyy</cp:lastModifiedBy>
  <dcterms:modified xsi:type="dcterms:W3CDTF">2003-08-03T08:41:20Z</dcterms:modified>
  <cp:revision>353</cp:revision>
  <dc:subject/>
  <dc:title>PowerPoint 演示文稿</dc:title>
</cp:coreProperties>
</file>