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091-580F-4A54-A873-41F38B2F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5D4-57BE-44BE-882C-40AB7B1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8EB-00CA-4374-B791-1E9C9454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B2F-5008-4204-89D0-DDF621FD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E98-50CC-40F0-9F9F-F2E1C20F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FB9-203B-4B44-BB26-59641D7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E5DC-3E9C-49FE-85EC-6C89FFA7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258-0F91-4467-B533-D4AD8267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B79A-94AE-4441-893C-4B702A31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CF3A-0CA0-4F57-9BCC-EF32FEF5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2C37-466D-439A-8A09-5A2F5897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F58-BEF0-4538-9CB6-B98F2997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13EE-2871-4FF5-9B33-2724A57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3751-BCA8-44C5-8204-A94B8F8B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D13D-F556-40E5-83E7-B9096AD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7501-7793-467D-B96D-E7DCD5DE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3149-50A6-415B-91A4-69464A3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87A-B31A-493D-9587-BF0BDA3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F20-8F15-47ED-8CE5-1D0C77A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3FC-57E4-4167-B010-363C7F9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8FF-6149-4A40-B95A-D8AB4BC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576-1AC4-44F3-BD72-7050D09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C87-8F8B-4F39-85E8-F13B822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1D2-B6D5-40A2-B055-58186C1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B4E6-31F5-41C0-9492-15367C2BD4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3092-97CC-49D9-8D4F-69BE041ED2E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幼圆"/>
              </a:rPr>
              <a:t>麻旦旦案的法律认定与思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47960" y="220968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m1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124080" cy="2557440"/>
          </a:xfrm>
          <a:prstGeom prst="rect">
            <a:avLst/>
          </a:prstGeom>
          <a:ln w="0">
            <a:noFill/>
          </a:ln>
        </p:spPr>
      </p:pic>
      <p:pic>
        <p:nvPicPr>
          <p:cNvPr id="91" name="m2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4022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幼圆"/>
              </a:rPr>
              <a:t>一、两级公安机关存在的违法行政行为的认定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一）泾阳县公安局的违法行政行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主要证据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是否有证明麻旦旦违法行为的证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违反法定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传唤证   聘用人员   未出示证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滥用职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彭亮的动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限制人身自由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时的具体行政行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Arial"/>
                <a:ea typeface="幼圆"/>
              </a:rPr>
              <a:t>（二）咸阳市公安局的违法行政行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滥用职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处检行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不履行法定职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  <a:ea typeface="幼圆"/>
              </a:rPr>
              <a:t>二、有关法律问题的思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公权力与私权利的不平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精神赔偿问题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赔偿金额以生存保障为原则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法官的自由裁量权与“法官造法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什么是动态的法律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律师的职责与道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师生对搏公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舆论的力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媒体的定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、行政追偿与行政处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、是否可以提起民事诉讼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公务行为还是个人行为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、是否可以提起刑事附带民事诉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  “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司法人员对犯罪嫌疑人、被告人实行——”（刑法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247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条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、证据的价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 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总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10:10Z</dcterms:created>
  <dc:creator>maozhaohui</dc:creator>
  <dc:description/>
  <dc:language>en-US</dc:language>
  <cp:lastModifiedBy>maozhaohui</cp:lastModifiedBy>
  <dcterms:modified xsi:type="dcterms:W3CDTF">2003-03-27T12:45:50Z</dcterms:modified>
  <cp:revision>20</cp:revision>
  <dc:subject/>
  <dc:title>麻旦旦案的法律认定与思考</dc:title>
</cp:coreProperties>
</file>