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90A-51F3-4B60-9D7F-50ECBE5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EE9-7859-465B-9E2B-1E392C6D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339-1F50-48C1-9CB3-631A3E83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064-D574-416E-BB6F-84A00441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714C-9EA1-4582-B117-8DE86561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3D27-E6FF-4882-8476-5363F6B7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D1EE-22C7-4862-98A4-AC53E81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B3F1-DE57-457B-9B12-777F2FF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004D-E1DB-4FCE-BFCA-68EDBF4D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C8BF-1F66-438F-ACD3-E7C1FCF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85DE-EB30-401A-A7BC-EDA3B3A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DCB-0E89-44BF-B95A-0E8D89B9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BA06-6C26-44A6-880C-8357A765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1288-2E84-43B0-AF99-2B4834FD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D1EE-451A-4D2C-8D64-7ECC5703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E7DE-552D-4D41-8F85-AE3A6B86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2A3A-A5A7-459E-B1D9-DE68B51C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010-AF3E-4458-889A-480C4897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A0D-242D-469C-8FA3-28DC8AC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00B-3C8D-48C5-B30D-DD5BF28D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6A4-6CFF-4ED6-89B9-A3B7AD7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1F7-511A-4685-8FA9-85D76998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E3B-903B-4CA5-B88B-E119EAE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626-F30A-48E4-B571-7323F9F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25DA-4CC0-4FF0-B068-B9B67E5F9EC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B17C-0E7F-4AD3-AF64-0F008BE0B61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滥用职权、玩忽职守、徇私舞弊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320" y="1166760"/>
          <a:ext cx="8762760" cy="6610320"/>
        </p:xfrm>
        <a:graphic>
          <a:graphicData uri="http://schemas.openxmlformats.org/drawingml/2006/table">
            <a:tbl>
              <a:tblPr/>
              <a:tblGrid>
                <a:gridCol w="1670040"/>
                <a:gridCol w="2292120"/>
                <a:gridCol w="2170080"/>
                <a:gridCol w="263052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滥用职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玩忽职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徇私舞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主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国家机关工作人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国家机关工作人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国家机关工作人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主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直接故意、间接故意、自信的过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过失。包括疏忽大意的过失和过于自信的过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直接故意、间接故意和自信的过失。主观上是徇私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客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侵害国家机关的正常管理活动；正当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侵害国家机关的正常管理活动；勤政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客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滥用职权致使公共财产和利益遭受损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玩忽职守和损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立案标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法律后果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以下，特别严重的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－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以下，特别严重的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－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以下，特别严重的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－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02:46:32Z</dcterms:created>
  <dc:creator>maozhaohui</dc:creator>
  <dc:description/>
  <dc:language>en-US</dc:language>
  <cp:lastModifiedBy>maozhaohui</cp:lastModifiedBy>
  <dcterms:modified xsi:type="dcterms:W3CDTF">2002-12-17T05:46:20Z</dcterms:modified>
  <cp:revision>7</cp:revision>
  <dc:subject/>
  <dc:title>滥用职权、玩忽职守、徇私舞弊</dc:title>
</cp:coreProperties>
</file>