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009-4197-4649-92FC-872E2E38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D0D-5EF0-499E-B2B9-FFE91148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1B9-8253-43AA-B09A-FF10E48A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17B-B2F7-4421-BA0C-6E71E64E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77DC-9545-4611-B36B-6363BA57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3248-779A-403D-A336-03D4EBA2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F94B-A019-4AD2-8E77-113A640B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5EB0-E7F6-4838-94B0-153C4B68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F3B1-5484-407F-9627-26E4FF8E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3542-9D56-4C9C-8392-648F0C08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59A9-35AA-4C5A-9D29-2D69A40E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D68-93BB-41E2-A555-F75BAD26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5944-F3B6-43BF-881C-A34345ED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68FD-B449-4C41-929D-4190BDDD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70C7-4C8B-4342-B400-75EA514C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43BB-6E73-4969-800D-7D3E8747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0708-1CE5-4EE0-8E98-2481A3CF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A86-B540-4A8E-B1DD-711CC22D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4A0-32D5-401C-840A-1046E04A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CE0-7859-41A1-95D3-B6203532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B13-C1C5-459A-862C-398E5847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F1A-4841-4F00-9516-363052D4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63E-076C-4CDF-95D7-B81E42CC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A4D-624E-4C98-96B5-57B52738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F3F0-CA77-442E-B23F-002D22BD9FC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BAF0-D01E-4A9D-A237-39D03DC247A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bcbcb"/>
                </a:solidFill>
                <a:latin typeface="Times New Roman"/>
                <a:ea typeface="华文新魏"/>
              </a:rPr>
              <a:t>中国人民大学公共管理硕士核心专业课程</a:t>
            </a:r>
            <a:br>
              <a:rPr sz="3200"/>
            </a:br>
            <a:br>
              <a:rPr sz="3200"/>
            </a:br>
            <a:r>
              <a:rPr b="1" lang="zh-CN" sz="3600" spc="-1" strike="noStrike">
                <a:solidFill>
                  <a:srgbClr val="cbcbcb"/>
                </a:solidFill>
                <a:latin typeface="Times New Roman"/>
                <a:ea typeface="华文新魏"/>
              </a:rPr>
              <a:t>公共部门经济学</a:t>
            </a:r>
            <a:br>
              <a:rPr sz="3600"/>
            </a:br>
            <a:r>
              <a:rPr b="1" lang="zh-CN" sz="3600" spc="-1" strike="noStrike">
                <a:solidFill>
                  <a:srgbClr val="cbcbcb"/>
                </a:solidFill>
                <a:latin typeface="Monotype Corsiva"/>
                <a:ea typeface="华文新魏"/>
              </a:rPr>
              <a:t>The Economy Of The Public Depart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华文琥珀"/>
                <a:ea typeface="华文琥珀"/>
              </a:rPr>
              <a:t>第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九</a:t>
            </a:r>
            <a:r>
              <a:rPr b="1" lang="zh-CN" sz="4800" spc="-1" strike="noStrike">
                <a:solidFill>
                  <a:srgbClr val="ffffff"/>
                </a:solidFill>
                <a:latin typeface="华文琥珀"/>
                <a:ea typeface="华文琥珀"/>
              </a:rPr>
              <a:t>章   公共收入概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、衡量税收公平的标准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两种标准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受益原则—利益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负担能力原则—能力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①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受益原则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根据纳税人从政府所提供公共服务中获得效益的多少，判定其应纳多少税或其税负应为多大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有一定的合理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存在局限性：只能解释某些特定的征税范围，不能推广到所有场合；大部分公共物品属于联合消费、共同受益，难说清每一成员所获效益为多少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唯一办法：自己呈报，但不现实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②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支付能力原则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根据纳税人的纳税能力，判定其应纳多少税或其税负应为多大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公认的比较合理也易于实行的标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问题：如何测定纳税能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客观说：主张以纳税人拥有财富多少作为测定尺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主观说：主张以纳税人因纳税而感受的牺牲程度大小为测定尺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客观说的三种尺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收入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财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支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主观说的三种尺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均等牺牲—等量绝对牺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一纳税人因纳税而牺牲的总效用相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例牺牲—等量比例牺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一纳税人因纳税而牺牲效用与其收入成比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最小牺牲—等量边际牺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社会全体因纳税而牺牲的总效用最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2057400"/>
            <a:ext cx="61722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货币的边际效用递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53341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209680" y="2590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2590920"/>
            <a:ext cx="4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货币效用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542592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0          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货币收入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3880" y="3657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边际效用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2971800"/>
            <a:ext cx="2286000" cy="2057400"/>
          </a:xfrm>
          <a:custGeom>
            <a:avLst/>
            <a:gdLst/>
            <a:ahLst/>
            <a:rect l="l" t="t" r="r" b="b"/>
            <a:pathLst>
              <a:path w="1440" h="1296">
                <a:moveTo>
                  <a:pt x="0" y="0"/>
                </a:moveTo>
                <a:cubicBezTo>
                  <a:pt x="48" y="348"/>
                  <a:pt x="96" y="696"/>
                  <a:pt x="336" y="912"/>
                </a:cubicBezTo>
                <a:cubicBezTo>
                  <a:pt x="576" y="1128"/>
                  <a:pt x="1008" y="1212"/>
                  <a:pt x="1440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200040" y="3962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三、税收与效率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税收效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政府征税要有利于资源的有效配置和经济机制的有效运行，提高税务行政的管理效率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两个方面：税收的经济效率原则、税收本身的效率原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55627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、税收的经济效率原则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旨在考察税收对社会资源配置和经济机制运行的影响状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标准：税收的额外负担最小化、额外收益最大化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①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额外负担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税收在将社会资源从纳税人手中转移到政府部门过程中，势必会对经济发生影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两类负担：资源配置方面的额外负担、经济运行机制方面的额外负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事例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世纪英国“窗户税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2057400"/>
            <a:ext cx="61722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税收的额外负担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53341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09680" y="2590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2590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价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5321160"/>
            <a:ext cx="426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O                  Q</a:t>
            </a:r>
            <a:r>
              <a:rPr b="0" lang="zh-CN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              Q</a:t>
            </a:r>
            <a:r>
              <a:rPr b="0" lang="zh-CN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产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1880" y="4800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733560" y="38098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981160"/>
            <a:ext cx="327672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35812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42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71960" y="3581280"/>
            <a:ext cx="1143000" cy="6858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2760" y="42814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71960" y="359568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123720" y="5638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0600" y="40006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4229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69720" y="331488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342900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24560" y="4114800"/>
            <a:ext cx="41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95400" y="40957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14480" y="3409920"/>
            <a:ext cx="5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943280" y="35244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3836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41680" y="36464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税收的额外负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重点问题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税收原则理论的演变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税收公平原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税收效率原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归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政府征税必须使社会承受的额外负担为最小，以最小的额外负担换取最大的经济效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途径：尽可能保持税收的“中性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②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额外收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将政府的意图体现在税收政策中以稳定经济，只有在市场失灵时，才会产生额外收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途径：重视税收的经济杠杆作用，区别不同情况灵活运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、税收本身的效率原则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旨在考察税务行政管理的效率状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准：税收成本占税收收入的比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名义税收”与“实际税收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税收成本，指在税收征纳过程中发生的各类费用支出。有狭义、广义之分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狭义—征收费用，易计算，常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广义—征收费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奉行费用，难计算，不常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降低税收成本的途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四、西方税收原则归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税收的财政效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充裕的税源、弹性机制、高效率的税务管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税收的经济影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保护税本、慎选税源、税率适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税收的社会影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普遍原则、平等原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5627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税收原则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政府在税收制度的设计和实施方面所应遵循的基本指导思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评价税收制度优劣以及考核税务行政管理状况的基本标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一、税收原则理论的演变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威廉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配第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William Pet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基本观点：公平负担税收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针对英国当时税制弊端，提出三条标准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公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简便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节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55627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、攸士第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Just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基本观点：征税不能妨碍纳税人的经济活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六大原则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促进主动纳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不侵犯臣民的合理的自由和增加对产业的压迫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平等课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具有明确法律依据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挑选征收费用最低的商品货物征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纳税手续简便，分期缴纳，时间安排得当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、亚当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·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斯密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Adam Smi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基本观点：政府少干预经济，政府职能应仅限于维护社会秩序和国家安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项原则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平等原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确实原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便利原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最少征收费原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、萨伊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基本观点：政府支出不具生产性，最好的税收是最轻的税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五项原则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税率最适度原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节约征收费用原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各阶层人民负担公平原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最小程度妨碍生产原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有利于国民道德提高原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、瓦格纳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Wagn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基本观点：以税收为手段，调节社会生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大项九小点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财政政策原则：收入充分、收入弹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国民经济原则：慎选税源、慎选税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社会正义原则：普遍、平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税务行政原则：确实、便利、节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bcbcb"/>
                </a:solidFill>
                <a:latin typeface="宋体"/>
              </a:rPr>
              <a:t>二、税收与公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税收公平原则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Principle of Tax Equ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政府征税要使各个纳税人承受的负担与其经济状况相适应，并使各个纳税人之间的负担水平保持均衡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对于维护税收制度的正常运转必不可少；对于矫正收入分配不均、维护社会稳定不可或缺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两个方面：横向公平、纵向公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5627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4:53:58Z</dcterms:created>
  <dc:creator>IBM </dc:creator>
  <dc:description/>
  <dc:language>en-US</dc:language>
  <cp:lastModifiedBy>David</cp:lastModifiedBy>
  <dcterms:modified xsi:type="dcterms:W3CDTF">2003-04-07T04:26:46Z</dcterms:modified>
  <cp:revision>152</cp:revision>
  <dc:subject/>
  <dc:title>公共部门经济学</dc:title>
</cp:coreProperties>
</file>