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CBFB8F-35EB-4D43-88CE-23EB4EB254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179B87-8BB2-48ED-A5E5-726C505984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A7CBD3-1D8E-4C3C-8857-A213C679EF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F945D8-74E7-4E27-890A-1795990DA2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4C0DEC-B815-4E65-8FF9-6930AA259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440AD-3FDC-457E-8966-A6424D0B8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B8691-097A-4CB1-BE48-ABE792DCB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7E897-565F-41E0-9423-BE1FD6221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7B2EA-CE27-4569-90DC-EE7533CB2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B4FE2-E58E-436C-8535-990302BA7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CC028-9AE5-4857-9B99-698631518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3ACF1B-FC0F-4D72-AB4E-D3C5941FB7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3657C-C545-4C14-9C0D-642E83BE9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D8655-1B1B-4D45-B4A5-C19FED9C5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5DA11-B550-42EE-9516-27C15CF25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F81B63-2726-4B52-8A2D-40A60021A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A9EC3B-C3A6-4E41-80BE-E32DE36B4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71A1C5-7D40-447B-84C6-4A488F5CE6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42F3CB-A280-463E-A0C8-4DDC461C92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91360F-C9DA-4609-8366-811D331ED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56A98F-8AD3-4914-93DC-BD15C9719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ED8E02-C091-404F-9D38-9D54E3FD20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BC7033-F881-4E28-9BF2-2E4855E104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2D1A50-B564-4970-BF6A-1D03A06DA5C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34F5-03A3-4BE4-9B71-33D6EBC9A673}"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E0356-5427-4124-A83C-9ECA679EF726}"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440" y="475920"/>
            <a:ext cx="5776920" cy="356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华文新魏"/>
              </a:rPr>
              <a:t>中国人民大学公共管理硕士核心专业课程</a:t>
            </a:r>
            <a:br>
              <a:rPr sz="4200"/>
            </a:br>
            <a:br>
              <a:rPr sz="4200"/>
            </a:br>
            <a:r>
              <a:rPr b="1" lang="zh-CN" sz="4600" spc="-1" strike="noStrike">
                <a:solidFill>
                  <a:srgbClr val="ffffff"/>
                </a:solidFill>
                <a:latin typeface="Arial"/>
                <a:ea typeface="华文新魏"/>
              </a:rPr>
              <a:t>公共部门经济学</a:t>
            </a:r>
            <a:br>
              <a:rPr sz="4600"/>
            </a:br>
            <a:r>
              <a:rPr b="1" lang="en-US" sz="4600" spc="-1" strike="noStrike">
                <a:solidFill>
                  <a:srgbClr val="ffffff"/>
                </a:solidFill>
                <a:latin typeface="Monotype Corsiva"/>
                <a:ea typeface="华文新魏"/>
              </a:rPr>
              <a:t>The Economy Of The Public Department</a:t>
            </a:r>
            <a:endParaRPr b="0" lang="en-US" sz="4600" spc="-1" strike="noStrike">
              <a:solidFill>
                <a:srgbClr val="ffffff"/>
              </a:solidFill>
              <a:latin typeface="Arial"/>
            </a:endParaRPr>
          </a:p>
        </p:txBody>
      </p:sp>
      <p:sp>
        <p:nvSpPr>
          <p:cNvPr id="107" name="PlaceHolder 2"/>
          <p:cNvSpPr>
            <a:spLocks noGrp="1"/>
          </p:cNvSpPr>
          <p:nvPr>
            <p:ph type="subTitle"/>
          </p:nvPr>
        </p:nvSpPr>
        <p:spPr>
          <a:xfrm>
            <a:off x="684000" y="4365720"/>
            <a:ext cx="8064360" cy="1752480"/>
          </a:xfrm>
          <a:prstGeom prst="rect">
            <a:avLst/>
          </a:prstGeom>
          <a:noFill/>
          <a:ln w="0">
            <a:noFill/>
          </a:ln>
        </p:spPr>
        <p:txBody>
          <a:bodyPr lIns="90000" rIns="90000" tIns="46800" bIns="46800" anchor="t">
            <a:noAutofit/>
          </a:bodyPr>
          <a:p>
            <a:pPr indent="0">
              <a:lnSpc>
                <a:spcPct val="100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000000"/>
                </a:solidFill>
                <a:latin typeface="华文琥珀"/>
                <a:ea typeface="华文琥珀"/>
              </a:rPr>
              <a:t>第十二章   税收效应分析</a:t>
            </a:r>
            <a:endParaRPr b="0" lang="en-US" sz="5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同税种对劳动投入的效应比较</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比例所得税较之同额</a:t>
            </a:r>
            <a:r>
              <a:rPr b="0" lang="en-US" sz="2400" spc="-1" strike="noStrike">
                <a:solidFill>
                  <a:srgbClr val="000000"/>
                </a:solidFill>
                <a:latin typeface="Arial"/>
              </a:rPr>
              <a:t>(</a:t>
            </a:r>
            <a:r>
              <a:rPr b="0" lang="zh-CN" sz="2400" spc="-1" strike="noStrike">
                <a:solidFill>
                  <a:srgbClr val="000000"/>
                </a:solidFill>
                <a:latin typeface="Arial"/>
              </a:rPr>
              <a:t>收入效应相同</a:t>
            </a:r>
            <a:r>
              <a:rPr b="0" lang="en-US" sz="2400" spc="-1" strike="noStrike">
                <a:solidFill>
                  <a:srgbClr val="000000"/>
                </a:solidFill>
                <a:latin typeface="Arial"/>
              </a:rPr>
              <a:t>)</a:t>
            </a:r>
            <a:r>
              <a:rPr b="0" lang="zh-CN" sz="2400" spc="-1" strike="noStrike">
                <a:solidFill>
                  <a:srgbClr val="000000"/>
                </a:solidFill>
                <a:latin typeface="Arial"/>
              </a:rPr>
              <a:t>的累进所得税能更多地激励</a:t>
            </a:r>
            <a:r>
              <a:rPr b="0" lang="en-US" sz="2400" spc="-1" strike="noStrike">
                <a:solidFill>
                  <a:srgbClr val="000000"/>
                </a:solidFill>
                <a:latin typeface="Arial"/>
              </a:rPr>
              <a:t>(</a:t>
            </a:r>
            <a:r>
              <a:rPr b="0" lang="zh-CN" sz="2400" spc="-1" strike="noStrike">
                <a:solidFill>
                  <a:srgbClr val="000000"/>
                </a:solidFill>
                <a:latin typeface="Arial"/>
              </a:rPr>
              <a:t>或更少地妨碍）人们增加劳动投入。因为比例所得税的边际税率和平均税率相等，而累进所得税的边际税率大于平均税率，所以累进所得税的替代效应大于比例所得税，或者说比例所得税的替代效应小于累进所得税。</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具有累退性质的商品税较之同额</a:t>
            </a:r>
            <a:r>
              <a:rPr b="0" lang="en-US" sz="2400" spc="-1" strike="noStrike">
                <a:solidFill>
                  <a:srgbClr val="000000"/>
                </a:solidFill>
                <a:latin typeface="Arial"/>
              </a:rPr>
              <a:t>(</a:t>
            </a:r>
            <a:r>
              <a:rPr b="0" lang="zh-CN" sz="2400" spc="-1" strike="noStrike">
                <a:solidFill>
                  <a:srgbClr val="000000"/>
                </a:solidFill>
                <a:latin typeface="Arial"/>
              </a:rPr>
              <a:t>收入效应相同</a:t>
            </a:r>
            <a:r>
              <a:rPr b="0" lang="en-US" sz="2400" spc="-1" strike="noStrike">
                <a:solidFill>
                  <a:srgbClr val="000000"/>
                </a:solidFill>
                <a:latin typeface="Arial"/>
              </a:rPr>
              <a:t>)</a:t>
            </a:r>
            <a:r>
              <a:rPr b="0" lang="zh-CN" sz="2400" spc="-1" strike="noStrike">
                <a:solidFill>
                  <a:srgbClr val="000000"/>
                </a:solidFill>
                <a:latin typeface="Arial"/>
              </a:rPr>
              <a:t>的累进或比例所得税对劳动投入有更大的激励作用。因为累退税的边际税率低于平均税率，比例税的边际税率等于平均税率，所以累退税的替代效应小于累进税或比例税。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私人储蓄及其决定因素</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储蓄函数是指储蓄与决定储蓄的各种因素之间的依存关系</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f(Y</a:t>
            </a:r>
            <a:r>
              <a:rPr b="0" lang="zh-CN" sz="2800" spc="-1" strike="noStrike">
                <a:solidFill>
                  <a:srgbClr val="000000"/>
                </a:solidFill>
                <a:latin typeface="Arial"/>
              </a:rPr>
              <a:t>、</a:t>
            </a:r>
            <a:r>
              <a:rPr b="0" lang="en-US" sz="2800" spc="-1" strike="noStrike">
                <a:solidFill>
                  <a:srgbClr val="000000"/>
                </a:solidFill>
                <a:latin typeface="Arial"/>
              </a:rPr>
              <a:t>R</a:t>
            </a:r>
            <a:r>
              <a:rPr b="0" lang="zh-CN" sz="2800" spc="-1" strike="noStrike">
                <a:solidFill>
                  <a:srgbClr val="000000"/>
                </a:solidFill>
                <a:latin typeface="Arial"/>
              </a:rPr>
              <a:t>、</a:t>
            </a:r>
            <a:r>
              <a:rPr b="0" lang="en-US" sz="2800" spc="-1" strike="noStrike">
                <a:solidFill>
                  <a:srgbClr val="000000"/>
                </a:solidFill>
                <a:latin typeface="Arial"/>
              </a:rPr>
              <a:t>W</a:t>
            </a:r>
            <a:r>
              <a:rPr b="0" lang="zh-CN" sz="2800" spc="-1" strike="noStrike">
                <a:solidFill>
                  <a:srgbClr val="000000"/>
                </a:solidFill>
                <a:latin typeface="Arial"/>
              </a:rPr>
              <a:t>、</a:t>
            </a:r>
            <a:r>
              <a:rPr b="0" lang="en-US" sz="2800" spc="-1" strike="noStrike">
                <a:solidFill>
                  <a:srgbClr val="000000"/>
                </a:solidFill>
                <a:latin typeface="Arial"/>
              </a:rPr>
              <a:t>X)</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t>
            </a:r>
            <a:r>
              <a:rPr b="0" lang="zh-CN" sz="2800" spc="-1" strike="noStrike">
                <a:solidFill>
                  <a:srgbClr val="000000"/>
                </a:solidFill>
                <a:latin typeface="Arial"/>
              </a:rPr>
              <a:t>代表储蓄，</a:t>
            </a:r>
            <a:r>
              <a:rPr b="0" lang="en-US" sz="2800" spc="-1" strike="noStrike">
                <a:solidFill>
                  <a:srgbClr val="000000"/>
                </a:solidFill>
                <a:latin typeface="Arial"/>
              </a:rPr>
              <a:t>Y</a:t>
            </a:r>
            <a:r>
              <a:rPr b="0" lang="zh-CN" sz="2800" spc="-1" strike="noStrike">
                <a:solidFill>
                  <a:srgbClr val="000000"/>
                </a:solidFill>
                <a:latin typeface="Arial"/>
              </a:rPr>
              <a:t>代表税后的可支配收入，包括现期和预期的收入，</a:t>
            </a:r>
            <a:r>
              <a:rPr b="0" lang="en-US" sz="2800" spc="-1" strike="noStrike">
                <a:solidFill>
                  <a:srgbClr val="000000"/>
                </a:solidFill>
                <a:latin typeface="Arial"/>
              </a:rPr>
              <a:t>R</a:t>
            </a:r>
            <a:r>
              <a:rPr b="0" lang="zh-CN" sz="2800" spc="-1" strike="noStrike">
                <a:solidFill>
                  <a:srgbClr val="000000"/>
                </a:solidFill>
                <a:latin typeface="Arial"/>
              </a:rPr>
              <a:t>代表税后的利息率或实际收益率，</a:t>
            </a:r>
            <a:r>
              <a:rPr b="0" lang="en-US" sz="2800" spc="-1" strike="noStrike">
                <a:solidFill>
                  <a:srgbClr val="000000"/>
                </a:solidFill>
                <a:latin typeface="Arial"/>
              </a:rPr>
              <a:t>W</a:t>
            </a:r>
            <a:r>
              <a:rPr b="0" lang="zh-CN" sz="2800" spc="-1" strike="noStrike">
                <a:solidFill>
                  <a:srgbClr val="000000"/>
                </a:solidFill>
                <a:latin typeface="Arial"/>
              </a:rPr>
              <a:t>代表净财富，</a:t>
            </a:r>
            <a:r>
              <a:rPr b="0" lang="en-US" sz="2800" spc="-1" strike="noStrike">
                <a:solidFill>
                  <a:srgbClr val="000000"/>
                </a:solidFill>
                <a:latin typeface="Arial"/>
              </a:rPr>
              <a:t>X</a:t>
            </a:r>
            <a:r>
              <a:rPr b="0" lang="zh-CN" sz="2800" spc="-1" strike="noStrike">
                <a:solidFill>
                  <a:srgbClr val="000000"/>
                </a:solidFill>
                <a:latin typeface="Arial"/>
              </a:rPr>
              <a:t>代表其他因素。</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决定储蓄是：收入、利息率和净财富。</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私人储蓄的效应是通过税收对个人可支配收入和税后利息率的影响来实现的，并分别表现为收入效应和替代效应。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税收对私人储蓄的收入效应</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纳税人在私人储蓄方面的收入效应，表现为政府课税会压低纳税人的可支配收入，从而促使纳税人减少现期消费，为维持既定的储蓄水平而增加储蓄。政府课税反而会使纳税人相对增加储蓄。收入效应的大小，取决于平均税率的水平。</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政府征税导致纳税人可支配收入减少的条件下，纳税人以压低现期的消费为代价，而相对提高了储蓄水平。在这种情况下，税收对私人储蓄的影响，表现为收入效应。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税收对私人储蓄的替代效应</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对纳税人在私人储蓄方面的替代效应，表现为政府课税会减少纳税人的实际利息收入，降低储蓄对纳税人的吸引力，从而引起纳税人以消费替代储蓄。也就是说，政府课税会造成私人储蓄的下降。替代效应的大小，在课征所得税情况下，由其边际税率决定。</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政府对纳税人的储蓄收益征税的条件下，纳税人减少了储蓄数额，而相应增加了消费数额，或者说是纳税人以现期消费替代了将来消费。在这种情况下，税收对私人储蓄的影响，表现为替代效应。</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累进程度较高的所得税较之累进程度较低的所得税，对私人储蓄有更大的妨碍作用。累进所得税较之比例所得税，对私人储蓄有更大的妨碍作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私人投资及其决定因素</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纳税人的投资行为由两个方面的因素决定：投资收益，投资成本。</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政府征税的条件下，最终决定纳税人投资行为的投资收益，是税后投资收益，而不是税前投资收益；最终决定纳税人投资行为的投资成本包括折旧因素，折旧的多少受税收制度影响。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税收对私人投资收益率的影响</a:t>
            </a:r>
            <a:endParaRPr b="0" lang="en-US" sz="4400" spc="-1" strike="noStrike">
              <a:solidFill>
                <a:srgbClr val="000000"/>
              </a:solidFill>
              <a:latin typeface="Arial"/>
            </a:endParaRPr>
          </a:p>
        </p:txBody>
      </p:sp>
      <p:sp>
        <p:nvSpPr>
          <p:cNvPr id="135" name="PlaceHolder 2"/>
          <p:cNvSpPr>
            <a:spLocks noGrp="1"/>
          </p:cNvSpPr>
          <p:nvPr>
            <p:ph/>
          </p:nvPr>
        </p:nvSpPr>
        <p:spPr>
          <a:xfrm>
            <a:off x="323640" y="1557000"/>
            <a:ext cx="8351640" cy="4538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私人投资收益率的影响主要表现在公司所得税的课征上。</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课征公司所得税，会压低纳税人的投资收益率，并使投资收益和投资成本的对比发生变动，从而对纳税人的投资行为产生方向相反的两种效应：</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是替代效应，即投资收益率的下降，降低了投资对纳税人吸引力，造成纳税人以其他行为如替代投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入效应，即投资收益率的下降，减少了纳税人可支配收益，促使纳税人为维持以往收益水平增加投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税收对私人资本折旧率的影响</a:t>
            </a:r>
            <a:endParaRPr b="0" lang="en-US" sz="4400" spc="-1" strike="noStrike">
              <a:solidFill>
                <a:srgbClr val="000000"/>
              </a:solidFill>
              <a:latin typeface="Arial"/>
            </a:endParaRPr>
          </a:p>
        </p:txBody>
      </p:sp>
      <p:sp>
        <p:nvSpPr>
          <p:cNvPr id="137" name="PlaceHolder 2"/>
          <p:cNvSpPr>
            <a:spLocks noGrp="1"/>
          </p:cNvSpPr>
          <p:nvPr>
            <p:ph/>
          </p:nvPr>
        </p:nvSpPr>
        <p:spPr>
          <a:xfrm>
            <a:off x="685800" y="1557000"/>
            <a:ext cx="77724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私人资本的折旧分为实际折旧和税收折旧两个概念。</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际折旧是根据固定资本的实际损耗情况而计提的折旧。</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折旧是由税收制度根据经济政策需要而规定的可计提折旧。</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际折旧额和税收折旧额并不一致，通常的情况是，税收折旧大于实际折旧。</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折旧可以作为一项投资成本，直接从应税所得中扣除，从而减少纳税人的纳税义务。</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折旧可以作为一项基金，由纳税人积蓄起来，用于再投资或将来的固定资产重置。</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加速折旧政策对纳税人的私人投资行为都是一个巨大的刺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税收中性原则</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应保持中性，不对纳税人的经济选择或经济行为产生任何影响，不改变纳税人在消费、生产、储蓄和投资等方面的抉择，这种理论被称作“税收中性原则”。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税收与生产者行为</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学家用实现利润最大化来解释生产者行为。</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行为指生产者在如何运用自己可以支配的各种生产要素以实现利润最大化目的方面所作的各种抉择或决策。</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纳税人作为一个生产者的行为的影响，主要是通过税收对市场价格机制的干扰来完成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税收对市场价格的影响</a:t>
            </a:r>
            <a:br>
              <a:rPr sz="4000"/>
            </a:br>
            <a:endParaRPr b="0" lang="en-US" sz="40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市场价格的影响，表现在政府课税之后会使课税商品出现两种价格</a:t>
            </a:r>
            <a:r>
              <a:rPr b="0" lang="en-US" sz="2800" spc="-1" strike="noStrike">
                <a:solidFill>
                  <a:srgbClr val="000000"/>
                </a:solidFill>
                <a:latin typeface="Arial"/>
              </a:rPr>
              <a:t>——</a:t>
            </a:r>
            <a:r>
              <a:rPr b="0" lang="zh-CN" sz="2800" spc="-1" strike="noStrike">
                <a:solidFill>
                  <a:srgbClr val="000000"/>
                </a:solidFill>
                <a:latin typeface="Arial"/>
              </a:rPr>
              <a:t>消费者支付的价格和生产者实际得到的价格。两者之间的差额，即为税收的数额。</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量计征下税收对消费品价格的影响公式：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d=Ps+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价计征下税收对消费品价格的影响公式表：</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d=(1+T)P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400" spc="-1" strike="noStrike">
                <a:solidFill>
                  <a:srgbClr val="000000"/>
                </a:solidFill>
                <a:latin typeface="Arial"/>
              </a:rPr>
              <a:t>税收对生产者选择的替代效应</a:t>
            </a:r>
            <a:endParaRPr b="0" lang="en-US" sz="4400" spc="-1" strike="noStrike">
              <a:solidFill>
                <a:srgbClr val="000000"/>
              </a:solidFill>
              <a:latin typeface="Arial"/>
            </a:endParaRPr>
          </a:p>
        </p:txBody>
      </p:sp>
      <p:sp>
        <p:nvSpPr>
          <p:cNvPr id="115" name="PlaceHolder 2"/>
          <p:cNvSpPr>
            <a:spLocks noGrp="1"/>
          </p:cNvSpPr>
          <p:nvPr>
            <p:ph/>
          </p:nvPr>
        </p:nvSpPr>
        <p:spPr>
          <a:xfrm>
            <a:off x="685800" y="1628280"/>
            <a:ext cx="7772400" cy="4969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论税款由生产者缴纳还是由消费者缴纳，其结果是同一课税商品出现两种价格</a:t>
            </a:r>
            <a:r>
              <a:rPr b="0" lang="en-US" sz="2400" spc="-1" strike="noStrike">
                <a:solidFill>
                  <a:srgbClr val="000000"/>
                </a:solidFill>
                <a:latin typeface="Arial"/>
              </a:rPr>
              <a:t>——</a:t>
            </a:r>
            <a:r>
              <a:rPr b="0" lang="zh-CN" sz="2400" spc="-1" strike="noStrike">
                <a:solidFill>
                  <a:srgbClr val="000000"/>
                </a:solidFill>
                <a:latin typeface="Arial"/>
              </a:rPr>
              <a:t>消费者支付的含税价格和生产者实际得到的不含税价格。</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消费者支付的价格上升和生产者实际得到的价格下降代表消费者和生产者因政府课税而承受的损失。</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整个社会的角度看，因政府课税而造成的课税商品产量的减少，才是真正意义上的经济损失。</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的课税造成消费者面临价格上升，生产者面临价格下降，这又进一步导致需求量和供给量的减少，从而使均衡产量缩减。</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生产者所面临的课税商品的价格相对下降，造成生产者减少课税商品或重税商品的生产量，而增加无税商品或轻税商品的生产量，即以无税商品或轻税商品替代课税商品或重税商品。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税收对生产者选择的收入效应</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对生产者选择的收入效应，表现为政府课税之后，会使生产者可支配的生产要素减少，从而降低了商品的生产能力，而居于较低的生产水平。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400" spc="-1" strike="noStrike">
                <a:solidFill>
                  <a:srgbClr val="000000"/>
                </a:solidFill>
                <a:latin typeface="Arial"/>
              </a:rPr>
              <a:t>税收与消费者行为</a:t>
            </a:r>
            <a:endParaRPr b="0" lang="en-US" sz="4400" spc="-1" strike="noStrike">
              <a:solidFill>
                <a:srgbClr val="000000"/>
              </a:solidFill>
              <a:latin typeface="Arial"/>
            </a:endParaRPr>
          </a:p>
        </p:txBody>
      </p:sp>
      <p:sp>
        <p:nvSpPr>
          <p:cNvPr id="119" name="PlaceHolder 2"/>
          <p:cNvSpPr>
            <a:spLocks noGrp="1"/>
          </p:cNvSpPr>
          <p:nvPr>
            <p:ph/>
          </p:nvPr>
        </p:nvSpPr>
        <p:spPr>
          <a:xfrm>
            <a:off x="685800" y="1844280"/>
            <a:ext cx="7772400" cy="42512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消费者行为指消费者在如何使用自己既定的收入来达到最大的满足程度方面所作的各种抉择或决策。</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对纳税人作为消费者的行为的影响表现为替代效应和收入效应。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对消费者选择的替代效应，表现为政府对商品课税之后，会使课税商品价格相对上涨，造成消费者减少对课税商品或重税商品的购买量，而增加对无税商品或轻税商品的购买量，即以无税商品或轻税商品替代课税商品或重税商品。</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对消费者选择的收入效应，表现为政府课税之后，会使消费者可支配收入下降，从而降低商品的购买量，而居于较低的消费水平。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税收对劳动投入的替代效应</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对纳税人在劳动投入方面的替代效应，表现为政府课税会降低劳动相对于闲暇的价格，使劳动和闲暇两者间的得失抉择发生变化，从而引起纳税人以闲暇代替劳动，政府课税会造成劳动投入下降。替代效应的大小，在课征所得税情况下，由其边际税率决定。</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随着工资水平的提高，劳动力的供给倾向于增加；随着工资水平的下降，劳动力的供给倾向于减少。</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生产者支付的工资仍维持在原水平，劳动者实际得到的税后工资必然小于原工资。由于劳动者对劳动力的供给是根据其实际得到的工资水平决定的，随着实际工资水平降低，劳动力的供给倾向于减少。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税收对劳动投入的收入效应</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对纳税人在劳动投入方面的收入效应，表现为政府征税会直接压低纳税人的可支配收入，从而促使其减少闲暇等方面的享受，为维持以往的收入或消费水平而倾向于更勤奋地工作。政府征税反而会促使劳动投入量增加。</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入效应的大小，则由纳税人的总收入与其缴纳税款的比例即平均课税率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cp:lastModifiedBy>
  <dcterms:modified xsi:type="dcterms:W3CDTF">2003-04-07T10:07:56Z</dcterms:modified>
  <cp:revision>1</cp:revision>
  <dc:subject/>
  <dc:title>PowerPoint Presentation</dc:title>
</cp:coreProperties>
</file>