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4C4829-EE45-4241-86BB-3185E05E1F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08FE5D-08D0-474F-9196-E3554A7366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483B84-3D9A-4279-8D38-6122F5942F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29D32E-E25B-4D92-A9C5-926F5BD50E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3799C6-4CEF-4208-AEA2-92B0ACEB00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955A6C-FA29-4830-AE4F-8058C5952D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89A39D-50CF-48A8-89FD-F69A15FF91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FE2C2C-BE5C-4268-B16D-CB0117660F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8D9F98-9EC5-4209-9F46-AC6D738AC8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FADEAC-8AC1-4B9C-987F-829290C675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DCFBCC-FD1A-4216-87AB-4F042F426A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CD9B93-140D-41C9-80DC-B59E99BC14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64E35C-15E8-4B12-8805-52C47D89D1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B8166E-B3AA-47CE-A5DB-B438C98BB5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DA5F78-0A71-47A3-912F-CEBE3F40BA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A77CB0-7585-446B-A4E8-D3976369F4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1E6958-759C-4D42-9D49-357D3B1182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3CE16F-F5B4-4CB6-A24B-64D803D74C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BE59D4-C638-4F92-9D6E-7730C58BE5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E6E9EA-40E9-43FF-9C66-FE1FE6C039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5448D6-FE07-4C17-99A6-3ABE68A096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7F33D-9714-4AFB-8CDC-28DDF60636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1F27A-D385-4739-A852-4B8C94139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50115-4336-4C9E-88FA-5F4A996095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54147-09E9-4FF1-856C-0CE96DF85CB9}" type="slidenum">
              <a:rPr b="0" lang="zh-CN"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49146-8747-4F16-AEDE-38AE18C8225F}" type="slidenum">
              <a:rPr b="0" lang="zh-CN"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6699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66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9999"/>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ffffff"/>
                </a:solidFill>
                <a:latin typeface="Arial"/>
                <a:ea typeface="华文新魏"/>
              </a:rPr>
              <a:t>中国人民大学公共管理硕士核心专业课程</a:t>
            </a:r>
            <a:br>
              <a:rPr sz="3300"/>
            </a:br>
            <a:r>
              <a:rPr b="1" lang="zh-CN" sz="3800" spc="-1" strike="noStrike">
                <a:solidFill>
                  <a:srgbClr val="ffffff"/>
                </a:solidFill>
                <a:latin typeface="Arial"/>
                <a:ea typeface="华文新魏"/>
              </a:rPr>
              <a:t>公共部门经济学</a:t>
            </a:r>
            <a:br>
              <a:rPr sz="3800"/>
            </a:br>
            <a:r>
              <a:rPr b="1" lang="en-US" sz="3800" spc="-1" strike="noStrike">
                <a:solidFill>
                  <a:srgbClr val="ffffff"/>
                </a:solidFill>
                <a:latin typeface="Monotype Corsiva"/>
                <a:ea typeface="华文新魏"/>
              </a:rPr>
              <a:t>The Economy Of The Public Department</a:t>
            </a:r>
            <a:endParaRPr b="0" lang="en-US" sz="3800" spc="-1" strike="noStrike">
              <a:solidFill>
                <a:srgbClr val="ffffff"/>
              </a:solidFill>
              <a:latin typeface="Arial"/>
            </a:endParaRPr>
          </a:p>
        </p:txBody>
      </p:sp>
      <p:sp>
        <p:nvSpPr>
          <p:cNvPr id="92" name="PlaceHolder 2"/>
          <p:cNvSpPr>
            <a:spLocks noGrp="1"/>
          </p:cNvSpPr>
          <p:nvPr>
            <p:ph type="subTitle"/>
          </p:nvPr>
        </p:nvSpPr>
        <p:spPr>
          <a:xfrm>
            <a:off x="684360" y="3886200"/>
            <a:ext cx="77040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琥珀"/>
                <a:ea typeface="华文琥珀"/>
              </a:rPr>
              <a:t>第五章 公共支出的分类及经济影响</a:t>
            </a:r>
            <a:r>
              <a:rPr b="0" lang="zh-CN" sz="3600" spc="-1" strike="noStrike">
                <a:solidFill>
                  <a:srgbClr val="000000"/>
                </a:solidFill>
                <a:latin typeface="华文琥珀"/>
                <a:ea typeface="华文琥珀"/>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rPr>
              <a:t>公共支出的统计分类 </a:t>
            </a:r>
            <a:endParaRPr b="0" lang="en-US" sz="4200" spc="-1" strike="noStrike">
              <a:solidFill>
                <a:srgbClr val="ffffff"/>
              </a:solidFill>
              <a:latin typeface="Arial"/>
            </a:endParaRPr>
          </a:p>
        </p:txBody>
      </p:sp>
      <p:sp>
        <p:nvSpPr>
          <p:cNvPr id="110" name="PlaceHolder 2"/>
          <p:cNvSpPr>
            <a:spLocks noGrp="1"/>
          </p:cNvSpPr>
          <p:nvPr>
            <p:ph/>
          </p:nvPr>
        </p:nvSpPr>
        <p:spPr>
          <a:xfrm>
            <a:off x="609120" y="1599840"/>
            <a:ext cx="3884760" cy="44197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行政管理支出</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国防支出</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社会文教科卫支出</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社会保障支出</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经济建设支出 </a:t>
            </a:r>
            <a:endParaRPr b="0" lang="en-US" sz="2800" spc="-1" strike="noStrike">
              <a:solidFill>
                <a:srgbClr val="000000"/>
              </a:solidFill>
              <a:latin typeface="Arial"/>
            </a:endParaRPr>
          </a:p>
        </p:txBody>
      </p:sp>
      <p:sp>
        <p:nvSpPr>
          <p:cNvPr id="111" name="PlaceHolder 3"/>
          <p:cNvSpPr>
            <a:spLocks noGrp="1"/>
          </p:cNvSpPr>
          <p:nvPr>
            <p:ph/>
          </p:nvPr>
        </p:nvSpPr>
        <p:spPr>
          <a:xfrm>
            <a:off x="4649400" y="1599840"/>
            <a:ext cx="3884760" cy="44197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外交事务支出</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保护环境和自然资源支出</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政府债务支出</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他支出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ffffff"/>
                </a:solidFill>
                <a:latin typeface="Arial"/>
              </a:rPr>
              <a:t>国际货币基金组织市场经济国家按标准职能分类支出 </a:t>
            </a:r>
            <a:endParaRPr b="0" lang="en-US" sz="3800" spc="-1" strike="noStrike">
              <a:solidFill>
                <a:srgbClr val="ffffff"/>
              </a:solidFill>
              <a:latin typeface="Arial"/>
            </a:endParaRPr>
          </a:p>
        </p:txBody>
      </p:sp>
      <p:sp>
        <p:nvSpPr>
          <p:cNvPr id="113" name="PlaceHolder 2"/>
          <p:cNvSpPr>
            <a:spLocks noGrp="1"/>
          </p:cNvSpPr>
          <p:nvPr>
            <p:ph/>
          </p:nvPr>
        </p:nvSpPr>
        <p:spPr>
          <a:xfrm>
            <a:off x="609120" y="1599840"/>
            <a:ext cx="3884760" cy="4419720"/>
          </a:xfrm>
          <a:prstGeom prst="rect">
            <a:avLst/>
          </a:prstGeom>
          <a:noFill/>
          <a:ln w="0">
            <a:noFill/>
          </a:ln>
        </p:spPr>
        <p:txBody>
          <a:bodyPr lIns="90000" rIns="90000" tIns="46800" bIns="46800"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般公共服务</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国防与服务</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社会治安事务</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教育事务和服务</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住房和社区设施的事务和服务</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娱乐、文化和宗教的事务和服务</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燃料和能源事务与服务</a:t>
            </a:r>
            <a:endParaRPr b="0" lang="en-US" sz="2400" spc="-1" strike="noStrike">
              <a:solidFill>
                <a:srgbClr val="000000"/>
              </a:solidFill>
              <a:latin typeface="Arial"/>
            </a:endParaRPr>
          </a:p>
        </p:txBody>
      </p:sp>
      <p:sp>
        <p:nvSpPr>
          <p:cNvPr id="114" name="PlaceHolder 3"/>
          <p:cNvSpPr>
            <a:spLocks noGrp="1"/>
          </p:cNvSpPr>
          <p:nvPr>
            <p:ph/>
          </p:nvPr>
        </p:nvSpPr>
        <p:spPr>
          <a:xfrm>
            <a:off x="4649400" y="1599840"/>
            <a:ext cx="3884760" cy="4419720"/>
          </a:xfrm>
          <a:prstGeom prst="rect">
            <a:avLst/>
          </a:prstGeom>
          <a:noFill/>
          <a:ln w="0">
            <a:noFill/>
          </a:ln>
        </p:spPr>
        <p:txBody>
          <a:bodyPr lIns="90000" rIns="90000" tIns="46800" bIns="46800"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农业、林业、渔业和狩猎业的事务和服务</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除燃料以外的采矿和矿产资源的事务和服务、</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制造业事务和服务以及建筑性事务和服务</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运输和通信事务和服务</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其他经济事务和服务</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不按大类划分的公共支出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ffff"/>
                </a:solidFill>
                <a:latin typeface="Arial"/>
              </a:rPr>
              <a:t>消耗性支出对流通领域的影响</a:t>
            </a:r>
            <a:endParaRPr b="0" lang="en-US" sz="4200" spc="-1" strike="noStrike">
              <a:solidFill>
                <a:srgbClr val="ffffff"/>
              </a:solidFill>
              <a:latin typeface="Arial"/>
            </a:endParaRPr>
          </a:p>
        </p:txBody>
      </p:sp>
      <p:sp>
        <p:nvSpPr>
          <p:cNvPr id="11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政府的消耗性支出是现代市场经济条件下各种物品或劳务的销售得以实现的一个不可或缺的条件。</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政府的消耗性支出，首先影响到物品或劳务的销售市场，对于社会总需求的形成有着重大的影响，其增减变动会直接制约社会总需求的形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ffff"/>
                </a:solidFill>
                <a:latin typeface="Arial"/>
              </a:rPr>
              <a:t>消耗性支出对生产领域的影响</a:t>
            </a:r>
            <a:endParaRPr b="0" lang="en-US" sz="4200" spc="-1" strike="noStrike">
              <a:solidFill>
                <a:srgbClr val="ffffff"/>
              </a:solidFill>
              <a:latin typeface="Arial"/>
            </a:endParaRPr>
          </a:p>
        </p:txBody>
      </p:sp>
      <p:sp>
        <p:nvSpPr>
          <p:cNvPr id="11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政府的消耗性需求是社会总需求的一个重要组成部分。</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政府消耗性支出的增加，往往会通过直接或间接刺激社会总需求的增加，导致社会生产的膨胀，形成经济繁荣的局面。</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政府消耗性支出的减少，往往会通过直接或间接地减少社会总需求，而导致社会生产萎缩，形成经济衰退的局面。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ffff"/>
                </a:solidFill>
                <a:latin typeface="Arial"/>
              </a:rPr>
              <a:t>消耗性支出对分配领域的影响</a:t>
            </a:r>
            <a:endParaRPr b="0" lang="en-US" sz="4200" spc="-1" strike="noStrike">
              <a:solidFill>
                <a:srgbClr val="ffffff"/>
              </a:solidFill>
              <a:latin typeface="Arial"/>
            </a:endParaRPr>
          </a:p>
        </p:txBody>
      </p:sp>
      <p:sp>
        <p:nvSpPr>
          <p:cNvPr id="12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政府消耗性支出的总额不变，而只是所消耗的物品或劳务的种类发生变动，政府提供所需物品或劳务的各个厂商分别从政府消耗性支出中所获得的收益额便会因此而发生变动。整个社会的收入分配状况，将因政府消耗性支出结构的变动而受到相应的影响。</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政府的消耗性支出不是在结构上发生变化，而是普遍增加或普遍减少，那么，为政府提供所需物品或劳务的各个厂商或部门从政府消耗性支出中所获得的收益额也会随之增减。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ffff"/>
                </a:solidFill>
                <a:latin typeface="Arial"/>
              </a:rPr>
              <a:t>转移性支出对流通领域的影响</a:t>
            </a:r>
            <a:endParaRPr b="0" lang="en-US" sz="4200" spc="-1" strike="noStrike">
              <a:solidFill>
                <a:srgbClr val="ffffff"/>
              </a:solidFill>
              <a:latin typeface="Arial"/>
            </a:endParaRPr>
          </a:p>
        </p:txBody>
      </p:sp>
      <p:sp>
        <p:nvSpPr>
          <p:cNvPr id="122" name="PlaceHolder 2"/>
          <p:cNvSpPr>
            <a:spLocks noGrp="1"/>
          </p:cNvSpPr>
          <p:nvPr>
            <p:ph/>
          </p:nvPr>
        </p:nvSpPr>
        <p:spPr>
          <a:xfrm>
            <a:off x="685800" y="1700280"/>
            <a:ext cx="7772400" cy="48974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政府的转移性支出对流通领域的影响，是通过其对社会总需求构成中的私人消费需求和私人投资需求的作用来实现的。</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如转移性支出的对象是个人或家庭，这些支出会直接转化为个人或家庭的可支配收入，从而依这些个人或家庭的边际消费倾向的大小而形成私人消费需求；</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如转移性支出的对象是厂商，这些支出会直接转化为厂商的可支配收入。其中一部分有可能形成厂商的私人投资支出，另一部分则通过增加资本和劳动力的报酬的途径而转化为个人或家庭的可支配收入，从而进一步形成私人消费需求。</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政府的转移性支出会通过各种途径直接或间接地转化为私人消费支出和私人投资支出，从而制约社会总需求的形成。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ffff"/>
                </a:solidFill>
                <a:latin typeface="Arial"/>
              </a:rPr>
              <a:t>转移性支出对生产领城的影响</a:t>
            </a:r>
            <a:endParaRPr b="0" lang="en-US" sz="4200" spc="-1" strike="noStrike">
              <a:solidFill>
                <a:srgbClr val="ffffff"/>
              </a:solidFill>
              <a:latin typeface="Arial"/>
            </a:endParaRPr>
          </a:p>
        </p:txBody>
      </p:sp>
      <p:sp>
        <p:nvSpPr>
          <p:cNvPr id="12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如政府的转移性支出是个人或家庭，如居民生活补贴，其对生产的影响就是间接的，主要通过受补贴的居民将所受领的补贴用于购买物品或劳务之后实现。</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消费品或劳务的产量会随随着居民生活补贴规模的变动发生相应变动，增则亦增，减则亦减。生产大众消费品所需原材料的各种厂商，也可能受到居民生活补贴的影响，使其生产规模随之扩张或收缩。</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如转移性支出的对象是厂商，其对生产的影响就是直接的，企业生产补贴通过对一些在国民经济中占有重要地位的厂商给予支持，帮助其克服生产经营中的各种困难，可以在促进生产发展，或者遏止生产规模萎缩方面发挥重要作用。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ffff"/>
                </a:solidFill>
                <a:latin typeface="Arial"/>
              </a:rPr>
              <a:t>转移性支出对分配领域的影响</a:t>
            </a:r>
            <a:endParaRPr b="0" lang="en-US" sz="4200" spc="-1" strike="noStrike">
              <a:solidFill>
                <a:srgbClr val="ffffff"/>
              </a:solidFill>
              <a:latin typeface="Arial"/>
            </a:endParaRPr>
          </a:p>
        </p:txBody>
      </p:sp>
      <p:sp>
        <p:nvSpPr>
          <p:cNvPr id="12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政府的转移性支出有可能改变在初次分配中形成的国民收入分配格局。</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以个人或家庭为对象的转移性支出如居民生活补贴来实质上是在国民收入已经完成了初次分配的基础上进行的再分配，国民收入的分配格局会发生有利于享受居民生活补贴的个人或家庭的变化。</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通过课税和转移性支出的过程，国民收入中的一部分便会由纳税人的手中转移到享受补贴的厂商手中，从而导致纳税人和享受补贴厂商在国民收入分配中所占份额的相应变化。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rPr>
              <a:t>公共支出</a:t>
            </a:r>
            <a:endParaRPr b="0" lang="en-US" sz="4200" spc="-1" strike="noStrike">
              <a:solidFill>
                <a:srgbClr val="ffffff"/>
              </a:solidFill>
              <a:latin typeface="Arial"/>
            </a:endParaRPr>
          </a:p>
        </p:txBody>
      </p:sp>
      <p:sp>
        <p:nvSpPr>
          <p:cNvPr id="9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共支出</a:t>
            </a:r>
            <a:r>
              <a:rPr b="0" lang="en-US" sz="2800" spc="-1" strike="noStrike">
                <a:solidFill>
                  <a:srgbClr val="000000"/>
                </a:solidFill>
                <a:latin typeface="Arial"/>
              </a:rPr>
              <a:t>(Public expenditures)</a:t>
            </a:r>
            <a:r>
              <a:rPr b="0" lang="zh-CN" sz="2800" spc="-1" strike="noStrike">
                <a:solidFill>
                  <a:srgbClr val="000000"/>
                </a:solidFill>
                <a:latin typeface="Arial"/>
              </a:rPr>
              <a:t>，也称为财政支出或政府支出，是指政府为履行其职能而支出的一切费用的总和，是政府行为的成本。</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共支出是公共部门经济活动的一个重要方面。公共部门对经济的影响作用主要表现在公共支出上，政府干预、调节经济的职能也主要是通过公共支出来实现的。</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共支出的数额反映着政府介入经济生活和社会生活的规模和深度，也反映着公共部门在经济生活和社会生活中的地位。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ffff"/>
                </a:solidFill>
                <a:latin typeface="Arial"/>
              </a:rPr>
              <a:t>公共支出的分类</a:t>
            </a:r>
            <a:r>
              <a:rPr b="0" lang="zh-CN" sz="4200" spc="-1" strike="noStrike">
                <a:solidFill>
                  <a:srgbClr val="ffffff"/>
                </a:solidFill>
                <a:latin typeface="Arial"/>
              </a:rPr>
              <a:t> </a:t>
            </a:r>
            <a:endParaRPr b="0" lang="en-US" sz="4200" spc="-1" strike="noStrike">
              <a:solidFill>
                <a:srgbClr val="ffffff"/>
              </a:solidFill>
              <a:latin typeface="Arial"/>
            </a:endParaRPr>
          </a:p>
        </p:txBody>
      </p:sp>
      <p:sp>
        <p:nvSpPr>
          <p:cNvPr id="9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消耗性支出与转移性支出</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预防性支出与创造性支出</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可控制性支出与不可控制性支出</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一般利益支出与特殊利益支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ffff"/>
                </a:solidFill>
                <a:latin typeface="Arial"/>
              </a:rPr>
              <a:t>消耗性支出</a:t>
            </a:r>
            <a:endParaRPr b="0" lang="en-US" sz="4200" spc="-1" strike="noStrike">
              <a:solidFill>
                <a:srgbClr val="ffffff"/>
              </a:solidFill>
              <a:latin typeface="Arial"/>
            </a:endParaRPr>
          </a:p>
        </p:txBody>
      </p:sp>
      <p:sp>
        <p:nvSpPr>
          <p:cNvPr id="9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消耗性支出 </a:t>
            </a:r>
            <a:r>
              <a:rPr b="0" lang="en-US" sz="2800" spc="-1" strike="noStrike">
                <a:solidFill>
                  <a:srgbClr val="000000"/>
                </a:solidFill>
                <a:latin typeface="Arial"/>
              </a:rPr>
              <a:t>exhaustive expenditures</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直接表现为政府购买物品或劳务的活动，包括购买进行日常政务活动所需的或用于进行国家投资所需的物品或劳务的支出，由这些物品或劳务的数量与它们的价格相乘来计算。</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消耗性支出共同点是政府付出了资金，相应地获得了物品或劳务，由政府部门运用这些资源，就排除了私人部门运用它们的可能性。</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消耗性支出计入国民生产总值与国民收入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ffff"/>
                </a:solidFill>
                <a:latin typeface="Arial"/>
              </a:rPr>
              <a:t>转移性公共支出</a:t>
            </a:r>
            <a:endParaRPr b="0" lang="en-US" sz="4200" spc="-1" strike="noStrike">
              <a:solidFill>
                <a:srgbClr val="ffffff"/>
              </a:solidFill>
              <a:latin typeface="Arial"/>
            </a:endParaRPr>
          </a:p>
        </p:txBody>
      </p:sp>
      <p:sp>
        <p:nvSpPr>
          <p:cNvPr id="10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转移性支出 </a:t>
            </a:r>
            <a:r>
              <a:rPr b="0" lang="en-US" sz="2800" spc="-1" strike="noStrike">
                <a:solidFill>
                  <a:srgbClr val="000000"/>
                </a:solidFill>
                <a:latin typeface="Arial"/>
              </a:rPr>
              <a:t>transfer expenditures</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直接表现为资金的无偿的、单方面的转移，这类支出主要包括政府部门用于养老金、补贴、债务利息、失业救济金等方面的支出。</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转移性支出的共同点是政府付出了资金，却无任何资源可得，不存在任何交换的问题。</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转移性支出并不反映公共部门占用社会经济资源的要求，转移只是在社会成员之间的资源再分配，公共部门只充当中介人的作用。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ffff"/>
                </a:solidFill>
                <a:latin typeface="Arial"/>
              </a:rPr>
              <a:t>消耗性支出与转移性支出</a:t>
            </a:r>
            <a:r>
              <a:rPr b="0" lang="zh-CN" sz="4200" spc="-1" strike="noStrike">
                <a:solidFill>
                  <a:srgbClr val="ffffff"/>
                </a:solidFill>
                <a:latin typeface="Arial"/>
              </a:rPr>
              <a:t> </a:t>
            </a:r>
            <a:endParaRPr b="0" lang="en-US" sz="4200" spc="-1" strike="noStrike">
              <a:solidFill>
                <a:srgbClr val="ffffff"/>
              </a:solidFill>
              <a:latin typeface="Arial"/>
            </a:endParaRPr>
          </a:p>
        </p:txBody>
      </p:sp>
      <p:sp>
        <p:nvSpPr>
          <p:cNvPr id="10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公共支出总额中，若消耗性支出所占的比重较大，说明直接通过公共部门所配置的社会资源的规模较大。</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消耗性支出占较大比重的公共支出结构，履行资源配置的职能较强。</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公共支出总额中，若转移性支出所占比重较大，说明公共部门经济活动对国民收入分配的直接影响较大。</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转移性支出占较大比重的公共支出结构，履行调节收入分配的职能较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rPr>
              <a:t>预防性支出与创造性支出</a:t>
            </a:r>
            <a:endParaRPr b="0" lang="en-US" sz="4200" spc="-1" strike="noStrike">
              <a:solidFill>
                <a:srgbClr val="ffffff"/>
              </a:solidFill>
              <a:latin typeface="Arial"/>
            </a:endParaRPr>
          </a:p>
        </p:txBody>
      </p:sp>
      <p:sp>
        <p:nvSpPr>
          <p:cNvPr id="10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按照公共支出的目的性来分类，可以将公共支出分为预防性支出和创造性支出，以揭示公共支出的去向及其在经济生活中的作用。 </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预防性支出 </a:t>
            </a:r>
            <a:r>
              <a:rPr b="0" lang="en-US" sz="2800" spc="-1" strike="noStrike">
                <a:solidFill>
                  <a:srgbClr val="000000"/>
                </a:solidFill>
                <a:latin typeface="Arial"/>
              </a:rPr>
              <a:t>precaution expenditure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指用于维持社会秩序和保卫国家安全，不使其受到国内外敌对力量的破坏和侵犯，以保障人民生命财产安全与生活稳定的支出。</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创造性支出 </a:t>
            </a:r>
            <a:r>
              <a:rPr b="0" lang="en-US" sz="2800" spc="-1" strike="noStrike">
                <a:solidFill>
                  <a:srgbClr val="000000"/>
                </a:solidFill>
                <a:latin typeface="Arial"/>
              </a:rPr>
              <a:t>creative expenditure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指用于改善人民生活，使社会秩序更为良好，经济顺利发展的支出。</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ffffff"/>
                </a:solidFill>
                <a:latin typeface="Arial"/>
              </a:rPr>
              <a:t>可控制性支出与不可控制性支出</a:t>
            </a:r>
            <a:endParaRPr b="0" lang="en-US" sz="3800" spc="-1" strike="noStrike">
              <a:solidFill>
                <a:srgbClr val="ffffff"/>
              </a:solidFill>
              <a:latin typeface="Arial"/>
            </a:endParaRPr>
          </a:p>
        </p:txBody>
      </p:sp>
      <p:sp>
        <p:nvSpPr>
          <p:cNvPr id="10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按照政府对公共支出的控制能力来分类，可以将公共支出分为可控制性支出和不可控制性支出。</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控制能力，即政府可以根据经济形势的变化和公共收入的可能而对公共支出进行调整</a:t>
            </a:r>
            <a:r>
              <a:rPr b="0" lang="en-US" sz="2400" spc="-1" strike="noStrike">
                <a:solidFill>
                  <a:srgbClr val="000000"/>
                </a:solidFill>
                <a:latin typeface="Arial"/>
              </a:rPr>
              <a:t>(</a:t>
            </a:r>
            <a:r>
              <a:rPr b="0" lang="zh-CN" sz="2400" spc="-1" strike="noStrike">
                <a:solidFill>
                  <a:srgbClr val="000000"/>
                </a:solidFill>
                <a:latin typeface="Arial"/>
              </a:rPr>
              <a:t>增减</a:t>
            </a:r>
            <a:r>
              <a:rPr b="0" lang="en-US" sz="2400" spc="-1" strike="noStrike">
                <a:solidFill>
                  <a:srgbClr val="000000"/>
                </a:solidFill>
                <a:latin typeface="Arial"/>
              </a:rPr>
              <a:t>)</a:t>
            </a:r>
            <a:r>
              <a:rPr b="0" lang="zh-CN" sz="2400" spc="-1" strike="noStrike">
                <a:solidFill>
                  <a:srgbClr val="000000"/>
                </a:solidFill>
                <a:latin typeface="Arial"/>
              </a:rPr>
              <a:t>的能力。</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不可控制性支出为根据现行法律和契约所必须进行的支出，主要包括两大项：国家法律已有明文规定的个人所享受的最低收入保障和社会保障；政府遗留义务和以前年度设置的固定支出项目。</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可控制性支出为不受法律和契约的约束，可由政府根据每个预算年度需要分别决定或加以增减的支出。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rPr>
              <a:t>一般利益支出与特殊利益支出</a:t>
            </a:r>
            <a:endParaRPr b="0" lang="en-US" sz="4200" spc="-1" strike="noStrike">
              <a:solidFill>
                <a:srgbClr val="ffffff"/>
              </a:solidFill>
              <a:latin typeface="Arial"/>
            </a:endParaRPr>
          </a:p>
        </p:txBody>
      </p:sp>
      <p:sp>
        <p:nvSpPr>
          <p:cNvPr id="108" name="PlaceHolder 2"/>
          <p:cNvSpPr>
            <a:spLocks noGrp="1"/>
          </p:cNvSpPr>
          <p:nvPr>
            <p:ph/>
          </p:nvPr>
        </p:nvSpPr>
        <p:spPr>
          <a:xfrm>
            <a:off x="250560" y="1773360"/>
            <a:ext cx="8497800" cy="4680000"/>
          </a:xfrm>
          <a:prstGeom prst="rect">
            <a:avLst/>
          </a:prstGeom>
          <a:noFill/>
          <a:ln w="0">
            <a:noFill/>
          </a:ln>
        </p:spPr>
        <p:txBody>
          <a:bodyPr lIns="90000" rIns="90000" tIns="46800" bIns="46800"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按公共支出的受益范围来分类，可以将公共支出分为一般利益支出与特殊利益支出。按此分类，说明公共支出所体现的分配关系，进而分析不同阶层或不同利益集团投票者在公共支出决策过程中可能采取的态度。 </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般利益支出，指全体社会成员均可以享受其所提供的效益的支出，具有共同消费或联合受益的特点，所提供给各个社会成员的效益不能分别测算。</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特殊利益支出，指对社会中某些特定居民或企业给予特殊利益的支出，这些支出所提供的效益只涉及一部分社会成员，每个社会成员所获得效益的大小有可能分别测算。</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avid</cp:lastModifiedBy>
  <dcterms:modified xsi:type="dcterms:W3CDTF">2003-04-06T05:06:52Z</dcterms:modified>
  <cp:revision>5</cp:revision>
  <dc:subject/>
  <dc:title>PowerPoint Presentation</dc:title>
</cp:coreProperties>
</file>