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8.jpeg" ContentType="image/jpeg"/>
  <Override PartName="/ppt/media/image11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20.gif" ContentType="image/gi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1D3-97BD-4212-958E-05CAD84C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AA5-45FD-45D3-866E-8A2AFE2A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3FD-03FF-4210-B008-1C98A5BF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6A5-764C-4E81-8E70-8F5920CA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5DFE-9D17-4759-83AB-BDDE1D53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A9E8-151C-405E-8339-D81427EE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3AAD-1F34-4DF9-8A55-391D99CE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27CB-039F-46F5-8919-563A9CE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1094-5F9C-4CC8-B997-E70DF581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7F74-1678-4683-8F45-C6572683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A799-C4AA-4922-8F60-E19536B8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568-2996-49BE-89F0-FBDDE857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D842-21F5-4C9F-A064-145508D8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CB69-61F9-47FD-88DC-9CDDD835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4FB7-2509-4E0D-9170-DE939C77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57A4-96AB-49E2-B203-58C2DE4B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C018-FD67-4719-A589-F2F59D0F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837-9626-4763-9988-4BE4D602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01D-B5D8-4640-8BBB-774816C7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BCB-4CDE-48AF-AFCB-C36A1889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BEE-BC99-4A5B-83A2-1F592D21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433-6A77-49B8-9D72-5FC29336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46D-F190-4D1E-9DE7-8FE68462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72B-4D5D-49E6-9178-38D3EE9E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597D-0A83-4FF4-9625-2D65162C598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2B68-D289-4722-82A1-C4F2D9B5B40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8.jpeg"/><Relationship Id="rId21" Type="http://schemas.openxmlformats.org/officeDocument/2006/relationships/image" Target="../media/image9.jpeg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理论网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505320" y="3733920"/>
            <a:ext cx="3124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拓扑结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络模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络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4.5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网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状：计算机两两相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5105160" y="5562720"/>
            <a:ext cx="1204920" cy="388800"/>
          </a:xfrm>
          <a:prstGeom prst="leftRightArrow">
            <a:avLst>
              <a:gd name="adj1" fmla="val 50000"/>
              <a:gd name="adj2" fmla="val 61694"/>
            </a:avLst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35040" y="4182480"/>
            <a:ext cx="1228320" cy="1228320"/>
            <a:chOff x="5135040" y="4182480"/>
            <a:chExt cx="1228320" cy="1228320"/>
          </a:xfrm>
        </p:grpSpPr>
        <p:sp>
          <p:nvSpPr>
            <p:cNvPr id="174" name=""/>
            <p:cNvSpPr/>
            <p:nvPr/>
          </p:nvSpPr>
          <p:spPr>
            <a:xfrm rot="13500000">
              <a:off x="5067360" y="4610160"/>
              <a:ext cx="1363680" cy="372960"/>
            </a:xfrm>
            <a:prstGeom prst="leftRightArrow">
              <a:avLst>
                <a:gd name="adj1" fmla="val 50000"/>
                <a:gd name="adj2" fmla="val 72789"/>
              </a:avLst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8100000">
              <a:off x="5067000" y="4610160"/>
              <a:ext cx="1364040" cy="372960"/>
            </a:xfrm>
            <a:prstGeom prst="leftRightArrow">
              <a:avLst>
                <a:gd name="adj1" fmla="val 50000"/>
                <a:gd name="adj2" fmla="val 72808"/>
              </a:avLst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16200000">
            <a:off x="4233240" y="4529880"/>
            <a:ext cx="760320" cy="387360"/>
          </a:xfrm>
          <a:prstGeom prst="leftRightArrow">
            <a:avLst>
              <a:gd name="adj1" fmla="val 50880"/>
              <a:gd name="adj2" fmla="val 66890"/>
            </a:avLst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5105160" y="3657600"/>
            <a:ext cx="1204920" cy="387360"/>
          </a:xfrm>
          <a:prstGeom prst="leftRightArrow">
            <a:avLst>
              <a:gd name="adj1" fmla="val 50000"/>
              <a:gd name="adj2" fmla="val 61924"/>
            </a:avLst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6519240" y="4529880"/>
            <a:ext cx="760320" cy="387360"/>
          </a:xfrm>
          <a:prstGeom prst="leftRightArrow">
            <a:avLst>
              <a:gd name="adj1" fmla="val 50880"/>
              <a:gd name="adj2" fmla="val 66890"/>
            </a:avLst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038480" y="3276720"/>
            <a:ext cx="3287880" cy="2999880"/>
            <a:chOff x="4038480" y="3276720"/>
            <a:chExt cx="3287880" cy="2999880"/>
          </a:xfrm>
        </p:grpSpPr>
        <p:pic>
          <p:nvPicPr>
            <p:cNvPr id="180" name="Computer3" descr=""/>
            <p:cNvPicPr/>
            <p:nvPr/>
          </p:nvPicPr>
          <p:blipFill>
            <a:blip r:embed="rId1"/>
            <a:stretch/>
          </p:blipFill>
          <p:spPr>
            <a:xfrm>
              <a:off x="4038480" y="3276720"/>
              <a:ext cx="9795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Computer3" descr=""/>
            <p:cNvPicPr/>
            <p:nvPr/>
          </p:nvPicPr>
          <p:blipFill>
            <a:blip r:embed="rId2"/>
            <a:stretch/>
          </p:blipFill>
          <p:spPr>
            <a:xfrm>
              <a:off x="6345360" y="3276720"/>
              <a:ext cx="9810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Computer3" descr=""/>
            <p:cNvPicPr/>
            <p:nvPr/>
          </p:nvPicPr>
          <p:blipFill>
            <a:blip r:embed="rId3"/>
            <a:stretch/>
          </p:blipFill>
          <p:spPr>
            <a:xfrm>
              <a:off x="4038480" y="5209920"/>
              <a:ext cx="9795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Computer3" descr=""/>
            <p:cNvPicPr/>
            <p:nvPr/>
          </p:nvPicPr>
          <p:blipFill>
            <a:blip r:embed="rId4"/>
            <a:stretch/>
          </p:blipFill>
          <p:spPr>
            <a:xfrm>
              <a:off x="6345360" y="5209920"/>
              <a:ext cx="98100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990720" y="32004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常用于连接多个局域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5410080"/>
            <a:ext cx="1905120" cy="990720"/>
          </a:xfrm>
          <a:prstGeom prst="irregularSeal2">
            <a:avLst/>
          </a:prstGeom>
          <a:solidFill>
            <a:srgbClr val="ffcf01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半网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4641840" y="4649760"/>
            <a:ext cx="3606840" cy="1679760"/>
            <a:chOff x="4641840" y="4649760"/>
            <a:chExt cx="3606840" cy="1679760"/>
          </a:xfrm>
        </p:grpSpPr>
        <p:sp>
          <p:nvSpPr>
            <p:cNvPr id="187" name=""/>
            <p:cNvSpPr/>
            <p:nvPr/>
          </p:nvSpPr>
          <p:spPr>
            <a:xfrm>
              <a:off x="4641840" y="4649760"/>
              <a:ext cx="3606840" cy="1679760"/>
            </a:xfrm>
            <a:prstGeom prst="donut">
              <a:avLst>
                <a:gd name="adj" fmla="val 15685"/>
              </a:avLst>
            </a:prstGeom>
            <a:solidFill>
              <a:srgbClr val="ddeeff"/>
            </a:solidFill>
            <a:ln w="9360">
              <a:solidFill>
                <a:srgbClr val="000000"/>
              </a:solidFill>
              <a:miter/>
            </a:ln>
            <a:effectLst>
              <a:outerShdw dist="507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4933080" y="4963320"/>
              <a:ext cx="838440" cy="801720"/>
            </a:xfrm>
            <a:custGeom>
              <a:avLst/>
              <a:gdLst>
                <a:gd name="textAreaLeft" fmla="*/ -360 w 838440"/>
                <a:gd name="textAreaRight" fmla="*/ 838440 w 838440"/>
                <a:gd name="textAreaTop" fmla="*/ -360 h 801720"/>
                <a:gd name="textAreaBottom" fmla="*/ 80172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5509"/>
                  </a:moveTo>
                  <a:arcTo wR="-5940" hR="-5940" stAng="-7022115" swAng="-3800728"/>
                  <a:lnTo>
                    <a:pt x="21600" y="10728"/>
                  </a:lnTo>
                  <a:arcTo wR="10800" hR="10800" stAng="-22843" swAng="3800728"/>
                  <a:lnTo>
                    <a:pt x="16936" y="22825"/>
                  </a:lnTo>
                  <a:lnTo>
                    <a:pt x="10035" y="20587"/>
                  </a:lnTo>
                  <a:lnTo>
                    <a:pt x="12273" y="136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56360" y="4962600"/>
              <a:ext cx="905040" cy="8236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823680"/>
                <a:gd name="textAreaBottom" fmla="*/ 824040 h 82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80" y="10565"/>
                  </a:moveTo>
                  <a:arcTo wR="-6824" hR="-6824" stAng="-10681591" swAng="-3965691"/>
                  <a:lnTo>
                    <a:pt x="15514" y="1083"/>
                  </a:lnTo>
                  <a:arcTo wR="10800" hR="10800" stAng="-3847282" swAng="3965691"/>
                  <a:lnTo>
                    <a:pt x="24292" y="11265"/>
                  </a:lnTo>
                  <a:lnTo>
                    <a:pt x="19445" y="15789"/>
                  </a:lnTo>
                  <a:lnTo>
                    <a:pt x="14922" y="109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4.6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混合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6199200" y="2095560"/>
            <a:ext cx="547560" cy="365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97480" y="2112840"/>
            <a:ext cx="2151000" cy="860400"/>
          </a:xfrm>
          <a:custGeom>
            <a:avLst/>
            <a:gdLst/>
            <a:ahLst/>
            <a:rect l="l" t="t" r="r" b="b"/>
            <a:pathLst>
              <a:path w="2544" h="624">
                <a:moveTo>
                  <a:pt x="0" y="624"/>
                </a:moveTo>
                <a:lnTo>
                  <a:pt x="0" y="0"/>
                </a:lnTo>
                <a:lnTo>
                  <a:pt x="2544" y="0"/>
                </a:lnTo>
                <a:lnTo>
                  <a:pt x="2544" y="624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57680" y="2362320"/>
            <a:ext cx="1476000" cy="1355760"/>
            <a:chOff x="4657680" y="2362320"/>
            <a:chExt cx="1476000" cy="1355760"/>
          </a:xfrm>
        </p:grpSpPr>
        <p:sp>
          <p:nvSpPr>
            <p:cNvPr id="194" name=""/>
            <p:cNvSpPr/>
            <p:nvPr/>
          </p:nvSpPr>
          <p:spPr>
            <a:xfrm>
              <a:off x="4941720" y="2764080"/>
              <a:ext cx="354960" cy="250920"/>
            </a:xfrm>
            <a:custGeom>
              <a:avLst/>
              <a:gdLst/>
              <a:ahLst/>
              <a:rect l="l" t="t" r="r" b="b"/>
              <a:pathLst>
                <a:path w="480" h="336">
                  <a:moveTo>
                    <a:pt x="480" y="336"/>
                  </a:moveTo>
                  <a:lnTo>
                    <a:pt x="336" y="336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941720" y="3215160"/>
              <a:ext cx="354960" cy="250920"/>
            </a:xfrm>
            <a:custGeom>
              <a:avLst/>
              <a:gdLst/>
              <a:ahLst/>
              <a:rect l="l" t="t" r="r" b="b"/>
              <a:pathLst>
                <a:path w="480" h="336">
                  <a:moveTo>
                    <a:pt x="480" y="336"/>
                  </a:moveTo>
                  <a:lnTo>
                    <a:pt x="336" y="336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Computer1" descr=""/>
            <p:cNvPicPr/>
            <p:nvPr/>
          </p:nvPicPr>
          <p:blipFill>
            <a:blip r:embed="rId1"/>
            <a:stretch/>
          </p:blipFill>
          <p:spPr>
            <a:xfrm>
              <a:off x="4657680" y="2362320"/>
              <a:ext cx="423720" cy="65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Computer1" descr=""/>
            <p:cNvPicPr/>
            <p:nvPr/>
          </p:nvPicPr>
          <p:blipFill>
            <a:blip r:embed="rId2"/>
            <a:stretch/>
          </p:blipFill>
          <p:spPr>
            <a:xfrm>
              <a:off x="4657680" y="3064320"/>
              <a:ext cx="423720" cy="65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276160" y="2959560"/>
              <a:ext cx="250560" cy="328320"/>
            </a:xfrm>
            <a:prstGeom prst="cube">
              <a:avLst>
                <a:gd name="adj" fmla="val 16208"/>
              </a:avLst>
            </a:prstGeom>
            <a:solidFill>
              <a:srgbClr val="c0c0c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509800" y="2764080"/>
              <a:ext cx="354960" cy="250920"/>
            </a:xfrm>
            <a:custGeom>
              <a:avLst/>
              <a:gdLst/>
              <a:ahLst/>
              <a:rect l="l" t="t" r="r" b="b"/>
              <a:pathLst>
                <a:path w="480" h="336">
                  <a:moveTo>
                    <a:pt x="480" y="336"/>
                  </a:moveTo>
                  <a:lnTo>
                    <a:pt x="336" y="336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509800" y="3215160"/>
              <a:ext cx="354960" cy="250920"/>
            </a:xfrm>
            <a:custGeom>
              <a:avLst/>
              <a:gdLst/>
              <a:ahLst/>
              <a:rect l="l" t="t" r="r" b="b"/>
              <a:pathLst>
                <a:path w="480" h="336">
                  <a:moveTo>
                    <a:pt x="480" y="336"/>
                  </a:moveTo>
                  <a:lnTo>
                    <a:pt x="336" y="336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Computer2" descr=""/>
            <p:cNvPicPr/>
            <p:nvPr/>
          </p:nvPicPr>
          <p:blipFill>
            <a:blip r:embed="rId3"/>
            <a:stretch/>
          </p:blipFill>
          <p:spPr>
            <a:xfrm>
              <a:off x="5722560" y="2386440"/>
              <a:ext cx="411120" cy="62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Computer2" descr=""/>
            <p:cNvPicPr/>
            <p:nvPr/>
          </p:nvPicPr>
          <p:blipFill>
            <a:blip r:embed="rId4"/>
            <a:stretch/>
          </p:blipFill>
          <p:spPr>
            <a:xfrm>
              <a:off x="5722560" y="3088440"/>
              <a:ext cx="411120" cy="62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6811920" y="2362320"/>
            <a:ext cx="1476000" cy="1355760"/>
            <a:chOff x="6811920" y="2362320"/>
            <a:chExt cx="1476000" cy="1355760"/>
          </a:xfrm>
        </p:grpSpPr>
        <p:sp>
          <p:nvSpPr>
            <p:cNvPr id="204" name=""/>
            <p:cNvSpPr/>
            <p:nvPr/>
          </p:nvSpPr>
          <p:spPr>
            <a:xfrm>
              <a:off x="7095960" y="2764080"/>
              <a:ext cx="354960" cy="250920"/>
            </a:xfrm>
            <a:custGeom>
              <a:avLst/>
              <a:gdLst/>
              <a:ahLst/>
              <a:rect l="l" t="t" r="r" b="b"/>
              <a:pathLst>
                <a:path w="480" h="336">
                  <a:moveTo>
                    <a:pt x="480" y="336"/>
                  </a:moveTo>
                  <a:lnTo>
                    <a:pt x="336" y="336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095960" y="3215160"/>
              <a:ext cx="354960" cy="250920"/>
            </a:xfrm>
            <a:custGeom>
              <a:avLst/>
              <a:gdLst/>
              <a:ahLst/>
              <a:rect l="l" t="t" r="r" b="b"/>
              <a:pathLst>
                <a:path w="480" h="336">
                  <a:moveTo>
                    <a:pt x="480" y="336"/>
                  </a:moveTo>
                  <a:lnTo>
                    <a:pt x="336" y="336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Computer1" descr=""/>
            <p:cNvPicPr/>
            <p:nvPr/>
          </p:nvPicPr>
          <p:blipFill>
            <a:blip r:embed="rId5"/>
            <a:stretch/>
          </p:blipFill>
          <p:spPr>
            <a:xfrm>
              <a:off x="6811920" y="2362320"/>
              <a:ext cx="423720" cy="65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Computer1" descr=""/>
            <p:cNvPicPr/>
            <p:nvPr/>
          </p:nvPicPr>
          <p:blipFill>
            <a:blip r:embed="rId6"/>
            <a:stretch/>
          </p:blipFill>
          <p:spPr>
            <a:xfrm>
              <a:off x="6811920" y="3064320"/>
              <a:ext cx="423720" cy="65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430400" y="2959560"/>
              <a:ext cx="250560" cy="328320"/>
            </a:xfrm>
            <a:prstGeom prst="cube">
              <a:avLst>
                <a:gd name="adj" fmla="val 16208"/>
              </a:avLst>
            </a:prstGeom>
            <a:solidFill>
              <a:srgbClr val="c0c0c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664040" y="2764080"/>
              <a:ext cx="354960" cy="250920"/>
            </a:xfrm>
            <a:custGeom>
              <a:avLst/>
              <a:gdLst/>
              <a:ahLst/>
              <a:rect l="l" t="t" r="r" b="b"/>
              <a:pathLst>
                <a:path w="480" h="336">
                  <a:moveTo>
                    <a:pt x="480" y="336"/>
                  </a:moveTo>
                  <a:lnTo>
                    <a:pt x="336" y="336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7664040" y="3215160"/>
              <a:ext cx="354960" cy="250920"/>
            </a:xfrm>
            <a:custGeom>
              <a:avLst/>
              <a:gdLst/>
              <a:ahLst/>
              <a:rect l="l" t="t" r="r" b="b"/>
              <a:pathLst>
                <a:path w="480" h="336">
                  <a:moveTo>
                    <a:pt x="480" y="336"/>
                  </a:moveTo>
                  <a:lnTo>
                    <a:pt x="336" y="336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Computer2" descr=""/>
            <p:cNvPicPr/>
            <p:nvPr/>
          </p:nvPicPr>
          <p:blipFill>
            <a:blip r:embed="rId7"/>
            <a:stretch/>
          </p:blipFill>
          <p:spPr>
            <a:xfrm>
              <a:off x="7876800" y="2386440"/>
              <a:ext cx="411120" cy="62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Computer2" descr=""/>
            <p:cNvPicPr/>
            <p:nvPr/>
          </p:nvPicPr>
          <p:blipFill>
            <a:blip r:embed="rId8"/>
            <a:stretch/>
          </p:blipFill>
          <p:spPr>
            <a:xfrm>
              <a:off x="7876800" y="3088440"/>
              <a:ext cx="411120" cy="62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"/>
          <p:cNvGrpSpPr/>
          <p:nvPr/>
        </p:nvGrpSpPr>
        <p:grpSpPr>
          <a:xfrm>
            <a:off x="4495680" y="4038480"/>
            <a:ext cx="3967200" cy="2508480"/>
            <a:chOff x="4495680" y="4038480"/>
            <a:chExt cx="3967200" cy="2508480"/>
          </a:xfrm>
        </p:grpSpPr>
        <p:grpSp>
          <p:nvGrpSpPr>
            <p:cNvPr id="214" name=""/>
            <p:cNvGrpSpPr/>
            <p:nvPr/>
          </p:nvGrpSpPr>
          <p:grpSpPr>
            <a:xfrm>
              <a:off x="4495680" y="5257800"/>
              <a:ext cx="1403640" cy="1289160"/>
              <a:chOff x="4495680" y="5257800"/>
              <a:chExt cx="1403640" cy="1289160"/>
            </a:xfrm>
          </p:grpSpPr>
          <p:sp>
            <p:nvSpPr>
              <p:cNvPr id="215" name=""/>
              <p:cNvSpPr/>
              <p:nvPr/>
            </p:nvSpPr>
            <p:spPr>
              <a:xfrm>
                <a:off x="4765680" y="5639760"/>
                <a:ext cx="337320" cy="238680"/>
              </a:xfrm>
              <a:custGeom>
                <a:avLst/>
                <a:gdLst/>
                <a:ahLst/>
                <a:rect l="l" t="t" r="r" b="b"/>
                <a:pathLst>
                  <a:path w="480" h="336">
                    <a:moveTo>
                      <a:pt x="480" y="336"/>
                    </a:moveTo>
                    <a:lnTo>
                      <a:pt x="336" y="336"/>
                    </a:lnTo>
                    <a:lnTo>
                      <a:pt x="336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765680" y="6068880"/>
                <a:ext cx="337320" cy="238680"/>
              </a:xfrm>
              <a:custGeom>
                <a:avLst/>
                <a:gdLst/>
                <a:ahLst/>
                <a:rect l="l" t="t" r="r" b="b"/>
                <a:pathLst>
                  <a:path w="480" h="336">
                    <a:moveTo>
                      <a:pt x="480" y="336"/>
                    </a:moveTo>
                    <a:lnTo>
                      <a:pt x="336" y="336"/>
                    </a:lnTo>
                    <a:lnTo>
                      <a:pt x="336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7" name="Computer1" descr=""/>
              <p:cNvPicPr/>
              <p:nvPr/>
            </p:nvPicPr>
            <p:blipFill>
              <a:blip r:embed="rId9"/>
              <a:stretch/>
            </p:blipFill>
            <p:spPr>
              <a:xfrm>
                <a:off x="4495680" y="5257800"/>
                <a:ext cx="402840" cy="62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Computer1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95680" y="5925240"/>
                <a:ext cx="402840" cy="62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5083560" y="5825520"/>
                <a:ext cx="238320" cy="312120"/>
              </a:xfrm>
              <a:prstGeom prst="cube">
                <a:avLst>
                  <a:gd name="adj" fmla="val 16208"/>
                </a:avLst>
              </a:prstGeom>
              <a:solidFill>
                <a:srgbClr val="c0c0c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304960" y="5639760"/>
                <a:ext cx="337320" cy="238680"/>
              </a:xfrm>
              <a:custGeom>
                <a:avLst/>
                <a:gdLst/>
                <a:ahLst/>
                <a:rect l="l" t="t" r="r" b="b"/>
                <a:pathLst>
                  <a:path w="480" h="336">
                    <a:moveTo>
                      <a:pt x="480" y="336"/>
                    </a:moveTo>
                    <a:lnTo>
                      <a:pt x="336" y="336"/>
                    </a:lnTo>
                    <a:lnTo>
                      <a:pt x="336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>
                <a:off x="5304960" y="6068880"/>
                <a:ext cx="337320" cy="238680"/>
              </a:xfrm>
              <a:custGeom>
                <a:avLst/>
                <a:gdLst/>
                <a:ahLst/>
                <a:rect l="l" t="t" r="r" b="b"/>
                <a:pathLst>
                  <a:path w="480" h="336">
                    <a:moveTo>
                      <a:pt x="480" y="336"/>
                    </a:moveTo>
                    <a:lnTo>
                      <a:pt x="336" y="336"/>
                    </a:lnTo>
                    <a:lnTo>
                      <a:pt x="336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" name="Computer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08360" y="5280480"/>
                <a:ext cx="390960" cy="5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Computer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08360" y="5948280"/>
                <a:ext cx="390960" cy="598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4" name=""/>
            <p:cNvGrpSpPr/>
            <p:nvPr/>
          </p:nvGrpSpPr>
          <p:grpSpPr>
            <a:xfrm>
              <a:off x="5799240" y="4038480"/>
              <a:ext cx="1403280" cy="1289160"/>
              <a:chOff x="5799240" y="4038480"/>
              <a:chExt cx="1403280" cy="1289160"/>
            </a:xfrm>
          </p:grpSpPr>
          <p:sp>
            <p:nvSpPr>
              <p:cNvPr id="225" name=""/>
              <p:cNvSpPr/>
              <p:nvPr/>
            </p:nvSpPr>
            <p:spPr>
              <a:xfrm>
                <a:off x="6069240" y="4420440"/>
                <a:ext cx="337320" cy="238680"/>
              </a:xfrm>
              <a:custGeom>
                <a:avLst/>
                <a:gdLst/>
                <a:ahLst/>
                <a:rect l="l" t="t" r="r" b="b"/>
                <a:pathLst>
                  <a:path w="480" h="336">
                    <a:moveTo>
                      <a:pt x="480" y="336"/>
                    </a:moveTo>
                    <a:lnTo>
                      <a:pt x="336" y="336"/>
                    </a:lnTo>
                    <a:lnTo>
                      <a:pt x="336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6069240" y="4849560"/>
                <a:ext cx="337320" cy="238680"/>
              </a:xfrm>
              <a:custGeom>
                <a:avLst/>
                <a:gdLst/>
                <a:ahLst/>
                <a:rect l="l" t="t" r="r" b="b"/>
                <a:pathLst>
                  <a:path w="480" h="336">
                    <a:moveTo>
                      <a:pt x="480" y="336"/>
                    </a:moveTo>
                    <a:lnTo>
                      <a:pt x="336" y="336"/>
                    </a:lnTo>
                    <a:lnTo>
                      <a:pt x="336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7" name="Computer1" descr=""/>
              <p:cNvPicPr/>
              <p:nvPr/>
            </p:nvPicPr>
            <p:blipFill>
              <a:blip r:embed="rId13"/>
              <a:stretch/>
            </p:blipFill>
            <p:spPr>
              <a:xfrm>
                <a:off x="5799240" y="4038480"/>
                <a:ext cx="402840" cy="62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Computer1" descr=""/>
              <p:cNvPicPr/>
              <p:nvPr/>
            </p:nvPicPr>
            <p:blipFill>
              <a:blip r:embed="rId14"/>
              <a:stretch/>
            </p:blipFill>
            <p:spPr>
              <a:xfrm>
                <a:off x="5799240" y="4705920"/>
                <a:ext cx="402840" cy="62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6387120" y="4606200"/>
                <a:ext cx="238320" cy="312120"/>
              </a:xfrm>
              <a:prstGeom prst="cube">
                <a:avLst>
                  <a:gd name="adj" fmla="val 16208"/>
                </a:avLst>
              </a:prstGeom>
              <a:solidFill>
                <a:srgbClr val="c0c0c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608520" y="4420440"/>
                <a:ext cx="337320" cy="238680"/>
              </a:xfrm>
              <a:custGeom>
                <a:avLst/>
                <a:gdLst/>
                <a:ahLst/>
                <a:rect l="l" t="t" r="r" b="b"/>
                <a:pathLst>
                  <a:path w="480" h="336">
                    <a:moveTo>
                      <a:pt x="480" y="336"/>
                    </a:moveTo>
                    <a:lnTo>
                      <a:pt x="336" y="336"/>
                    </a:lnTo>
                    <a:lnTo>
                      <a:pt x="336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6608520" y="4849560"/>
                <a:ext cx="337320" cy="238680"/>
              </a:xfrm>
              <a:custGeom>
                <a:avLst/>
                <a:gdLst/>
                <a:ahLst/>
                <a:rect l="l" t="t" r="r" b="b"/>
                <a:pathLst>
                  <a:path w="480" h="336">
                    <a:moveTo>
                      <a:pt x="480" y="336"/>
                    </a:moveTo>
                    <a:lnTo>
                      <a:pt x="336" y="336"/>
                    </a:lnTo>
                    <a:lnTo>
                      <a:pt x="336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2" name="Computer2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11560" y="4061160"/>
                <a:ext cx="390960" cy="5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Computer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811560" y="4728960"/>
                <a:ext cx="390960" cy="598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" name=""/>
            <p:cNvGrpSpPr/>
            <p:nvPr/>
          </p:nvGrpSpPr>
          <p:grpSpPr>
            <a:xfrm>
              <a:off x="7059600" y="5249880"/>
              <a:ext cx="1403280" cy="1289160"/>
              <a:chOff x="7059600" y="5249880"/>
              <a:chExt cx="1403280" cy="1289160"/>
            </a:xfrm>
          </p:grpSpPr>
          <p:sp>
            <p:nvSpPr>
              <p:cNvPr id="235" name=""/>
              <p:cNvSpPr/>
              <p:nvPr/>
            </p:nvSpPr>
            <p:spPr>
              <a:xfrm>
                <a:off x="7329600" y="5631840"/>
                <a:ext cx="337320" cy="238680"/>
              </a:xfrm>
              <a:custGeom>
                <a:avLst/>
                <a:gdLst/>
                <a:ahLst/>
                <a:rect l="l" t="t" r="r" b="b"/>
                <a:pathLst>
                  <a:path w="480" h="336">
                    <a:moveTo>
                      <a:pt x="480" y="336"/>
                    </a:moveTo>
                    <a:lnTo>
                      <a:pt x="336" y="336"/>
                    </a:lnTo>
                    <a:lnTo>
                      <a:pt x="336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329600" y="6060960"/>
                <a:ext cx="337320" cy="238680"/>
              </a:xfrm>
              <a:custGeom>
                <a:avLst/>
                <a:gdLst/>
                <a:ahLst/>
                <a:rect l="l" t="t" r="r" b="b"/>
                <a:pathLst>
                  <a:path w="480" h="336">
                    <a:moveTo>
                      <a:pt x="480" y="336"/>
                    </a:moveTo>
                    <a:lnTo>
                      <a:pt x="336" y="336"/>
                    </a:lnTo>
                    <a:lnTo>
                      <a:pt x="336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7" name="Computer1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59600" y="5249880"/>
                <a:ext cx="402840" cy="62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Computer1" descr=""/>
              <p:cNvPicPr/>
              <p:nvPr/>
            </p:nvPicPr>
            <p:blipFill>
              <a:blip r:embed="rId18"/>
              <a:stretch/>
            </p:blipFill>
            <p:spPr>
              <a:xfrm>
                <a:off x="7059600" y="5917320"/>
                <a:ext cx="402840" cy="62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7647480" y="5817600"/>
                <a:ext cx="238320" cy="312120"/>
              </a:xfrm>
              <a:prstGeom prst="cube">
                <a:avLst>
                  <a:gd name="adj" fmla="val 16208"/>
                </a:avLst>
              </a:prstGeom>
              <a:solidFill>
                <a:srgbClr val="c0c0c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7868880" y="5631840"/>
                <a:ext cx="337320" cy="238680"/>
              </a:xfrm>
              <a:custGeom>
                <a:avLst/>
                <a:gdLst/>
                <a:ahLst/>
                <a:rect l="l" t="t" r="r" b="b"/>
                <a:pathLst>
                  <a:path w="480" h="336">
                    <a:moveTo>
                      <a:pt x="480" y="336"/>
                    </a:moveTo>
                    <a:lnTo>
                      <a:pt x="336" y="336"/>
                    </a:lnTo>
                    <a:lnTo>
                      <a:pt x="336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7868880" y="6060960"/>
                <a:ext cx="337320" cy="238680"/>
              </a:xfrm>
              <a:custGeom>
                <a:avLst/>
                <a:gdLst/>
                <a:ahLst/>
                <a:rect l="l" t="t" r="r" b="b"/>
                <a:pathLst>
                  <a:path w="480" h="336">
                    <a:moveTo>
                      <a:pt x="480" y="336"/>
                    </a:moveTo>
                    <a:lnTo>
                      <a:pt x="336" y="336"/>
                    </a:lnTo>
                    <a:lnTo>
                      <a:pt x="336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2" name="Computer2" descr=""/>
              <p:cNvPicPr/>
              <p:nvPr/>
            </p:nvPicPr>
            <p:blipFill>
              <a:blip r:embed="rId19"/>
              <a:stretch/>
            </p:blipFill>
            <p:spPr>
              <a:xfrm>
                <a:off x="8071920" y="5272560"/>
                <a:ext cx="390960" cy="5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Computer2" descr=""/>
              <p:cNvPicPr/>
              <p:nvPr/>
            </p:nvPicPr>
            <p:blipFill>
              <a:blip r:embed="rId20"/>
              <a:stretch/>
            </p:blipFill>
            <p:spPr>
              <a:xfrm>
                <a:off x="8071920" y="5940360"/>
                <a:ext cx="390960" cy="59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4" name=""/>
          <p:cNvSpPr/>
          <p:nvPr/>
        </p:nvSpPr>
        <p:spPr>
          <a:xfrm>
            <a:off x="990720" y="2438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星形总线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星形环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树型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分层结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895480" y="1828800"/>
          <a:ext cx="4454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828800"/>
                    <a:ext cx="4454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685800" y="838080"/>
            <a:ext cx="7772400" cy="5716800"/>
            <a:chOff x="685800" y="838080"/>
            <a:chExt cx="7772400" cy="5716800"/>
          </a:xfrm>
        </p:grpSpPr>
        <p:pic>
          <p:nvPicPr>
            <p:cNvPr id="250" name="DES-3624_C" descr=""/>
            <p:cNvPicPr/>
            <p:nvPr/>
          </p:nvPicPr>
          <p:blipFill>
            <a:blip r:embed="rId1"/>
            <a:stretch/>
          </p:blipFill>
          <p:spPr>
            <a:xfrm>
              <a:off x="4473720" y="4760640"/>
              <a:ext cx="1223640" cy="6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DES-3624_C" descr=""/>
            <p:cNvPicPr/>
            <p:nvPr/>
          </p:nvPicPr>
          <p:blipFill>
            <a:blip r:embed="rId2"/>
            <a:stretch/>
          </p:blipFill>
          <p:spPr>
            <a:xfrm>
              <a:off x="4468680" y="2627280"/>
              <a:ext cx="122400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DES-3624_C" descr=""/>
            <p:cNvPicPr/>
            <p:nvPr/>
          </p:nvPicPr>
          <p:blipFill>
            <a:blip r:embed="rId3"/>
            <a:stretch/>
          </p:blipFill>
          <p:spPr>
            <a:xfrm>
              <a:off x="4468680" y="1600200"/>
              <a:ext cx="122400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DES-3624_C" descr=""/>
            <p:cNvPicPr/>
            <p:nvPr/>
          </p:nvPicPr>
          <p:blipFill>
            <a:blip r:embed="rId4"/>
            <a:stretch/>
          </p:blipFill>
          <p:spPr>
            <a:xfrm>
              <a:off x="4473720" y="3504960"/>
              <a:ext cx="122364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219320" y="6087960"/>
              <a:ext cx="45720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>
            <a:off x="2513160" y="1815840"/>
            <a:ext cx="588960" cy="470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13160" y="1815840"/>
                      <a:ext cx="58896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"/>
            <p:cNvGraphicFramePr/>
            <p:nvPr/>
          </p:nvGraphicFramePr>
          <p:xfrm>
            <a:off x="1044720" y="1814400"/>
            <a:ext cx="588960" cy="47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44720" y="1814400"/>
                      <a:ext cx="58896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"/>
            <p:cNvSpPr/>
            <p:nvPr/>
          </p:nvSpPr>
          <p:spPr>
            <a:xfrm>
              <a:off x="1752480" y="6011640"/>
              <a:ext cx="88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 Narrow"/>
                </a:rPr>
                <a:t>1000M 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 Narrow"/>
                </a:rPr>
                <a:t>光纤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0" name=""/>
            <p:cNvGraphicFramePr/>
            <p:nvPr/>
          </p:nvGraphicFramePr>
          <p:xfrm>
            <a:off x="1816200" y="1815840"/>
            <a:ext cx="588960" cy="470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16200" y="1815840"/>
                      <a:ext cx="58896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62" name="PC_C" descr=""/>
            <p:cNvPicPr/>
            <p:nvPr/>
          </p:nvPicPr>
          <p:blipFill>
            <a:blip r:embed="rId11"/>
            <a:stretch/>
          </p:blipFill>
          <p:spPr>
            <a:xfrm>
              <a:off x="6988320" y="838080"/>
              <a:ext cx="55548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C_C" descr=""/>
            <p:cNvPicPr/>
            <p:nvPr/>
          </p:nvPicPr>
          <p:blipFill>
            <a:blip r:embed="rId12"/>
            <a:stretch/>
          </p:blipFill>
          <p:spPr>
            <a:xfrm>
              <a:off x="7902720" y="838080"/>
              <a:ext cx="55548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C_C" descr=""/>
            <p:cNvPicPr/>
            <p:nvPr/>
          </p:nvPicPr>
          <p:blipFill>
            <a:blip r:embed="rId13"/>
            <a:stretch/>
          </p:blipFill>
          <p:spPr>
            <a:xfrm>
              <a:off x="6988320" y="1904760"/>
              <a:ext cx="55548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C_C" descr=""/>
            <p:cNvPicPr/>
            <p:nvPr/>
          </p:nvPicPr>
          <p:blipFill>
            <a:blip r:embed="rId14"/>
            <a:stretch/>
          </p:blipFill>
          <p:spPr>
            <a:xfrm>
              <a:off x="7902720" y="1904760"/>
              <a:ext cx="55548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C_C" descr=""/>
            <p:cNvPicPr/>
            <p:nvPr/>
          </p:nvPicPr>
          <p:blipFill>
            <a:blip r:embed="rId15"/>
            <a:stretch/>
          </p:blipFill>
          <p:spPr>
            <a:xfrm>
              <a:off x="6988320" y="3657600"/>
              <a:ext cx="55548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C_C" descr=""/>
            <p:cNvPicPr/>
            <p:nvPr/>
          </p:nvPicPr>
          <p:blipFill>
            <a:blip r:embed="rId16"/>
            <a:stretch/>
          </p:blipFill>
          <p:spPr>
            <a:xfrm>
              <a:off x="7902720" y="3657600"/>
              <a:ext cx="55548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C_C" descr=""/>
            <p:cNvPicPr/>
            <p:nvPr/>
          </p:nvPicPr>
          <p:blipFill>
            <a:blip r:embed="rId17"/>
            <a:stretch/>
          </p:blipFill>
          <p:spPr>
            <a:xfrm>
              <a:off x="6988320" y="4949640"/>
              <a:ext cx="55548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C_C" descr=""/>
            <p:cNvPicPr/>
            <p:nvPr/>
          </p:nvPicPr>
          <p:blipFill>
            <a:blip r:embed="rId18"/>
            <a:stretch/>
          </p:blipFill>
          <p:spPr>
            <a:xfrm>
              <a:off x="7902720" y="4949640"/>
              <a:ext cx="555480" cy="917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70" name=""/>
            <p:cNvCxnSpPr/>
            <p:nvPr/>
          </p:nvCxnSpPr>
          <p:spPr>
            <a:xfrm flipH="1" rot="16200000">
              <a:off x="1399320" y="2249640"/>
              <a:ext cx="519840" cy="619920"/>
            </a:xfrm>
            <a:prstGeom prst="bentConnector3">
              <a:avLst>
                <a:gd name="adj1" fmla="val 49826"/>
              </a:avLst>
            </a:prstGeom>
            <a:ln w="38160">
              <a:solidFill>
                <a:srgbClr val="a50021"/>
              </a:solidFill>
              <a:miter/>
            </a:ln>
          </p:spPr>
        </p:cxnSp>
        <p:cxnSp>
          <p:nvCxnSpPr>
            <p:cNvPr id="271" name=""/>
            <p:cNvCxnSpPr>
              <a:endCxn id="272" idx="0"/>
            </p:cNvCxnSpPr>
            <p:nvPr/>
          </p:nvCxnSpPr>
          <p:spPr>
            <a:xfrm flipV="1" rot="10800000">
              <a:off x="2110680" y="2285640"/>
              <a:ext cx="1080" cy="533880"/>
            </a:xfrm>
            <a:prstGeom prst="bentConnector2">
              <a:avLst/>
            </a:prstGeom>
            <a:ln w="38160">
              <a:solidFill>
                <a:srgbClr val="a50021"/>
              </a:solidFill>
              <a:miter/>
            </a:ln>
          </p:spPr>
        </p:cxnSp>
        <p:cxnSp>
          <p:nvCxnSpPr>
            <p:cNvPr id="273" name=""/>
            <p:cNvCxnSpPr/>
            <p:nvPr/>
          </p:nvCxnSpPr>
          <p:spPr>
            <a:xfrm rot="5400000">
              <a:off x="2344320" y="2214360"/>
              <a:ext cx="533880" cy="6768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a50021"/>
              </a:solidFill>
              <a:miter/>
            </a:ln>
          </p:spPr>
        </p:cxnSp>
        <p:cxnSp>
          <p:nvCxnSpPr>
            <p:cNvPr id="274" name=""/>
            <p:cNvCxnSpPr>
              <a:stCxn id="252" idx="1"/>
            </p:cNvCxnSpPr>
            <p:nvPr/>
          </p:nvCxnSpPr>
          <p:spPr>
            <a:xfrm flipV="1" rot="10800000">
              <a:off x="2663280" y="1924560"/>
              <a:ext cx="1805400" cy="1105560"/>
            </a:xfrm>
            <a:prstGeom prst="bentConnector3">
              <a:avLst>
                <a:gd name="adj1" fmla="val 49860"/>
              </a:avLst>
            </a:prstGeom>
            <a:ln w="38160">
              <a:solidFill>
                <a:srgbClr val="a50021"/>
              </a:solidFill>
              <a:miter/>
            </a:ln>
          </p:spPr>
        </p:cxnSp>
        <p:cxnSp>
          <p:nvCxnSpPr>
            <p:cNvPr id="275" name=""/>
            <p:cNvCxnSpPr/>
            <p:nvPr/>
          </p:nvCxnSpPr>
          <p:spPr>
            <a:xfrm flipV="1" rot="10800000">
              <a:off x="2663280" y="2818080"/>
              <a:ext cx="1805400" cy="383400"/>
            </a:xfrm>
            <a:prstGeom prst="bentConnector3">
              <a:avLst>
                <a:gd name="adj1" fmla="val 40347"/>
              </a:avLst>
            </a:prstGeom>
            <a:ln w="38160">
              <a:solidFill>
                <a:srgbClr val="a50021"/>
              </a:solidFill>
              <a:miter/>
            </a:ln>
          </p:spPr>
        </p:cxnSp>
        <p:cxnSp>
          <p:nvCxnSpPr>
            <p:cNvPr id="276" name=""/>
            <p:cNvCxnSpPr>
              <a:stCxn id="253" idx="1"/>
            </p:cNvCxnSpPr>
            <p:nvPr/>
          </p:nvCxnSpPr>
          <p:spPr>
            <a:xfrm rot="10800000">
              <a:off x="2663280" y="3351960"/>
              <a:ext cx="1810440" cy="478440"/>
            </a:xfrm>
            <a:prstGeom prst="bentConnector3">
              <a:avLst>
                <a:gd name="adj1" fmla="val 41209"/>
              </a:avLst>
            </a:prstGeom>
            <a:ln w="38160">
              <a:solidFill>
                <a:srgbClr val="a50021"/>
              </a:solidFill>
              <a:miter/>
            </a:ln>
          </p:spPr>
        </p:cxnSp>
        <p:cxnSp>
          <p:nvCxnSpPr>
            <p:cNvPr id="277" name=""/>
            <p:cNvCxnSpPr>
              <a:stCxn id="250" idx="1"/>
            </p:cNvCxnSpPr>
            <p:nvPr/>
          </p:nvCxnSpPr>
          <p:spPr>
            <a:xfrm rot="10800000">
              <a:off x="2663280" y="3523320"/>
              <a:ext cx="1810440" cy="15627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a50021"/>
              </a:solidFill>
              <a:miter/>
            </a:ln>
          </p:spPr>
        </p:cxnSp>
        <p:cxnSp>
          <p:nvCxnSpPr>
            <p:cNvPr id="278" name=""/>
            <p:cNvCxnSpPr>
              <a:stCxn id="252" idx="3"/>
              <a:endCxn id="263" idx="2"/>
            </p:cNvCxnSpPr>
            <p:nvPr/>
          </p:nvCxnSpPr>
          <p:spPr>
            <a:xfrm flipV="1">
              <a:off x="5692680" y="1755360"/>
              <a:ext cx="2488320" cy="170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9" name=""/>
            <p:cNvCxnSpPr>
              <a:endCxn id="262" idx="2"/>
            </p:cNvCxnSpPr>
            <p:nvPr/>
          </p:nvCxnSpPr>
          <p:spPr>
            <a:xfrm flipV="1">
              <a:off x="5692680" y="1755360"/>
              <a:ext cx="1573920" cy="16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0" name=""/>
            <p:cNvCxnSpPr>
              <a:stCxn id="251" idx="3"/>
              <a:endCxn id="264" idx="2"/>
            </p:cNvCxnSpPr>
            <p:nvPr/>
          </p:nvCxnSpPr>
          <p:spPr>
            <a:xfrm flipV="1">
              <a:off x="5692680" y="2822040"/>
              <a:ext cx="1573920" cy="131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"/>
            <p:cNvCxnSpPr/>
            <p:nvPr/>
          </p:nvCxnSpPr>
          <p:spPr>
            <a:xfrm flipV="1">
              <a:off x="5692320" y="2666160"/>
              <a:ext cx="233568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/>
            <p:nvPr/>
          </p:nvCxnSpPr>
          <p:spPr>
            <a:xfrm>
              <a:off x="5697000" y="3581280"/>
              <a:ext cx="2483640" cy="108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/>
            <p:nvPr/>
          </p:nvCxnSpPr>
          <p:spPr>
            <a:xfrm>
              <a:off x="5697000" y="3581280"/>
              <a:ext cx="1569240" cy="108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/>
            <p:nvPr/>
          </p:nvCxnSpPr>
          <p:spPr>
            <a:xfrm>
              <a:off x="5697000" y="4873320"/>
              <a:ext cx="1569240" cy="92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/>
            <p:nvPr/>
          </p:nvCxnSpPr>
          <p:spPr>
            <a:xfrm>
              <a:off x="5697000" y="4873320"/>
              <a:ext cx="2483640" cy="92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pic>
          <p:nvPicPr>
            <p:cNvPr id="286" name="PC_C" descr=""/>
            <p:cNvPicPr/>
            <p:nvPr/>
          </p:nvPicPr>
          <p:blipFill>
            <a:blip r:embed="rId19"/>
            <a:stretch/>
          </p:blipFill>
          <p:spPr>
            <a:xfrm>
              <a:off x="1273320" y="4419360"/>
              <a:ext cx="55548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C_C" descr=""/>
            <p:cNvPicPr/>
            <p:nvPr/>
          </p:nvPicPr>
          <p:blipFill>
            <a:blip r:embed="rId20"/>
            <a:stretch/>
          </p:blipFill>
          <p:spPr>
            <a:xfrm>
              <a:off x="2362320" y="4419360"/>
              <a:ext cx="555480" cy="917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88" name=""/>
            <p:cNvCxnSpPr>
              <a:stCxn id="272" idx="2"/>
              <a:endCxn id="287" idx="0"/>
            </p:cNvCxnSpPr>
            <p:nvPr/>
          </p:nvCxnSpPr>
          <p:spPr>
            <a:xfrm flipH="1" rot="16200000">
              <a:off x="2108880" y="3888000"/>
              <a:ext cx="533880" cy="529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rot="5400000">
              <a:off x="1471680" y="3910320"/>
              <a:ext cx="533880" cy="484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3429000" y="3352680"/>
              <a:ext cx="502920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29000" y="4647960"/>
              <a:ext cx="5029200" cy="144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9000" y="838080"/>
              <a:ext cx="5029200" cy="243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2120" y="838080"/>
              <a:ext cx="2590560" cy="502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20760" y="6392880"/>
              <a:ext cx="457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54280" y="630864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 Narrow"/>
                </a:rPr>
                <a:t>100BASE-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5800" y="320040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网络中心</a:t>
              </a:r>
              <a:r>
                <a:rPr b="0" i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/</a:t>
              </a:r>
              <a:r>
                <a:rPr b="0" i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实验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71600" y="990360"/>
              <a:ext cx="1797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服务器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DGE-500SX</a:t>
              </a:r>
              <a:r>
                <a:rPr b="0" lang="zh-CN" sz="1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千兆网卡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DES-6000_C" descr=""/>
            <p:cNvPicPr/>
            <p:nvPr/>
          </p:nvPicPr>
          <p:blipFill>
            <a:blip r:embed="rId21"/>
            <a:stretch/>
          </p:blipFill>
          <p:spPr>
            <a:xfrm>
              <a:off x="1558800" y="2819160"/>
              <a:ext cx="11052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505320" y="9903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教学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05320" y="4190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办公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05320" y="56386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图书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86400" y="5715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40</a:t>
              </a:r>
              <a:r>
                <a:rPr b="0" i="1" lang="zh-CN" sz="1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8680" y="4267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36</a:t>
              </a:r>
              <a:r>
                <a:rPr b="0" i="1" lang="zh-CN" sz="1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67280" y="26668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65</a:t>
              </a:r>
              <a:r>
                <a:rPr b="0" i="1" lang="zh-CN" sz="1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91320" y="1143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68</a:t>
              </a:r>
              <a:r>
                <a:rPr b="0" i="1" lang="zh-CN" sz="1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47920" y="5349600"/>
              <a:ext cx="144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媒体电子教室  </a:t>
              </a:r>
              <a:r>
                <a:rPr b="0" i="1" lang="zh-CN" sz="1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42</a:t>
              </a:r>
              <a:r>
                <a:rPr b="0" i="1" lang="zh-CN" sz="1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90640" y="144756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主域服务器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58520" y="1447560"/>
              <a:ext cx="79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WWW</a:t>
              </a:r>
              <a:r>
                <a:rPr b="0" lang="zh-CN" sz="1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服务器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35040" y="1447560"/>
              <a:ext cx="80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E-Mail</a:t>
              </a:r>
              <a:r>
                <a:rPr b="0" lang="zh-CN" sz="1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服务器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5715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电子阅览室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693240" y="100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域网应用方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5-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网络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762120" y="320040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标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标准化组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3809880" y="2286000"/>
            <a:ext cx="5105520" cy="1676520"/>
          </a:xfrm>
          <a:prstGeom prst="borderCallout2">
            <a:avLst>
              <a:gd name="adj1" fmla="val 18750"/>
              <a:gd name="adj2" fmla="val -8333"/>
              <a:gd name="adj3" fmla="val 6819"/>
              <a:gd name="adj4" fmla="val -1490"/>
              <a:gd name="adj5" fmla="val 104546"/>
              <a:gd name="adj6" fmla="val -18282"/>
            </a:avLst>
          </a:prstGeom>
          <a:solidFill>
            <a:srgbClr val="ffcf01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ISO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International Organization of Standadization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IEEE(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Institute  of Electrical &amp; Electronic Engineer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ITU(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International Telecommunication Union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) IETF(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Internet Engineering Task Force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OSI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参考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7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国际化标准组织提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全称“开放系统互连参考模型”，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Open System Interconnection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又称“概念模型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4343400"/>
            <a:ext cx="3200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-2379"/>
              <a:gd name="adj5" fmla="val -89583"/>
              <a:gd name="adj6" fmla="val -3631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关于网络通信过程的理论化的描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97160" y="771480"/>
            <a:ext cx="4778280" cy="669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应用层</a:t>
            </a: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/Applic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97160" y="1554120"/>
            <a:ext cx="4778280" cy="6714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表示层</a:t>
            </a: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/Present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97160" y="2336760"/>
            <a:ext cx="4778280" cy="671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会话层</a:t>
            </a: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/Sess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97160" y="3121200"/>
            <a:ext cx="4778280" cy="669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传输层</a:t>
            </a: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/Transpor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97160" y="3903840"/>
            <a:ext cx="4778280" cy="67140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5e0075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网络层</a:t>
            </a: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/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97160" y="4686480"/>
            <a:ext cx="4778280" cy="671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数据链路层</a:t>
            </a: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/Data Lin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97160" y="5470560"/>
            <a:ext cx="4778280" cy="6714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物理层</a:t>
            </a:r>
            <a:r>
              <a:rPr b="1" lang="zh-CN" sz="1200" spc="-1" strike="noStrike">
                <a:solidFill>
                  <a:srgbClr val="ffffff"/>
                </a:solidFill>
                <a:latin typeface="Arial Narrow"/>
              </a:rPr>
              <a:t>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5.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各层的功能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应用层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表示层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会话层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传输层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网络层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据链路层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物理层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05320" y="2285640"/>
            <a:ext cx="5333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定义应用程序之间的交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负责编码、解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压缩、加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解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建立、保持、和断开会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数据进行分组，保证数据的传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负责路由选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定义访问方法，保证信号无差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传递电、光信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BD00013_" descr=""/>
          <p:cNvPicPr/>
          <p:nvPr/>
        </p:nvPicPr>
        <p:blipFill>
          <a:blip r:embed="rId1"/>
          <a:stretch/>
        </p:blipFill>
        <p:spPr>
          <a:xfrm>
            <a:off x="1600200" y="0"/>
            <a:ext cx="1371600" cy="2081160"/>
          </a:xfrm>
          <a:prstGeom prst="rect">
            <a:avLst/>
          </a:prstGeom>
          <a:ln w="0">
            <a:noFill/>
          </a:ln>
        </p:spPr>
      </p:pic>
      <p:pic>
        <p:nvPicPr>
          <p:cNvPr id="330" name="BD00017_" descr=""/>
          <p:cNvPicPr/>
          <p:nvPr/>
        </p:nvPicPr>
        <p:blipFill>
          <a:blip r:embed="rId2"/>
          <a:stretch/>
        </p:blipFill>
        <p:spPr>
          <a:xfrm>
            <a:off x="6477120" y="0"/>
            <a:ext cx="7776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3200400" y="457200"/>
            <a:ext cx="3352680" cy="838080"/>
            <a:chOff x="3200400" y="457200"/>
            <a:chExt cx="3352680" cy="838080"/>
          </a:xfrm>
        </p:grpSpPr>
        <p:sp>
          <p:nvSpPr>
            <p:cNvPr id="332" name=""/>
            <p:cNvSpPr/>
            <p:nvPr/>
          </p:nvSpPr>
          <p:spPr>
            <a:xfrm>
              <a:off x="3352680" y="12952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0400" y="457200"/>
              <a:ext cx="914400" cy="5335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情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4648320" y="228600"/>
            <a:ext cx="1523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应用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68240" y="2057400"/>
            <a:ext cx="2432160" cy="1600200"/>
            <a:chOff x="768240" y="2057400"/>
            <a:chExt cx="2432160" cy="1600200"/>
          </a:xfrm>
        </p:grpSpPr>
        <p:pic>
          <p:nvPicPr>
            <p:cNvPr id="336" name="PE01753_" descr=""/>
            <p:cNvPicPr/>
            <p:nvPr/>
          </p:nvPicPr>
          <p:blipFill>
            <a:blip r:embed="rId3"/>
            <a:stretch/>
          </p:blipFill>
          <p:spPr>
            <a:xfrm>
              <a:off x="768240" y="2438280"/>
              <a:ext cx="9381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209680" y="20574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86000" y="2133720"/>
              <a:ext cx="914400" cy="5331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429000" y="2057400"/>
            <a:ext cx="1523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表示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14440" y="3657600"/>
            <a:ext cx="2305080" cy="2716200"/>
            <a:chOff x="514440" y="3657600"/>
            <a:chExt cx="2305080" cy="2716200"/>
          </a:xfrm>
        </p:grpSpPr>
        <p:pic>
          <p:nvPicPr>
            <p:cNvPr id="341" name="BD07153_" descr=""/>
            <p:cNvPicPr/>
            <p:nvPr/>
          </p:nvPicPr>
          <p:blipFill>
            <a:blip r:embed="rId4"/>
            <a:stretch/>
          </p:blipFill>
          <p:spPr>
            <a:xfrm>
              <a:off x="514440" y="4800600"/>
              <a:ext cx="143676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752480" y="36576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05120" y="4038480"/>
              <a:ext cx="914400" cy="5335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请快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4" name="PE01616_" descr=""/>
          <p:cNvPicPr/>
          <p:nvPr/>
        </p:nvPicPr>
        <p:blipFill>
          <a:blip r:embed="rId5"/>
          <a:stretch/>
        </p:blipFill>
        <p:spPr>
          <a:xfrm>
            <a:off x="3733920" y="4952880"/>
            <a:ext cx="1444680" cy="19051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828800" y="50292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会话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38480" y="4191120"/>
            <a:ext cx="9144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打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5053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传输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24680" y="5715000"/>
            <a:ext cx="9144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问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01000" y="502920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网络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257800" y="5105520"/>
            <a:ext cx="2638440" cy="1371600"/>
            <a:chOff x="5257800" y="5105520"/>
            <a:chExt cx="2638440" cy="1371600"/>
          </a:xfrm>
        </p:grpSpPr>
        <p:pic>
          <p:nvPicPr>
            <p:cNvPr id="352" name="BD04912_" descr=""/>
            <p:cNvPicPr/>
            <p:nvPr/>
          </p:nvPicPr>
          <p:blipFill>
            <a:blip r:embed="rId6"/>
            <a:srcRect l="10996" t="50598" r="28560" b="0"/>
            <a:stretch/>
          </p:blipFill>
          <p:spPr>
            <a:xfrm>
              <a:off x="6781680" y="5105520"/>
              <a:ext cx="11145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257800" y="57150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791320" y="3429000"/>
            <a:ext cx="182880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遵守交通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28195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据链路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781680" y="914040"/>
            <a:ext cx="1905120" cy="1981440"/>
            <a:chOff x="6781680" y="914040"/>
            <a:chExt cx="1905120" cy="1981440"/>
          </a:xfrm>
        </p:grpSpPr>
        <p:sp>
          <p:nvSpPr>
            <p:cNvPr id="357" name=""/>
            <p:cNvSpPr/>
            <p:nvPr/>
          </p:nvSpPr>
          <p:spPr>
            <a:xfrm flipV="1">
              <a:off x="8153280" y="1981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781680" y="914040"/>
              <a:ext cx="1905120" cy="1600560"/>
              <a:chOff x="6781680" y="914040"/>
              <a:chExt cx="1905120" cy="1600560"/>
            </a:xfrm>
          </p:grpSpPr>
          <p:pic>
            <p:nvPicPr>
              <p:cNvPr id="359" name="BD04914_" descr=""/>
              <p:cNvPicPr/>
              <p:nvPr/>
            </p:nvPicPr>
            <p:blipFill>
              <a:blip r:embed="rId7"/>
              <a:stretch/>
            </p:blipFill>
            <p:spPr>
              <a:xfrm>
                <a:off x="7696080" y="1249200"/>
                <a:ext cx="990720" cy="67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flipH="1" flipV="1">
                <a:off x="7467480" y="91404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81680" y="1981080"/>
                <a:ext cx="914400" cy="53352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送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>
            <a:off x="7620120" y="380880"/>
            <a:ext cx="12189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物理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7620120" y="2743200"/>
            <a:ext cx="1295280" cy="2057040"/>
            <a:chOff x="7620120" y="2743200"/>
            <a:chExt cx="1295280" cy="2057040"/>
          </a:xfrm>
        </p:grpSpPr>
        <p:pic>
          <p:nvPicPr>
            <p:cNvPr id="364" name="BD07304_" descr=""/>
            <p:cNvPicPr/>
            <p:nvPr/>
          </p:nvPicPr>
          <p:blipFill>
            <a:blip r:embed="rId8"/>
            <a:stretch/>
          </p:blipFill>
          <p:spPr>
            <a:xfrm>
              <a:off x="7620120" y="2743200"/>
              <a:ext cx="129528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 flipV="1">
              <a:off x="8229600" y="4190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4-</a:t>
            </a: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网络拓扑结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5.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各层间的关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每一层的目的就是为邻近的上层提供服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相邻层之间的交涉都通过接口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0" y="2514600"/>
            <a:ext cx="76212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43600" y="2514600"/>
            <a:ext cx="9144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应用层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943600" y="3048120"/>
            <a:ext cx="1676520" cy="380880"/>
            <a:chOff x="5943600" y="3048120"/>
            <a:chExt cx="1676520" cy="380880"/>
          </a:xfrm>
        </p:grpSpPr>
        <p:sp>
          <p:nvSpPr>
            <p:cNvPr id="371" name=""/>
            <p:cNvSpPr/>
            <p:nvPr/>
          </p:nvSpPr>
          <p:spPr>
            <a:xfrm>
              <a:off x="6858000" y="3048120"/>
              <a:ext cx="76212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43600" y="3048120"/>
              <a:ext cx="9144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800600" y="304812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示层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800600" y="3581280"/>
            <a:ext cx="2819520" cy="381240"/>
            <a:chOff x="4800600" y="3581280"/>
            <a:chExt cx="2819520" cy="381240"/>
          </a:xfrm>
        </p:grpSpPr>
        <p:sp>
          <p:nvSpPr>
            <p:cNvPr id="375" name=""/>
            <p:cNvSpPr/>
            <p:nvPr/>
          </p:nvSpPr>
          <p:spPr>
            <a:xfrm>
              <a:off x="6858000" y="3581280"/>
              <a:ext cx="76212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43600" y="3581280"/>
              <a:ext cx="91440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00600" y="3581280"/>
              <a:ext cx="114300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809880" y="3581280"/>
            <a:ext cx="99072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会话层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809880" y="4114800"/>
            <a:ext cx="3810240" cy="380880"/>
            <a:chOff x="3809880" y="4114800"/>
            <a:chExt cx="3810240" cy="380880"/>
          </a:xfrm>
        </p:grpSpPr>
        <p:sp>
          <p:nvSpPr>
            <p:cNvPr id="380" name=""/>
            <p:cNvSpPr/>
            <p:nvPr/>
          </p:nvSpPr>
          <p:spPr>
            <a:xfrm>
              <a:off x="5943600" y="4114800"/>
              <a:ext cx="9144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58000" y="4114800"/>
              <a:ext cx="76212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00600" y="4114800"/>
              <a:ext cx="114300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9880" y="4114800"/>
              <a:ext cx="99072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971800" y="4114800"/>
            <a:ext cx="8380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传输层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971800" y="4648320"/>
            <a:ext cx="4648320" cy="380880"/>
            <a:chOff x="2971800" y="4648320"/>
            <a:chExt cx="4648320" cy="380880"/>
          </a:xfrm>
        </p:grpSpPr>
        <p:sp>
          <p:nvSpPr>
            <p:cNvPr id="386" name=""/>
            <p:cNvSpPr/>
            <p:nvPr/>
          </p:nvSpPr>
          <p:spPr>
            <a:xfrm>
              <a:off x="5943600" y="4648320"/>
              <a:ext cx="9144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58000" y="4648320"/>
              <a:ext cx="76212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00600" y="4648320"/>
              <a:ext cx="114300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09880" y="4648320"/>
              <a:ext cx="99072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71800" y="4648320"/>
              <a:ext cx="838080" cy="380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209680" y="4648320"/>
            <a:ext cx="7621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网络层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209680" y="5181480"/>
            <a:ext cx="5410440" cy="381240"/>
            <a:chOff x="2209680" y="5181480"/>
            <a:chExt cx="5410440" cy="381240"/>
          </a:xfrm>
        </p:grpSpPr>
        <p:sp>
          <p:nvSpPr>
            <p:cNvPr id="393" name=""/>
            <p:cNvSpPr/>
            <p:nvPr/>
          </p:nvSpPr>
          <p:spPr>
            <a:xfrm>
              <a:off x="5943600" y="5181480"/>
              <a:ext cx="91440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0" y="5181480"/>
              <a:ext cx="76212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00600" y="5181480"/>
              <a:ext cx="114300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9880" y="5181480"/>
              <a:ext cx="99072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1800" y="5181480"/>
              <a:ext cx="83808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09680" y="5181480"/>
              <a:ext cx="76212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914400" y="5181480"/>
            <a:ext cx="12952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链路层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914400" y="5715000"/>
            <a:ext cx="6705720" cy="380880"/>
            <a:chOff x="914400" y="5715000"/>
            <a:chExt cx="6705720" cy="380880"/>
          </a:xfrm>
        </p:grpSpPr>
        <p:sp>
          <p:nvSpPr>
            <p:cNvPr id="401" name=""/>
            <p:cNvSpPr/>
            <p:nvPr/>
          </p:nvSpPr>
          <p:spPr>
            <a:xfrm>
              <a:off x="5943600" y="5715000"/>
              <a:ext cx="9144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58000" y="5715000"/>
              <a:ext cx="76212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00600" y="5715000"/>
              <a:ext cx="114300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09880" y="5715000"/>
              <a:ext cx="99072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71800" y="5715000"/>
              <a:ext cx="838080" cy="380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09680" y="5715000"/>
              <a:ext cx="76212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14400" y="5715000"/>
              <a:ext cx="12952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077320" y="25909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6095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物理线上的数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296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2960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296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22960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296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53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50920" y="617400"/>
            <a:ext cx="7792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5.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通讯过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791320" y="3276720"/>
            <a:ext cx="2900160" cy="261720"/>
          </a:xfrm>
          <a:custGeom>
            <a:avLst/>
            <a:gdLst/>
            <a:ahLst/>
            <a:rect l="l" t="t" r="r" b="b"/>
            <a:pathLst>
              <a:path w="1827" h="165">
                <a:moveTo>
                  <a:pt x="0" y="0"/>
                </a:moveTo>
                <a:lnTo>
                  <a:pt x="486" y="133"/>
                </a:lnTo>
                <a:lnTo>
                  <a:pt x="1827" y="165"/>
                </a:lnTo>
                <a:lnTo>
                  <a:pt x="1827" y="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86240" y="4876200"/>
            <a:ext cx="34005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数据链路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48520" y="4885920"/>
            <a:ext cx="243828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网络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71760" y="1905120"/>
            <a:ext cx="43812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357280" y="1417680"/>
            <a:ext cx="731880" cy="571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752480" y="2743200"/>
            <a:ext cx="19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2480" y="2295000"/>
            <a:ext cx="190188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应用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24040" y="2705040"/>
            <a:ext cx="1933560" cy="190440"/>
          </a:xfrm>
          <a:custGeom>
            <a:avLst/>
            <a:gdLst/>
            <a:ahLst/>
            <a:rect l="l" t="t" r="r" b="b"/>
            <a:pathLst>
              <a:path w="1218" h="120">
                <a:moveTo>
                  <a:pt x="0" y="0"/>
                </a:moveTo>
                <a:lnTo>
                  <a:pt x="30" y="120"/>
                </a:lnTo>
                <a:lnTo>
                  <a:pt x="1188" y="108"/>
                </a:lnTo>
                <a:lnTo>
                  <a:pt x="121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98480" y="2915640"/>
            <a:ext cx="190188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应用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945520"/>
            <a:ext cx="86832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表示层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62120" y="2895480"/>
            <a:ext cx="2869920" cy="379440"/>
            <a:chOff x="762120" y="2895480"/>
            <a:chExt cx="2869920" cy="379440"/>
          </a:xfrm>
        </p:grpSpPr>
        <p:sp>
          <p:nvSpPr>
            <p:cNvPr id="429" name=""/>
            <p:cNvSpPr/>
            <p:nvPr/>
          </p:nvSpPr>
          <p:spPr>
            <a:xfrm>
              <a:off x="762120" y="2909160"/>
              <a:ext cx="286992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表示层头             应用层数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41320" y="289548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62120" y="3284640"/>
            <a:ext cx="2900160" cy="261720"/>
          </a:xfrm>
          <a:custGeom>
            <a:avLst/>
            <a:gdLst/>
            <a:ahLst/>
            <a:rect l="l" t="t" r="r" b="b"/>
            <a:pathLst>
              <a:path w="1827" h="165">
                <a:moveTo>
                  <a:pt x="0" y="0"/>
                </a:moveTo>
                <a:lnTo>
                  <a:pt x="486" y="133"/>
                </a:lnTo>
                <a:lnTo>
                  <a:pt x="1827" y="165"/>
                </a:lnTo>
                <a:lnTo>
                  <a:pt x="1827" y="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3514320"/>
            <a:ext cx="21715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表示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3537720"/>
            <a:ext cx="83808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传输层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33520" y="3514320"/>
            <a:ext cx="3085920" cy="386280"/>
            <a:chOff x="533520" y="3514320"/>
            <a:chExt cx="3085920" cy="386280"/>
          </a:xfrm>
        </p:grpSpPr>
        <p:sp>
          <p:nvSpPr>
            <p:cNvPr id="435" name=""/>
            <p:cNvSpPr/>
            <p:nvPr/>
          </p:nvSpPr>
          <p:spPr>
            <a:xfrm>
              <a:off x="533520" y="3514320"/>
              <a:ext cx="308592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传输层头                 表示层数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23880" y="3515040"/>
              <a:ext cx="0" cy="3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33520" y="3889440"/>
            <a:ext cx="3128760" cy="266760"/>
          </a:xfrm>
          <a:custGeom>
            <a:avLst/>
            <a:gdLst/>
            <a:ahLst/>
            <a:rect l="l" t="t" r="r" b="b"/>
            <a:pathLst>
              <a:path w="1827" h="168">
                <a:moveTo>
                  <a:pt x="0" y="0"/>
                </a:moveTo>
                <a:lnTo>
                  <a:pt x="468" y="168"/>
                </a:lnTo>
                <a:lnTo>
                  <a:pt x="1827" y="165"/>
                </a:lnTo>
                <a:lnTo>
                  <a:pt x="1827" y="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52520" y="4161960"/>
            <a:ext cx="226368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网络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4188600"/>
            <a:ext cx="83844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网络层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80880" y="4114800"/>
            <a:ext cx="3254400" cy="380880"/>
            <a:chOff x="380880" y="4114800"/>
            <a:chExt cx="3254400" cy="380880"/>
          </a:xfrm>
        </p:grpSpPr>
        <p:sp>
          <p:nvSpPr>
            <p:cNvPr id="441" name=""/>
            <p:cNvSpPr/>
            <p:nvPr/>
          </p:nvSpPr>
          <p:spPr>
            <a:xfrm>
              <a:off x="380880" y="4123800"/>
              <a:ext cx="325440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网络层头                    传输层数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9528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80880" y="4533840"/>
            <a:ext cx="3281400" cy="295200"/>
          </a:xfrm>
          <a:custGeom>
            <a:avLst/>
            <a:gdLst/>
            <a:ahLst/>
            <a:rect l="l" t="t" r="r" b="b"/>
            <a:pathLst>
              <a:path w="1827" h="168">
                <a:moveTo>
                  <a:pt x="0" y="0"/>
                </a:moveTo>
                <a:lnTo>
                  <a:pt x="468" y="168"/>
                </a:lnTo>
                <a:lnTo>
                  <a:pt x="1827" y="165"/>
                </a:lnTo>
                <a:lnTo>
                  <a:pt x="1827" y="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4841280"/>
            <a:ext cx="243828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网络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3520" y="4850280"/>
            <a:ext cx="87948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cc"/>
                </a:solidFill>
                <a:latin typeface="Times New Roman"/>
              </a:rPr>
              <a:t>数据链路层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28600" y="4733280"/>
            <a:ext cx="3400560" cy="550440"/>
            <a:chOff x="228600" y="4733280"/>
            <a:chExt cx="3400560" cy="550440"/>
          </a:xfrm>
        </p:grpSpPr>
        <p:sp>
          <p:nvSpPr>
            <p:cNvPr id="447" name=""/>
            <p:cNvSpPr/>
            <p:nvPr/>
          </p:nvSpPr>
          <p:spPr>
            <a:xfrm>
              <a:off x="228600" y="4733280"/>
              <a:ext cx="3400560" cy="550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数据链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层头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                网络层数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14560" y="4920480"/>
              <a:ext cx="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28600" y="5216400"/>
            <a:ext cx="3433680" cy="295560"/>
          </a:xfrm>
          <a:custGeom>
            <a:avLst/>
            <a:gdLst/>
            <a:ahLst/>
            <a:rect l="l" t="t" r="r" b="b"/>
            <a:pathLst>
              <a:path w="1827" h="168">
                <a:moveTo>
                  <a:pt x="0" y="0"/>
                </a:moveTo>
                <a:lnTo>
                  <a:pt x="468" y="168"/>
                </a:lnTo>
                <a:lnTo>
                  <a:pt x="1827" y="165"/>
                </a:lnTo>
                <a:lnTo>
                  <a:pt x="1827" y="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28880" y="5520960"/>
            <a:ext cx="26287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101110101001000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6095880"/>
            <a:ext cx="4724280" cy="381240"/>
          </a:xfrm>
          <a:custGeom>
            <a:avLst/>
            <a:gdLst>
              <a:gd name="textAreaLeft" fmla="*/ 738000 w 4724280"/>
              <a:gd name="textAreaRight" fmla="*/ 4133880 w 47242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58080" y="5520960"/>
            <a:ext cx="26287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101110101001000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3120" y="5224320"/>
            <a:ext cx="3433680" cy="295560"/>
          </a:xfrm>
          <a:custGeom>
            <a:avLst/>
            <a:gdLst/>
            <a:ahLst/>
            <a:rect l="l" t="t" r="r" b="b"/>
            <a:pathLst>
              <a:path w="1827" h="168">
                <a:moveTo>
                  <a:pt x="0" y="0"/>
                </a:moveTo>
                <a:lnTo>
                  <a:pt x="468" y="168"/>
                </a:lnTo>
                <a:lnTo>
                  <a:pt x="1827" y="165"/>
                </a:lnTo>
                <a:lnTo>
                  <a:pt x="1827" y="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4890240"/>
            <a:ext cx="124164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Times New Roman"/>
              </a:rPr>
              <a:t>数据链路层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10080" y="4572000"/>
            <a:ext cx="3281400" cy="295200"/>
          </a:xfrm>
          <a:custGeom>
            <a:avLst/>
            <a:gdLst/>
            <a:ahLst/>
            <a:rect l="l" t="t" r="r" b="b"/>
            <a:pathLst>
              <a:path w="1827" h="168">
                <a:moveTo>
                  <a:pt x="0" y="0"/>
                </a:moveTo>
                <a:lnTo>
                  <a:pt x="468" y="168"/>
                </a:lnTo>
                <a:lnTo>
                  <a:pt x="1827" y="165"/>
                </a:lnTo>
                <a:lnTo>
                  <a:pt x="1827" y="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32400" y="4200120"/>
            <a:ext cx="325440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网络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21120000">
            <a:off x="4879800" y="4837320"/>
            <a:ext cx="12877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数据链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层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4212720"/>
            <a:ext cx="243828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传输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4200120"/>
            <a:ext cx="12193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网络层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7680" y="3924360"/>
            <a:ext cx="3129120" cy="266760"/>
          </a:xfrm>
          <a:custGeom>
            <a:avLst/>
            <a:gdLst/>
            <a:ahLst/>
            <a:rect l="l" t="t" r="r" b="b"/>
            <a:pathLst>
              <a:path w="1827" h="168">
                <a:moveTo>
                  <a:pt x="0" y="0"/>
                </a:moveTo>
                <a:lnTo>
                  <a:pt x="468" y="168"/>
                </a:lnTo>
                <a:lnTo>
                  <a:pt x="1827" y="165"/>
                </a:lnTo>
                <a:lnTo>
                  <a:pt x="1827" y="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21120000">
            <a:off x="5028840" y="4276080"/>
            <a:ext cx="114300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网络层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00880" y="3514320"/>
            <a:ext cx="30859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传输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77120" y="3526920"/>
            <a:ext cx="21715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表示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57800" y="3526920"/>
            <a:ext cx="114300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传输层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21120000">
            <a:off x="5257440" y="3590280"/>
            <a:ext cx="114300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传输层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16520" y="2909520"/>
            <a:ext cx="287028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表示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904480"/>
            <a:ext cx="190188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应用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62720" y="2904480"/>
            <a:ext cx="10969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表示层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21120000">
            <a:off x="5562360" y="2904480"/>
            <a:ext cx="102060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表示层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81680" y="2705040"/>
            <a:ext cx="1933560" cy="190440"/>
          </a:xfrm>
          <a:custGeom>
            <a:avLst/>
            <a:gdLst/>
            <a:ahLst/>
            <a:rect l="l" t="t" r="r" b="b"/>
            <a:pathLst>
              <a:path w="1218" h="120">
                <a:moveTo>
                  <a:pt x="0" y="0"/>
                </a:moveTo>
                <a:lnTo>
                  <a:pt x="30" y="120"/>
                </a:lnTo>
                <a:lnTo>
                  <a:pt x="1188" y="108"/>
                </a:lnTo>
                <a:lnTo>
                  <a:pt x="121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84920" y="2320560"/>
            <a:ext cx="190188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应用层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0800000">
            <a:off x="7543440" y="1980720"/>
            <a:ext cx="4381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7391520" y="1409760"/>
            <a:ext cx="731880" cy="571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4419720" y="1523880"/>
            <a:ext cx="0" cy="4419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2330280"/>
            <a:ext cx="10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--</a:t>
            </a: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应用层</a:t>
            </a: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2940120"/>
            <a:ext cx="10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--</a:t>
            </a: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表示层</a:t>
            </a: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3549600"/>
            <a:ext cx="10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--</a:t>
            </a: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传输层</a:t>
            </a: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70360" y="4159080"/>
            <a:ext cx="11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--</a:t>
            </a: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网络层</a:t>
            </a: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4800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-</a:t>
            </a: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数据链路层</a:t>
            </a: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5530680"/>
            <a:ext cx="10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--</a:t>
            </a: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物理层</a:t>
            </a:r>
            <a:r>
              <a:rPr b="0" lang="zh-CN" sz="1600" spc="-1" strike="noStrike">
                <a:solidFill>
                  <a:srgbClr val="3333cc"/>
                </a:solidFill>
                <a:latin typeface="Arial Narrow"/>
              </a:rPr>
              <a:t>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9-5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5105160" cy="41148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990720" y="2814480"/>
            <a:ext cx="91440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参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2592360"/>
            <a:ext cx="1374480" cy="4348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应用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3027240"/>
            <a:ext cx="1374480" cy="4352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表示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3720" y="3462480"/>
            <a:ext cx="1374480" cy="4348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会话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33720" y="3897360"/>
            <a:ext cx="1374480" cy="4334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传输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4330800"/>
            <a:ext cx="1374480" cy="4348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网络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765680"/>
            <a:ext cx="1374480" cy="4348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数据链路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5200560"/>
            <a:ext cx="1374480" cy="4352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物理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9880" y="3048120"/>
            <a:ext cx="0" cy="2454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763120" y="3032280"/>
            <a:ext cx="0" cy="2382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5410080"/>
            <a:ext cx="4876920" cy="5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90720" y="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逻辑上是两台机器对应层之间的通信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物理上通信只发生在一台机器的相邻层之间，除了最底层外，没有哪一层可以与另一计算机上的对等层直接传递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6-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网络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什么是协议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协议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是为进行网络中的数据交换（通信）而建立的规则、标准或约定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协议是通信各方共同遵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426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6.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协议的类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2743200"/>
            <a:ext cx="1828800" cy="1143000"/>
          </a:xfrm>
          <a:prstGeom prst="wedgeRectCallout">
            <a:avLst>
              <a:gd name="adj1" fmla="val -124912"/>
              <a:gd name="adj2" fmla="val -5861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放协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私有协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29200" y="4343400"/>
            <a:ext cx="2209680" cy="1143000"/>
          </a:xfrm>
          <a:prstGeom prst="wedgeRectCallout">
            <a:avLst>
              <a:gd name="adj1" fmla="val -131754"/>
              <a:gd name="adj2" fmla="val -1555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路由协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路由协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作用范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1066680" y="42670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是否提供路由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5410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ahoma"/>
              </a:rPr>
              <a:t>6.3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</a:rPr>
              <a:t>常用协议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.3.1 TCP/I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传输控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/Intern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协议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.3.2 IPX/SPX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.3.3  NETBIOS/NetBEUI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.3.4 AppleTal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.3.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其它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6.4 TCP/IP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协议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651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协议栈（一组共同工作的协议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2819520"/>
            <a:ext cx="5867280" cy="3301560"/>
          </a:xfrm>
          <a:prstGeom prst="rect">
            <a:avLst/>
          </a:prstGeom>
          <a:solidFill>
            <a:srgbClr val="ffcf01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良好的破坏恢复机制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中断现有服务并加入网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高效的错误处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平台无关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低数据开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457200" y="1066680"/>
            <a:ext cx="8305920" cy="4798800"/>
            <a:chOff x="457200" y="1066680"/>
            <a:chExt cx="8305920" cy="4798800"/>
          </a:xfrm>
        </p:grpSpPr>
        <p:sp>
          <p:nvSpPr>
            <p:cNvPr id="509" name=""/>
            <p:cNvSpPr/>
            <p:nvPr/>
          </p:nvSpPr>
          <p:spPr>
            <a:xfrm>
              <a:off x="457200" y="1066680"/>
              <a:ext cx="8153280" cy="4713120"/>
            </a:xfrm>
            <a:prstGeom prst="rect">
              <a:avLst/>
            </a:prstGeom>
            <a:gradFill rotWithShape="0">
              <a:gsLst>
                <a:gs pos="0">
                  <a:srgbClr val="f2f9fe"/>
                </a:gs>
                <a:gs pos="100000">
                  <a:srgbClr val="ccecff"/>
                </a:gs>
              </a:gsLst>
              <a:lin ang="5400000"/>
            </a:gra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6520" y="1066680"/>
              <a:ext cx="14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SI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87080" y="1142640"/>
              <a:ext cx="180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/IP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953240" y="1066680"/>
              <a:ext cx="279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/IP Protocol Su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9000" y="1442880"/>
              <a:ext cx="349920" cy="39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f5f5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f5f5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f5f5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f5f5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f5f5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f5f5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f5f5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86000" y="1580760"/>
              <a:ext cx="1371600" cy="1457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1e7f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cc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86000" y="3209760"/>
              <a:ext cx="1371600" cy="684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1e7f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cc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2120" y="1580760"/>
              <a:ext cx="1371600" cy="428760"/>
            </a:xfrm>
            <a:prstGeom prst="rect">
              <a:avLst/>
            </a:prstGeom>
            <a:gradFill rotWithShape="0">
              <a:gsLst>
                <a:gs pos="0">
                  <a:srgbClr val="e7d18e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996633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2095200"/>
              <a:ext cx="1371600" cy="428760"/>
            </a:xfrm>
            <a:prstGeom prst="rect">
              <a:avLst/>
            </a:prstGeom>
            <a:gradFill rotWithShape="0">
              <a:gsLst>
                <a:gs pos="0">
                  <a:srgbClr val="e7d18e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996633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2120" y="2609640"/>
              <a:ext cx="1371600" cy="428760"/>
            </a:xfrm>
            <a:prstGeom prst="rect">
              <a:avLst/>
            </a:prstGeom>
            <a:gradFill rotWithShape="0">
              <a:gsLst>
                <a:gs pos="0">
                  <a:srgbClr val="e7d18e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996633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2120" y="3381120"/>
              <a:ext cx="1371600" cy="426960"/>
            </a:xfrm>
            <a:prstGeom prst="rect">
              <a:avLst/>
            </a:prstGeom>
            <a:gradFill rotWithShape="0">
              <a:gsLst>
                <a:gs pos="0">
                  <a:srgbClr val="e7d18e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996633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62120" y="4151160"/>
              <a:ext cx="1371600" cy="428400"/>
            </a:xfrm>
            <a:prstGeom prst="rect">
              <a:avLst/>
            </a:prstGeom>
            <a:gradFill rotWithShape="0">
              <a:gsLst>
                <a:gs pos="0">
                  <a:srgbClr val="e7d18e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996633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2120" y="4922640"/>
              <a:ext cx="1371600" cy="428760"/>
            </a:xfrm>
            <a:prstGeom prst="rect">
              <a:avLst/>
            </a:prstGeom>
            <a:gradFill rotWithShape="0">
              <a:gsLst>
                <a:gs pos="0">
                  <a:srgbClr val="e7d18e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996633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56565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2120" y="5437080"/>
              <a:ext cx="1371600" cy="428400"/>
            </a:xfrm>
            <a:prstGeom prst="rect">
              <a:avLst/>
            </a:prstGeom>
            <a:gradFill rotWithShape="0">
              <a:gsLst>
                <a:gs pos="0">
                  <a:srgbClr val="e7d18e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996633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56565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09880" y="2609640"/>
              <a:ext cx="762120" cy="428760"/>
            </a:xfrm>
            <a:prstGeom prst="rect">
              <a:avLst/>
            </a:prstGeom>
            <a:gradFill rotWithShape="0">
              <a:gsLst>
                <a:gs pos="0">
                  <a:srgbClr val="fed1d1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7c80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56565"/>
                  </a:solidFill>
                  <a:latin typeface="Arial"/>
                </a:rPr>
                <a:t>Tel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48320" y="2609640"/>
              <a:ext cx="761760" cy="428760"/>
            </a:xfrm>
            <a:prstGeom prst="rect">
              <a:avLst/>
            </a:prstGeom>
            <a:gradFill rotWithShape="0">
              <a:gsLst>
                <a:gs pos="0">
                  <a:srgbClr val="fed1d1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7c80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56565"/>
                  </a:solidFill>
                  <a:latin typeface="Arial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86400" y="2609640"/>
              <a:ext cx="762120" cy="428760"/>
            </a:xfrm>
            <a:prstGeom prst="rect">
              <a:avLst/>
            </a:prstGeom>
            <a:gradFill rotWithShape="0">
              <a:gsLst>
                <a:gs pos="0">
                  <a:srgbClr val="fed1d1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7c80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56565"/>
                  </a:solidFill>
                  <a:latin typeface="Arial"/>
                </a:rPr>
                <a:t>SM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24480" y="2609640"/>
              <a:ext cx="762120" cy="428760"/>
            </a:xfrm>
            <a:prstGeom prst="rect">
              <a:avLst/>
            </a:prstGeom>
            <a:gradFill rotWithShape="0">
              <a:gsLst>
                <a:gs pos="0">
                  <a:srgbClr val="fed1d1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7c80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62920" y="2609640"/>
              <a:ext cx="761760" cy="428760"/>
            </a:xfrm>
            <a:prstGeom prst="rect">
              <a:avLst/>
            </a:prstGeom>
            <a:gradFill rotWithShape="0">
              <a:gsLst>
                <a:gs pos="0">
                  <a:srgbClr val="fed1d1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7c80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001000" y="2609640"/>
              <a:ext cx="762120" cy="428760"/>
            </a:xfrm>
            <a:prstGeom prst="rect">
              <a:avLst/>
            </a:prstGeom>
            <a:gradFill rotWithShape="0">
              <a:gsLst>
                <a:gs pos="0">
                  <a:srgbClr val="fed1d1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7c80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N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09880" y="3209760"/>
              <a:ext cx="2438640" cy="684000"/>
            </a:xfrm>
            <a:prstGeom prst="rect">
              <a:avLst/>
            </a:prstGeom>
            <a:gradFill rotWithShape="0">
              <a:gsLst>
                <a:gs pos="0">
                  <a:srgbClr val="fed1d1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7c80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24480" y="3209760"/>
              <a:ext cx="2438640" cy="684000"/>
            </a:xfrm>
            <a:prstGeom prst="rect">
              <a:avLst/>
            </a:prstGeom>
            <a:gradFill rotWithShape="0">
              <a:gsLst>
                <a:gs pos="0">
                  <a:srgbClr val="fed1d1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7c80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09880" y="4065480"/>
              <a:ext cx="4953240" cy="685800"/>
            </a:xfrm>
            <a:prstGeom prst="rect">
              <a:avLst/>
            </a:prstGeom>
            <a:gradFill rotWithShape="0">
              <a:gsLst>
                <a:gs pos="0">
                  <a:srgbClr val="fed1d1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7c80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09880" y="4322520"/>
              <a:ext cx="762120" cy="428760"/>
            </a:xfrm>
            <a:prstGeom prst="rect">
              <a:avLst/>
            </a:prstGeom>
            <a:gradFill rotWithShape="0">
              <a:gsLst>
                <a:gs pos="0">
                  <a:srgbClr val="8ebbbb"/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R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4065480"/>
              <a:ext cx="762120" cy="428400"/>
            </a:xfrm>
            <a:prstGeom prst="rect">
              <a:avLst/>
            </a:prstGeom>
            <a:gradFill rotWithShape="0">
              <a:gsLst>
                <a:gs pos="0">
                  <a:srgbClr val="8ebbbb"/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C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238880" y="4065480"/>
              <a:ext cx="762120" cy="428400"/>
            </a:xfrm>
            <a:prstGeom prst="rect">
              <a:avLst/>
            </a:prstGeom>
            <a:gradFill rotWithShape="0">
              <a:gsLst>
                <a:gs pos="0">
                  <a:srgbClr val="8ebbbb"/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G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09880" y="4922640"/>
              <a:ext cx="1143000" cy="942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8ee7d1"/>
                </a:gs>
              </a:gsLst>
              <a:lin ang="5400000"/>
            </a:gradFill>
            <a:ln w="9360">
              <a:solidFill>
                <a:srgbClr val="006666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56565"/>
                  </a:solidFill>
                  <a:latin typeface="Arial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29200" y="4922640"/>
              <a:ext cx="1219320" cy="942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8ee7d1"/>
                </a:gs>
              </a:gsLst>
              <a:lin ang="5400000"/>
            </a:gradFill>
            <a:ln w="9360">
              <a:solidFill>
                <a:srgbClr val="006666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56565"/>
                  </a:solidFill>
                  <a:latin typeface="Arial"/>
                </a:rPr>
                <a:t>Token</a:t>
              </a:r>
              <a:br>
                <a:rPr sz="1800"/>
              </a:br>
              <a:r>
                <a:rPr b="0" lang="en-US" sz="1800" spc="-1" strike="noStrike">
                  <a:solidFill>
                    <a:srgbClr val="656565"/>
                  </a:solidFill>
                  <a:latin typeface="Arial"/>
                </a:rPr>
                <a:t>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24480" y="4922640"/>
              <a:ext cx="1219320" cy="942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8ee7d1"/>
                </a:gs>
              </a:gsLst>
              <a:lin ang="5400000"/>
            </a:gradFill>
            <a:ln w="9360">
              <a:solidFill>
                <a:srgbClr val="006666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56565"/>
                  </a:solidFill>
                  <a:latin typeface="Arial"/>
                </a:rPr>
                <a:t>Frame</a:t>
              </a:r>
              <a:br>
                <a:rPr sz="1800"/>
              </a:br>
              <a:r>
                <a:rPr b="0" lang="en-US" sz="1800" spc="-1" strike="noStrike">
                  <a:solidFill>
                    <a:srgbClr val="656565"/>
                  </a:solidFill>
                  <a:latin typeface="Arial"/>
                </a:rPr>
                <a:t>R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20120" y="4922640"/>
              <a:ext cx="1143000" cy="942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8ee7d1"/>
                </a:gs>
              </a:gsLst>
              <a:lin ang="5400000"/>
            </a:gradFill>
            <a:ln w="9360">
              <a:solidFill>
                <a:srgbClr val="006666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56565"/>
                  </a:solidFill>
                  <a:latin typeface="Arial"/>
                </a:rPr>
                <a:t>A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38480" y="2180880"/>
              <a:ext cx="4496040" cy="343080"/>
            </a:xfrm>
            <a:custGeom>
              <a:avLst/>
              <a:gdLst/>
              <a:ahLst/>
              <a:rect l="l" t="t" r="r" b="b"/>
              <a:pathLst>
                <a:path w="2832" h="192">
                  <a:moveTo>
                    <a:pt x="0" y="192"/>
                  </a:moveTo>
                  <a:lnTo>
                    <a:pt x="0" y="0"/>
                  </a:lnTo>
                  <a:lnTo>
                    <a:pt x="2832" y="0"/>
                  </a:lnTo>
                  <a:lnTo>
                    <a:pt x="2832" y="192"/>
                  </a:lnTo>
                </a:path>
              </a:pathLst>
            </a:custGeom>
            <a:noFill/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324480" y="1580400"/>
              <a:ext cx="0" cy="60012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86000" y="4151160"/>
              <a:ext cx="1371600" cy="4284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1e7f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cc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86000" y="4922640"/>
              <a:ext cx="1371600" cy="4287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1e7f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cc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86000" y="5437080"/>
              <a:ext cx="1371600" cy="4284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1e7f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cc"/>
              </a:solidFill>
              <a:miter/>
            </a:ln>
            <a:effectLst>
              <a:outerShdw dist="63504" dir="3183908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3962520" y="6095880"/>
            <a:ext cx="3429000" cy="533520"/>
          </a:xfrm>
          <a:prstGeom prst="borderCallout1">
            <a:avLst>
              <a:gd name="adj1" fmla="val 18750"/>
              <a:gd name="adj2" fmla="val -8333"/>
              <a:gd name="adj3" fmla="val -125000"/>
              <a:gd name="adj4" fmla="val -2074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Network Interface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304920"/>
            <a:ext cx="48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.4.1TCP/IP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协议栈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42640" y="1676160"/>
            <a:ext cx="2057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网络中计算机或其他组件的互连模式叫网络的拓扑结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666880"/>
            <a:ext cx="3276720" cy="1981440"/>
          </a:xfrm>
          <a:prstGeom prst="wedgeRectCallout">
            <a:avLst>
              <a:gd name="adj1" fmla="val -101310"/>
              <a:gd name="adj2" fmla="val -64263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拓扑：描述网络电缆的连接方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拓扑：描述数据在网络中的传输方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4191120"/>
            <a:ext cx="1676520" cy="2209680"/>
          </a:xfrm>
          <a:prstGeom prst="wedgeRectCallout">
            <a:avLst>
              <a:gd name="adj1" fmla="val -70361"/>
              <a:gd name="adj2" fmla="val -62212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总线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星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环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网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混合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4.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什么是拓扑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6.4.2 TCP/IP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核心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914400" y="2438280"/>
          <a:ext cx="7047000" cy="3925800"/>
        </p:xfrm>
        <a:graphic>
          <a:graphicData uri="http://schemas.openxmlformats.org/drawingml/2006/table">
            <a:tbl>
              <a:tblPr/>
              <a:tblGrid>
                <a:gridCol w="1879560"/>
                <a:gridCol w="5167440"/>
              </a:tblGrid>
              <a:tr h="13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应用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lnet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TP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TP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P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传输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CP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D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网络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P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MP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G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6.4.3 TC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3580920"/>
            <a:ext cx="44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TC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采用面向连接的通信，提供可靠传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2520" y="2017800"/>
            <a:ext cx="400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三次握手：（建立连接的过程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源计算机向目标计算机发出连接请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目标计算机响应源计算机的连接请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源计算机确认目标计算机的响应信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1" name="握手" descr=""/>
          <p:cNvPicPr/>
          <p:nvPr/>
        </p:nvPicPr>
        <p:blipFill>
          <a:blip r:embed="rId1"/>
          <a:stretch/>
        </p:blipFill>
        <p:spPr>
          <a:xfrm>
            <a:off x="5943600" y="457200"/>
            <a:ext cx="148608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696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TC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数据传输过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包分组，并为每个包指定一个序列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包发送到网上并等待对方的确认信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若在一定时间内没有受到对方的确认信息，则重发包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6.4.4  UD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UD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不需连接与确认，速度比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C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快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端口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作用：用来识别应用程序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常用端口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981080" y="3733920"/>
          <a:ext cx="57150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733920"/>
                    <a:ext cx="5715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6.4.5 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421840" cy="34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协议负责寻找目标计算机的地址并路由数据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工作过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◆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若目标计算机处于同一子网内，则直接发给目标计算机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 ◆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若不在同一子网内，则发给可到达目标计算机的路由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 ◆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过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控制包在网上的传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6.4.6IP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地址的作用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确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CP/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络中设备的逻辑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地址的表示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位二进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地址的组成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络号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主机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523880" y="1752480"/>
            <a:ext cx="4343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59092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238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67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523880" y="1523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95680" y="15238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24080" y="1371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比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2438280"/>
            <a:ext cx="4343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576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23880" y="3200400"/>
            <a:ext cx="4343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523880" y="4038480"/>
            <a:ext cx="4343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523880" y="4724280"/>
            <a:ext cx="4343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8128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主机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主机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00600" y="3276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主机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3809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43000" y="1828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143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4300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00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71800" y="41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多点广播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479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1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743200" y="4800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保留给实验用的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67280" y="18288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.0.0.1~~126.255.255.2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8672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8.0.0.1~~191.255.255.2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67280" y="3276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92.0.0.1~~223.255.255.2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4114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24.0.0.1~~239.255.255.2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4800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40.0.0.1~~247.255.255.2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95280" y="304920"/>
            <a:ext cx="4030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IP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址的分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242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5760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909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242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6576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909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23880" y="1752480"/>
            <a:ext cx="106704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网络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23880" y="2438280"/>
            <a:ext cx="221004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网络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447920" y="1600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3880" y="3200400"/>
            <a:ext cx="32004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网络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4792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IP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址的分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834552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类别 开始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位字节  每个网络中主机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1-12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2=167772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128-19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2=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655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192-22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2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=25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224-239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组播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240-247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实验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几组特殊的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IP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地址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27.0.0.0——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用于测试连接的内循环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网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×××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主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55 ——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广播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24-239. ×××. ×××. ×××——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组播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2.168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72.16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0.0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3733920" y="4800600"/>
            <a:ext cx="609480" cy="1143000"/>
          </a:xfrm>
          <a:custGeom>
            <a:avLst/>
            <a:gdLst>
              <a:gd name="textAreaLeft" fmla="*/ 0 w 609480"/>
              <a:gd name="textAreaRight" fmla="*/ 219960 w 609480"/>
              <a:gd name="textAreaTop" fmla="*/ 89280 h 1143000"/>
              <a:gd name="textAreaBottom" fmla="*/ 1053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181480" y="4648320"/>
            <a:ext cx="2438640" cy="1218960"/>
          </a:xfrm>
          <a:prstGeom prst="wedgeRectCallout">
            <a:avLst>
              <a:gd name="adj1" fmla="val -78513"/>
              <a:gd name="adj2" fmla="val 1536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留的三组为私网使用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4.2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总线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总线形：采用单根传输线作为传输介质，所有的计算机都接连接到该缆线上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60720" y="3591000"/>
            <a:ext cx="5418000" cy="1893960"/>
            <a:chOff x="2160720" y="3591000"/>
            <a:chExt cx="5418000" cy="1893960"/>
          </a:xfrm>
        </p:grpSpPr>
        <p:sp>
          <p:nvSpPr>
            <p:cNvPr id="110" name=""/>
            <p:cNvSpPr/>
            <p:nvPr/>
          </p:nvSpPr>
          <p:spPr>
            <a:xfrm>
              <a:off x="2403360" y="5160960"/>
              <a:ext cx="5106960" cy="324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5000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2313720" y="4772880"/>
              <a:ext cx="811440" cy="117360"/>
            </a:xfrm>
            <a:custGeom>
              <a:avLst/>
              <a:gdLst>
                <a:gd name="textAreaLeft" fmla="*/ 0 w 811440"/>
                <a:gd name="textAreaRight" fmla="*/ 811800 w 811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29" y="0"/>
                  </a:lnTo>
                  <a:lnTo>
                    <a:pt x="21600" y="10800"/>
                  </a:lnTo>
                  <a:lnTo>
                    <a:pt x="19429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75"/>
                </a:gs>
                <a:gs pos="5000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6701760" y="4771800"/>
              <a:ext cx="811440" cy="119160"/>
            </a:xfrm>
            <a:custGeom>
              <a:avLst/>
              <a:gdLst>
                <a:gd name="textAreaLeft" fmla="*/ 0 w 811440"/>
                <a:gd name="textAreaRight" fmla="*/ 811800 w 8114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29" y="0"/>
                  </a:lnTo>
                  <a:lnTo>
                    <a:pt x="21600" y="10800"/>
                  </a:lnTo>
                  <a:lnTo>
                    <a:pt x="19429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75"/>
                </a:gs>
                <a:gs pos="5000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3775680" y="4772880"/>
              <a:ext cx="811440" cy="117360"/>
            </a:xfrm>
            <a:custGeom>
              <a:avLst/>
              <a:gdLst>
                <a:gd name="textAreaLeft" fmla="*/ 0 w 811440"/>
                <a:gd name="textAreaRight" fmla="*/ 811800 w 811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29" y="0"/>
                  </a:lnTo>
                  <a:lnTo>
                    <a:pt x="21600" y="10800"/>
                  </a:lnTo>
                  <a:lnTo>
                    <a:pt x="19429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75"/>
                </a:gs>
                <a:gs pos="5000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5239440" y="4772880"/>
              <a:ext cx="811440" cy="117360"/>
            </a:xfrm>
            <a:custGeom>
              <a:avLst/>
              <a:gdLst>
                <a:gd name="textAreaLeft" fmla="*/ 0 w 811440"/>
                <a:gd name="textAreaRight" fmla="*/ 811800 w 811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29" y="0"/>
                  </a:lnTo>
                  <a:lnTo>
                    <a:pt x="21600" y="10800"/>
                  </a:lnTo>
                  <a:lnTo>
                    <a:pt x="19429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75"/>
                </a:gs>
                <a:gs pos="5000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Computer3" descr=""/>
            <p:cNvPicPr/>
            <p:nvPr/>
          </p:nvPicPr>
          <p:blipFill>
            <a:blip r:embed="rId1"/>
            <a:stretch/>
          </p:blipFill>
          <p:spPr>
            <a:xfrm>
              <a:off x="2160720" y="3591000"/>
              <a:ext cx="113508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Computer3" descr=""/>
            <p:cNvPicPr/>
            <p:nvPr/>
          </p:nvPicPr>
          <p:blipFill>
            <a:blip r:embed="rId2"/>
            <a:stretch/>
          </p:blipFill>
          <p:spPr>
            <a:xfrm>
              <a:off x="3587760" y="3591000"/>
              <a:ext cx="113508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Computer3" descr=""/>
            <p:cNvPicPr/>
            <p:nvPr/>
          </p:nvPicPr>
          <p:blipFill>
            <a:blip r:embed="rId3"/>
            <a:stretch/>
          </p:blipFill>
          <p:spPr>
            <a:xfrm>
              <a:off x="5014800" y="3591000"/>
              <a:ext cx="113508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Computer3" descr=""/>
            <p:cNvPicPr/>
            <p:nvPr/>
          </p:nvPicPr>
          <p:blipFill>
            <a:blip r:embed="rId4"/>
            <a:stretch/>
          </p:blipFill>
          <p:spPr>
            <a:xfrm>
              <a:off x="6443640" y="3591000"/>
              <a:ext cx="1135080" cy="11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1712880" y="5048280"/>
            <a:ext cx="6365880" cy="982800"/>
            <a:chOff x="1712880" y="5048280"/>
            <a:chExt cx="6365880" cy="982800"/>
          </a:xfrm>
        </p:grpSpPr>
        <p:sp>
          <p:nvSpPr>
            <p:cNvPr id="120" name=""/>
            <p:cNvSpPr/>
            <p:nvPr/>
          </p:nvSpPr>
          <p:spPr>
            <a:xfrm rot="16200000">
              <a:off x="1990440" y="5229000"/>
              <a:ext cx="524160" cy="107964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414" y="0"/>
                  </a:lnTo>
                  <a:lnTo>
                    <a:pt x="21600" y="10800"/>
                  </a:lnTo>
                  <a:lnTo>
                    <a:pt x="1041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 Narrow"/>
                </a:rPr>
                <a:t>终结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3400" y="5048280"/>
              <a:ext cx="449280" cy="49860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7277760" y="5198040"/>
              <a:ext cx="522000" cy="107964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414" y="0"/>
                  </a:lnTo>
                  <a:lnTo>
                    <a:pt x="21600" y="10800"/>
                  </a:lnTo>
                  <a:lnTo>
                    <a:pt x="1041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 Narrow"/>
                </a:rPr>
                <a:t>终结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88280" y="5048280"/>
              <a:ext cx="447480" cy="49860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IP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址的分配方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18960" y="2971440"/>
            <a:ext cx="51418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手工分配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静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自动分配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动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.4.6 ICM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控制消息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负责诊断和报告数据传输错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.4.7 IGM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组管理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用于多路广播，维护一组多路广播的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列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.4.8 AR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地址解析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根据目标计算机的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解析目标计算机的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，并保存在缓存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几个实用的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TCP/IP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小程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ing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测试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与连通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pconfig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显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CP/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winipcf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tsta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显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CP/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会话信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racer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跟踪数据包的路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工作原理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缺点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应用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2819520"/>
            <a:ext cx="251460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54421"/>
              <a:gd name="adj5" fmla="val -75000"/>
              <a:gd name="adj6" fmla="val -118939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消耗电缆长度短，最经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962520"/>
            <a:ext cx="4419720" cy="144756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-28736"/>
              <a:gd name="adj5" fmla="val -80263"/>
              <a:gd name="adj6" fmla="val -43967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载下网络性能差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线上一点故障导致全网故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障较难排除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易扩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5715000"/>
            <a:ext cx="2590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300"/>
              <a:gd name="adj5" fmla="val -340625"/>
              <a:gd name="adj6" fmla="val -30148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早期、简单网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19320"/>
            <a:ext cx="320040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0189"/>
              <a:gd name="adj5" fmla="val 50000"/>
              <a:gd name="adj6" fmla="val -38689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时间只有一台计算机发送信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4.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星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星形拓扑：所有的计算机都连接在一个中央设备上。如集线器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41680" y="3319560"/>
            <a:ext cx="4411440" cy="2582640"/>
            <a:chOff x="2641680" y="3319560"/>
            <a:chExt cx="4411440" cy="2582640"/>
          </a:xfrm>
        </p:grpSpPr>
        <p:sp>
          <p:nvSpPr>
            <p:cNvPr id="132" name=""/>
            <p:cNvSpPr/>
            <p:nvPr/>
          </p:nvSpPr>
          <p:spPr>
            <a:xfrm>
              <a:off x="2641680" y="3319560"/>
              <a:ext cx="4411440" cy="2582640"/>
            </a:xfrm>
            <a:prstGeom prst="ellipse">
              <a:avLst/>
            </a:prstGeom>
            <a:gradFill rotWithShape="0">
              <a:gsLst>
                <a:gs pos="0">
                  <a:srgbClr val="ffffeb"/>
                </a:gs>
                <a:gs pos="100000">
                  <a:srgbClr val="fcfe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44640" y="4284360"/>
              <a:ext cx="535320" cy="603720"/>
            </a:xfrm>
            <a:prstGeom prst="cube">
              <a:avLst>
                <a:gd name="adj" fmla="val 16208"/>
              </a:avLst>
            </a:prstGeom>
            <a:solidFill>
              <a:srgbClr val="c0c0c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83560" y="3977640"/>
              <a:ext cx="1060200" cy="46116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144" y="240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492000" y="3977640"/>
              <a:ext cx="1059840" cy="46116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144" y="240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083560" y="4714200"/>
              <a:ext cx="1060200" cy="46116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144" y="240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492000" y="4714200"/>
              <a:ext cx="1059840" cy="46116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144" y="240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Computer3" descr=""/>
            <p:cNvPicPr/>
            <p:nvPr/>
          </p:nvPicPr>
          <p:blipFill>
            <a:blip r:embed="rId1"/>
            <a:stretch/>
          </p:blipFill>
          <p:spPr>
            <a:xfrm>
              <a:off x="3072600" y="4810320"/>
              <a:ext cx="9090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Computer4" descr=""/>
            <p:cNvPicPr/>
            <p:nvPr/>
          </p:nvPicPr>
          <p:blipFill>
            <a:blip r:embed="rId2"/>
            <a:stretch/>
          </p:blipFill>
          <p:spPr>
            <a:xfrm>
              <a:off x="5666040" y="4788000"/>
              <a:ext cx="954720" cy="101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Computer3" descr=""/>
            <p:cNvPicPr/>
            <p:nvPr/>
          </p:nvPicPr>
          <p:blipFill>
            <a:blip r:embed="rId3"/>
            <a:stretch/>
          </p:blipFill>
          <p:spPr>
            <a:xfrm>
              <a:off x="3072600" y="3442680"/>
              <a:ext cx="9090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Computer4" descr=""/>
            <p:cNvPicPr/>
            <p:nvPr/>
          </p:nvPicPr>
          <p:blipFill>
            <a:blip r:embed="rId4"/>
            <a:stretch/>
          </p:blipFill>
          <p:spPr>
            <a:xfrm>
              <a:off x="5666040" y="3420360"/>
              <a:ext cx="954720" cy="101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工作原理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优点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缺点：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应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由中央设备充当计算机通信的中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一台计算机发生故障，不会影响到其他计算机；故障容易排除；可扩展性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中央设备发生故障时将导致整个网络不能通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成本高于总线型；最流行的基本拓扑结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4.4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环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环形拓扑：把计算机连成环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170160" y="3657600"/>
            <a:ext cx="4579920" cy="2338560"/>
            <a:chOff x="3170160" y="3657600"/>
            <a:chExt cx="4579920" cy="2338560"/>
          </a:xfrm>
        </p:grpSpPr>
        <p:sp>
          <p:nvSpPr>
            <p:cNvPr id="147" name=""/>
            <p:cNvSpPr/>
            <p:nvPr/>
          </p:nvSpPr>
          <p:spPr>
            <a:xfrm>
              <a:off x="3170160" y="3657600"/>
              <a:ext cx="4579920" cy="2338560"/>
            </a:xfrm>
            <a:prstGeom prst="donut">
              <a:avLst>
                <a:gd name="adj" fmla="val 15685"/>
              </a:avLst>
            </a:prstGeom>
            <a:solidFill>
              <a:srgbClr val="ddeeff"/>
            </a:solidFill>
            <a:ln w="9360">
              <a:solidFill>
                <a:srgbClr val="000000"/>
              </a:solidFill>
              <a:miter/>
            </a:ln>
            <a:effectLst>
              <a:outerShdw dist="507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05560" y="3754080"/>
              <a:ext cx="1625400" cy="821160"/>
            </a:xfrm>
            <a:custGeom>
              <a:avLst/>
              <a:gdLst>
                <a:gd name="textAreaLeft" fmla="*/ 0 w 1625400"/>
                <a:gd name="textAreaRight" fmla="*/ 1625760 w 162540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03" y="17797"/>
                  </a:moveTo>
                  <a:arcTo wR="-7250" hR="-7250" stAng="6310025" swAng="-2602216"/>
                  <a:lnTo>
                    <a:pt x="5696" y="1282"/>
                  </a:lnTo>
                  <a:arcTo wR="10800" hR="10800" stAng="-7092191" swAng="2602216"/>
                  <a:lnTo>
                    <a:pt x="14332" y="-2230"/>
                  </a:lnTo>
                  <a:lnTo>
                    <a:pt x="17480" y="3260"/>
                  </a:lnTo>
                  <a:lnTo>
                    <a:pt x="11990" y="640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595040" y="5070600"/>
              <a:ext cx="1625400" cy="821160"/>
            </a:xfrm>
            <a:custGeom>
              <a:avLst/>
              <a:gdLst>
                <a:gd name="textAreaLeft" fmla="*/ -360 w 1625400"/>
                <a:gd name="textAreaRight" fmla="*/ 1625400 w 1625400"/>
                <a:gd name="textAreaTop" fmla="*/ -360 h 821160"/>
                <a:gd name="textAreaBottom" fmla="*/ 821160 h 82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03" y="17797"/>
                  </a:moveTo>
                  <a:arcTo wR="-7250" hR="-7250" stAng="6310025" swAng="-2602216"/>
                  <a:lnTo>
                    <a:pt x="5696" y="1282"/>
                  </a:lnTo>
                  <a:arcTo wR="10800" hR="10800" stAng="-7092191" swAng="2602216"/>
                  <a:lnTo>
                    <a:pt x="14332" y="-2230"/>
                  </a:lnTo>
                  <a:lnTo>
                    <a:pt x="17480" y="3260"/>
                  </a:lnTo>
                  <a:lnTo>
                    <a:pt x="11990" y="640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400920" y="4213440"/>
              <a:ext cx="1556640" cy="1002600"/>
            </a:xfrm>
            <a:custGeom>
              <a:avLst/>
              <a:gdLst>
                <a:gd name="textAreaLeft" fmla="*/ 360 w 1556640"/>
                <a:gd name="textAreaRight" fmla="*/ 1557360 w 1556640"/>
                <a:gd name="textAreaTop" fmla="*/ -360 h 1002600"/>
                <a:gd name="textAreaBottom" fmla="*/ 1002600 h 100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521" y="8622"/>
                  </a:moveTo>
                  <a:arcTo wR="-6646" hR="-6646" stAng="-9652191" swAng="-3955173"/>
                  <a:lnTo>
                    <a:pt x="18195" y="2929"/>
                  </a:lnTo>
                  <a:arcTo wR="10800" hR="10800" stAng="-2807365" swAng="3955173"/>
                  <a:lnTo>
                    <a:pt x="23554" y="15224"/>
                  </a:lnTo>
                  <a:lnTo>
                    <a:pt x="17476" y="18172"/>
                  </a:lnTo>
                  <a:lnTo>
                    <a:pt x="14528" y="1209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17760" y="4172040"/>
              <a:ext cx="1556640" cy="1002240"/>
            </a:xfrm>
            <a:custGeom>
              <a:avLst/>
              <a:gdLst>
                <a:gd name="textAreaLeft" fmla="*/ 0 w 1556640"/>
                <a:gd name="textAreaRight" fmla="*/ 1557000 w 1556640"/>
                <a:gd name="textAreaTop" fmla="*/ 0 h 1002240"/>
                <a:gd name="textAreaBottom" fmla="*/ 1002600 h 100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521" y="8622"/>
                  </a:moveTo>
                  <a:arcTo wR="-6646" hR="-6646" stAng="-9652191" swAng="-3955173"/>
                  <a:lnTo>
                    <a:pt x="18195" y="2929"/>
                  </a:lnTo>
                  <a:arcTo wR="10800" hR="10800" stAng="-2807365" swAng="3955173"/>
                  <a:lnTo>
                    <a:pt x="23554" y="15224"/>
                  </a:lnTo>
                  <a:lnTo>
                    <a:pt x="17476" y="18172"/>
                  </a:lnTo>
                  <a:lnTo>
                    <a:pt x="14528" y="1209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Computer3" descr=""/>
          <p:cNvPicPr/>
          <p:nvPr/>
        </p:nvPicPr>
        <p:blipFill>
          <a:blip r:embed="rId1"/>
          <a:stretch/>
        </p:blipFill>
        <p:spPr>
          <a:xfrm>
            <a:off x="3708360" y="3206880"/>
            <a:ext cx="1089000" cy="1184040"/>
          </a:xfrm>
          <a:prstGeom prst="rect">
            <a:avLst/>
          </a:prstGeom>
          <a:ln w="0">
            <a:noFill/>
          </a:ln>
        </p:spPr>
      </p:pic>
      <p:pic>
        <p:nvPicPr>
          <p:cNvPr id="153" name="Computer3" descr=""/>
          <p:cNvPicPr/>
          <p:nvPr/>
        </p:nvPicPr>
        <p:blipFill>
          <a:blip r:embed="rId2"/>
          <a:stretch/>
        </p:blipFill>
        <p:spPr>
          <a:xfrm>
            <a:off x="6162840" y="3206880"/>
            <a:ext cx="1087200" cy="1184040"/>
          </a:xfrm>
          <a:prstGeom prst="rect">
            <a:avLst/>
          </a:prstGeom>
          <a:ln w="0">
            <a:noFill/>
          </a:ln>
        </p:spPr>
      </p:pic>
      <p:pic>
        <p:nvPicPr>
          <p:cNvPr id="154" name="Computer3" descr=""/>
          <p:cNvPicPr/>
          <p:nvPr/>
        </p:nvPicPr>
        <p:blipFill>
          <a:blip r:embed="rId3"/>
          <a:stretch/>
        </p:blipFill>
        <p:spPr>
          <a:xfrm>
            <a:off x="3832200" y="4840200"/>
            <a:ext cx="1087560" cy="1184400"/>
          </a:xfrm>
          <a:prstGeom prst="rect">
            <a:avLst/>
          </a:prstGeom>
          <a:ln w="0">
            <a:noFill/>
          </a:ln>
        </p:spPr>
      </p:pic>
      <p:pic>
        <p:nvPicPr>
          <p:cNvPr id="155" name="Computer3" descr=""/>
          <p:cNvPicPr/>
          <p:nvPr/>
        </p:nvPicPr>
        <p:blipFill>
          <a:blip r:embed="rId4"/>
          <a:stretch/>
        </p:blipFill>
        <p:spPr>
          <a:xfrm>
            <a:off x="6004080" y="4840200"/>
            <a:ext cx="10872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903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原理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优点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缺点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应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35280" y="3344400"/>
            <a:ext cx="4267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性能较高，高负荷下工作稳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任何一台计算机出现故障都会影响整个网络；不易于扩展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相关技术发展慢；成本较高、较少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8280" y="1219320"/>
            <a:ext cx="2057400" cy="1981080"/>
            <a:chOff x="2438280" y="1219320"/>
            <a:chExt cx="2057400" cy="1981080"/>
          </a:xfrm>
        </p:grpSpPr>
        <p:grpSp>
          <p:nvGrpSpPr>
            <p:cNvPr id="159" name=""/>
            <p:cNvGrpSpPr/>
            <p:nvPr/>
          </p:nvGrpSpPr>
          <p:grpSpPr>
            <a:xfrm>
              <a:off x="2438280" y="1536840"/>
              <a:ext cx="2057400" cy="1643040"/>
              <a:chOff x="2438280" y="1536840"/>
              <a:chExt cx="2057400" cy="1643040"/>
            </a:xfrm>
          </p:grpSpPr>
          <p:sp>
            <p:nvSpPr>
              <p:cNvPr id="160" name=""/>
              <p:cNvSpPr/>
              <p:nvPr/>
            </p:nvSpPr>
            <p:spPr>
              <a:xfrm>
                <a:off x="2438280" y="1536840"/>
                <a:ext cx="2057400" cy="1643040"/>
              </a:xfrm>
              <a:prstGeom prst="donut">
                <a:avLst>
                  <a:gd name="adj" fmla="val 15685"/>
                </a:avLst>
              </a:prstGeom>
              <a:solidFill>
                <a:srgbClr val="ddee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0760" dir="54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28040" y="1604520"/>
                <a:ext cx="730080" cy="57708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903" y="17797"/>
                    </a:moveTo>
                    <a:arcTo wR="-7250" hR="-7250" stAng="6310025" swAng="-2602216"/>
                    <a:lnTo>
                      <a:pt x="5696" y="1282"/>
                    </a:lnTo>
                    <a:arcTo wR="10800" hR="10800" stAng="-7092191" swAng="2602216"/>
                    <a:lnTo>
                      <a:pt x="14332" y="-2230"/>
                    </a:lnTo>
                    <a:lnTo>
                      <a:pt x="17480" y="3260"/>
                    </a:lnTo>
                    <a:lnTo>
                      <a:pt x="11990" y="640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3078720" y="2529360"/>
                <a:ext cx="730080" cy="577080"/>
              </a:xfrm>
              <a:custGeom>
                <a:avLst/>
                <a:gdLst>
                  <a:gd name="textAreaLeft" fmla="*/ 360 w 730080"/>
                  <a:gd name="textAreaRight" fmla="*/ 730800 w 730080"/>
                  <a:gd name="textAreaTop" fmla="*/ -360 h 577080"/>
                  <a:gd name="textAreaBottom" fmla="*/ 577080 h 57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903" y="17797"/>
                    </a:moveTo>
                    <a:arcTo wR="-7250" hR="-7250" stAng="6310025" swAng="-2602216"/>
                    <a:lnTo>
                      <a:pt x="5696" y="1282"/>
                    </a:lnTo>
                    <a:arcTo wR="10800" hR="10800" stAng="-7092191" swAng="2602216"/>
                    <a:lnTo>
                      <a:pt x="14332" y="-2230"/>
                    </a:lnTo>
                    <a:lnTo>
                      <a:pt x="17480" y="3260"/>
                    </a:lnTo>
                    <a:lnTo>
                      <a:pt x="11990" y="640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2541960" y="1927080"/>
                <a:ext cx="699120" cy="704520"/>
              </a:xfrm>
              <a:custGeom>
                <a:avLst/>
                <a:gdLst>
                  <a:gd name="textAreaLeft" fmla="*/ 360 w 699120"/>
                  <a:gd name="textAreaRight" fmla="*/ 699840 w 699120"/>
                  <a:gd name="textAreaTop" fmla="*/ -360 h 704520"/>
                  <a:gd name="textAreaBottom" fmla="*/ 704520 h 70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521" y="8622"/>
                    </a:moveTo>
                    <a:arcTo wR="-6646" hR="-6646" stAng="-9652191" swAng="-3955173"/>
                    <a:lnTo>
                      <a:pt x="18195" y="2929"/>
                    </a:lnTo>
                    <a:arcTo wR="10800" hR="10800" stAng="-2807365" swAng="3955173"/>
                    <a:lnTo>
                      <a:pt x="23554" y="15224"/>
                    </a:lnTo>
                    <a:lnTo>
                      <a:pt x="17476" y="18172"/>
                    </a:lnTo>
                    <a:lnTo>
                      <a:pt x="14528" y="120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7360" y="1898280"/>
                <a:ext cx="699120" cy="704160"/>
              </a:xfrm>
              <a:custGeom>
                <a:avLst/>
                <a:gdLst>
                  <a:gd name="textAreaLeft" fmla="*/ 0 w 699120"/>
                  <a:gd name="textAreaRight" fmla="*/ 699480 w 69912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521" y="8622"/>
                    </a:moveTo>
                    <a:arcTo wR="-6646" hR="-6646" stAng="-9652191" swAng="-3955173"/>
                    <a:lnTo>
                      <a:pt x="18195" y="2929"/>
                    </a:lnTo>
                    <a:arcTo wR="10800" hR="10800" stAng="-2807365" swAng="3955173"/>
                    <a:lnTo>
                      <a:pt x="23554" y="15224"/>
                    </a:lnTo>
                    <a:lnTo>
                      <a:pt x="17476" y="18172"/>
                    </a:lnTo>
                    <a:lnTo>
                      <a:pt x="14528" y="120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5" name="Computer3" descr=""/>
            <p:cNvPicPr/>
            <p:nvPr/>
          </p:nvPicPr>
          <p:blipFill>
            <a:blip r:embed="rId1"/>
            <a:stretch/>
          </p:blipFill>
          <p:spPr>
            <a:xfrm>
              <a:off x="2679840" y="1219320"/>
              <a:ext cx="48888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Computer3" descr=""/>
            <p:cNvPicPr/>
            <p:nvPr/>
          </p:nvPicPr>
          <p:blipFill>
            <a:blip r:embed="rId2"/>
            <a:stretch/>
          </p:blipFill>
          <p:spPr>
            <a:xfrm>
              <a:off x="3782880" y="1219320"/>
              <a:ext cx="48924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Computer3" descr=""/>
            <p:cNvPicPr/>
            <p:nvPr/>
          </p:nvPicPr>
          <p:blipFill>
            <a:blip r:embed="rId3"/>
            <a:stretch/>
          </p:blipFill>
          <p:spPr>
            <a:xfrm>
              <a:off x="2735280" y="2367000"/>
              <a:ext cx="48888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Computer3" descr=""/>
            <p:cNvPicPr/>
            <p:nvPr/>
          </p:nvPicPr>
          <p:blipFill>
            <a:blip r:embed="rId4"/>
            <a:stretch/>
          </p:blipFill>
          <p:spPr>
            <a:xfrm>
              <a:off x="3711600" y="2367000"/>
              <a:ext cx="488880" cy="8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4572000" y="1905120"/>
            <a:ext cx="426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沿环的一个方向传播，依次通过每台计算机，每台计算机都是一个中继器，把信号重写一遍并传给下一台计算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06:32:34Z</dcterms:created>
  <dc:creator>Bear</dc:creator>
  <dc:description/>
  <dc:language>en-US</dc:language>
  <cp:lastModifiedBy>lyn</cp:lastModifiedBy>
  <dcterms:modified xsi:type="dcterms:W3CDTF">2003-07-17T03:09:53Z</dcterms:modified>
  <cp:revision>117</cp:revision>
  <dc:subject/>
  <dc:title>2-2网络工作原理</dc:title>
</cp:coreProperties>
</file>